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65320" y="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941040" y="69516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65320" y="9261360"/>
            <a:ext cx="2955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6D0F-FDBE-47E1-9B91-9D63F253D8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41400" y="695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m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41400" y="695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m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1400" y="695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m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41400" y="695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m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41400" y="695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m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1400" y="695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m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41400" y="6951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9360" y="4630680"/>
            <a:ext cx="50022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m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CE1-4322-4C40-8D80-AEFEB22C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CD6-8804-4917-896B-CA07FC5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D66-4CF4-4B86-B8FA-9A8E394D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058-F679-4046-8085-7E1936EF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DEF9-38CF-493D-993B-6DB6A6A5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09AA-60A3-4630-8750-DF01FA7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9174-5CC9-4691-B99D-EF08DED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67C5-7BFF-4CD0-9C6E-70FC5400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A13C-1CE8-4897-8CBE-236C82C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FDC-D35D-4708-BB22-01BE6146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F11F-5B1C-433B-80A4-453872F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122-4C3E-411F-9850-505AA527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906B-FC1E-43E4-9208-5032868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5948-85FA-439B-8DB6-94A3AF8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ABB-250E-4DA1-872F-16F85423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AD4-39C7-45A5-A5F2-FC40EBEB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580D-FDC7-463D-9CBE-A07B6ECD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2D7-6FE5-402A-BCFE-5C2EAB51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110-CC75-41A9-B0DA-766370CA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120-507F-4B31-8033-600D45B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2AB-5039-472A-AA2B-9C106FD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919-8675-47C0-89D5-55A436A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090-F1FC-4A20-AFD2-AED0402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0B3-1593-4B43-9261-35A0121D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59D3-504C-4AEA-AE71-027D26A6B6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85D4-4DC1-4632-B0A1-4FD903E65F9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2349000"/>
            <a:ext cx="902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66cc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66ccff"/>
                </a:solidFill>
                <a:latin typeface="Arial"/>
              </a:rPr>
              <a:t>Nuevas estrategias para el desarrollo sustentab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341360"/>
            <a:ext cx="72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ccff"/>
                </a:solidFill>
                <a:latin typeface="Arial"/>
              </a:rPr>
              <a:t>Responsabilidad Social Empresa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494172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9ce157"/>
                </a:solidFill>
                <a:latin typeface="Arial"/>
              </a:rPr>
              <a:t>Liliana Saucede </a:t>
            </a:r>
            <a:r>
              <a:rPr b="0" lang="es-ES_tradnl" sz="2400" spc="-1" strike="noStrike">
                <a:solidFill>
                  <a:srgbClr val="9ce157"/>
                </a:solidFill>
                <a:latin typeface="Arial"/>
              </a:rPr>
              <a:t>       Noviembr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9ce157"/>
                </a:solidFill>
                <a:latin typeface="Arial"/>
              </a:rPr>
              <a:t>Universidad Nacional de Luj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7560" y="3500280"/>
            <a:ext cx="798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Consejo Profesional de Ciencias Económ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Ciudad Autónoma de Buenos 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65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uctura del A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90512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Definición de objetivos y alcances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809880"/>
            <a:ext cx="1828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Análisis de inventario.</a:t>
            </a: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3124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65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uctura del A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90512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Definición de objetivos y alcances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809880"/>
            <a:ext cx="1828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Análisis de inventar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5257800"/>
            <a:ext cx="1780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Evaluación de impactos.</a:t>
            </a: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800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65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uctura del A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191628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Definición de objetivos y alcances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09880"/>
            <a:ext cx="1828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Análisis de inventar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525780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Evaluación de impactos.</a:t>
            </a: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4800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2057400"/>
            <a:ext cx="2210040" cy="435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Interpre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65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uctura del A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191628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Definición de objetivos y alcances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809880"/>
            <a:ext cx="1828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Análisis de inventario.</a:t>
            </a: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525780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Evaluación de impactos.</a:t>
            </a: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4800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40384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19160" y="4343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2057400"/>
            <a:ext cx="2210040" cy="430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Interpre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776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047760" y="5715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810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65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uctura del A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191628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Definición de objetivos y alcances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809880"/>
            <a:ext cx="1828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Análisis de inventario.</a:t>
            </a: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25780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Evaluación de impactos.</a:t>
            </a: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800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0384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819160" y="4343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2057400"/>
            <a:ext cx="2210040" cy="430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Interpre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2060640"/>
            <a:ext cx="2133360" cy="470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Desarrollo y mejora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4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Planificación estratég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4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Política públic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04776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47760" y="5715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810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9810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1052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Aplicaciones direct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65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1052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Aplicaciones direct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19162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357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umo de ener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422100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ección de 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4941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umi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2060640"/>
            <a:ext cx="2133360" cy="470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Desarrollo y mejora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4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Planificación estratég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4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Política pública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2565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86400">
            <a:off x="3855600" y="2478240"/>
            <a:ext cx="2303640" cy="571320"/>
          </a:xfrm>
          <a:prstGeom prst="leftArrow">
            <a:avLst>
              <a:gd name="adj1" fmla="val 50000"/>
              <a:gd name="adj2" fmla="val 100803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0143800">
            <a:off x="5076720" y="4076280"/>
            <a:ext cx="1656000" cy="432000"/>
          </a:xfrm>
          <a:prstGeom prst="leftArrow">
            <a:avLst>
              <a:gd name="adj1" fmla="val 50000"/>
              <a:gd name="adj2" fmla="val 95833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1656000" cy="432000"/>
          </a:xfrm>
          <a:prstGeom prst="leftArrow">
            <a:avLst>
              <a:gd name="adj1" fmla="val 50000"/>
              <a:gd name="adj2" fmla="val 95833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946800">
            <a:off x="3995640" y="2852280"/>
            <a:ext cx="1656000" cy="432000"/>
          </a:xfrm>
          <a:prstGeom prst="leftArrow">
            <a:avLst>
              <a:gd name="adj1" fmla="val 50000"/>
              <a:gd name="adj2" fmla="val 95833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960600">
            <a:off x="4726080" y="4564080"/>
            <a:ext cx="2016000" cy="482760"/>
          </a:xfrm>
          <a:prstGeom prst="leftArrow">
            <a:avLst>
              <a:gd name="adj1" fmla="val 50000"/>
              <a:gd name="adj2" fmla="val 104400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47640" y="2637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56360" y="1052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Aplicaciones direct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628640"/>
            <a:ext cx="619308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es-ES" sz="2200" spc="-1" strike="noStrike">
                <a:solidFill>
                  <a:srgbClr val="00ff00"/>
                </a:solidFill>
                <a:latin typeface="Arial Black"/>
              </a:rPr>
              <a:t>diseñ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eccion de tecnologí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ección de materiales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0" lang="es-ES" sz="2200" spc="-1" strike="noStrike">
                <a:solidFill>
                  <a:srgbClr val="00ff00"/>
                </a:solidFill>
                <a:latin typeface="Arial Black"/>
              </a:rPr>
              <a:t>gestión de residuo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ección de una u otra opción (tratamiento, recuperación, incineración con o sin recuperación de energ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ff00"/>
                </a:solidFill>
                <a:latin typeface="Arial Black"/>
              </a:rPr>
              <a:t>líneas de ensamble o desensam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1411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1. Objetiv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tectar puntos de mayor impacto ambien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alizar propuesta de mejor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0000" y="3429000"/>
            <a:ext cx="77724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Alca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ími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nidad funcional (U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lidad de datos (temporal, espacial, tecnológic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5805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De la cuna a la tumba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87280" y="1413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79640" y="3933720"/>
            <a:ext cx="14400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Gestión de residu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2708280"/>
            <a:ext cx="1584360" cy="77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xtracción y proces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95640" y="4581360"/>
            <a:ext cx="1728720" cy="64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Uso y manten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3933720"/>
            <a:ext cx="1517760" cy="90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Distribu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2781360"/>
            <a:ext cx="1365120" cy="7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08720" y="1341360"/>
            <a:ext cx="1212840" cy="65088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16360" y="1341360"/>
            <a:ext cx="1101600" cy="650880"/>
          </a:xfrm>
          <a:prstGeom prst="rect">
            <a:avLst/>
          </a:prstGeom>
          <a:solidFill>
            <a:srgbClr val="9ce157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ner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2276640"/>
            <a:ext cx="6410520" cy="3240000"/>
          </a:xfrm>
          <a:prstGeom prst="rect">
            <a:avLst/>
          </a:prstGeom>
          <a:noFill/>
          <a:ln w="3816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2349360"/>
            <a:ext cx="6192720" cy="316728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08464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5877000"/>
            <a:ext cx="2663640" cy="98100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00720" y="6237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663a0"/>
                </a:solidFill>
                <a:latin typeface="Arial"/>
              </a:rPr>
              <a:t>emi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4000" y="18446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91628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89320" y="404640"/>
            <a:ext cx="27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ISTEM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2997360"/>
            <a:ext cx="151128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16720" y="3573360"/>
            <a:ext cx="431640" cy="3603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419280" y="4868640"/>
            <a:ext cx="431640" cy="1443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27280" y="3499920"/>
            <a:ext cx="289080" cy="289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796000" y="4724280"/>
            <a:ext cx="216000" cy="1447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50920" y="4005360"/>
            <a:ext cx="1584360" cy="769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xtracción y proces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276640"/>
            <a:ext cx="1212840" cy="65088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24000" y="3213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314172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89320" y="404640"/>
            <a:ext cx="27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ISTEM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276640"/>
            <a:ext cx="1101600" cy="650880"/>
          </a:xfrm>
          <a:prstGeom prst="rect">
            <a:avLst/>
          </a:prstGeom>
          <a:solidFill>
            <a:srgbClr val="9ce157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ner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1628640"/>
            <a:ext cx="3635280" cy="3816360"/>
          </a:xfrm>
          <a:prstGeom prst="ellipse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2349000"/>
            <a:ext cx="902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66ccff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66ccff"/>
                </a:solidFill>
                <a:latin typeface="Arial"/>
              </a:rPr>
              <a:t>Nuevas estrategias para el desarrollo sustentab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1341360"/>
            <a:ext cx="72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ccff"/>
                </a:solidFill>
                <a:latin typeface="Arial"/>
              </a:rPr>
              <a:t>Responsabilidad Social Empresa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94172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9ce157"/>
                </a:solidFill>
                <a:latin typeface="Arial"/>
              </a:rPr>
              <a:t>Liliana Saucede </a:t>
            </a:r>
            <a:r>
              <a:rPr b="0" lang="es-ES_tradnl" sz="2400" spc="-1" strike="noStrike">
                <a:solidFill>
                  <a:srgbClr val="9ce157"/>
                </a:solidFill>
                <a:latin typeface="Arial"/>
              </a:rPr>
              <a:t>       Noviembr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9ce157"/>
                </a:solidFill>
                <a:latin typeface="Arial"/>
              </a:rPr>
              <a:t>Universidad Nacional de Luj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371628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El Análisis del Ciclo de Vida, una herramienta de la gestión ambi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050920" y="4005360"/>
            <a:ext cx="1584360" cy="769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Extracción y proces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2276640"/>
            <a:ext cx="1212840" cy="65088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11640" y="4869000"/>
            <a:ext cx="2664000" cy="98100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88000" y="5300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663a0"/>
                </a:solidFill>
                <a:latin typeface="Arial"/>
              </a:rPr>
              <a:t>emi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4000" y="3213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3640" y="314172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89320" y="404640"/>
            <a:ext cx="27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ISTEM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35640" y="1268280"/>
            <a:ext cx="3419280" cy="790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Extracción, producción y transpo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276640"/>
            <a:ext cx="1101600" cy="650880"/>
          </a:xfrm>
          <a:prstGeom prst="rect">
            <a:avLst/>
          </a:prstGeom>
          <a:solidFill>
            <a:srgbClr val="9ce157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Ener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16000" y="1628640"/>
            <a:ext cx="3635280" cy="3816360"/>
          </a:xfrm>
          <a:prstGeom prst="ellipse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5280" y="5084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a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15280" y="407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339640" y="1773360"/>
            <a:ext cx="2879640" cy="36036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427640" y="1773360"/>
            <a:ext cx="792000" cy="576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227640" y="4581000"/>
            <a:ext cx="1081080" cy="36036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4941720"/>
            <a:ext cx="1079640" cy="432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00720" y="4941720"/>
            <a:ext cx="432000" cy="122400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84720" y="4653000"/>
            <a:ext cx="503280" cy="36036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2. Análisis de inventari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lance de masa y ener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para cada subsistema y por U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álculo de emis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sultados de invent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3. Evaluación de impac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0" y="2209680"/>
            <a:ext cx="495288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ff00"/>
                </a:solidFill>
                <a:latin typeface="Arial"/>
              </a:rPr>
              <a:t>Fac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ategorías de impa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3. Evaluación de impac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289548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CG          P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c             PE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                PF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D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2860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Arial"/>
              </a:rPr>
              <a:t>Categorías de impa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2292480"/>
            <a:ext cx="203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295280"/>
            <a:ext cx="7164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 de calentamiento glob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 de degradación de la capa de oz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 de formación de oxidantes fotoquí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 de eutrof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 de acid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 de toxicidad hum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tencial de ecotoxic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5334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6312c"/>
                </a:solidFill>
                <a:latin typeface="Arial Black"/>
              </a:rPr>
              <a:t>Degradación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58053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6312c"/>
                </a:solidFill>
                <a:latin typeface="Arial Black"/>
              </a:rPr>
              <a:t>Contaminación son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3. Evaluación de impac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2209680"/>
            <a:ext cx="4952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ff00"/>
                </a:solidFill>
                <a:latin typeface="Arial"/>
              </a:rPr>
              <a:t>Fac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tegorías de imp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3480" y="5181480"/>
            <a:ext cx="47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ff00"/>
                </a:solidFill>
                <a:latin typeface="Arial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1627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Interpre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3211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4796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opuesta de mejor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1219320"/>
            <a:ext cx="649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RESULTADOS</a:t>
            </a:r>
            <a:r>
              <a:rPr b="1" lang="es-ES_tradnl" sz="44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3573360"/>
            <a:ext cx="76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220500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Indicadores de imp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95640" y="2924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ategorías de imp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68360" y="4292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Indicador ú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68360" y="4869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Interpret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51664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19640" y="5950080"/>
            <a:ext cx="4500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63a0"/>
                </a:solidFill>
                <a:latin typeface="Arial"/>
              </a:rPr>
              <a:t>Propuesta de mej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4000" y="2492280"/>
            <a:ext cx="838188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Maiandra GD"/>
              </a:rPr>
              <a:t>- </a:t>
            </a: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Analizar los procesos de producción relacionados con  la industria agro-alimentaria de la región, en particular la pequeña industria y según la normativa específica para el Análisis del Ciclo de Vida  (ISO 14040 y siguient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- Caracterizar en forma cuantitativa algunas líneas de producción que son comunes a la fabricación de productos lácteos con esta herramienta de evaluación de impacto ambiental - ACV-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177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66920" y="333360"/>
            <a:ext cx="7777080" cy="129528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A n á l i s i s   c o m p a r a t i v 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d e     E n v a s e 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68360" y="1989000"/>
            <a:ext cx="83818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Maiandra G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Maiandra GD"/>
              </a:rPr>
              <a:t>- </a:t>
            </a: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Comparar resultados y sugerir mejoras en el sentido de ir adaptando las tecnologías existentes a la nueva normativa que se está implementando para la implementación de la ecoetiqu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- Transferir los resultados a los pequeños productores de la zona, cuando los hubi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765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3280" y="3141720"/>
            <a:ext cx="698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strumento para una estrategia que incluya el bienestar ambiental y social además del lucro económ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1197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ccff"/>
                </a:solidFill>
                <a:latin typeface="Arial"/>
              </a:rPr>
              <a:t>Responsabilidad Social Empres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2120" y="7650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s-ES_tradnl" sz="2800" spc="-1" strike="noStrike">
                <a:solidFill>
                  <a:srgbClr val="ffff99"/>
                </a:solidFill>
                <a:latin typeface="Maiandra GD"/>
              </a:rPr>
              <a:t>Materiales y métodos</a:t>
            </a:r>
            <a:r>
              <a:rPr b="0" lang="es-ES_tradnl" sz="2800" spc="-1" strike="noStrike">
                <a:solidFill>
                  <a:srgbClr val="ffff99"/>
                </a:solidFill>
                <a:latin typeface="Maiandra G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Maiandra GD"/>
              </a:rPr>
              <a:t>•</a:t>
            </a: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Definición de las etapas, los subsistemas y la unidad funcional a considerar en el sistema de producción de dulce de leche según especificaciones ISO14041 y 1404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• </a:t>
            </a: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Descripción del proceso de producción y datos asociados al consumo de materias primas y energía, a partir de la bibliografía , a través de entrevistas a técnicos especialistas, técnicos de la fábrica evaluada y datos  recogidos in–situ en la misma fábr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2286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s-ES_tradnl" sz="2800" spc="-1" strike="noStrike">
                <a:solidFill>
                  <a:srgbClr val="ffff99"/>
                </a:solidFill>
                <a:latin typeface="Maiandra GD"/>
              </a:rPr>
              <a:t>Materiales y métodos</a:t>
            </a:r>
            <a:r>
              <a:rPr b="0" lang="es-ES_tradnl" sz="2800" spc="-1" strike="noStrike">
                <a:solidFill>
                  <a:srgbClr val="ffff99"/>
                </a:solidFill>
                <a:latin typeface="Maiandra G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Maiandra GD"/>
              </a:rPr>
              <a:t>• </a:t>
            </a: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Para el inventario y en particular para las cantidades asociadas al consumo de recursos materiales y energéticos así como para las emisiones en la etapa de ENVASES se utilizaron las bases de datos europeas BUWAL, ETH e IDEMAT. Algunas emisiones fueron estimadas por cálcul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•</a:t>
            </a: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Para la evaluación de impactos se utilizaron los factores recopilados por Hauschild según metodología EDI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 •</a:t>
            </a: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Las categorías de impactos seleccionadas  son las siguientes: PCG, PDCO, PFOF, PTH, PA, Peu y Pe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5791320" y="1523880"/>
          <a:ext cx="33526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523880"/>
                    <a:ext cx="33526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819520" y="1447920"/>
          <a:ext cx="3506760" cy="502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447920"/>
                    <a:ext cx="350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1447920"/>
          <a:ext cx="358128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47920"/>
                    <a:ext cx="3581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2133720" y="228600"/>
            <a:ext cx="64008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ahoma"/>
              </a:rPr>
              <a:t>Perfil ambiental del Vid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133720" y="228600"/>
            <a:ext cx="64008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ahoma"/>
              </a:rPr>
              <a:t>Perfil ambiental del Cart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1600200"/>
            <a:ext cx="75960" cy="4800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1600200"/>
            <a:ext cx="152280" cy="4800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413320" y="1523880"/>
          <a:ext cx="3730680" cy="49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3320" y="1523880"/>
                    <a:ext cx="3730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590920" y="1523880"/>
          <a:ext cx="3733560" cy="502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523880"/>
                    <a:ext cx="37335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0" y="1523880"/>
          <a:ext cx="36576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523880"/>
                    <a:ext cx="3657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2133720" y="228600"/>
            <a:ext cx="64008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ahoma"/>
              </a:rPr>
              <a:t>Perfil ambiental del Polié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05320" y="1600200"/>
            <a:ext cx="75960" cy="4800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1600200"/>
            <a:ext cx="152280" cy="4800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4120" y="1828800"/>
          <a:ext cx="380988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809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514600" y="1870200"/>
          <a:ext cx="3730680" cy="498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870200"/>
                    <a:ext cx="373068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0" y="1828800"/>
          <a:ext cx="3429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828800"/>
                    <a:ext cx="3429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33520" y="2286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El inventario debe incluir todas las entradas y salidas que hacen al consumo de materiales y enrgía del producto o proceso del que se trata, así como a las emisiones producidas al medio por la extracción, utilización, consumo y destino final de los residu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Maiandra GD"/>
              </a:rPr>
              <a:t>La evaluación de impactos debe hacerse en base a metodologías internacionalmente aceptadas tal cual son las planteadas por el IPCC o la SETAC, entre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2376720" cy="22831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158920" y="3933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ff00"/>
                </a:solidFill>
                <a:latin typeface="Arial"/>
              </a:rPr>
              <a:t>muchas gracias 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1640" y="4941720"/>
            <a:ext cx="7772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Liliana Saucede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       Noviembr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es-ES_tradnl" sz="3200" spc="-1" strike="noStrike">
                <a:solidFill>
                  <a:srgbClr val="00ff00"/>
                </a:solidFill>
                <a:latin typeface="Arial"/>
              </a:rPr>
              <a:t>Universidad Nacional de Luj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87280" y="14842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ccff"/>
                </a:solidFill>
                <a:latin typeface="Arial"/>
              </a:rPr>
              <a:t>Responsabilidad Social Empres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2781360"/>
            <a:ext cx="626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es un modelo de negocio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una transformació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una adaptació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87280" y="14842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ccff"/>
                </a:solidFill>
                <a:latin typeface="Arial"/>
              </a:rPr>
              <a:t>Responsabilidad Social Empres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50028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 participar, involucrarse,  vincularse con los grandes problemas del mundo: trabajar para reducir las desigualdades sociales y los impactos ambiental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2565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ansform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85112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ff00"/>
                </a:solidFill>
                <a:latin typeface="Arial Black"/>
              </a:rPr>
              <a:t>ANALISIS DEL CICLO DE VIDA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ff00"/>
                </a:solidFill>
                <a:latin typeface="Arial Black"/>
              </a:rPr>
              <a:t>Normas ISO-IRAM , serie 140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5445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99"/>
                </a:solidFill>
                <a:latin typeface="Arial"/>
              </a:rPr>
              <a:t>Una herramienta para la gestión ambi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61400" y="3357720"/>
            <a:ext cx="437328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GRUPO ACV -UNL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8000" y="4724280"/>
            <a:ext cx="6595200" cy="10159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 Black"/>
              </a:rPr>
              <a:t>EVALUACION  AMBIENTAL DE LA INDUST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Arial Black"/>
              </a:rPr>
              <a:t>AGROALIMENTARIA REG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3564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ff00"/>
                </a:solidFill>
                <a:latin typeface="Arial Black"/>
              </a:rPr>
              <a:t>ANALISIS DEL CICLO DE VID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873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2180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00"/>
                </a:solidFill>
                <a:latin typeface="Arial Black"/>
              </a:rPr>
              <a:t>ANALISIS DEL CICLO DE VIDA</a:t>
            </a:r>
            <a:br>
              <a:rPr sz="3600"/>
            </a:br>
            <a:r>
              <a:rPr b="1" lang="es-ES_tradnl" sz="3600" spc="-1" strike="noStrike">
                <a:solidFill>
                  <a:srgbClr val="00ff00"/>
                </a:solidFill>
                <a:latin typeface="Arial Black"/>
              </a:rPr>
              <a:t> -</a:t>
            </a:r>
            <a:r>
              <a:rPr b="0" lang="es-ES_tradnl" sz="3600" spc="-1" strike="noStrike">
                <a:solidFill>
                  <a:srgbClr val="00ff00"/>
                </a:solidFill>
                <a:latin typeface="Arial Black"/>
              </a:rPr>
              <a:t> ACV –   </a:t>
            </a:r>
            <a:br>
              <a:rPr sz="3600"/>
            </a:br>
            <a:r>
              <a:rPr b="0" lang="es-ES_tradnl" sz="3600" spc="-1" strike="noStrike">
                <a:solidFill>
                  <a:srgbClr val="00ff00"/>
                </a:solidFill>
                <a:latin typeface="Arial Black"/>
              </a:rPr>
              <a:t>ISO 14040/ 14049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Herramienta para la evaluación de impacto ambien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Analiza los impactos producidos sobre el medioambiente por un producto, proceso o ac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65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00"/>
                </a:solidFill>
                <a:latin typeface="Arial Black"/>
              </a:rPr>
              <a:t>Técnica de AC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uctura del A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905120"/>
            <a:ext cx="1828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Definición de objetivos y alcances</a:t>
            </a: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2:14:10Z</dcterms:created>
  <dc:creator>YO YO</dc:creator>
  <dc:description/>
  <dc:language>en-US</dc:language>
  <cp:lastModifiedBy>Congresos y Eventos</cp:lastModifiedBy>
  <cp:lastPrinted>2001-01-02T08:57:27Z</cp:lastPrinted>
  <dcterms:modified xsi:type="dcterms:W3CDTF">2006-11-17T14:31:04Z</dcterms:modified>
  <cp:revision>295</cp:revision>
  <dc:subject/>
  <dc:title>        ANALISIS DEL CICLO DE VIDA - ACV-  ISO 14040</dc:title>
</cp:coreProperties>
</file>