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1169-3947-48D7-A062-E7D0ADEF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E16E-8B87-4CE8-850E-D7E60B23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CFD9-8FB0-48B4-AB15-7780E9D1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F470-9B03-46B6-BE35-CB81D96F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6B42-2804-4F91-8761-970B8058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07DC-B884-4028-B3FB-518A2D70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2F20-04F3-4064-B58F-1BF25489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9413-B07C-485D-A58B-CB0AF05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3E33-6180-45A5-9E9A-35EF058E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7A57-3865-4677-8AEF-89F8E273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F5C5-CD40-4D56-A799-7FF5D389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BF9D-D250-4F59-808A-F62ED303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F2DE-0C2A-414E-9B74-A0C0807B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7D2E-93ED-4C94-B9B3-34702DF5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B6AB-884D-42FD-8C7C-B6598E75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90BD-EC94-4222-8D45-B0412BAF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61F8-2098-4B98-8B1E-C85151E2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59DB-3550-419F-939E-13B988EB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3A48-9C82-4E99-B6E8-E4D4F4EB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283F-4132-4918-A3F4-B3FB31E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E48E-B9BC-4BEF-B254-F40A1225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D79E-7CAC-4EF4-A4CE-B0EF0423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A376-1752-4255-9945-6B72A1B6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EB35-9DBE-4A52-A0E2-9530AA79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5C6D-5CFD-4986-9C2F-3145EC04F96A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24E8-A05E-4A0B-98C5-C011E766CC2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04920" y="380880"/>
            <a:ext cx="8588160" cy="3505320"/>
          </a:xfrm>
          <a:prstGeom prst="rect">
            <a:avLst/>
          </a:prstGeom>
          <a:solidFill>
            <a:srgbClr val="993366"/>
          </a:solidFill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dfdef6"/>
                </a:solidFill>
                <a:latin typeface="Arial"/>
              </a:rPr>
              <a:t>PROYECTO DE LEY RESPONSABILIDAD SOCIAL EMPRESAR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057400" y="5181480"/>
            <a:ext cx="6629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sejo de Ciencias Econ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ica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– Noviembre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nador Jorge Milton Capitan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Tahoma"/>
                <a:ea typeface="Times New Roman"/>
              </a:rPr>
              <a:t>c) </a:t>
            </a:r>
            <a:r>
              <a:rPr b="1" lang="es-ES" sz="4400" spc="-1" strike="noStrike">
                <a:solidFill>
                  <a:srgbClr val="dfdef6"/>
                </a:solidFill>
                <a:latin typeface="Tahoma"/>
                <a:ea typeface="Times New Roman"/>
              </a:rPr>
              <a:t>Ambiente</a:t>
            </a:r>
            <a:r>
              <a:rPr b="1" lang="es-MX" sz="4400" spc="-1" strike="noStrike">
                <a:solidFill>
                  <a:srgbClr val="dfdef6"/>
                </a:solidFill>
                <a:latin typeface="Tahoma"/>
                <a:ea typeface="Times New Roman"/>
              </a:rPr>
              <a:t>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Tahoma"/>
                <a:ea typeface="Tahoma"/>
              </a:rPr>
              <a:t>Grado de utilización de elementos naturales</a:t>
            </a:r>
            <a:r>
              <a:rPr b="0" lang="es-MX" sz="29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Tahoma"/>
                <a:ea typeface="Tahoma"/>
              </a:rPr>
              <a:t>Utilización de la empresa de un sistema de gestión</a:t>
            </a:r>
            <a:r>
              <a:rPr b="0" lang="es-MX" sz="29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s-ES" sz="2900" spc="-1" strike="noStrike">
                <a:solidFill>
                  <a:srgbClr val="ffffff"/>
                </a:solidFill>
                <a:latin typeface="Tahoma"/>
                <a:ea typeface="Tahoma"/>
              </a:rPr>
              <a:t>ambiental</a:t>
            </a:r>
            <a:r>
              <a:rPr b="0" lang="es-MX" sz="29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Tahoma"/>
                <a:ea typeface="Tahoma"/>
              </a:rPr>
              <a:t>Tratamiento de desechos industriales</a:t>
            </a:r>
            <a:r>
              <a:rPr b="0" lang="es-MX" sz="29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Tahoma"/>
                <a:ea typeface="Tahoma"/>
              </a:rPr>
              <a:t>Uso de distintas fuentes energéticas</a:t>
            </a:r>
            <a:r>
              <a:rPr b="0" lang="es-MX" sz="29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Tahoma"/>
                <a:ea typeface="Tahoma"/>
              </a:rPr>
              <a:t>Programas de utilización de elementos reciclados</a:t>
            </a:r>
            <a:r>
              <a:rPr b="0" lang="es-MX" sz="29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Tahoma"/>
                <a:ea typeface="Tahoma"/>
              </a:rPr>
              <a:t>Programas de reducción de la contaminación del aire y el suelo</a:t>
            </a:r>
            <a:r>
              <a:rPr b="0" lang="es-MX" sz="29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Tahoma"/>
                <a:ea typeface="Tahoma"/>
              </a:rPr>
              <a:t>Programas de reducción de la polución acústica</a:t>
            </a:r>
            <a:r>
              <a:rPr b="0" lang="es-MX" sz="29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Tahoma"/>
                <a:ea typeface="Tahoma"/>
              </a:rPr>
              <a:t>Evolución de emisiones industriales generadas</a:t>
            </a:r>
            <a:r>
              <a:rPr b="0" lang="es-MX" sz="29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ccff"/>
                </a:solidFill>
                <a:latin typeface="Tahoma"/>
                <a:ea typeface="Tahoma"/>
              </a:rPr>
              <a:t>d) Comunidad</a:t>
            </a: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ahoma"/>
              </a:rPr>
              <a:t>Colaboración con entidades benéfica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ahoma"/>
              </a:rPr>
              <a:t>Gastos en fundaciones propias (salud, arte, cultura, educación, filantrópicas, etc.)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ahoma"/>
              </a:rPr>
              <a:t>Programa de capacitación a desemplead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ahoma"/>
              </a:rPr>
              <a:t>Programas de voluntariado corporativo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ahoma"/>
              </a:rPr>
              <a:t>Colaboración con comunidades carenciada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ahoma"/>
              </a:rPr>
              <a:t>Programas de integración de minoría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dfdef6"/>
                </a:solidFill>
                <a:latin typeface="Arial"/>
              </a:rPr>
              <a:t>Autoridad de aplicación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dfdef6"/>
                </a:solidFill>
                <a:latin typeface="Arial"/>
              </a:rPr>
              <a:t>Certificación RSE</a:t>
            </a:r>
            <a:br>
              <a:rPr sz="5400"/>
            </a:br>
            <a:r>
              <a:rPr b="1" lang="es-AR" sz="5400" spc="-1" strike="noStrike">
                <a:solidFill>
                  <a:srgbClr val="dfdef6"/>
                </a:solidFill>
                <a:latin typeface="Arial"/>
              </a:rPr>
              <a:t>“socialmente responsable”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Arial"/>
              </a:rPr>
              <a:t>Responsabilidad Social Empresaria (RSE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Arial"/>
              </a:rPr>
              <a:t>1- Marco jurídico de RS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Arial"/>
              </a:rPr>
              <a:t>2- Empresas nacionales o extranjer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Arial"/>
              </a:rPr>
              <a:t>3- Normas de transparencias y contro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Arial"/>
              </a:rPr>
              <a:t>4- Convención colectiva de trabajo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3400" spc="-1" strike="noStrike">
                <a:solidFill>
                  <a:srgbClr val="ffffff"/>
                </a:solidFill>
                <a:latin typeface="Arial"/>
              </a:rPr>
              <a:t>deben ajustarse a regulacio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3400" spc="-1" strike="noStrike">
                <a:solidFill>
                  <a:srgbClr val="ffffff"/>
                </a:solidFill>
                <a:latin typeface="Arial"/>
              </a:rPr>
              <a:t>nuev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dfdef6"/>
                </a:solidFill>
                <a:latin typeface="Arial"/>
              </a:rPr>
              <a:t>Empresas con más </a:t>
            </a:r>
            <a:br>
              <a:rPr sz="5400"/>
            </a:br>
            <a:r>
              <a:rPr b="0" lang="es-MX" sz="5400" spc="-1" strike="noStrike">
                <a:solidFill>
                  <a:srgbClr val="dfdef6"/>
                </a:solidFill>
                <a:latin typeface="Arial"/>
              </a:rPr>
              <a:t>de 300 emplead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ben hacer un balance so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odificación del art. 25 de la Ley 25.87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uditoría Social Exter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ff"/>
                </a:solidFill>
                <a:uFillTx/>
                <a:latin typeface="Arial"/>
              </a:rPr>
              <a:t>RSE 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ducta é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mpromiso so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junto de políticas, prácticas y programas por integrantes de las empresas en beneficio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- Trabajad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2- Comun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3- Ambi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160020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220968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62320" y="2133720"/>
            <a:ext cx="990360" cy="304560"/>
          </a:xfrm>
          <a:prstGeom prst="rightArrow">
            <a:avLst>
              <a:gd name="adj1" fmla="val 50000"/>
              <a:gd name="adj2" fmla="val 81294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dfdef6"/>
                </a:solidFill>
                <a:latin typeface="Arial"/>
              </a:rPr>
              <a:t>Elementos constitutivos de la RSE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1- Balance socia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2- Proveedores, clientes, accionistas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empleados, comunidades, grupo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políticos, gobiernos, medios d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comunicació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3- Producto socialmente responsabl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4- Inversión socialmente responsabl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5- Código de conduct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6- Certificación de R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100" spc="-1" strike="noStrike">
                <a:solidFill>
                  <a:srgbClr val="ffffff"/>
                </a:solidFill>
                <a:latin typeface="Arial"/>
              </a:rPr>
              <a:t>7- Auditoria social y reparto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Arial"/>
              </a:rPr>
              <a:t>Información mínima </a:t>
            </a:r>
            <a:br>
              <a:rPr sz="4400"/>
            </a:br>
            <a:r>
              <a:rPr b="1" lang="es-MX" sz="4400" spc="-1" strike="noStrike">
                <a:solidFill>
                  <a:srgbClr val="dfdef6"/>
                </a:solidFill>
                <a:latin typeface="Arial"/>
              </a:rPr>
              <a:t>para un Balance Soci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Puntos a consider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a)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ahoma"/>
              </a:rPr>
              <a:t>Recursos human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b)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lientes y proveedor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)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Ambient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)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munidad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Tahoma"/>
                <a:ea typeface="Tahoma"/>
              </a:rPr>
              <a:t>a) </a:t>
            </a:r>
            <a:r>
              <a:rPr b="1" lang="es-ES" sz="4400" spc="-1" strike="noStrike">
                <a:solidFill>
                  <a:srgbClr val="dfdef6"/>
                </a:solidFill>
                <a:latin typeface="Tahoma"/>
                <a:ea typeface="Tahoma"/>
              </a:rPr>
              <a:t>Recursos humanos</a:t>
            </a:r>
            <a:r>
              <a:rPr b="1" lang="es-MX" sz="4400" spc="-1" strike="noStrike">
                <a:solidFill>
                  <a:srgbClr val="dfdef6"/>
                </a:solidFill>
                <a:latin typeface="Tahoma"/>
                <a:ea typeface="Tahoma"/>
              </a:rPr>
              <a:t>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  <a:ea typeface="Tahoma"/>
              </a:rPr>
              <a:t>Remuneraciones y cargas sociales (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  <a:ea typeface="Tahoma"/>
              </a:rPr>
              <a:t>otales y promedio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  <a:ea typeface="Tahoma"/>
              </a:rPr>
              <a:t>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  <a:ea typeface="Tahoma"/>
              </a:rPr>
              <a:t>Evolución de la masa salarial promedio. Su distribución según niveles y categorías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  <a:ea typeface="Tahoma"/>
              </a:rPr>
              <a:t>Cantidad de dependientes categorizados por edad, categoría laboral, sexo, nacionalidad, permanentes o contratados, tiempo completo o parcial. Evolución de la dotación del personal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  <a:ea typeface="Tahoma"/>
              </a:rPr>
              <a:t>Ausentismo (cantidad de días por motivo)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  <a:ea typeface="Tahoma"/>
              </a:rPr>
              <a:t>Rotación del personal por edad y sexo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  <a:ea typeface="Tahoma"/>
              </a:rPr>
              <a:t>Capacitación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  <a:ea typeface="Tahoma"/>
              </a:rPr>
              <a:t>Pagos a la seguridad social y fondos de pensiones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  <a:ea typeface="Tahoma"/>
              </a:rPr>
              <a:t>Costos de administradoras de riesgos de trabajo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Tahoma"/>
                <a:ea typeface="Tahoma"/>
              </a:rPr>
              <a:t>a) </a:t>
            </a:r>
            <a:r>
              <a:rPr b="1" lang="es-ES" sz="4400" spc="-1" strike="noStrike">
                <a:solidFill>
                  <a:srgbClr val="dfdef6"/>
                </a:solidFill>
                <a:latin typeface="Tahoma"/>
                <a:ea typeface="Tahoma"/>
              </a:rPr>
              <a:t>Recursos humanos</a:t>
            </a:r>
            <a:r>
              <a:rPr b="1" lang="es-MX" sz="4400" spc="-1" strike="noStrike">
                <a:solidFill>
                  <a:srgbClr val="dfdef6"/>
                </a:solidFill>
                <a:latin typeface="Tahoma"/>
                <a:ea typeface="Tahoma"/>
              </a:rPr>
              <a:t>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ahoma"/>
              </a:rPr>
              <a:t>Programas de innovación tecnológica y organizacional que impacten sobre la plantilla de personal o puedan involucrar modificación de condiciones de trabajo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ahoma"/>
              </a:rPr>
              <a:t>Enfermedades y accidentes (cantidad de casos por tipo de enfermedad, tasas de gravedad, cantidad de accidentes, cantidad de días perdidos por accidentes, cantidad de días perdidos por enfermedad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ahoma"/>
              </a:rPr>
              <a:t>Evaluación de riesgos laborales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ahoma"/>
              </a:rPr>
              <a:t>Análisis, planificación y gestión de riesgos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ahoma"/>
              </a:rPr>
              <a:t>Préstamos según fines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ahoma"/>
              </a:rPr>
              <a:t>Biblioteca para uso de los Empleados y sus familias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ahoma"/>
              </a:rPr>
              <a:t>Programas de recreación y deportes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ahoma"/>
              </a:rPr>
              <a:t>Grado de satisfacción por pertenecer a la organización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ahoma"/>
              </a:rPr>
              <a:t>Participación en voluntariado social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fdef6"/>
                </a:solidFill>
                <a:latin typeface="Tahoma"/>
                <a:ea typeface="Times New Roman"/>
              </a:rPr>
              <a:t>b) </a:t>
            </a:r>
            <a:r>
              <a:rPr b="1" lang="es-ES" sz="4400" spc="-1" strike="noStrike">
                <a:solidFill>
                  <a:srgbClr val="dfdef6"/>
                </a:solidFill>
                <a:latin typeface="Tahoma"/>
                <a:ea typeface="Times New Roman"/>
              </a:rPr>
              <a:t>Clientes y proveedores</a:t>
            </a:r>
            <a:r>
              <a:rPr b="1" lang="es-MX" sz="4400" spc="-1" strike="noStrike">
                <a:solidFill>
                  <a:srgbClr val="dfdef6"/>
                </a:solidFill>
                <a:latin typeface="Tahoma"/>
                <a:ea typeface="Tahoma"/>
              </a:rPr>
              <a:t>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21337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362320"/>
            <a:ext cx="6858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Grado de satisfacción por el trat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Grado de satisfacción por los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0:01:31Z</dcterms:created>
  <dc:creator>A500</dc:creator>
  <dc:description/>
  <dc:language>en-US</dc:language>
  <cp:lastModifiedBy>Congresos y Eventos</cp:lastModifiedBy>
  <dcterms:modified xsi:type="dcterms:W3CDTF">2006-11-17T13:48:40Z</dcterms:modified>
  <cp:revision>2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57965248</vt:r8>
  </property>
  <property fmtid="{D5CDD505-2E9C-101B-9397-08002B2CF9AE}" pid="3" name="_AuthorEmail">
    <vt:lpwstr>sambito@ciudad.com.ar</vt:lpwstr>
  </property>
  <property fmtid="{D5CDD505-2E9C-101B-9397-08002B2CF9AE}" pid="4" name="_AuthorEmailDisplayName">
    <vt:lpwstr>Fabiana Sambanca</vt:lpwstr>
  </property>
  <property fmtid="{D5CDD505-2E9C-101B-9397-08002B2CF9AE}" pid="5" name="_EmailSubject">
    <vt:lpwstr>EXPOSICIONES</vt:lpwstr>
  </property>
  <property fmtid="{D5CDD505-2E9C-101B-9397-08002B2CF9AE}" pid="6" name="_ReviewingToolsShownOnce">
    <vt:lpwstr/>
  </property>
</Properties>
</file>