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7361238"/>
  <p:notesSz cx="7361238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CF7D-FD21-4825-BCE9-1DB4B03EE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91920" y="304560"/>
            <a:ext cx="791820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658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1920" y="1676520"/>
            <a:ext cx="79182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91920" y="3984840"/>
            <a:ext cx="79182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9442-A6DE-4B5F-87FD-C248E61C3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91920" y="304560"/>
            <a:ext cx="791820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658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91920" y="1676520"/>
            <a:ext cx="386388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9480" y="1676520"/>
            <a:ext cx="386388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1920" y="3984840"/>
            <a:ext cx="386388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9480" y="3984840"/>
            <a:ext cx="386388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31B9-1689-4047-9F76-8F3F6B7E5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91920" y="304560"/>
            <a:ext cx="791820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658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1920" y="1676520"/>
            <a:ext cx="254952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69240" y="1676520"/>
            <a:ext cx="254952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560" y="1676520"/>
            <a:ext cx="254952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91920" y="3984840"/>
            <a:ext cx="254952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69240" y="3984840"/>
            <a:ext cx="254952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560" y="3984840"/>
            <a:ext cx="254952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2D75-7B81-42DF-8866-4C86A8A68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91920" y="304560"/>
            <a:ext cx="791820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6582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91920" y="1676520"/>
            <a:ext cx="79182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91920" y="304560"/>
            <a:ext cx="791820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6582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91920" y="1676520"/>
            <a:ext cx="79182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91920" y="304560"/>
            <a:ext cx="791820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6582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91920" y="1676520"/>
            <a:ext cx="38638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49480" y="1676520"/>
            <a:ext cx="38638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1920" y="304560"/>
            <a:ext cx="791820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6582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91920" y="304560"/>
            <a:ext cx="7918200" cy="59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91920" y="304560"/>
            <a:ext cx="791820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6582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91920" y="1676520"/>
            <a:ext cx="386388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9480" y="1676520"/>
            <a:ext cx="38638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91920" y="3984840"/>
            <a:ext cx="386388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91920" y="304560"/>
            <a:ext cx="791820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658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91920" y="1676520"/>
            <a:ext cx="79182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B5D5-06EE-42AF-BD9D-E5A6C26C8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91920" y="304560"/>
            <a:ext cx="791820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6582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91920" y="1676520"/>
            <a:ext cx="38638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9480" y="1676520"/>
            <a:ext cx="386388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49480" y="3984840"/>
            <a:ext cx="386388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91920" y="304560"/>
            <a:ext cx="791820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6582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91920" y="1676520"/>
            <a:ext cx="386388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9480" y="1676520"/>
            <a:ext cx="386388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91920" y="3984840"/>
            <a:ext cx="79182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91920" y="304560"/>
            <a:ext cx="791820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6582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91920" y="1676520"/>
            <a:ext cx="79182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91920" y="3984840"/>
            <a:ext cx="79182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91920" y="304560"/>
            <a:ext cx="791820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6582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1920" y="1676520"/>
            <a:ext cx="386388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49480" y="1676520"/>
            <a:ext cx="386388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1920" y="3984840"/>
            <a:ext cx="386388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49480" y="3984840"/>
            <a:ext cx="386388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91920" y="304560"/>
            <a:ext cx="791820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6582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91920" y="1676520"/>
            <a:ext cx="254952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69240" y="1676520"/>
            <a:ext cx="254952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560" y="1676520"/>
            <a:ext cx="254952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91920" y="3984840"/>
            <a:ext cx="254952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69240" y="3984840"/>
            <a:ext cx="254952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560" y="3984840"/>
            <a:ext cx="254952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91920" y="304560"/>
            <a:ext cx="791820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658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91920" y="1676520"/>
            <a:ext cx="79182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7A29-15F6-4813-8FAD-2BCE47538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91920" y="304560"/>
            <a:ext cx="791820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658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91920" y="1676520"/>
            <a:ext cx="38638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9480" y="1676520"/>
            <a:ext cx="38638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8063-48B5-4260-A87C-2977286E3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1920" y="304560"/>
            <a:ext cx="791820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658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4834-0E54-4ED8-8CE9-2C95EF5D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91920" y="304560"/>
            <a:ext cx="7918200" cy="59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BAA8-3ED1-44D5-95AF-5F5F3F1A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1920" y="304560"/>
            <a:ext cx="791820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658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1920" y="1676520"/>
            <a:ext cx="386388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9480" y="1676520"/>
            <a:ext cx="38638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1920" y="3984840"/>
            <a:ext cx="386388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018F-FD4A-4720-B43B-59C4936F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91920" y="304560"/>
            <a:ext cx="791820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658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91920" y="1676520"/>
            <a:ext cx="38638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9480" y="1676520"/>
            <a:ext cx="386388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9480" y="3984840"/>
            <a:ext cx="386388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F754-134D-44C0-BE39-A319E6CC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91920" y="304560"/>
            <a:ext cx="791820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658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91920" y="1676520"/>
            <a:ext cx="386388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9480" y="1676520"/>
            <a:ext cx="386388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91920" y="3984840"/>
            <a:ext cx="79182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DD98-F202-465A-875A-7EC63F80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3492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68000" y="7116480"/>
            <a:ext cx="10666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178920" y="7116480"/>
            <a:ext cx="4496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323640" y="7116480"/>
            <a:ext cx="8492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 Narrow"/>
              </a:rPr>
              <a:t>No. </a:t>
            </a:r>
            <a:fld id="{C841129D-3AAB-44E4-9AF7-9CA1FE990608}" type="slidenum">
              <a:rPr b="0" lang="de-DE" sz="11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r>
              <a:rPr b="0" lang="de-DE" sz="11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691920" y="1676520"/>
            <a:ext cx="79182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25800" indent="-325800">
              <a:spcBef>
                <a:spcPts val="1874"/>
              </a:spcBef>
              <a:buClr>
                <a:srgbClr val="006582"/>
              </a:buClr>
              <a:buSzPct val="118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705600" indent="-271440">
              <a:spcBef>
                <a:spcPts val="1874"/>
              </a:spcBef>
              <a:buClr>
                <a:srgbClr val="006582"/>
              </a:buClr>
              <a:buSzPct val="118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1103760" indent="-217080">
              <a:spcBef>
                <a:spcPts val="1874"/>
              </a:spcBef>
              <a:buClr>
                <a:srgbClr val="006582"/>
              </a:buClr>
              <a:buSzPct val="118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483920" indent="-217080">
              <a:spcBef>
                <a:spcPts val="1874"/>
              </a:spcBef>
              <a:buClr>
                <a:srgbClr val="006582"/>
              </a:buClr>
              <a:buSzPct val="118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1881720" indent="-217080">
              <a:spcBef>
                <a:spcPts val="1874"/>
              </a:spcBef>
              <a:buClr>
                <a:srgbClr val="006582"/>
              </a:buClr>
              <a:buSzPct val="118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1881720" indent="-217080">
              <a:spcBef>
                <a:spcPts val="1874"/>
              </a:spcBef>
              <a:buClr>
                <a:srgbClr val="000000"/>
              </a:buClr>
              <a:buSzPct val="118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1881720" indent="-217080">
              <a:spcBef>
                <a:spcPts val="1874"/>
              </a:spcBef>
              <a:buClr>
                <a:srgbClr val="000000"/>
              </a:buClr>
              <a:buSzPct val="118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691920" y="304560"/>
            <a:ext cx="791820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582"/>
                </a:solidFill>
                <a:latin typeface="Times New Roman"/>
              </a:rPr>
              <a:t>Click to edit the title text format</a:t>
            </a:r>
            <a:endParaRPr b="1" i="1" lang="en-US" sz="3600" spc="-1" strike="noStrike">
              <a:solidFill>
                <a:srgbClr val="006582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6324480"/>
            <a:ext cx="9144000" cy="6541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rcRect l="0" t="55189" r="0" b="0"/>
          <a:stretch/>
        </p:blipFill>
        <p:spPr>
          <a:xfrm>
            <a:off x="7086600" y="6858000"/>
            <a:ext cx="1905120" cy="41112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2133720" cy="1638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52920" y="3032280"/>
            <a:ext cx="4591080" cy="35240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8520" y="380880"/>
            <a:ext cx="844056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582"/>
                </a:solidFill>
                <a:latin typeface="Times New Roman"/>
              </a:rPr>
              <a:t>Click to edit the title text format</a:t>
            </a:r>
            <a:endParaRPr b="1" i="1" lang="en-US" sz="3600" spc="-1" strike="noStrike">
              <a:solidFill>
                <a:srgbClr val="006582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6000840"/>
            <a:ext cx="9144000" cy="706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6000840"/>
            <a:ext cx="9144000" cy="0"/>
          </a:xfrm>
          <a:prstGeom prst="line">
            <a:avLst/>
          </a:prstGeom>
          <a:ln w="3492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035160"/>
            <a:ext cx="9144000" cy="0"/>
          </a:xfrm>
          <a:prstGeom prst="line">
            <a:avLst/>
          </a:prstGeom>
          <a:ln w="3492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4572000" y="3046320"/>
            <a:ext cx="0" cy="2935440"/>
          </a:xfrm>
          <a:prstGeom prst="line">
            <a:avLst/>
          </a:prstGeom>
          <a:ln w="3492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533520" y="324648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rcRect l="0" t="55189" r="0" b="0"/>
          <a:stretch/>
        </p:blipFill>
        <p:spPr>
          <a:xfrm>
            <a:off x="5686560" y="6559560"/>
            <a:ext cx="3152520" cy="6793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722600"/>
            <a:ext cx="8229240" cy="426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indent="19080" algn="ctr">
              <a:spcBef>
                <a:spcPts val="649"/>
              </a:spcBef>
              <a:buClr>
                <a:srgbClr val="006582"/>
              </a:buClr>
              <a:buSzPct val="118000"/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3" marL="1333440" algn="ctr">
              <a:spcBef>
                <a:spcPts val="499"/>
              </a:spcBef>
              <a:buClr>
                <a:srgbClr val="006582"/>
              </a:buClr>
              <a:buSzPct val="118000"/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752480" algn="ctr">
              <a:spcBef>
                <a:spcPts val="499"/>
              </a:spcBef>
              <a:buClr>
                <a:srgbClr val="006582"/>
              </a:buClr>
              <a:buSzPct val="118000"/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752480">
              <a:spcBef>
                <a:spcPts val="499"/>
              </a:spcBef>
              <a:buClr>
                <a:srgbClr val="000000"/>
              </a:buClr>
              <a:buSzPct val="118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752480">
              <a:spcBef>
                <a:spcPts val="499"/>
              </a:spcBef>
              <a:buClr>
                <a:srgbClr val="000000"/>
              </a:buClr>
              <a:buSzPct val="118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globalreporting.org/" TargetMode="External"/><Relationship Id="rId2" Type="http://schemas.openxmlformats.org/officeDocument/2006/relationships/hyperlink" Target="http://www.accountability.org.uk/" TargetMode="External"/><Relationship Id="rId3" Type="http://schemas.openxmlformats.org/officeDocument/2006/relationships/hyperlink" Target="http://www.proetica.uccor.edu.ar/" TargetMode="External"/><Relationship Id="rId4" Type="http://schemas.openxmlformats.org/officeDocument/2006/relationships/hyperlink" Target="http://www.ethos.com.br/" TargetMode="External"/><Relationship Id="rId5" Type="http://schemas.openxmlformats.org/officeDocument/2006/relationships/hyperlink" Target="http://www.sa-intl.org/" TargetMode="External"/><Relationship Id="rId6" Type="http://schemas.openxmlformats.org/officeDocument/2006/relationships/hyperlink" Target="http://www.iso.org/SR" TargetMode="External"/><Relationship Id="rId7" Type="http://schemas.openxmlformats.org/officeDocument/2006/relationships/hyperlink" Target="http://www.sis.se/" TargetMode="External"/><Relationship Id="rId8" Type="http://schemas.openxmlformats.org/officeDocument/2006/relationships/hyperlink" Target="http://www.abnt.org.br/" TargetMode="External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44056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600" spc="-1" strike="noStrike">
                <a:solidFill>
                  <a:srgbClr val="006582"/>
                </a:solidFill>
                <a:latin typeface="Arial"/>
              </a:rPr>
              <a:t>Germanischer Lloyd Certification </a:t>
            </a:r>
            <a:br>
              <a:rPr sz="3600"/>
            </a:br>
            <a:br>
              <a:rPr sz="3600"/>
            </a:br>
            <a:r>
              <a:rPr b="1" i="1" lang="es-AR" sz="3200" spc="-1" strike="noStrike">
                <a:solidFill>
                  <a:srgbClr val="006582"/>
                </a:solidFill>
                <a:latin typeface="Arial"/>
              </a:rPr>
              <a:t>Servicios “Premium“ de Certificación</a:t>
            </a:r>
            <a:endParaRPr b="1" i="1" lang="en-US" sz="3200" spc="-1" strike="noStrike">
              <a:solidFill>
                <a:srgbClr val="006582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0" y="3048120"/>
          <a:ext cx="4638600" cy="29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8120"/>
                    <a:ext cx="4638600" cy="29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0" y="3048120"/>
          <a:ext cx="4648320" cy="298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048120"/>
                    <a:ext cx="4648320" cy="29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91920" y="101160"/>
            <a:ext cx="791820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600" spc="-1" strike="noStrike">
                <a:solidFill>
                  <a:srgbClr val="006582"/>
                </a:solidFill>
                <a:latin typeface="Times New Roman"/>
              </a:rPr>
              <a:t>Evolución Histórica  </a:t>
            </a:r>
            <a:endParaRPr b="1" i="1" lang="en-US" sz="3600" spc="-1" strike="noStrike">
              <a:solidFill>
                <a:srgbClr val="006582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92280" y="1676160"/>
            <a:ext cx="814680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 Narrow"/>
              </a:rPr>
              <a:t>Los Princípios de Sullivan  </a:t>
            </a:r>
            <a:r>
              <a:rPr b="1" lang="es-AR" sz="24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  cont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Narrow"/>
              </a:rPr>
              <a:t>7.- Trabajar para eliminar leyes y costumbres que impiden la justicia social, economica y política. (adjuntado e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1" lang="es-AR" sz="2400" spc="-1" strike="noStrike">
                <a:solidFill>
                  <a:srgbClr val="000000"/>
                </a:solidFill>
                <a:latin typeface="Arial Narrow"/>
              </a:rPr>
              <a:t> 1984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8C40-8381-4782-833C-1AAE9F144BF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91920" y="101160"/>
            <a:ext cx="791820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600" spc="-1" strike="noStrike">
                <a:solidFill>
                  <a:srgbClr val="006582"/>
                </a:solidFill>
                <a:latin typeface="Times New Roman"/>
              </a:rPr>
              <a:t>Evolución Histórica  </a:t>
            </a:r>
            <a:endParaRPr b="1" i="1" lang="en-US" sz="3600" spc="-1" strike="noStrike">
              <a:solidFill>
                <a:srgbClr val="006582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92280" y="1676160"/>
            <a:ext cx="814680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marL="1609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 Narrow"/>
              </a:rPr>
              <a:t>Años 2000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60920" indent="-160920">
              <a:lnSpc>
                <a:spcPct val="90000"/>
              </a:lnSpc>
              <a:spcBef>
                <a:spcPts val="1500"/>
              </a:spcBef>
              <a:buClr>
                <a:srgbClr val="006582"/>
              </a:buClr>
              <a:buSzPct val="118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Narrow"/>
              </a:rPr>
              <a:t>Respuestas a problema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60920" indent="-160920">
              <a:lnSpc>
                <a:spcPct val="90000"/>
              </a:lnSpc>
              <a:spcBef>
                <a:spcPts val="1500"/>
              </a:spcBef>
              <a:buClr>
                <a:srgbClr val="006582"/>
              </a:buClr>
              <a:buSzPct val="118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Narrow"/>
              </a:rPr>
              <a:t>Vinculación co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1" lang="es-AR" sz="2400" spc="-1" strike="noStrike">
                <a:solidFill>
                  <a:srgbClr val="000000"/>
                </a:solidFill>
                <a:latin typeface="Arial Narrow"/>
              </a:rPr>
              <a:t> las partes interesada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60920" indent="-160920">
              <a:lnSpc>
                <a:spcPct val="90000"/>
              </a:lnSpc>
              <a:spcBef>
                <a:spcPts val="1500"/>
              </a:spcBef>
              <a:buClr>
                <a:srgbClr val="006582"/>
              </a:buClr>
              <a:buSzPct val="118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Narrow"/>
              </a:rPr>
              <a:t>Reclama cambios de políticas pública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60920" indent="-160920">
              <a:lnSpc>
                <a:spcPct val="90000"/>
              </a:lnSpc>
              <a:spcBef>
                <a:spcPts val="1500"/>
              </a:spcBef>
              <a:buClr>
                <a:srgbClr val="006582"/>
              </a:buClr>
              <a:buSzPct val="118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Narrow"/>
              </a:rPr>
              <a:t>Perspectiva amplia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609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60920" indent="-160920">
              <a:lnSpc>
                <a:spcPct val="90000"/>
              </a:lnSpc>
              <a:spcBef>
                <a:spcPts val="1500"/>
              </a:spcBef>
              <a:buClr>
                <a:srgbClr val="006582"/>
              </a:buClr>
              <a:buSzPct val="118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 Narrow"/>
              </a:rPr>
              <a:t>Empresa socialmente respons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60920" indent="-160920">
              <a:lnSpc>
                <a:spcPct val="90000"/>
              </a:lnSpc>
              <a:spcBef>
                <a:spcPts val="1500"/>
              </a:spcBef>
              <a:buClr>
                <a:srgbClr val="006582"/>
              </a:buClr>
              <a:buSzPct val="118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 Narrow"/>
              </a:rPr>
              <a:t>Empresa ciudadana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609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609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BA2B-77C4-489C-917D-2794B5E527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01160"/>
            <a:ext cx="791856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600" spc="-1" strike="noStrike">
                <a:solidFill>
                  <a:srgbClr val="006582"/>
                </a:solidFill>
                <a:latin typeface="Times New Roman"/>
              </a:rPr>
              <a:t>El concepto</a:t>
            </a:r>
            <a:endParaRPr b="1" i="1" lang="en-US" sz="3600" spc="-1" strike="noStrike">
              <a:solidFill>
                <a:srgbClr val="006582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136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AR" sz="28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s-AR" sz="2800" spc="-1" strike="noStrike">
                <a:solidFill>
                  <a:srgbClr val="000000"/>
                </a:solidFill>
                <a:latin typeface="Arial Narrow"/>
              </a:rPr>
              <a:t>Ser socialmente responsable no significa solamente cumplir plenamente obligaciones jurídicas, sino también ir más allá de su cumplimiento inv</a:t>
            </a: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1" lang="es-AR" sz="2800" spc="-1" strike="noStrike">
                <a:solidFill>
                  <a:srgbClr val="000000"/>
                </a:solidFill>
                <a:latin typeface="Arial Narrow"/>
              </a:rPr>
              <a:t>rtiendo “más” en el capital humano, el entorno y las relaciones con los interlocutores.”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 Narrow"/>
              </a:rPr>
              <a:t>Green Paper de la Comisión de la Unión Europea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8F8F-7561-475A-802B-1FBC042E4B2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01160"/>
            <a:ext cx="791856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600" spc="-1" strike="noStrike">
                <a:solidFill>
                  <a:srgbClr val="006582"/>
                </a:solidFill>
                <a:latin typeface="Times New Roman"/>
              </a:rPr>
              <a:t>El concepto</a:t>
            </a:r>
            <a:endParaRPr b="1" i="1" lang="en-US" sz="3600" spc="-1" strike="noStrike">
              <a:solidFill>
                <a:srgbClr val="006582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136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AR" sz="28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s-AR" sz="2800" spc="-1" strike="noStrike">
                <a:solidFill>
                  <a:srgbClr val="000000"/>
                </a:solidFill>
                <a:latin typeface="Arial Narrow"/>
              </a:rPr>
              <a:t>Es u</a:t>
            </a: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1" lang="es-AR" sz="2800" spc="-1" strike="noStrike">
                <a:solidFill>
                  <a:srgbClr val="000000"/>
                </a:solidFill>
                <a:latin typeface="Arial Narrow"/>
              </a:rPr>
              <a:t>conjunto de acciones planeadas, a favor de las personas y su dignidad, emprendidas libremente por las empresas; que presentan las características de estar vinculadas de algún modo al desarrollo del negócio y que van más allá del cumplimiento de la ley y los convenios colectivos de trabajo.”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 Narrow"/>
              </a:rPr>
              <a:t>Gustavo Morello s.j. 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5013-5FE9-4B40-940A-173EDCAAF55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01160"/>
            <a:ext cx="791856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600" spc="-1" strike="noStrike">
                <a:solidFill>
                  <a:srgbClr val="006582"/>
                </a:solidFill>
                <a:latin typeface="Times New Roman"/>
              </a:rPr>
              <a:t>Cuatro puntos...</a:t>
            </a:r>
            <a:endParaRPr b="1" i="1" lang="en-US" sz="3600" spc="-1" strike="noStrike">
              <a:solidFill>
                <a:srgbClr val="006582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36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160020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mpresas sustentablemente exitosas en sociedades empobrecida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909B-1998-47AF-BA62-59633BFD929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01160"/>
            <a:ext cx="791856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600" spc="-1" strike="noStrike">
                <a:solidFill>
                  <a:srgbClr val="006582"/>
                </a:solidFill>
                <a:latin typeface="Times New Roman"/>
              </a:rPr>
              <a:t>Cuatro puntos...</a:t>
            </a:r>
            <a:endParaRPr b="1" i="1" lang="en-US" sz="3600" spc="-1" strike="noStrike">
              <a:solidFill>
                <a:srgbClr val="006582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36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160020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mpresas sustentablemente exitosas en sociedades empobrecida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28954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l simple cumplimiento de la ley y filantropia social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5C28-736D-4B1E-91E1-CA21B059D1E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01160"/>
            <a:ext cx="791856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600" spc="-1" strike="noStrike">
                <a:solidFill>
                  <a:srgbClr val="006582"/>
                </a:solidFill>
                <a:latin typeface="Times New Roman"/>
              </a:rPr>
              <a:t>Cuatro puntos...</a:t>
            </a:r>
            <a:endParaRPr b="1" i="1" lang="en-US" sz="3600" spc="-1" strike="noStrike">
              <a:solidFill>
                <a:srgbClr val="006582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36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160020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mpresas sustentablemente exitosas en sociedades empobrecida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28954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l simple cumplimiento de la ley y filantropia social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39625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a planificación estratégica de la empresa y un concepto de desarrollo integral de la sociedad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6569-7E03-42A1-9CBE-69AE601E12D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101160"/>
            <a:ext cx="791856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600" spc="-1" strike="noStrike">
                <a:solidFill>
                  <a:srgbClr val="006582"/>
                </a:solidFill>
                <a:latin typeface="Times New Roman"/>
              </a:rPr>
              <a:t>Cuatro puntos...</a:t>
            </a:r>
            <a:endParaRPr b="1" i="1" lang="en-US" sz="3600" spc="-1" strike="noStrike">
              <a:solidFill>
                <a:srgbClr val="006582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36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160020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mpresas sustentablemente exitosas en sociedades empobrecida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28954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l simple cumplimiento de la ley y filantropia social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39625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a planificación estratégica de la empresa y un concepto de desarrollo integral de la sociedad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51814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a riqueza trae consigo la responsabilidad de generar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9B2C-A4AA-4756-84C4-CEC39A10615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01160"/>
            <a:ext cx="791856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600" spc="-1" strike="noStrike">
                <a:solidFill>
                  <a:srgbClr val="006582"/>
                </a:solidFill>
                <a:latin typeface="Times New Roman"/>
              </a:rPr>
              <a:t>El concepto</a:t>
            </a:r>
            <a:endParaRPr b="1" i="1" lang="en-US" sz="3600" spc="-1" strike="noStrike">
              <a:solidFill>
                <a:srgbClr val="006582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36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624"/>
              </a:spcBef>
              <a:buClr>
                <a:srgbClr val="006582"/>
              </a:buClr>
              <a:buSzPct val="118000"/>
              <a:buFont typeface="Arial Narrow"/>
              <a:buChar char="-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Arial Narrow"/>
              </a:rPr>
              <a:t>No es u</a:t>
            </a:r>
            <a:r>
              <a:rPr b="1" lang="pt-BR" sz="26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1" lang="es-AR" sz="2600" spc="-1" strike="noStrike">
                <a:solidFill>
                  <a:srgbClr val="000000"/>
                </a:solidFill>
                <a:latin typeface="Arial Narrow"/>
              </a:rPr>
              <a:t> acto de filantropia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buClr>
                <a:srgbClr val="006582"/>
              </a:buClr>
              <a:buSzPct val="118000"/>
              <a:buFont typeface="Arial Narrow"/>
              <a:buChar char="-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Arial Narrow"/>
              </a:rPr>
              <a:t>No son obligaciones ni imposiciones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buClr>
                <a:srgbClr val="006582"/>
              </a:buClr>
              <a:buSzPct val="118000"/>
              <a:buFont typeface="Arial Narrow"/>
              <a:buChar char="-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Arial Narrow"/>
              </a:rPr>
              <a:t>Comportamiento ético de sus directivos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buClr>
                <a:srgbClr val="006582"/>
              </a:buClr>
              <a:buSzPct val="118000"/>
              <a:buFont typeface="Arial Narrow"/>
              <a:buChar char="-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Arial Narrow"/>
              </a:rPr>
              <a:t>Respecto al Medio Ambiente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buClr>
                <a:srgbClr val="006582"/>
              </a:buClr>
              <a:buSzPct val="118000"/>
              <a:buFont typeface="Arial Narrow"/>
              <a:buChar char="-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Arial Narrow"/>
              </a:rPr>
              <a:t>Apoyo a los más desfavorecidos de las comunidades en que opera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buClr>
                <a:srgbClr val="006582"/>
              </a:buClr>
              <a:buSzPct val="118000"/>
              <a:buFont typeface="Arial Narrow"/>
              <a:buChar char="-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Arial Narrow"/>
              </a:rPr>
              <a:t>Preocupación co</a:t>
            </a:r>
            <a:r>
              <a:rPr b="1" lang="pt-BR" sz="26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1" lang="es-AR" sz="2600" spc="-1" strike="noStrike">
                <a:solidFill>
                  <a:srgbClr val="000000"/>
                </a:solidFill>
                <a:latin typeface="Arial Narrow"/>
              </a:rPr>
              <a:t> el bienestar de la comunidad en que se involucra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A705-49D3-4C7B-AFA5-F7536FB242F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01160"/>
            <a:ext cx="791856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600" spc="-1" strike="noStrike">
                <a:solidFill>
                  <a:srgbClr val="006582"/>
                </a:solidFill>
                <a:latin typeface="Times New Roman"/>
              </a:rPr>
              <a:t>El concepto</a:t>
            </a:r>
            <a:endParaRPr b="1" i="1" lang="en-US" sz="3600" spc="-1" strike="noStrike">
              <a:solidFill>
                <a:srgbClr val="006582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36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buClr>
                <a:srgbClr val="006582"/>
              </a:buClr>
              <a:buSzPct val="118000"/>
              <a:buFont typeface="Arial Narrow"/>
              <a:buChar char="-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s-AR" sz="2800" spc="-1" strike="noStrike">
                <a:solidFill>
                  <a:srgbClr val="000000"/>
                </a:solidFill>
                <a:latin typeface="Arial Narrow"/>
              </a:rPr>
              <a:t>La responsabilidad social de los gerentes es producir riquezas” – </a:t>
            </a:r>
            <a:r>
              <a:rPr b="0" lang="es-AR" sz="2400" spc="-1" strike="noStrike">
                <a:solidFill>
                  <a:srgbClr val="000000"/>
                </a:solidFill>
                <a:latin typeface="Arial Narrow"/>
              </a:rPr>
              <a:t>Friedman, 197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spcBef>
                <a:spcPts val="451"/>
              </a:spcBef>
              <a:buClr>
                <a:srgbClr val="006582"/>
              </a:buClr>
              <a:buSzPct val="118000"/>
              <a:buFont typeface="Arial Narrow"/>
              <a:buChar char="-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AR" sz="2800" spc="-1" strike="noStrike">
                <a:solidFill>
                  <a:srgbClr val="000000"/>
                </a:solidFill>
                <a:latin typeface="Arial Narrow"/>
              </a:rPr>
              <a:t>Crisis de confianza e</a:t>
            </a: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1" lang="es-AR" sz="2800" spc="-1" strike="noStrike">
                <a:solidFill>
                  <a:srgbClr val="000000"/>
                </a:solidFill>
                <a:latin typeface="Arial Narrow"/>
              </a:rPr>
              <a:t> las empresas – </a:t>
            </a:r>
            <a:r>
              <a:rPr b="0" lang="es-AR" sz="2400" spc="-1" strike="noStrike">
                <a:solidFill>
                  <a:srgbClr val="000000"/>
                </a:solidFill>
                <a:latin typeface="Arial Narrow"/>
              </a:rPr>
              <a:t>Casos como los de</a:t>
            </a:r>
            <a:r>
              <a:rPr b="1" lang="es-A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Arial Narrow"/>
              </a:rPr>
              <a:t>Enron, Halliburton, Parmalat, etc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spcBef>
                <a:spcPts val="451"/>
              </a:spcBef>
              <a:buClr>
                <a:srgbClr val="006582"/>
              </a:buClr>
              <a:buSzPct val="118000"/>
              <a:buFont typeface="Arial Narrow"/>
              <a:buChar char="-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Narrow"/>
              </a:rPr>
              <a:t> “</a:t>
            </a:r>
            <a:r>
              <a:rPr b="1" lang="es-AR" sz="2800" spc="-1" strike="noStrike">
                <a:solidFill>
                  <a:srgbClr val="000000"/>
                </a:solidFill>
                <a:latin typeface="Arial Narrow"/>
              </a:rPr>
              <a:t>Gobernanza Ampliada” – </a:t>
            </a:r>
            <a:r>
              <a:rPr b="0" lang="es-AR" sz="2400" spc="-1" strike="noStrike">
                <a:solidFill>
                  <a:srgbClr val="000000"/>
                </a:solidFill>
                <a:latin typeface="Arial Narrow"/>
              </a:rPr>
              <a:t>inclusión de los actores vinculados co</a:t>
            </a: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0" lang="es-AR" sz="2400" spc="-1" strike="noStrike">
                <a:solidFill>
                  <a:srgbClr val="000000"/>
                </a:solidFill>
                <a:latin typeface="Arial Narrow"/>
              </a:rPr>
              <a:t> la actividad empresaria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spcBef>
                <a:spcPts val="451"/>
              </a:spcBef>
              <a:buClr>
                <a:srgbClr val="006582"/>
              </a:buClr>
              <a:buSzPct val="118000"/>
              <a:buFont typeface="Arial Narrow"/>
              <a:buChar char="-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AR" sz="2800" spc="-1" strike="noStrike">
                <a:solidFill>
                  <a:srgbClr val="000000"/>
                </a:solidFill>
                <a:latin typeface="Arial Narrow"/>
              </a:rPr>
              <a:t>Una forma de desarrollo sustentable – ( económico, ecológico y humano) – </a:t>
            </a:r>
            <a:r>
              <a:rPr b="0" lang="es-AR" sz="2400" spc="-1" strike="noStrike">
                <a:solidFill>
                  <a:srgbClr val="000000"/>
                </a:solidFill>
                <a:latin typeface="Arial Narrow"/>
              </a:rPr>
              <a:t>Unión Europea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B790-7A58-44C4-97E0-19F768AF3FC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844092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600" spc="-1" strike="noStrike">
                <a:solidFill>
                  <a:srgbClr val="006582"/>
                </a:solidFill>
                <a:latin typeface="Times New Roman"/>
              </a:rPr>
              <a:t>Consejo Profesional de Ciencias Economicas de la Ciudad Autónoma de Buenos Aires </a:t>
            </a:r>
            <a:br>
              <a:rPr sz="3600"/>
            </a:br>
            <a:endParaRPr b="1" i="1" lang="en-US" sz="3600" spc="-1" strike="noStrike">
              <a:solidFill>
                <a:srgbClr val="006582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0" y="3048120"/>
          <a:ext cx="4572000" cy="29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8120"/>
                    <a:ext cx="4572000" cy="29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101160"/>
            <a:ext cx="791856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600" spc="-1" strike="noStrike">
                <a:solidFill>
                  <a:srgbClr val="006582"/>
                </a:solidFill>
                <a:latin typeface="Times New Roman"/>
              </a:rPr>
              <a:t>El concepto</a:t>
            </a:r>
            <a:endParaRPr b="1" i="1" lang="en-US" sz="3600" spc="-1" strike="noStrike">
              <a:solidFill>
                <a:srgbClr val="006582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36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buClr>
                <a:srgbClr val="006582"/>
              </a:buClr>
              <a:buSzPct val="118000"/>
              <a:buFont typeface="Arial Narrow"/>
              <a:buChar char="-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s-AR" sz="2800" spc="-1" strike="noStrike">
                <a:solidFill>
                  <a:srgbClr val="000000"/>
                </a:solidFill>
                <a:latin typeface="Arial Narrow"/>
              </a:rPr>
              <a:t>RSE como instrumento de competitividad” – </a:t>
            </a:r>
            <a:r>
              <a:rPr b="0" lang="es-AR" sz="2400" spc="-1" strike="noStrike">
                <a:solidFill>
                  <a:srgbClr val="000000"/>
                </a:solidFill>
                <a:latin typeface="Arial Narrow"/>
              </a:rPr>
              <a:t>I Conferencia Interamericana sobre Responsabilidad Social de la Empresa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0231-6BEB-4874-836D-20A4E27FADF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101160"/>
            <a:ext cx="791856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600" spc="-1" strike="noStrike">
                <a:solidFill>
                  <a:srgbClr val="006582"/>
                </a:solidFill>
                <a:latin typeface="Times New Roman"/>
              </a:rPr>
              <a:t>La Estandarización</a:t>
            </a:r>
            <a:endParaRPr b="1" i="1" lang="en-US" sz="3600" spc="-1" strike="noStrike">
              <a:solidFill>
                <a:srgbClr val="006582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36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Narrow"/>
              </a:rPr>
              <a:t>ENTRE OTRAS VENTAJAS PERM</a:t>
            </a: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1" lang="es-AR" sz="2800" spc="-1" strike="noStrike">
                <a:solidFill>
                  <a:srgbClr val="000000"/>
                </a:solidFill>
                <a:latin typeface="Arial Narrow"/>
              </a:rPr>
              <a:t>TE: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6582"/>
              </a:buClr>
              <a:buSzPct val="118000"/>
              <a:buFont typeface="Arial Narrow"/>
              <a:buChar char="-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Narrow"/>
              </a:rPr>
              <a:t>Definiciones claras y uniformes de termino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6582"/>
              </a:buClr>
              <a:buSzPct val="118000"/>
              <a:buFont typeface="Arial Narrow"/>
              <a:buChar char="-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Narrow"/>
              </a:rPr>
              <a:t>Consistencia e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1" lang="es-AR" sz="2400" spc="-1" strike="noStrike">
                <a:solidFill>
                  <a:srgbClr val="000000"/>
                </a:solidFill>
                <a:latin typeface="Arial Narrow"/>
              </a:rPr>
              <a:t> los procedimiento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6582"/>
              </a:buClr>
              <a:buSzPct val="118000"/>
              <a:buFont typeface="Arial Narrow"/>
              <a:buChar char="-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Narrow"/>
              </a:rPr>
              <a:t>Desarrollo de Sistemas de Gestión que garantizan el cumplimiento y auditoria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6582"/>
              </a:buClr>
              <a:buSzPct val="118000"/>
              <a:buFont typeface="Arial Narrow"/>
              <a:buChar char="-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Narrow"/>
              </a:rPr>
              <a:t>Claras definiciones para divulgación pública de informaciones verificada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6582"/>
              </a:buClr>
              <a:buSzPct val="118000"/>
              <a:buFont typeface="Arial Narrow"/>
              <a:buChar char="-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Narrow"/>
              </a:rPr>
              <a:t>Mecanismos de mejora contínua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6582"/>
              </a:buClr>
              <a:buSzPct val="118000"/>
              <a:buFont typeface="Arial Narrow"/>
              <a:buChar char="-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Narrow"/>
              </a:rPr>
              <a:t>Incentivo al mercado para el “fair play”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6582"/>
              </a:buClr>
              <a:buSzPct val="118000"/>
              <a:buFont typeface="Arial Narrow"/>
              <a:buChar char="-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Narrow"/>
              </a:rPr>
              <a:t>Más transparencia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6582"/>
              </a:buClr>
              <a:buSzPct val="118000"/>
              <a:buFont typeface="Arial Narrow"/>
              <a:buChar char="-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Narrow"/>
              </a:rPr>
              <a:t>Comparabilidad co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1" lang="es-AR" sz="2400" spc="-1" strike="noStrike">
                <a:solidFill>
                  <a:srgbClr val="000000"/>
                </a:solidFill>
                <a:latin typeface="Arial Narrow"/>
              </a:rPr>
              <a:t> otro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AA0F-D121-4862-9948-B752A1048F5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91920" y="304560"/>
            <a:ext cx="791820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600" spc="-1" strike="noStrike">
                <a:solidFill>
                  <a:srgbClr val="006582"/>
                </a:solidFill>
                <a:latin typeface="Times New Roman"/>
              </a:rPr>
              <a:t>NORMAS</a:t>
            </a:r>
            <a:endParaRPr b="1" i="1" lang="en-US" sz="3600" spc="-1" strike="noStrike">
              <a:solidFill>
                <a:srgbClr val="00658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1600200"/>
            <a:ext cx="79246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A 1000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A 8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BNT - NBR 16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ISO 26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5D9A-7156-47DF-8C6B-342C3D452878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91920" y="304560"/>
            <a:ext cx="791820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600" spc="-1" strike="noStrike">
                <a:solidFill>
                  <a:srgbClr val="006582"/>
                </a:solidFill>
                <a:latin typeface="Times New Roman"/>
              </a:rPr>
              <a:t>NORMAS</a:t>
            </a:r>
            <a:endParaRPr b="1" i="1" lang="en-US" sz="3600" spc="-1" strike="noStrike">
              <a:solidFill>
                <a:srgbClr val="00658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1600200"/>
            <a:ext cx="7924680" cy="40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A 1000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ccountAbility 1000, lanzada en 1999 por el Institute of Social and Ethical Accountability – ISEA de Londres, Reyno Uni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Un marco para que las organizaciones puedan comprender y mejorar su desempeño ético, y una manera por la cual otros puedan juzgar la validez de la declaración de la ética de una organiz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F509-D471-445F-BB8B-306639A7657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91920" y="304560"/>
            <a:ext cx="791820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600" spc="-1" strike="noStrike">
                <a:solidFill>
                  <a:srgbClr val="006582"/>
                </a:solidFill>
                <a:latin typeface="Times New Roman"/>
              </a:rPr>
              <a:t>NORMAS</a:t>
            </a:r>
            <a:endParaRPr b="1" i="1" lang="en-US" sz="3600" spc="-1" strike="noStrike">
              <a:solidFill>
                <a:srgbClr val="00658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1600200"/>
            <a:ext cx="792468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A 1000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atrón de proceso para la gestión de contabilidad, auditoria e informe de la responsabilidad corpor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incipal diferencial: La inclusión de las partes interesadas en TODOS sus pas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ás credibilidad a la RSE de la organización que la adop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68C1-B251-48C5-AD20-7188654B6AD8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91920" y="304560"/>
            <a:ext cx="791820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600" spc="-1" strike="noStrike">
                <a:solidFill>
                  <a:srgbClr val="006582"/>
                </a:solidFill>
                <a:latin typeface="Times New Roman"/>
              </a:rPr>
              <a:t>NORMAS</a:t>
            </a:r>
            <a:endParaRPr b="1" i="1" lang="en-US" sz="3600" spc="-1" strike="noStrike">
              <a:solidFill>
                <a:srgbClr val="00658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600200"/>
            <a:ext cx="792468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A 1000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Utilizar su liderazgo para posibilitar y ampliar su dialogo co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657600"/>
            <a:ext cx="37339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mple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vee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0" y="3657600"/>
            <a:ext cx="37339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Gobie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presentantes del 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ccion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F402-E1F0-46AC-BECD-688B30EB6955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91920" y="304560"/>
            <a:ext cx="791820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600" spc="-1" strike="noStrike">
                <a:solidFill>
                  <a:srgbClr val="006582"/>
                </a:solidFill>
                <a:latin typeface="Times New Roman"/>
              </a:rPr>
              <a:t>NORMAS</a:t>
            </a:r>
            <a:endParaRPr b="1" i="1" lang="en-US" sz="3600" spc="-1" strike="noStrike">
              <a:solidFill>
                <a:srgbClr val="00658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1600200"/>
            <a:ext cx="792468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A 1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ceso contínuo de ciclos de actividades, pasan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finición / Redefinición de val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sarrollo de metas de desempeño etico y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valuación y comparación del desempeño con las me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16F0-4247-4E74-BA33-EFC08D66343E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91920" y="304560"/>
            <a:ext cx="791820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600" spc="-1" strike="noStrike">
                <a:solidFill>
                  <a:srgbClr val="006582"/>
                </a:solidFill>
                <a:latin typeface="Times New Roman"/>
              </a:rPr>
              <a:t>NORMAS</a:t>
            </a:r>
            <a:endParaRPr b="1" i="1" lang="en-US" sz="3600" spc="-1" strike="noStrike">
              <a:solidFill>
                <a:srgbClr val="00658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1600200"/>
            <a:ext cx="792468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A 1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ceso continuo de ciclos de actividades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lane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ntabilidad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uditoria e Info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ntegralización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ialogo con partes interesadas (stakehold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15B9-598A-4988-A2D7-4F0F7B23EF70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91920" y="304560"/>
            <a:ext cx="791820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600" spc="-1" strike="noStrike">
                <a:solidFill>
                  <a:srgbClr val="006582"/>
                </a:solidFill>
                <a:latin typeface="Times New Roman"/>
              </a:rPr>
              <a:t>NORMAS</a:t>
            </a:r>
            <a:endParaRPr b="1" i="1" lang="en-US" sz="3600" spc="-1" strike="noStrike">
              <a:solidFill>
                <a:srgbClr val="006582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1600200"/>
            <a:ext cx="792468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A 1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ceso continuo de ciclos de actividades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ntegralización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ialogo con partes interesadas (stakehold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os dos últimos son los fundamentos de todo el 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a inclusión de los “stakeholders” es una característica que diferencia el proceso AA 1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82FD-53C5-4509-A7DB-A6E8D32A52C6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91920" y="304560"/>
            <a:ext cx="791820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600" spc="-1" strike="noStrike">
                <a:solidFill>
                  <a:srgbClr val="006582"/>
                </a:solidFill>
                <a:latin typeface="Times New Roman"/>
              </a:rPr>
              <a:t>NORMAS</a:t>
            </a:r>
            <a:endParaRPr b="1" i="1" lang="en-US" sz="3600" spc="-1" strike="noStrike">
              <a:solidFill>
                <a:srgbClr val="00658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16002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A 1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2438280"/>
            <a:ext cx="769608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l informe es un importante elemento del proceso AA 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e basa integralmente en el patrón GRI (Global Reporting Initiat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tandarizar el modo de realizar informes sociales                 (planes: económico, social y ambient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6362-BF22-4970-91F3-5A461057901D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844092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6582"/>
                </a:solidFill>
                <a:latin typeface="Times New Roman"/>
              </a:rPr>
              <a:t>Media Jornada sobre</a:t>
            </a:r>
            <a:br>
              <a:rPr sz="3200"/>
            </a:br>
            <a:br>
              <a:rPr sz="3200"/>
            </a:br>
            <a:r>
              <a:rPr b="1" i="1" lang="es-AR" sz="3600" spc="-1" strike="noStrike">
                <a:solidFill>
                  <a:srgbClr val="006582"/>
                </a:solidFill>
                <a:latin typeface="Times New Roman"/>
              </a:rPr>
              <a:t>Responsabilidad Social Empresaria </a:t>
            </a:r>
            <a:br>
              <a:rPr sz="3600"/>
            </a:br>
            <a:endParaRPr b="1" i="1" lang="en-US" sz="3600" spc="-1" strike="noStrike">
              <a:solidFill>
                <a:srgbClr val="006582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2438280"/>
          <a:ext cx="3733920" cy="36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438280"/>
                    <a:ext cx="3733920" cy="36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91920" y="304560"/>
            <a:ext cx="791820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600" spc="-1" strike="noStrike">
                <a:solidFill>
                  <a:srgbClr val="006582"/>
                </a:solidFill>
                <a:latin typeface="Times New Roman"/>
              </a:rPr>
              <a:t>NORMAS</a:t>
            </a:r>
            <a:endParaRPr b="1" i="1" lang="en-US" sz="3600" spc="-1" strike="noStrike">
              <a:solidFill>
                <a:srgbClr val="00658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6002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A 1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2743200"/>
            <a:ext cx="7696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iálogo con las partes interesadas -  Punto fue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ificulta la gener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ificulta la comp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8C0E-5475-4164-80D6-B3F77133E009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91920" y="304560"/>
            <a:ext cx="791820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600" spc="-1" strike="noStrike">
                <a:solidFill>
                  <a:srgbClr val="006582"/>
                </a:solidFill>
                <a:latin typeface="Times New Roman"/>
              </a:rPr>
              <a:t>NORMAS</a:t>
            </a:r>
            <a:endParaRPr b="1" i="1" lang="en-US" sz="3600" spc="-1" strike="noStrike">
              <a:solidFill>
                <a:srgbClr val="006582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1600200"/>
            <a:ext cx="792468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A 8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mitida por la ONG SA International, cuya misión declarada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mover los drechos humanos de los trabajadores en todo el mund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orma con 9 elementos, relativamente alineados a las Normas ISO 9001, 14001 y OHSAS 1800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da elemento contiene requisi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5E44-E704-4ADA-9D0C-B0314A25776C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91920" y="304560"/>
            <a:ext cx="791820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600" spc="-1" strike="noStrike">
                <a:solidFill>
                  <a:srgbClr val="006582"/>
                </a:solidFill>
                <a:latin typeface="Times New Roman"/>
              </a:rPr>
              <a:t>NORMAS</a:t>
            </a:r>
            <a:endParaRPr b="1" i="1" lang="en-US" sz="3600" spc="-1" strike="noStrike">
              <a:solidFill>
                <a:srgbClr val="00658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2133720"/>
            <a:ext cx="43434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rabajo Infant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rabajo Forz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alud y 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ibertad de Asociación y Derecho a Negociación Col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76920" y="2590920"/>
            <a:ext cx="44956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iscrimi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ácticas Disciplina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Horario de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mun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76920" y="50292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9. Sistemas de 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1600200"/>
            <a:ext cx="7924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A 8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2D10-10AA-45AF-9508-AD0F55419A06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91920" y="304560"/>
            <a:ext cx="791820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600" spc="-1" strike="noStrike">
                <a:solidFill>
                  <a:srgbClr val="006582"/>
                </a:solidFill>
                <a:latin typeface="Times New Roman"/>
              </a:rPr>
              <a:t>NORMAS</a:t>
            </a:r>
            <a:endParaRPr b="1" i="1" lang="en-US" sz="3600" spc="-1" strike="noStrike">
              <a:solidFill>
                <a:srgbClr val="006582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1600200"/>
            <a:ext cx="7924680" cy="49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NBR 16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mitida por ABNT – Asociación Brasileña de Normas 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tablecer una Norma certificable al estilo de las Normas I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orma con 6 elementos, totalmente alineados a las Normas 14001 y OHSAS 1800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igue el modelo de P-D-C-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da elemento contiene requisi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B729-8633-4838-AF6A-81FE6D5D067B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91920" y="304560"/>
            <a:ext cx="791820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600" spc="-1" strike="noStrike">
                <a:solidFill>
                  <a:srgbClr val="006582"/>
                </a:solidFill>
                <a:latin typeface="Times New Roman"/>
              </a:rPr>
              <a:t>NORMAS</a:t>
            </a:r>
            <a:endParaRPr b="1" i="1" lang="en-US" sz="3600" spc="-1" strike="noStrike">
              <a:solidFill>
                <a:srgbClr val="006582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1600200"/>
            <a:ext cx="792468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NBR 16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4.1 – Requisitos Ge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4.2 – Política de 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4.3 – Plan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4.4 – Implementación y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4.5 – Ver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4.6 – Revisión por la Dir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8373-6878-40A6-92FD-6B3F977FDD85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91920" y="304560"/>
            <a:ext cx="791820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600" spc="-1" strike="noStrike">
                <a:solidFill>
                  <a:srgbClr val="006582"/>
                </a:solidFill>
                <a:latin typeface="Times New Roman"/>
              </a:rPr>
              <a:t>NORMAS</a:t>
            </a:r>
            <a:endParaRPr b="1" i="1" lang="en-US" sz="3600" spc="-1" strike="noStrike">
              <a:solidFill>
                <a:srgbClr val="006582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1600200"/>
            <a:ext cx="792468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ISO 26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n proceso de elaboración por el WG SR, bajo la coordinación de SIS de Suécia y la ABNT de Bras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ublicación prevista para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o incluirá requisitos, y por lo tanto, no será certific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u destino es ser una guía común sobre conceptos, definiciones y métodos de eval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C0B9-B213-48FC-996C-02FF46BF86ED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91920" y="304560"/>
            <a:ext cx="791820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600" spc="-1" strike="noStrike">
                <a:solidFill>
                  <a:srgbClr val="006582"/>
                </a:solidFill>
                <a:latin typeface="Times New Roman"/>
              </a:rPr>
              <a:t>CONCLUSIÓN</a:t>
            </a:r>
            <a:endParaRPr b="1" i="1" lang="en-US" sz="3600" spc="-1" strike="noStrike">
              <a:solidFill>
                <a:srgbClr val="006582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1600200"/>
            <a:ext cx="7924680" cy="52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n el creciente avance de la globalización, estamos cada vez más preocupados además de por la calidad de los productos que compramos, también por el </a:t>
            </a:r>
            <a:r>
              <a:rPr b="1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como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han sido desarrollados estos bienes y servici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ducción dañina al amb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rabajo infant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mbiente laboral peligro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tras condiciones deshuma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lación con partes interes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ED7A-3B02-4DA3-B196-7BB2DA59D886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91920" y="304560"/>
            <a:ext cx="791820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600" spc="-1" strike="noStrike">
                <a:solidFill>
                  <a:srgbClr val="006582"/>
                </a:solidFill>
                <a:latin typeface="Times New Roman"/>
              </a:rPr>
              <a:t>REFERENCIAS</a:t>
            </a:r>
            <a:endParaRPr b="1" i="1" lang="en-US" sz="3600" spc="-1" strike="noStrike">
              <a:solidFill>
                <a:srgbClr val="006582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1066680"/>
            <a:ext cx="7924680" cy="54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c3d8e6"/>
                </a:solidFill>
                <a:uFillTx/>
                <a:latin typeface="Arial"/>
                <a:hlinkClick r:id="rId1"/>
              </a:rPr>
              <a:t>WWW.GLOBALREPORTING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c3d8e6"/>
                </a:solidFill>
                <a:uFillTx/>
                <a:latin typeface="Arial"/>
                <a:hlinkClick r:id="rId2"/>
              </a:rPr>
              <a:t>WWW.ACCOUNTABILITY.ORG.U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c3d8e6"/>
                </a:solidFill>
                <a:uFillTx/>
                <a:latin typeface="Arial"/>
                <a:hlinkClick r:id="rId3"/>
              </a:rPr>
              <a:t>WWW.PROETICA.UCCOR.EDU.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c3d8e6"/>
                </a:solidFill>
                <a:uFillTx/>
                <a:latin typeface="Arial"/>
                <a:hlinkClick r:id="rId4"/>
              </a:rPr>
              <a:t>WWW.ETHOS.COM.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c3d8e6"/>
                </a:solidFill>
                <a:uFillTx/>
                <a:latin typeface="Arial"/>
                <a:hlinkClick r:id="rId5"/>
              </a:rPr>
              <a:t>WWW.SA-INTL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c3d8e6"/>
                </a:solidFill>
                <a:uFillTx/>
                <a:latin typeface="Arial"/>
                <a:hlinkClick r:id="rId6"/>
              </a:rPr>
              <a:t>WWW.ISO.ORG/S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c3d8e6"/>
                </a:solidFill>
                <a:uFillTx/>
                <a:latin typeface="Arial"/>
                <a:hlinkClick r:id="rId7"/>
              </a:rPr>
              <a:t>WWW.SIS.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c3d8e6"/>
                </a:solidFill>
                <a:uFillTx/>
                <a:latin typeface="Arial"/>
                <a:hlinkClick r:id="rId8"/>
              </a:rPr>
              <a:t>WWW.ABNT.ORG.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portes Argentinos a la ética y la responsabilidad social empresária – Gustavo Morello (Edito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B8C4-0DA5-4493-B5AD-BA5986B22B48}" type="slidenum">
              <a:t>37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91920" y="101160"/>
            <a:ext cx="791820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600" spc="-1" strike="noStrike">
                <a:solidFill>
                  <a:srgbClr val="006582"/>
                </a:solidFill>
                <a:latin typeface="Times New Roman"/>
              </a:rPr>
              <a:t>Contenido  </a:t>
            </a:r>
            <a:endParaRPr b="1" i="1" lang="en-US" sz="3600" spc="-1" strike="noStrike">
              <a:solidFill>
                <a:srgbClr val="006582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91920" y="1676520"/>
            <a:ext cx="79182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Narrow"/>
              </a:rPr>
              <a:t>RESPONSABILIDAD SOCIA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749"/>
              </a:spcBef>
              <a:buClr>
                <a:srgbClr val="006582"/>
              </a:buClr>
              <a:buSzPct val="118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Narrow"/>
              </a:rPr>
              <a:t>Evolución Histórica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749"/>
              </a:spcBef>
              <a:buClr>
                <a:srgbClr val="006582"/>
              </a:buClr>
              <a:buSzPct val="118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Narrow"/>
              </a:rPr>
              <a:t>El Concepto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749"/>
              </a:spcBef>
              <a:buClr>
                <a:srgbClr val="006582"/>
              </a:buClr>
              <a:buSzPct val="118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Narrow"/>
              </a:rPr>
              <a:t>La Estandarización bajo Norma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749"/>
              </a:spcBef>
              <a:buClr>
                <a:srgbClr val="006582"/>
              </a:buClr>
              <a:buSzPct val="118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Narrow"/>
              </a:rPr>
              <a:t>Norma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749"/>
              </a:spcBef>
              <a:buClr>
                <a:srgbClr val="006582"/>
              </a:buClr>
              <a:buSzPct val="118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Conclusión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749"/>
              </a:spcBef>
              <a:buClr>
                <a:srgbClr val="006582"/>
              </a:buClr>
              <a:buSzPct val="118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01BC-76C1-4C59-B4D5-3B9FDED3F1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91920" y="101160"/>
            <a:ext cx="791820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600" spc="-1" strike="noStrike">
                <a:solidFill>
                  <a:srgbClr val="006582"/>
                </a:solidFill>
                <a:latin typeface="Times New Roman"/>
              </a:rPr>
              <a:t>Evolución Histórica  </a:t>
            </a:r>
            <a:endParaRPr b="1" i="1" lang="en-US" sz="3600" spc="-1" strike="noStrike">
              <a:solidFill>
                <a:srgbClr val="00658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91920" y="1676520"/>
            <a:ext cx="79182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 Narrow"/>
              </a:rPr>
              <a:t>Años 1850: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749"/>
              </a:spcBef>
              <a:buClr>
                <a:srgbClr val="006582"/>
              </a:buClr>
              <a:buSzPct val="118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Narrow"/>
              </a:rPr>
              <a:t>Comienzo de la “doctrina” del paternalismo: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AR" sz="2800" spc="-1" strike="noStrike">
                <a:solidFill>
                  <a:srgbClr val="000000"/>
                </a:solidFill>
                <a:latin typeface="Arial Narrow"/>
              </a:rPr>
              <a:t>preocupación con educación, alojamiento, etc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AR" sz="2800" spc="-1" strike="noStrike">
                <a:solidFill>
                  <a:srgbClr val="000000"/>
                </a:solidFill>
                <a:latin typeface="Arial Narrow"/>
              </a:rPr>
              <a:t>(prácticas socialmente responsables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2F52-78A2-456B-9BD0-975CECF5B0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91920" y="101160"/>
            <a:ext cx="791820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600" spc="-1" strike="noStrike">
                <a:solidFill>
                  <a:srgbClr val="006582"/>
                </a:solidFill>
                <a:latin typeface="Times New Roman"/>
              </a:rPr>
              <a:t>Evolución Histórica  </a:t>
            </a:r>
            <a:endParaRPr b="1" i="1" lang="en-US" sz="3600" spc="-1" strike="noStrike">
              <a:solidFill>
                <a:srgbClr val="006582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1920" y="1676520"/>
            <a:ext cx="79182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 Narrow"/>
              </a:rPr>
              <a:t>Años 20: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749"/>
              </a:spcBef>
              <a:buClr>
                <a:srgbClr val="006582"/>
              </a:buClr>
              <a:buSzPct val="118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Narrow"/>
              </a:rPr>
              <a:t>Caridad: Contribución voluntária de las empresas para ayudar a grupos sociales necesitado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749"/>
              </a:spcBef>
              <a:buClr>
                <a:srgbClr val="006582"/>
              </a:buClr>
              <a:buSzPct val="118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Narrow"/>
              </a:rPr>
              <a:t>Administrativo: Actuación e</a:t>
            </a: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1" lang="es-AR" sz="2800" spc="-1" strike="noStrike">
                <a:solidFill>
                  <a:srgbClr val="000000"/>
                </a:solidFill>
                <a:latin typeface="Arial Narrow"/>
              </a:rPr>
              <a:t> interés de todos los miembros de la sociedad que estuvieran afectados por las operaciones empresariales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C4D0-226E-4F00-AD4C-D504778542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91920" y="101160"/>
            <a:ext cx="791820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600" spc="-1" strike="noStrike">
                <a:solidFill>
                  <a:srgbClr val="006582"/>
                </a:solidFill>
                <a:latin typeface="Times New Roman"/>
              </a:rPr>
              <a:t>Evolución Histórica  </a:t>
            </a:r>
            <a:endParaRPr b="1" i="1" lang="en-US" sz="3600" spc="-1" strike="noStrike">
              <a:solidFill>
                <a:srgbClr val="006582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91920" y="1676520"/>
            <a:ext cx="79182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 Narrow"/>
              </a:rPr>
              <a:t>Años 50: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749"/>
              </a:spcBef>
              <a:buClr>
                <a:srgbClr val="006582"/>
              </a:buClr>
              <a:buSzPct val="118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Narrow"/>
              </a:rPr>
              <a:t>Interrelación entre empresa y sociedad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749"/>
              </a:spcBef>
              <a:buClr>
                <a:srgbClr val="006582"/>
              </a:buClr>
              <a:buSzPct val="118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Narrow"/>
              </a:rPr>
              <a:t>El lugar ocupado por las empresas en la sociedad, la influencia que ejercian en la misma y la contribución que debían realizar (e</a:t>
            </a: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1" lang="es-AR" sz="2800" spc="-1" strike="noStrike">
                <a:solidFill>
                  <a:srgbClr val="000000"/>
                </a:solidFill>
                <a:latin typeface="Arial Narrow"/>
              </a:rPr>
              <a:t> consecuencia)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5E6B-FAC1-4894-811C-D011E85CCD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91920" y="101160"/>
            <a:ext cx="791820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600" spc="-1" strike="noStrike">
                <a:solidFill>
                  <a:srgbClr val="006582"/>
                </a:solidFill>
                <a:latin typeface="Times New Roman"/>
              </a:rPr>
              <a:t>Evolución Histórica  </a:t>
            </a:r>
            <a:endParaRPr b="1" i="1" lang="en-US" sz="3600" spc="-1" strike="noStrike">
              <a:solidFill>
                <a:srgbClr val="006582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92280" y="1676160"/>
            <a:ext cx="814680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 Narrow"/>
              </a:rPr>
              <a:t>Años 70: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749"/>
              </a:spcBef>
              <a:buClr>
                <a:srgbClr val="006582"/>
              </a:buClr>
              <a:buSzPct val="118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Narrow"/>
              </a:rPr>
              <a:t>Papel social de la empresa en una sociedad pluralista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749"/>
              </a:spcBef>
              <a:buClr>
                <a:srgbClr val="006582"/>
              </a:buClr>
              <a:buSzPct val="118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Narrow"/>
              </a:rPr>
              <a:t>Declaración del Committee for Economic Developmen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365760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cc"/>
                </a:solidFill>
                <a:latin typeface="Times New Roman"/>
              </a:rPr>
              <a:t>Crecimiento econo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91120" y="36576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Times New Roman"/>
              </a:rPr>
              <a:t>Efic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15000" y="35053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Edu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4120" y="44197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0033"/>
                </a:solidFill>
                <a:latin typeface="Times New Roman"/>
              </a:rPr>
              <a:t>Ocupación y 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2670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9900"/>
                </a:solidFill>
                <a:latin typeface="Times New Roman"/>
              </a:rPr>
              <a:t>Derechos civ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95480" y="42670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Contami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48769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77777"/>
                </a:solidFill>
                <a:latin typeface="Times New Roman"/>
              </a:rPr>
              <a:t>Desarrollo urb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1280" y="4952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Igualdad de oport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54864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9900"/>
                </a:solidFill>
                <a:latin typeface="Times New Roman"/>
              </a:rPr>
              <a:t>Ecologia y conserv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467480" y="35053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cc00"/>
                </a:solidFill>
                <a:latin typeface="Times New Roman"/>
              </a:rPr>
              <a:t>Las Artes y la Cul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81280" y="5638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La atención mé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00800" y="54100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0000"/>
                </a:solidFill>
                <a:latin typeface="Times New Roman"/>
              </a:rPr>
              <a:t>La cooperación com los gobier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CB3E-4DD6-4A22-8C17-2E59F4EDF7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91920" y="101160"/>
            <a:ext cx="791820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600" spc="-1" strike="noStrike">
                <a:solidFill>
                  <a:srgbClr val="006582"/>
                </a:solidFill>
                <a:latin typeface="Times New Roman"/>
              </a:rPr>
              <a:t>Evolución Histórica  </a:t>
            </a:r>
            <a:endParaRPr b="1" i="1" lang="en-US" sz="3600" spc="-1" strike="noStrike">
              <a:solidFill>
                <a:srgbClr val="006582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92280" y="1676160"/>
            <a:ext cx="814680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marL="2124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 Narrow"/>
              </a:rPr>
              <a:t>Los Princípios de Sullivan  </a:t>
            </a:r>
            <a:r>
              <a:rPr b="1" lang="es-AR" sz="24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  cont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124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124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Narrow"/>
              </a:rPr>
              <a:t>4.- Início y desarrollo de programas de capacitación a fin de preparar, e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1" lang="es-AR" sz="2400" spc="-1" strike="noStrike">
                <a:solidFill>
                  <a:srgbClr val="000000"/>
                </a:solidFill>
                <a:latin typeface="Arial Narrow"/>
              </a:rPr>
              <a:t> cantidades substanciales, negros y otros no blancos, para que ocupen cargos de supervisión, administrativos, y técnico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124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Narrow"/>
              </a:rPr>
              <a:t>5.- Incrementar las cantidades de negros y otros no blancos e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1" lang="es-AR" sz="2400" spc="-1" strike="noStrike">
                <a:solidFill>
                  <a:srgbClr val="000000"/>
                </a:solidFill>
                <a:latin typeface="Arial Narrow"/>
              </a:rPr>
              <a:t> posiciones de gerencia y de supervisió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124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Narrow"/>
              </a:rPr>
              <a:t>6.- Mejorar la calidad de vida para ne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1" lang="es-AR" sz="2400" spc="-1" strike="noStrike">
                <a:solidFill>
                  <a:srgbClr val="000000"/>
                </a:solidFill>
                <a:latin typeface="Arial Narrow"/>
              </a:rPr>
              <a:t>ros y otros no blancos fuera del ambiente de trabajo e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1" lang="es-AR" sz="2400" spc="-1" strike="noStrike">
                <a:solidFill>
                  <a:srgbClr val="000000"/>
                </a:solidFill>
                <a:latin typeface="Arial Narrow"/>
              </a:rPr>
              <a:t> áreas como habitación, transporte, escuelas, recreación y salu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76ED-C007-477C-AFBD-0C857C23F2E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6T13:31:18Z</dcterms:created>
  <dc:creator>J.E.</dc:creator>
  <dc:description/>
  <dc:language>en-US</dc:language>
  <cp:lastModifiedBy>Fabio Bianco</cp:lastModifiedBy>
  <cp:lastPrinted>2001-12-04T19:23:24Z</cp:lastPrinted>
  <dcterms:modified xsi:type="dcterms:W3CDTF">2006-11-15T22:49:59Z</dcterms:modified>
  <cp:revision>121</cp:revision>
  <dc:subject/>
  <dc:title>PowerPoint-Präsentation</dc:title>
</cp:coreProperties>
</file>