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336A-7928-468E-9746-9456A603B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881E-56D0-4B70-922F-0C98475B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8636F-002F-4247-A414-91068E5A0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FA882-5C4F-47F0-A2E6-29AE389F3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95178-BB61-461C-AD12-78BF67531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91D1-5E6E-440E-B501-AA4FBA0A5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61F81-A183-498F-B2E4-62F6E1D41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B9442-40DA-4377-ADF5-A26247337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6E01B-DEEF-4C63-97BE-0AA57DFFC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9C237-1B71-426F-8CF8-315148AC3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9A961-CF14-4F44-AE85-F96523A45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147E-B7C8-4C62-82DA-66B2B70D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920B-9592-4D4B-B48C-F2F296A24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2C45E-B464-479D-9F3E-975962C54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05B08-74EF-4098-B062-750F66C71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1613E-4A17-46CE-A3FF-77BDD10CE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F50CB-640C-4E7F-910C-224CD847E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498E-CDE2-4856-B9F7-F781125D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11FF-DFF7-412B-A85E-99ED8305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E9C9-6051-4433-A079-E7223FDA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E404B-9CB2-4A36-B16E-7E542D6A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5A02-F293-48E1-B5C7-872D64DD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2F03-2779-41CC-8012-B64DA6B3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3096F-04B1-4CD9-BA6F-03DE7EE2F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95040" y="-4680"/>
                <a:ext cx="941400" cy="6832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90720" y="1697040"/>
                <a:ext cx="94176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111960" y="1257480"/>
                <a:ext cx="94176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111960" y="121680"/>
                <a:ext cx="941760" cy="302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90720" y="989640"/>
                <a:ext cx="941760" cy="348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92520" y="662760"/>
                <a:ext cx="94176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93600" y="354960"/>
                <a:ext cx="9536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61560" y="3898080"/>
                <a:ext cx="94140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83160" y="3536640"/>
                <a:ext cx="94176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83160" y="2397600"/>
                <a:ext cx="94176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83160" y="3213000"/>
                <a:ext cx="941760" cy="3470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83160" y="2931480"/>
                <a:ext cx="94176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82800" y="2600280"/>
                <a:ext cx="95364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600" y="4931640"/>
                <a:ext cx="941760" cy="499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69120" y="4499640"/>
                <a:ext cx="941400" cy="5029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61560" y="5607000"/>
                <a:ext cx="941400" cy="3027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59280" y="6208560"/>
                <a:ext cx="345960" cy="943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1400" y="6177600"/>
                <a:ext cx="94176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0680" y="5850720"/>
                <a:ext cx="9536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r. Carlos A. Negri</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5E08-AAC5-47D2-815B-59948DB8E41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3920" y="-1581480"/>
                <a:ext cx="98028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55920" y="2643480"/>
                <a:ext cx="98028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4840" y="2642760"/>
                <a:ext cx="98028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6520" y="2796480"/>
                <a:ext cx="9799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9560" y="2744640"/>
                <a:ext cx="98028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52000" y="2690640"/>
                <a:ext cx="98028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97680" y="2754720"/>
                <a:ext cx="9925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77280" y="2637720"/>
                <a:ext cx="9799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8560" y="2634840"/>
                <a:ext cx="98028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53480" y="2788560"/>
                <a:ext cx="97992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4360" y="2736720"/>
                <a:ext cx="98028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9680" y="2685600"/>
                <a:ext cx="97992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8520" y="2725200"/>
                <a:ext cx="9925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702080" y="2643840"/>
                <a:ext cx="980280" cy="6678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23720" y="2642760"/>
                <a:ext cx="98028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99640" y="2780640"/>
                <a:ext cx="9799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240" y="2478960"/>
                <a:ext cx="461520" cy="9817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105480" y="2685240"/>
                <a:ext cx="97992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6680" y="2725200"/>
                <a:ext cx="9925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5800" cy="64728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193560"/>
              <a:ext cx="9144360" cy="29700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r. Carlos A. Negri</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A22C-1214-4FDB-91C5-C8A9296CFD9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00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Times New Roman"/>
              </a:rPr>
              <a:t>INDICE</a:t>
            </a:r>
            <a:endParaRPr b="0" lang="en-US" sz="2800" spc="-1" strike="noStrike">
              <a:solidFill>
                <a:srgbClr val="003366"/>
              </a:solidFill>
              <a:latin typeface="Times New Roman"/>
            </a:endParaRPr>
          </a:p>
        </p:txBody>
      </p:sp>
      <p:sp>
        <p:nvSpPr>
          <p:cNvPr id="129" name="PlaceHolder 2"/>
          <p:cNvSpPr>
            <a:spLocks noGrp="1"/>
          </p:cNvSpPr>
          <p:nvPr>
            <p:ph/>
          </p:nvPr>
        </p:nvSpPr>
        <p:spPr>
          <a:xfrm>
            <a:off x="826560" y="836280"/>
            <a:ext cx="7974360" cy="54752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1.</a:t>
            </a:r>
            <a:r>
              <a:rPr b="0" lang="es-ES" sz="1800" spc="-1" strike="noStrike">
                <a:solidFill>
                  <a:srgbClr val="000000"/>
                </a:solidFill>
                <a:latin typeface="Arial"/>
              </a:rPr>
              <a:t>Derecho. Regulación del orden soci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2.</a:t>
            </a:r>
            <a:r>
              <a:rPr b="0" lang="es-ES" sz="1800" spc="-1" strike="noStrike">
                <a:solidFill>
                  <a:srgbClr val="000000"/>
                </a:solidFill>
                <a:latin typeface="Arial"/>
              </a:rPr>
              <a:t>El Derecho Penal como ultima ratio. Exceso de sanción Beccaria. </a:t>
            </a:r>
            <a:r>
              <a:rPr b="0" lang="es-ES" sz="1800" spc="-1" strike="noStrike">
                <a:solidFill>
                  <a:srgbClr val="000000"/>
                </a:solidFill>
                <a:latin typeface="Arial"/>
              </a:rPr>
              <a:t>	</a:t>
            </a:r>
            <a:r>
              <a:rPr b="0" lang="es-ES" sz="1800" spc="-1" strike="noStrike">
                <a:solidFill>
                  <a:srgbClr val="000000"/>
                </a:solidFill>
                <a:latin typeface="Arial"/>
              </a:rPr>
              <a:t>Soló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3.</a:t>
            </a:r>
            <a:r>
              <a:rPr b="0" lang="es-ES" sz="1800" spc="-1" strike="noStrike">
                <a:solidFill>
                  <a:srgbClr val="000000"/>
                </a:solidFill>
                <a:latin typeface="Arial"/>
              </a:rPr>
              <a:t>Valores, bienes jurídicos y el concepto de Justicia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volució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rechos esencial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lores. Mundo globalizado o glocalizado. Mandamientos vs. Becerro de or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ociedad desestructurada. Anomia.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4.</a:t>
            </a:r>
            <a:r>
              <a:rPr b="0" lang="es-ES" sz="1800" spc="-1" strike="noStrike">
                <a:solidFill>
                  <a:srgbClr val="000000"/>
                </a:solidFill>
                <a:latin typeface="Arial"/>
              </a:rPr>
              <a:t>Caracteres del Derecho Penal Económic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6.</a:t>
            </a:r>
            <a:r>
              <a:rPr b="0" lang="es-ES" sz="1800" spc="-1" strike="noStrike">
                <a:solidFill>
                  <a:srgbClr val="000000"/>
                </a:solidFill>
                <a:latin typeface="Arial"/>
              </a:rPr>
              <a:t>Delito .Concepto .Elemento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7.</a:t>
            </a:r>
            <a:r>
              <a:rPr b="0" lang="es-ES" sz="1800" spc="-1" strike="noStrike">
                <a:solidFill>
                  <a:srgbClr val="000000"/>
                </a:solidFill>
                <a:latin typeface="Arial"/>
              </a:rPr>
              <a:t>Derecho procesal penal. Principio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8.</a:t>
            </a:r>
            <a:r>
              <a:rPr b="0" lang="es-ES" sz="1800" spc="-1" strike="noStrike">
                <a:solidFill>
                  <a:srgbClr val="000000"/>
                </a:solidFill>
                <a:latin typeface="Arial"/>
              </a:rPr>
              <a:t>Despenalizació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obation. Inconstitucionalidad. Plenario Kozuta. Instrucciones fiscale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ción pen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bstáculos. Prescripción  </a:t>
            </a: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icio abreviad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 .Medidas precautorias en el proceso pena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  Tipos penales. Registraciones y documentos falsos</a:t>
            </a:r>
            <a:endParaRPr b="0" lang="en-US" sz="1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El Estado de Derecho en la Argentina</a:t>
            </a:r>
            <a:endParaRPr b="0" lang="en-US" sz="40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aís al margen de la ley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mia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cto sindical montonero.Pérdida de vigencia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y como instrumento de persecusión.AFIP.UIF</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ivisión de poderes .Proyectos del PEN.Modelo.Sentencias incumplidas .Fiscales ad hoc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enas mediáticas y Estado de Derecho</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3366"/>
                </a:solidFill>
                <a:latin typeface="Times New Roman"/>
              </a:rPr>
              <a:t>Clima de época.</a:t>
            </a:r>
            <a:br>
              <a:rPr sz="4000"/>
            </a:br>
            <a:r>
              <a:rPr b="0" lang="en-US" sz="4000" spc="-1" strike="noStrike">
                <a:solidFill>
                  <a:srgbClr val="003366"/>
                </a:solidFill>
                <a:latin typeface="Times New Roman"/>
              </a:rPr>
              <a:t>    Abolicionismo.</a:t>
            </a:r>
            <a:br>
              <a:rPr sz="4000"/>
            </a:br>
            <a:r>
              <a:rPr b="0" lang="en-US" sz="4000" spc="-1" strike="noStrike">
                <a:solidFill>
                  <a:srgbClr val="003366"/>
                </a:solidFill>
                <a:latin typeface="Times New Roman"/>
              </a:rPr>
              <a:t>    Accion directa,</a:t>
            </a:r>
            <a:br>
              <a:rPr sz="4000"/>
            </a:br>
            <a:r>
              <a:rPr b="0" lang="en-US" sz="4000" spc="-1" strike="noStrike">
                <a:solidFill>
                  <a:srgbClr val="003366"/>
                </a:solidFill>
                <a:latin typeface="Times New Roman"/>
              </a:rPr>
              <a:t>    Condena mediática</a:t>
            </a:r>
            <a:endParaRPr b="0" lang="en-US" sz="40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venció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nción adecuada y oportun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olución con penas más severas. Beccari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yecto de reformas al CP </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557000"/>
            <a:ext cx="7772400" cy="4538520"/>
          </a:xfrm>
          <a:prstGeom prst="rect">
            <a:avLst/>
          </a:prstGeom>
          <a:noFill/>
          <a:ln w="0">
            <a:noFill/>
          </a:ln>
        </p:spPr>
        <p:txBody>
          <a:bodyPr lIns="90000" rIns="90000" tIns="46800" bIns="46800" anchor="t">
            <a:normAutofit fontScale="97000"/>
          </a:bodyPr>
          <a:p>
            <a:pPr marL="3326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2640" indent="-33264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va la edad de inimputabilidad de los 16 a los 18 años;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imina  agravante general .Intervención de menores. = mayor delincuencia juvenil</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tención significativa de la "probation" (delitos cuya pena mínima no exceda los tres años de prisión( 90% de los delitos) .Violación , comercialización  o contrabando de estupefacientes, elementos nucleares, explosivos, materiales de guerra, o agresivos químicos o destinados a afectar la seguridad común prostitución de menores,secuestro de menores de 10 años de eda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liminar el sistema de la "condena de ejecución en suspenso".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Institutos alternativos a la pena de prisión" para personas condenadas a penas que no superan los tres años de prisión.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2" name="PlaceHolder 2"/>
          <p:cNvSpPr>
            <a:spLocks noGrp="1"/>
          </p:cNvSpPr>
          <p:nvPr>
            <p:ph/>
          </p:nvPr>
        </p:nvSpPr>
        <p:spPr>
          <a:xfrm>
            <a:off x="1042920" y="1628640"/>
            <a:ext cx="7772400" cy="4114800"/>
          </a:xfrm>
          <a:prstGeom prst="rect">
            <a:avLst/>
          </a:prstGeom>
          <a:noFill/>
          <a:ln w="0">
            <a:noFill/>
          </a:ln>
        </p:spPr>
        <p:txBody>
          <a:bodyPr lIns="90000" rIns="90000" tIns="46800" bIns="46800" anchor="t">
            <a:normAutofit fontScale="99000"/>
          </a:bodyPr>
          <a:p>
            <a:pPr marL="33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eneficio de la libertad condicional al cumplir sólo con la mitad de la pena impuesta.en lugar de 2/3</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elimina la reincidencia como agravante</a:t>
            </a:r>
            <a:endParaRPr b="0" lang="en-US" sz="20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elimina  la prisión perpetua para cualquier delito,</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eliminan diversos actos interruptivos de la prescripción de la acción penal.  al llamado a prestar declaración indagatoria y al requerimiento de elevación a juicio.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Secretaría de Instrucción tenía entre 800 y 1000 causas en trámite .Ahora menos de 100 </a:t>
            </a:r>
            <a:endParaRPr b="0" lang="en-US" sz="20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ada Secretaría de Instrucción tenía entre 800 y 1000 causas en trámit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hora menos de 100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360"/>
            <a:ext cx="7772400" cy="12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incipios del Derecho Penal </a:t>
            </a:r>
            <a:endParaRPr b="0" lang="en-US" sz="4400" spc="-1" strike="noStrike">
              <a:solidFill>
                <a:srgbClr val="003366"/>
              </a:solidFill>
              <a:latin typeface="Times New Roman"/>
            </a:endParaRPr>
          </a:p>
        </p:txBody>
      </p:sp>
      <p:sp>
        <p:nvSpPr>
          <p:cNvPr id="156" name="PlaceHolder 2"/>
          <p:cNvSpPr>
            <a:spLocks noGrp="1"/>
          </p:cNvSpPr>
          <p:nvPr>
            <p:ph/>
          </p:nvPr>
        </p:nvSpPr>
        <p:spPr>
          <a:xfrm>
            <a:off x="1371600" y="981000"/>
            <a:ext cx="7772400" cy="4394160"/>
          </a:xfrm>
          <a:prstGeom prst="rect">
            <a:avLst/>
          </a:prstGeom>
          <a:noFill/>
          <a:ln w="0">
            <a:noFill/>
          </a:ln>
        </p:spPr>
        <p:txBody>
          <a:bodyPr anchor="t">
            <a:normAutofit fontScale="81000"/>
          </a:bodyPr>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ocencia</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die está obligado a declarar contra sí mismo </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echo de defensa</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retroactividad</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galidad.No analogía</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lpabilidad</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n bis in idem</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y penal más benigna</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 dubeo pro reo </a:t>
            </a:r>
            <a:endParaRPr b="0" lang="en-US" sz="3200" spc="-1" strike="noStrike">
              <a:solidFill>
                <a:srgbClr val="000000"/>
              </a:solidFill>
              <a:latin typeface="Arial"/>
            </a:endParaRPr>
          </a:p>
          <a:p>
            <a:pPr marL="277560" indent="-27756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gualdad ante la ley </a:t>
            </a:r>
            <a:endParaRPr b="0" lang="en-US" sz="32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incipios procesales</a:t>
            </a: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ido proceso (art. 18 CN)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ones debidamente fundada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ogicidad</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gruenci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herencia  </a:t>
            </a:r>
            <a:endParaRPr b="0" lang="en-US" sz="32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didas cautelares en el proceso penal</a:t>
            </a:r>
            <a:endParaRPr b="0" lang="en-US" sz="32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Caracteres del D.Penal Económico</a:t>
            </a:r>
            <a:endParaRPr b="0" lang="en-US" sz="40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jeto activo.Aparenta estar dentro de la ley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jeto pasivo generalmente indeterminad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sencia de un organismo administrativo en el sistema sancionatori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na pierde su carácter retributivo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cesivas y diversas reglamentacione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onsabilidad penal de las sociedades</a:t>
            </a:r>
            <a:endParaRPr b="0"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Resp.penal de las personas jurídicas</a:t>
            </a:r>
            <a:endParaRPr b="0" lang="en-US" sz="40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uerdos internacionale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rmas puntuales .Ausencia de una sistematización y armonización legislativ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304 del CP Ley 26683 .Junio 2011.Discordancia entre el texto aprobado en Diputados del que fuera aprobado en Senadores. Incumplimiento de lo acordado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313 del CP Ley 26733  28/12/11</a:t>
            </a:r>
            <a:endParaRPr b="0" lang="en-US" sz="28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cuerdos internacionales </a:t>
            </a: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ción de las Naciones Unidas contra el Tráfico Ilícito de Estupefacientes y Sustancias Sicotrópicas -aprobado por ley No. 24072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ción Interamericana contra la corrupción -ley 24769 -,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ción sobre la lucha contra el Cohecho de Funcionarios Públicos Extranjeros en las Transacciones Comerciales Internacionales -ley 25 319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ción Internacional contra la Delincuencia Organizada Transnacional y sus Protocolos complementarios -ley 25362 </a:t>
            </a:r>
            <a:endParaRPr b="0" lang="en-US" sz="24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56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66"/>
                </a:solidFill>
                <a:latin typeface="Times New Roman"/>
              </a:rPr>
              <a:t>Hay hombre.Hay delito </a:t>
            </a:r>
            <a:endParaRPr b="0" lang="en-US" sz="4800" spc="-1" strike="noStrike">
              <a:solidFill>
                <a:srgbClr val="003366"/>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IMPORTANCIA EN EL DERECHO COMPARADO</a:t>
            </a:r>
            <a:r>
              <a:rPr b="0" lang="es-E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EUU.Arthur Andersen :Enrom.Kennet Lay;Ernst &amp; Young Lehman Brothers; World Com,Fanny Mae,Dhelpy,Columbia HCA (multa de U$S 1700 millones de dólares) ,Parmalat etc.</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paña.Código de 2005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RPORATE GOVERNANCE</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licación en nuestro país </a:t>
            </a:r>
            <a:endParaRPr b="0" lang="en-US" sz="32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Leyes puntuales </a:t>
            </a: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Penal Cambiaria No. 19359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bastecimiento No. 20680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ódigo Aduanero- ley No. 22415</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ubilaciones y Pensiones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penal tributaria 24769 ,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de Defensa de la Competencia No. 26156,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24.051 de Residuos Peligrosos </a:t>
            </a:r>
            <a:endParaRPr b="0" lang="en-US" sz="20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s. 304 y 313 del CP (</a:t>
            </a:r>
            <a:r>
              <a:rPr b="0" lang="es-ES" sz="1800" spc="-1" strike="noStrike">
                <a:solidFill>
                  <a:srgbClr val="000000"/>
                </a:solidFill>
                <a:latin typeface="Arial"/>
              </a:rPr>
              <a:t>Lavado de activos de origen delictiv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inanciación del terrorismo, Insider trading, Agiotaje, Balances e informes falsos e incompletos en sociedades abiertas,Intermediación financiera no autorizada, Dádivas en el otorgamiento de créditos</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Responsabilidad penal de las personas jurídicas en el proyecto de reforma</a:t>
            </a:r>
            <a:endParaRPr b="0" lang="en-US" sz="40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rporación de un régimen general (art.59 )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zo de prescripción de seis años </a:t>
            </a:r>
            <a:endParaRPr b="0" lang="en-US" sz="32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87720"/>
            <a:ext cx="77724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rts.304-313 del CP </a:t>
            </a:r>
            <a:endParaRPr b="0" lang="en-US" sz="4400" spc="-1" strike="noStrike">
              <a:solidFill>
                <a:srgbClr val="003366"/>
              </a:solidFill>
              <a:latin typeface="Times New Roman"/>
            </a:endParaRPr>
          </a:p>
        </p:txBody>
      </p:sp>
      <p:sp>
        <p:nvSpPr>
          <p:cNvPr id="172" name="PlaceHolder 2"/>
          <p:cNvSpPr>
            <a:spLocks noGrp="1"/>
          </p:cNvSpPr>
          <p:nvPr>
            <p:ph/>
          </p:nvPr>
        </p:nvSpPr>
        <p:spPr>
          <a:xfrm>
            <a:off x="1371600" y="907920"/>
            <a:ext cx="7772400" cy="5400720"/>
          </a:xfrm>
          <a:prstGeom prst="rect">
            <a:avLst/>
          </a:prstGeom>
          <a:noFill/>
          <a:ln w="0">
            <a:noFill/>
          </a:ln>
        </p:spPr>
        <p:txBody>
          <a:bodyPr anchor="t">
            <a:normAutofit/>
          </a:bodyPr>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los hechos delictivos previstos en el artículo precedente hubieren sido realizados</a:t>
            </a:r>
            <a:endParaRPr b="0" lang="en-US" sz="14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a:t>
            </a:r>
            <a:r>
              <a:rPr b="0" lang="es-ES" sz="1800" spc="-1" strike="noStrike" u="sng">
                <a:solidFill>
                  <a:srgbClr val="000000"/>
                </a:solidFill>
                <a:uFillTx/>
                <a:latin typeface="Arial"/>
              </a:rPr>
              <a:t>en nombre, </a:t>
            </a:r>
            <a:endParaRPr b="0" lang="en-US" sz="18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o …con la intervención, </a:t>
            </a:r>
            <a:endParaRPr b="0" lang="en-US" sz="18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o …en beneficio de una persona de existencia ideal,</a:t>
            </a:r>
            <a:endParaRPr b="0" lang="en-US" sz="1800" spc="-1" strike="noStrike">
              <a:solidFill>
                <a:srgbClr val="000000"/>
              </a:solidFill>
              <a:latin typeface="Arial"/>
            </a:endParaRPr>
          </a:p>
          <a:p>
            <a:pPr marL="343080" indent="-343080">
              <a:lnSpc>
                <a:spcPct val="8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 impondrán a la entidad las siguientes sanciones conjunta o alternativam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t>
            </a:r>
            <a:r>
              <a:rPr b="0" lang="es-ES" sz="1800" spc="-1" strike="noStrike">
                <a:solidFill>
                  <a:srgbClr val="000000"/>
                </a:solidFill>
                <a:latin typeface="Arial"/>
              </a:rPr>
              <a:t>Multa de</a:t>
            </a:r>
            <a:r>
              <a:rPr b="0" lang="es-ES" sz="1400" spc="-1" strike="noStrike">
                <a:solidFill>
                  <a:srgbClr val="000000"/>
                </a:solidFill>
                <a:latin typeface="Arial"/>
              </a:rPr>
              <a:t> dos (2) a diez (10) veces el valor de los bienes objeto del del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800" spc="-1" strike="noStrike">
                <a:solidFill>
                  <a:srgbClr val="000000"/>
                </a:solidFill>
                <a:latin typeface="Arial"/>
              </a:rPr>
              <a:t>Suspensión</a:t>
            </a:r>
            <a:r>
              <a:rPr b="0" lang="es-ES" sz="1400" spc="-1" strike="noStrike">
                <a:solidFill>
                  <a:srgbClr val="000000"/>
                </a:solidFill>
                <a:latin typeface="Arial"/>
              </a:rPr>
              <a:t> total o parcial de actividades, que en ningún caso podrá exceder de diez (10) añ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Suspensión para participar en concursos o licitaciones estatales de obras o servicios públicos o en cualquier otra actividad vinculada con el Estado, que en ningún caso podrá exceder de diez (10) añ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Cancelación de la personería cuando hubiese sido creada al solo efecto de la comisión del delito, o esos actos constituyan la principal actividad de la entida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Pérdida o suspensión de los beneficios estatales que tuvie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a:t>
            </a:r>
            <a:r>
              <a:rPr b="0" lang="es-ES" sz="1800" spc="-1" strike="noStrike">
                <a:solidFill>
                  <a:srgbClr val="000000"/>
                </a:solidFill>
                <a:latin typeface="Arial"/>
              </a:rPr>
              <a:t>Publicación de un extracto de la sentencia condenatoria</a:t>
            </a:r>
            <a:r>
              <a:rPr b="0" lang="es-ES" sz="1400" spc="-1" strike="noStrike">
                <a:solidFill>
                  <a:srgbClr val="000000"/>
                </a:solidFill>
                <a:latin typeface="Arial"/>
              </a:rPr>
              <a:t> a costa de la persona juríd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ara graduar estas sanciones, los jueces tendrán en cuenta el incumplimiento de reglas y procedimientos internos, la omisión de vigilancia sobre la actividad de los autores y partícipes, la extensión del daño causado, el monto de dinero involucrado en la comisión del delito, el tamaño, la naturaleza y la capacidad económica de la persona juríd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uando fuere indispensable mantener la continuidad operativa de la entidad, o de una obra, o de un servicio en particular, no serán aplicables las sanciones previstas por el inciso 2 y el inciso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Medidas cautelares en un proceso penal Arts.23,305 y 313 del CP</a:t>
            </a:r>
            <a:endParaRPr b="0" lang="en-US" sz="40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ITOS CONTRA EL ORDEN ECONÓMICO Y FINANCIERO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s penales incluidos en el título 13 del C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vado de activos de origen delic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nanciación del terrorism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ider tra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iota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ances e informes falsos e </a:t>
            </a:r>
            <a:r>
              <a:rPr b="0" lang="es-ES" sz="2000" spc="-1" strike="noStrike">
                <a:solidFill>
                  <a:srgbClr val="000000"/>
                </a:solidFill>
                <a:latin typeface="Arial"/>
              </a:rPr>
              <a:t>	</a:t>
            </a:r>
            <a:r>
              <a:rPr b="0" lang="es-ES" sz="2000" spc="-1" strike="noStrike">
                <a:solidFill>
                  <a:srgbClr val="000000"/>
                </a:solidFill>
                <a:latin typeface="Arial"/>
              </a:rPr>
              <a:t>incompletos </a:t>
            </a:r>
            <a:r>
              <a:rPr b="0" lang="es-ES" sz="2000" spc="-1" strike="noStrike">
                <a:solidFill>
                  <a:srgbClr val="000000"/>
                </a:solidFill>
                <a:latin typeface="Arial"/>
              </a:rPr>
              <a:t>	</a:t>
            </a:r>
            <a:r>
              <a:rPr b="0" lang="es-ES" sz="2000" spc="-1" strike="noStrike">
                <a:solidFill>
                  <a:srgbClr val="000000"/>
                </a:solidFill>
                <a:latin typeface="Arial"/>
              </a:rPr>
              <a:t>en        sociedades abier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mediación financiera no autoriz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ádivas en el otorgamiento de créditos  </a:t>
            </a:r>
            <a:endParaRPr b="0" lang="en-US" sz="20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Art.23 del CP. Decomiso sin condena.</a:t>
            </a:r>
            <a:endParaRPr b="0" lang="en-US" sz="40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caso de los delitos previstos en el … Título XIII del libro Segundo de éste Código, serán decomisados de modo definitivo, </a:t>
            </a:r>
            <a:r>
              <a:rPr b="0" lang="es-ES" sz="2000" spc="-1" strike="noStrike" u="sng">
                <a:solidFill>
                  <a:srgbClr val="000000"/>
                </a:solidFill>
                <a:uFillTx/>
                <a:latin typeface="Arial"/>
              </a:rPr>
              <a:t>sin necesidad de condena pena</a:t>
            </a:r>
            <a:r>
              <a:rPr b="0" lang="es-ES" sz="2000" spc="-1" strike="noStrike">
                <a:solidFill>
                  <a:srgbClr val="000000"/>
                </a:solidFill>
                <a:latin typeface="Arial"/>
              </a:rPr>
              <a:t>l, cuando se hubiere podido comprobar la ilicitud de su origen, o del hecho material al que estuvieren vinculados, y </a:t>
            </a:r>
            <a:r>
              <a:rPr b="0" lang="es-ES" sz="2000" spc="-1" strike="noStrike" u="sng">
                <a:solidFill>
                  <a:srgbClr val="000000"/>
                </a:solidFill>
                <a:uFillTx/>
                <a:latin typeface="Arial"/>
              </a:rPr>
              <a:t>el imputado no pudiere ser enjuiciado por motivo de fallecimiento, fuga, prescripción o cualquier otro motivo de suspensión o extinción de la acción penal</a:t>
            </a:r>
            <a:r>
              <a:rPr b="0" lang="es-ES" sz="2000" spc="-1" strike="noStrike">
                <a:solidFill>
                  <a:srgbClr val="000000"/>
                </a:solidFill>
                <a:latin typeface="Arial"/>
              </a:rPr>
              <a:t>, o cuando el imputado hubiere reconocido la procedencia o uso ilícito de los bienes.</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odo </a:t>
            </a:r>
            <a:r>
              <a:rPr b="0" lang="es-ES" sz="2000" spc="-1" strike="noStrike" u="sng">
                <a:solidFill>
                  <a:srgbClr val="000000"/>
                </a:solidFill>
                <a:uFillTx/>
                <a:latin typeface="Arial"/>
              </a:rPr>
              <a:t>reclamo o litigio sobre el origen, naturaleza o propiedad de los bienes</a:t>
            </a:r>
            <a:r>
              <a:rPr b="0" lang="es-ES" sz="2000" spc="-1" strike="noStrike">
                <a:solidFill>
                  <a:srgbClr val="000000"/>
                </a:solidFill>
                <a:latin typeface="Arial"/>
              </a:rPr>
              <a:t> se realizará a través de una acción administrativa o civil de restitución. Cuando el bien hubiere sido subastado sólo se podrá reclamar su valor monetario. </a:t>
            </a:r>
            <a:endParaRPr b="0" lang="en-US" sz="20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Medidas cautelares desde el inicio de las actuaciones </a:t>
            </a:r>
            <a:endParaRPr b="0" lang="en-US" sz="4000" spc="-1" strike="noStrike">
              <a:solidFill>
                <a:srgbClr val="003366"/>
              </a:solidFill>
              <a:latin typeface="Times New Roman"/>
            </a:endParaRPr>
          </a:p>
        </p:txBody>
      </p:sp>
      <p:sp>
        <p:nvSpPr>
          <p:cNvPr id="178" name="PlaceHolder 2"/>
          <p:cNvSpPr>
            <a:spLocks noGrp="1"/>
          </p:cNvSpPr>
          <p:nvPr>
            <p:ph/>
          </p:nvPr>
        </p:nvSpPr>
        <p:spPr>
          <a:xfrm>
            <a:off x="1042920" y="2060640"/>
            <a:ext cx="7772400" cy="411480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juez podrá adoptar </a:t>
            </a:r>
            <a:r>
              <a:rPr b="0" lang="es-ES" sz="2000" spc="-1" strike="noStrike" u="sng">
                <a:solidFill>
                  <a:srgbClr val="000000"/>
                </a:solidFill>
                <a:uFillTx/>
                <a:latin typeface="Arial"/>
              </a:rPr>
              <a:t>desde el inicio de las actuaciones judiciales las medidas cautelares suficientes para asegurar el decomiso</a:t>
            </a:r>
            <a:r>
              <a:rPr b="0" lang="es-ES" sz="2000" spc="-1" strike="noStrike">
                <a:solidFill>
                  <a:srgbClr val="000000"/>
                </a:solidFill>
                <a:latin typeface="Arial"/>
              </a:rPr>
              <a:t> del o de los inmuebles, fondos de comercio, depósitos, transportes, elementos informáticos, técnicos y de comunicación, y todo otro bien o derecho patrimonial sobre los que, por tratarse de instrumentos o efectos relacionados con el o los delitos que se investigan, el decomiso presumiblemente pueda recaer.</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mismo alcance podrán tener las </a:t>
            </a:r>
            <a:r>
              <a:rPr b="0" lang="es-ES" sz="2000" spc="-1" strike="noStrike" u="sng">
                <a:solidFill>
                  <a:srgbClr val="000000"/>
                </a:solidFill>
                <a:uFillTx/>
                <a:latin typeface="Arial"/>
              </a:rPr>
              <a:t>medidas cautelares destinadas a hacer cesar la comisión del delito o sus efectos, o a evitar que se consolide su provecho o a obtaculizar la impunidad de sus partícipes</a:t>
            </a:r>
            <a:r>
              <a:rPr b="0" lang="es-ES" sz="2000" spc="-1" strike="noStrike">
                <a:solidFill>
                  <a:srgbClr val="000000"/>
                </a:solidFill>
                <a:latin typeface="Arial"/>
              </a:rPr>
              <a:t>. En todos los casos se deberá dejar a salvo los derechos de restitución o indemnización del damnificado y de terce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62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Registraciones y documentos falsos </a:t>
            </a:r>
            <a:endParaRPr b="0" lang="en-US" sz="40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lances e informes falsos e incompleto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egistraciones falsas en entidades financieras y mercado de valore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lsificación de documentos y asientos ( 292, 293 , 294,311 del CP)</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penal tributaria ( art 15 ley 2476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CONCURSO CON OTROS DELIT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afas ( 172 del CP )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raudaciones (art. 173 del CP) </a:t>
            </a:r>
            <a:endParaRPr b="0" lang="en-US" sz="24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628280"/>
            <a:ext cx="7772400" cy="252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EL DELITO DE BALANCE E INFORMES Y REGISTRACIONES FALSAS O INCOMPLETA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Somos lo que construimos socialmente.</a:t>
            </a:r>
            <a:endParaRPr b="0" lang="en-US" sz="40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gentin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lores sociales,instituciones y autoridad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visión de poderes y democraci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do de Derecho y ley .(16C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cia.Funcionamiento(Esfuerzo, mérito,responsabilidades.Premios y castigos)  </a:t>
            </a:r>
            <a:endParaRPr b="0" lang="en-US" sz="32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ART. 300 INC 2 DEL CP</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5" name="PlaceHolder 2"/>
          <p:cNvSpPr>
            <a:spLocks noGrp="1"/>
          </p:cNvSpPr>
          <p:nvPr>
            <p:ph/>
          </p:nvPr>
        </p:nvSpPr>
        <p:spPr>
          <a:xfrm>
            <a:off x="1173240" y="1773360"/>
            <a:ext cx="777240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RTICULO 300. - Serán reprimidos con prisión de seis (6) meses a dos (2) añ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2°. El fundador, director, administrador, liquidador o síndico de una sociedad anónima o cooperativa o de otra persona colectiva, que a sabiendas publicare, certificare o autorizare un inventario, un balance. una cuenta de ganancias y pérdidas o los correspondientes informes, actas o memorias, falsos o incompletos o informare a la asamblea o reunión de socios, con falsedad, sobre hechos importantes para apreciar la situación económica de la empresa, cualquiera que hubiere sido el propósito perseguido al verificarlo. </a:t>
            </a:r>
            <a:endParaRPr b="0" lang="en-US" sz="24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DENOMINACIÓN:</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alances ,informes y registraciones falsas e incompleta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DELITO PLURIOFENSIVO</a:t>
            </a:r>
            <a:r>
              <a:rPr b="0" lang="es-E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RDEN ECONÓMICO Y FINANCIERO F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BLICA Confianza en la documentación comercial por parte de un número </a:t>
            </a:r>
            <a:r>
              <a:rPr b="1" lang="es-ES_tradnl" sz="2400" spc="-1" strike="noStrike" u="sng">
                <a:solidFill>
                  <a:srgbClr val="000000"/>
                </a:solidFill>
                <a:uFillTx/>
                <a:latin typeface="Arial"/>
              </a:rPr>
              <a:t>indeterminado</a:t>
            </a:r>
            <a:r>
              <a:rPr b="1" lang="es-ES_tradnl" sz="2400" spc="-1" strike="noStrike">
                <a:solidFill>
                  <a:srgbClr val="000000"/>
                </a:solidFill>
                <a:latin typeface="Arial"/>
              </a:rPr>
              <a:t> de personas.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ANZA EN EL COMERCIO Y EN LA INDUST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2276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DELITO DE PELIGRO</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3366"/>
                </a:solidFill>
                <a:uFillTx/>
                <a:latin typeface="Arial Unicode MS"/>
              </a:rPr>
              <a:t>SUJETOS DE DERECHO INCLUID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EDADES COMERCIALES.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EDADES COOPERATIVA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3366"/>
                </a:solidFill>
                <a:uFillTx/>
                <a:latin typeface="Arial Unicode MS"/>
              </a:rPr>
              <a:t>SUJETOS DE DERECHO Y CONTRATOS EXCLUID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erciante individual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sonas de derecho público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bras Sociales sindicale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ideicomisos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TE</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3366"/>
                </a:solidFill>
                <a:uFillTx/>
                <a:latin typeface="Arial Unicode MS"/>
              </a:rPr>
              <a:t>SUJETOS ACTIVOS INCLUID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irector" .Arts. 59 , 274, ss y ces de la LS "Administrador"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dor" (art. 166 inc 3 L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quidador" (art.101 ss y ces. L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dico" art 284 ss. y ces. y por el art.76 , ss y ces de la ley 20337 (Cooperativas). </a:t>
            </a:r>
            <a:endParaRPr b="0" lang="en-US" sz="24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SUJETOS ACTIVOS EXCLUID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grantes del Consejo de Vigilancia (art. 280 LS) Auditores </a:t>
            </a:r>
            <a:endParaRPr b="0" lang="en-US" sz="24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3366"/>
                </a:solidFill>
                <a:uFillTx/>
                <a:latin typeface="Arial Unicode MS"/>
              </a:rPr>
              <a:t>ACCIONES TIPICAS</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BLICAR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ERTIFICAR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UTORIZAR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ORMAR A LA ASAMBLEA O REUNiÓN DE SOCIO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7200"/>
            <a:ext cx="7772400" cy="232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OBJETOS SOBRE LOS QUE DEBE RECAER LA ACCIÓN TÍPICA</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2924280"/>
            <a:ext cx="7772400" cy="31716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 </a:t>
            </a:r>
            <a:r>
              <a:rPr b="1" i="1" lang="es-ES_tradnl" sz="2400" spc="-1" strike="noStrike">
                <a:solidFill>
                  <a:srgbClr val="000000"/>
                </a:solidFill>
                <a:latin typeface="Arial"/>
              </a:rPr>
              <a:t>un inventario, un balance, una cuenta de ganancias </a:t>
            </a:r>
            <a:r>
              <a:rPr b="1" lang="es-ES_tradnl" sz="2400" spc="-1" strike="noStrike">
                <a:solidFill>
                  <a:srgbClr val="000000"/>
                </a:solidFill>
                <a:latin typeface="Arial"/>
              </a:rPr>
              <a:t>o </a:t>
            </a:r>
            <a:r>
              <a:rPr b="1" i="1" lang="es-ES_tradnl" sz="2400" spc="-1" strike="noStrike">
                <a:solidFill>
                  <a:srgbClr val="000000"/>
                </a:solidFill>
                <a:latin typeface="Arial"/>
              </a:rPr>
              <a:t>pérdidas </a:t>
            </a:r>
            <a:r>
              <a:rPr b="1" lang="es-ES_tradnl" sz="2400" spc="-1" strike="noStrike">
                <a:solidFill>
                  <a:srgbClr val="000000"/>
                </a:solidFill>
                <a:latin typeface="Arial"/>
              </a:rPr>
              <a:t>o </a:t>
            </a:r>
            <a:r>
              <a:rPr b="1" i="1" lang="es-ES_tradnl" sz="2400" spc="-1" strike="noStrike">
                <a:solidFill>
                  <a:srgbClr val="000000"/>
                </a:solidFill>
                <a:latin typeface="Arial"/>
              </a:rPr>
              <a:t>los correspondientes informes, actas </a:t>
            </a:r>
            <a:r>
              <a:rPr b="1" lang="es-ES_tradnl" sz="2400" spc="-1" strike="noStrike">
                <a:solidFill>
                  <a:srgbClr val="000000"/>
                </a:solidFill>
                <a:latin typeface="Arial"/>
              </a:rPr>
              <a:t>o </a:t>
            </a:r>
            <a:r>
              <a:rPr b="1" i="1" lang="es-ES_tradnl" sz="2400" spc="-1" strike="noStrike">
                <a:solidFill>
                  <a:srgbClr val="000000"/>
                </a:solidFill>
                <a:latin typeface="Arial"/>
              </a:rPr>
              <a:t>memorias falsos </a:t>
            </a:r>
            <a:r>
              <a:rPr b="1" lang="es-ES_tradnl" sz="2400" spc="-1" strike="noStrike">
                <a:solidFill>
                  <a:srgbClr val="000000"/>
                </a:solidFill>
                <a:latin typeface="Arial"/>
              </a:rPr>
              <a:t>o </a:t>
            </a:r>
            <a:r>
              <a:rPr b="1" i="1" lang="es-ES_tradnl" sz="2400" spc="-1" strike="noStrike">
                <a:solidFill>
                  <a:srgbClr val="000000"/>
                </a:solidFill>
                <a:latin typeface="Arial"/>
              </a:rPr>
              <a:t>incompleto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116000" y="184464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ECHOS SIGNIFICATIV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SEDAD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TICENCIA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CULTAMIENT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98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DOLO ESPECÍFICO. NO DOLO EVENTUAL</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05" name="PlaceHolder 2"/>
          <p:cNvSpPr>
            <a:spLocks noGrp="1"/>
          </p:cNvSpPr>
          <p:nvPr>
            <p:ph/>
          </p:nvPr>
        </p:nvSpPr>
        <p:spPr>
          <a:xfrm>
            <a:off x="1116000" y="3499920"/>
            <a:ext cx="7772400" cy="209556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2800" spc="-1" strike="noStrike">
                <a:solidFill>
                  <a:srgbClr val="000000"/>
                </a:solidFill>
                <a:latin typeface="Arial"/>
              </a:rPr>
              <a:t>“ </a:t>
            </a:r>
            <a:r>
              <a:rPr b="1" i="1" lang="es-ES_tradnl" sz="2800" spc="-1" strike="noStrike">
                <a:solidFill>
                  <a:srgbClr val="000000"/>
                </a:solidFill>
                <a:latin typeface="Arial"/>
              </a:rPr>
              <a:t>a sabiendas “</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042920" y="2276280"/>
            <a:ext cx="7772400" cy="259236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IGURAS AGRAVADA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TENSIÓN DE LA RESPONSABILIDAD PENAL A LAS PERSONAS JURÍDICAS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DAS CAUTELARES AB INITI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920" y="404280"/>
            <a:ext cx="7902720" cy="263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Arial Unicode MS"/>
              </a:rPr>
              <a:t>EL DELITO DE BALANCE FALSO EN LAS SOCIEDADES ABIERTAS </a:t>
            </a:r>
            <a:br>
              <a:rPr sz="4000"/>
            </a:br>
            <a:r>
              <a:rPr b="1" lang="es-ES_tradnl" sz="4000" spc="-1" strike="noStrike">
                <a:solidFill>
                  <a:srgbClr val="003366"/>
                </a:solidFill>
                <a:latin typeface="Arial Unicode MS"/>
              </a:rPr>
              <a:t>Art. 309 2a parte del CP</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3429000"/>
            <a:ext cx="7772400" cy="26668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Será reprimido con prisión de dos </a:t>
            </a:r>
            <a:r>
              <a:rPr b="1" lang="es-ES_tradnl" sz="2400" spc="-1" strike="noStrike">
                <a:solidFill>
                  <a:srgbClr val="000000"/>
                </a:solidFill>
                <a:latin typeface="Arial"/>
              </a:rPr>
              <a:t>(2) </a:t>
            </a:r>
            <a:r>
              <a:rPr b="1" i="1" lang="es-ES_tradnl" sz="2400" spc="-1" strike="noStrike">
                <a:solidFill>
                  <a:srgbClr val="000000"/>
                </a:solidFill>
                <a:latin typeface="Arial"/>
              </a:rPr>
              <a:t>a seis </a:t>
            </a:r>
            <a:r>
              <a:rPr b="1" lang="es-ES_tradnl" sz="2400" spc="-1" strike="noStrike">
                <a:solidFill>
                  <a:srgbClr val="000000"/>
                </a:solidFill>
                <a:latin typeface="Arial"/>
              </a:rPr>
              <a:t>(6) </a:t>
            </a:r>
            <a:r>
              <a:rPr b="1" i="1" lang="es-ES_tradnl" sz="2400" spc="-1" strike="noStrike">
                <a:solidFill>
                  <a:srgbClr val="000000"/>
                </a:solidFill>
                <a:latin typeface="Arial"/>
              </a:rPr>
              <a:t>años, cuando el representante, administrador o fiscalizador de una sociedad comercial de las que tienen obligación de establecer órganos de fiscalización privada, informare a los socios o accionistas ocultando o falseando hechos importantes para apreciar la situación económica de la empresa o que en los balances, memorias u otros documentos de contabilidad, consignare datos falsos o incompletos.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SUJETOS DE DERECHO INCLUIDOS</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10" name="PlaceHolder 2"/>
          <p:cNvSpPr>
            <a:spLocks noGrp="1"/>
          </p:cNvSpPr>
          <p:nvPr>
            <p:ph/>
          </p:nvPr>
        </p:nvSpPr>
        <p:spPr>
          <a:xfrm>
            <a:off x="1173240" y="3068280"/>
            <a:ext cx="7772400" cy="302724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edades comerciales obligadas a establecer órganos de fiscalización privada</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173240" y="259920"/>
            <a:ext cx="7772400" cy="6264360"/>
          </a:xfrm>
          <a:prstGeom prst="rect">
            <a:avLst/>
          </a:prstGeom>
          <a:noFill/>
          <a:ln w="0">
            <a:noFill/>
          </a:ln>
        </p:spPr>
        <p:txBody>
          <a:bodyPr lIns="90000" rIns="90000" tIns="46800" bIns="46800" anchor="t">
            <a:normAutofit/>
          </a:bodyPr>
          <a:p>
            <a:pPr marL="343080" indent="-343080">
              <a:lnSpc>
                <a:spcPct val="8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rt. 299 LS. Es obligatorio tener un órgano de fiscalización interno (sindicatura colegiada de número impar y/o Consejo de Vigilancia) las sociedades comerciales qu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1º) … </a:t>
            </a:r>
            <a:r>
              <a:rPr b="1" i="1" lang="es-ES_tradnl" sz="2200" spc="-1" strike="noStrike">
                <a:solidFill>
                  <a:srgbClr val="000000"/>
                </a:solidFill>
                <a:latin typeface="Arial"/>
              </a:rPr>
              <a:t>hagan oferta pública de sus acciones o debentur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2º) Tengan capital social superior a pesos 10.000.000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3º) Sean de economía mixta o se encuentren comprendidas en la Sección VI;(SA </a:t>
            </a:r>
            <a:r>
              <a:rPr b="1" lang="es-ES_tradnl" sz="2200" spc="-1" strike="noStrike">
                <a:solidFill>
                  <a:srgbClr val="000000"/>
                </a:solidFill>
                <a:latin typeface="Arial"/>
              </a:rPr>
              <a:t>con participación estatal mayoritaria .Arts. 308 a 314 L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4º) Realicen operaciones de capitalización, ahorro o en cualquier forma requieran dinero o valores al público con promesas de prestaciones o beneficios futuro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5º) Exploten concesiones o servicios públicos; </a:t>
            </a:r>
            <a:endParaRPr b="0" lang="en-US" sz="2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6º) Se trate de sociedad controlante de o controlada por otra sujeta a fiscalización, conforme a uno de los incisos anteriores</a:t>
            </a:r>
            <a:r>
              <a:rPr b="1"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333360"/>
            <a:ext cx="7829640" cy="232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Arial Unicode MS"/>
              </a:rPr>
              <a:t>SUPUESTO EN EL QUE SE PUEDE PRESCINDIR DE LA SINDICATURA</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13" name="PlaceHolder 2"/>
          <p:cNvSpPr>
            <a:spLocks noGrp="1"/>
          </p:cNvSpPr>
          <p:nvPr>
            <p:ph/>
          </p:nvPr>
        </p:nvSpPr>
        <p:spPr>
          <a:xfrm>
            <a:off x="1173240" y="2781000"/>
            <a:ext cx="7772400" cy="331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t. 283 LS.Consejo de Vigilanc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Cuando el estatuto organice el </a:t>
            </a:r>
            <a:r>
              <a:rPr b="1" i="1" lang="es-ES_tradnl" sz="2400" spc="-1" strike="noStrike" u="sng">
                <a:solidFill>
                  <a:srgbClr val="000000"/>
                </a:solidFill>
                <a:uFillTx/>
                <a:latin typeface="Arial"/>
              </a:rPr>
              <a:t>consejo de vigilancia.</a:t>
            </a:r>
            <a:r>
              <a:rPr b="1" i="1" lang="es-ES_tradnl" sz="2400" spc="-1" strike="noStrike">
                <a:solidFill>
                  <a:srgbClr val="000000"/>
                </a:solidFill>
                <a:latin typeface="Arial"/>
              </a:rPr>
              <a:t> podrá prescindir de la sindicatura prevista en los artículos </a:t>
            </a:r>
            <a:r>
              <a:rPr b="1" lang="es-ES_tradnl" sz="2400" spc="-1" strike="noStrike">
                <a:solidFill>
                  <a:srgbClr val="000000"/>
                </a:solidFill>
                <a:latin typeface="Arial"/>
              </a:rPr>
              <a:t>284 y </a:t>
            </a:r>
            <a:r>
              <a:rPr b="1" i="1" lang="es-ES_tradnl" sz="2400" spc="-1" strike="noStrike">
                <a:solidFill>
                  <a:srgbClr val="000000"/>
                </a:solidFill>
                <a:latin typeface="Arial"/>
              </a:rPr>
              <a:t>siguientes. En tal caso, la sindicatura será reemplazada por auditoria anual, contratada por el consejo de vigilancia, </a:t>
            </a:r>
            <a:r>
              <a:rPr b="1" lang="es-ES_tradnl" sz="2400" spc="-1" strike="noStrike">
                <a:solidFill>
                  <a:srgbClr val="000000"/>
                </a:solidFill>
                <a:latin typeface="Arial"/>
              </a:rPr>
              <a:t>y </a:t>
            </a:r>
            <a:r>
              <a:rPr b="1" i="1" lang="es-ES_tradnl" sz="2400" spc="-1" strike="noStrike">
                <a:solidFill>
                  <a:srgbClr val="000000"/>
                </a:solidFill>
                <a:latin typeface="Arial"/>
              </a:rPr>
              <a:t>su informe sobre estados contables </a:t>
            </a:r>
            <a:r>
              <a:rPr b="1" lang="es-ES_tradnl" sz="2400" spc="-1" strike="noStrike">
                <a:solidFill>
                  <a:srgbClr val="000000"/>
                </a:solidFill>
                <a:latin typeface="Arial"/>
              </a:rPr>
              <a:t>se </a:t>
            </a:r>
            <a:r>
              <a:rPr b="1" i="1" lang="es-ES_tradnl" sz="2400" spc="-1" strike="noStrike">
                <a:solidFill>
                  <a:srgbClr val="000000"/>
                </a:solidFill>
                <a:latin typeface="Arial"/>
              </a:rPr>
              <a:t>someterá </a:t>
            </a:r>
            <a:r>
              <a:rPr b="1" lang="es-ES_tradnl" sz="2400" spc="-1" strike="noStrike">
                <a:solidFill>
                  <a:srgbClr val="000000"/>
                </a:solidFill>
                <a:latin typeface="Arial"/>
              </a:rPr>
              <a:t>a </a:t>
            </a:r>
            <a:r>
              <a:rPr b="1" i="1" lang="es-ES_tradnl" sz="2400" spc="-1" strike="noStrike">
                <a:solidFill>
                  <a:srgbClr val="000000"/>
                </a:solidFill>
                <a:latin typeface="Arial"/>
              </a:rPr>
              <a:t>la asamblea, sin perjuicio de las medidas que pueda adoptar el consejo.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SUJETOS EXCLUIDOS</a:t>
            </a:r>
            <a:r>
              <a:rPr b="0" lang="es-ES_tradnl"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15" name="PlaceHolder 2"/>
          <p:cNvSpPr>
            <a:spLocks noGrp="1"/>
          </p:cNvSpPr>
          <p:nvPr>
            <p:ph/>
          </p:nvPr>
        </p:nvSpPr>
        <p:spPr>
          <a:xfrm>
            <a:off x="1173240" y="2637000"/>
            <a:ext cx="7772400" cy="345888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erciante individual,Sociedades comerciales cerradas ,Sociedades cooperativas (incluidas en el arto 300 inc, 2 del CP )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TE, Asociaciones de Empresas, Fideicomisos ,Entes públicos ,Obras Sociales sindicale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SUJETOS ACTIVOS INCLUIDOS</a:t>
            </a:r>
            <a:r>
              <a:rPr b="0" lang="es-E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Representante</a:t>
            </a:r>
            <a:r>
              <a:rPr b="0" lang="es-ES_tradnl" sz="3200" spc="-1" strike="noStrike">
                <a:solidFill>
                  <a:srgbClr val="000000"/>
                </a:solidFill>
                <a:latin typeface="Arial"/>
              </a:rPr>
              <a:t>. Presidente SA Gerente SRL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Administrador</a:t>
            </a:r>
            <a:r>
              <a:rPr b="0" lang="es-ES_tradnl" sz="3200" spc="-1" strike="noStrike">
                <a:solidFill>
                  <a:srgbClr val="000000"/>
                </a:solidFill>
                <a:latin typeface="Arial"/>
              </a:rPr>
              <a:t> .Directorio. Gerencia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Fiscalizador</a:t>
            </a:r>
            <a:r>
              <a:rPr b="0" lang="es-ES_tradnl" sz="3200" spc="-1" strike="noStrike">
                <a:solidFill>
                  <a:srgbClr val="000000"/>
                </a:solidFill>
                <a:latin typeface="Arial"/>
              </a:rPr>
              <a:t> Sindicatura. Consejo de Vigilancia </a:t>
            </a:r>
            <a:endParaRPr b="0" lang="en-US" sz="32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73240" y="692280"/>
            <a:ext cx="7772400" cy="540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UJETOS ACTIVOS EXCLUIDOS que se encuentran en la figura ba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undador </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iquidador</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Sociedad.Valores.Seguridad.Bienes jurídicos protegidos por el Derecho Penal .Evolución </a:t>
            </a:r>
            <a:endParaRPr b="0" lang="en-US" sz="40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oma .Prisión por deud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del Tal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rtura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esión sin aclarar imputación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paración entre Derecho Público y Derecho Privado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echo de pernada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gualdad ante la ley. (Rasputí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na .Robo de bicicletas.Pena de muert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ACCIONES TíPICAS .DIFERENCIAS CON LA FIGURA DEL ART. 300 INC2</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20" name="PlaceHolder 2"/>
          <p:cNvSpPr>
            <a:spLocks noGrp="1"/>
          </p:cNvSpPr>
          <p:nvPr>
            <p:ph/>
          </p:nvPr>
        </p:nvSpPr>
        <p:spPr>
          <a:xfrm>
            <a:off x="1173240" y="1980720"/>
            <a:ext cx="7772400" cy="454356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R a </a:t>
            </a:r>
            <a:r>
              <a:rPr b="0" i="1" lang="es-ES_tradnl" sz="2400" spc="-1" strike="noStrike">
                <a:solidFill>
                  <a:srgbClr val="000000"/>
                </a:solidFill>
                <a:latin typeface="Arial"/>
              </a:rPr>
              <a:t>" .. Ios socios .. ocultando </a:t>
            </a:r>
            <a:r>
              <a:rPr b="0" lang="es-ES_tradnl" sz="2400" spc="-1" strike="noStrike">
                <a:solidFill>
                  <a:srgbClr val="000000"/>
                </a:solidFill>
                <a:latin typeface="Arial"/>
              </a:rPr>
              <a:t>o </a:t>
            </a:r>
            <a:r>
              <a:rPr b="0" i="1" lang="es-ES_tradnl" sz="2400" spc="-1" strike="noStrike">
                <a:solidFill>
                  <a:srgbClr val="000000"/>
                </a:solidFill>
                <a:latin typeface="Arial"/>
              </a:rPr>
              <a:t>falseando hechos importantes para apreciar la situación económica de la empresa ... “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culta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lsear</a:t>
            </a:r>
            <a:endParaRPr b="0" lang="en-US" sz="2400" spc="-1" strike="noStrike">
              <a:solidFill>
                <a:srgbClr val="000000"/>
              </a:solidFill>
              <a:latin typeface="Arial"/>
            </a:endParaRPr>
          </a:p>
          <a:p>
            <a:pPr marL="339480" indent="-33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GNAR </a:t>
            </a:r>
            <a:r>
              <a:rPr b="0" i="1" lang="es-ES_tradnl" sz="2400" spc="-1" strike="noStrike">
                <a:solidFill>
                  <a:srgbClr val="000000"/>
                </a:solidFill>
                <a:latin typeface="Arial"/>
              </a:rPr>
              <a:t>(asentarporescrito)DATOS </a:t>
            </a:r>
            <a:r>
              <a:rPr b="0" lang="es-ES_tradnl" sz="2400" spc="-1" strike="noStrike">
                <a:solidFill>
                  <a:srgbClr val="000000"/>
                </a:solidFill>
                <a:latin typeface="Arial"/>
              </a:rPr>
              <a:t>FALSOS O INCOMPLETOS~ </a:t>
            </a:r>
            <a:r>
              <a:rPr b="0" i="1" lang="es-ES_tradnl" sz="2400" spc="-1" strike="noStrike">
                <a:solidFill>
                  <a:srgbClr val="000000"/>
                </a:solidFill>
                <a:latin typeface="Arial"/>
              </a:rPr>
              <a:t>en los balances, memorias u otros documentos de contabilidad, </a:t>
            </a:r>
            <a:r>
              <a:rPr b="0" lang="es-ES_tradnl" sz="2400" spc="-1" strike="noStrike">
                <a:solidFill>
                  <a:srgbClr val="000000"/>
                </a:solidFill>
                <a:latin typeface="Arial"/>
              </a:rPr>
              <a:t>..</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figura no hace referencia a las acciones de "Publicar" "Certificar" y "Autorizar" incluidas en el arto 300 inc. 2 del CP</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7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Unicode MS"/>
              </a:rPr>
              <a:t>OBJETOS SOBRE LOS QUE DEBE RECAER LA ACCIÓN TÍPICA</a:t>
            </a:r>
            <a:r>
              <a:rPr b="0" lang="es-ES_tradnl"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22" name="PlaceHolder 2"/>
          <p:cNvSpPr>
            <a:spLocks noGrp="1"/>
          </p:cNvSpPr>
          <p:nvPr>
            <p:ph/>
          </p:nvPr>
        </p:nvSpPr>
        <p:spPr>
          <a:xfrm>
            <a:off x="1173240" y="3141720"/>
            <a:ext cx="7772400" cy="295416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mori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 u otros documentos de contabilidad ... "</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1341360"/>
            <a:ext cx="7772400" cy="347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Arial Unicode MS"/>
              </a:rPr>
              <a:t>DOLO</a:t>
            </a:r>
            <a:r>
              <a:rPr b="0" lang="es-ES" sz="4000" spc="-1" strike="noStrike">
                <a:solidFill>
                  <a:srgbClr val="003366"/>
                </a:solidFill>
                <a:latin typeface="Times New Roman"/>
              </a:rPr>
              <a:t> </a:t>
            </a:r>
            <a:endParaRPr b="0" lang="en-US" sz="4000" spc="-1" strike="noStrike">
              <a:solidFill>
                <a:srgbClr val="003366"/>
              </a:solidFill>
              <a:latin typeface="Times New Roman"/>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86920" y="333360"/>
            <a:ext cx="775836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Arial Unicode MS"/>
              </a:rPr>
              <a:t>Articulo 311</a:t>
            </a:r>
            <a:br>
              <a:rPr sz="3000"/>
            </a:br>
            <a:r>
              <a:rPr b="1" lang="es-ES" sz="3000" spc="-1" strike="noStrike">
                <a:solidFill>
                  <a:srgbClr val="003366"/>
                </a:solidFill>
                <a:latin typeface="Arial Unicode MS"/>
              </a:rPr>
              <a:t>Registraciones de hechos falsos o inexistentes  </a:t>
            </a:r>
            <a:br>
              <a:rPr sz="3000"/>
            </a:br>
            <a:r>
              <a:rPr b="1" lang="es-ES" sz="3000" spc="-1" strike="noStrike">
                <a:solidFill>
                  <a:srgbClr val="003366"/>
                </a:solidFill>
                <a:latin typeface="Arial Unicode MS"/>
              </a:rPr>
              <a:t>Entidades financieras .Mercado de Valores</a:t>
            </a:r>
            <a:endParaRPr b="0" lang="en-US" sz="3000" spc="-1" strike="noStrike">
              <a:solidFill>
                <a:srgbClr val="003366"/>
              </a:solidFill>
              <a:latin typeface="Times New Roman"/>
            </a:endParaRPr>
          </a:p>
        </p:txBody>
      </p:sp>
      <p:sp>
        <p:nvSpPr>
          <p:cNvPr id="225" name="PlaceHolder 2"/>
          <p:cNvSpPr>
            <a:spLocks noGrp="1"/>
          </p:cNvSpPr>
          <p:nvPr>
            <p:ph/>
          </p:nvPr>
        </p:nvSpPr>
        <p:spPr>
          <a:xfrm>
            <a:off x="1173240" y="2637000"/>
            <a:ext cx="7772400" cy="34588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án reprimidos con prisión de uno (1) a cuatro (4) años, multa de dos (2) a seis (6) veces el valor de las operaciones e inhabilitación de hasta seis (6) años, los empleados y funcionarios de instituciones financieras y de aquellas que operen en el mercado de valores que insertando datos falsos o mencionando hechos inexistentes, documentaren contablemente una operación crediticia activa o pasiva o de negociación de valores negociables, con la intención de obtener un beneficio o causar un perjuicio, para sí o para terceros. </a:t>
            </a:r>
            <a:br>
              <a:rPr sz="2000"/>
            </a:br>
            <a:br>
              <a:rPr sz="2000"/>
            </a:br>
            <a:r>
              <a:rPr b="1" lang="es-ES" sz="2000" spc="-1" strike="noStrike">
                <a:solidFill>
                  <a:srgbClr val="000000"/>
                </a:solidFill>
                <a:latin typeface="Arial"/>
              </a:rPr>
              <a:t>En la misma pena incurrirá quién omitiere asentar o dejar debida constancia de alguna de las operaciones a las que alude el párrafo anterior</a:t>
            </a:r>
            <a:r>
              <a:rPr b="1" lang="es-ES" sz="2000" spc="-1" strike="noStrike">
                <a:solidFill>
                  <a:srgbClr val="003366"/>
                </a:solidFill>
                <a:latin typeface="Arial"/>
              </a:rPr>
              <a:t>.</a:t>
            </a:r>
            <a:br>
              <a:rPr sz="2000"/>
            </a:br>
            <a:r>
              <a:rPr b="1" lang="es-ES" sz="2000" spc="-1" strike="noStrike">
                <a:solidFill>
                  <a:srgbClr val="003366"/>
                </a:solidFill>
                <a:latin typeface="Arial"/>
              </a:rPr>
              <a:t> </a:t>
            </a:r>
            <a:endParaRPr b="0" lang="en-US" sz="20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UJETOS ACTIVOS </a:t>
            </a:r>
            <a:endParaRPr b="0" lang="en-US" sz="4400" spc="-1" strike="noStrike">
              <a:solidFill>
                <a:srgbClr val="003366"/>
              </a:solidFill>
              <a:latin typeface="Times New Roman"/>
            </a:endParaRPr>
          </a:p>
        </p:txBody>
      </p:sp>
      <p:sp>
        <p:nvSpPr>
          <p:cNvPr id="227" name="PlaceHolder 2"/>
          <p:cNvSpPr>
            <a:spLocks noGrp="1"/>
          </p:cNvSpPr>
          <p:nvPr>
            <p:ph/>
          </p:nvPr>
        </p:nvSpPr>
        <p:spPr>
          <a:xfrm>
            <a:off x="1173240" y="15573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mpleado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uncionarios d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ituciones financieras 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que  operen en el mercado de valores</a:t>
            </a:r>
            <a:endParaRPr b="0" lang="en-US" sz="2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cción típica </a:t>
            </a: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ocumentar contablemente en forma indebi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ertando datos fals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ncionando hechos inexistentes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mitiere asentar o dejar debida constancia</a:t>
            </a:r>
            <a:endParaRPr b="0" lang="en-US" sz="2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Objeto sobre el cual ha de recaer la acción típica</a:t>
            </a:r>
            <a:endParaRPr b="0" lang="en-US" sz="4000" spc="-1" strike="noStrike">
              <a:solidFill>
                <a:srgbClr val="003366"/>
              </a:solidFill>
              <a:latin typeface="Times New Roman"/>
            </a:endParaRPr>
          </a:p>
        </p:txBody>
      </p:sp>
      <p:sp>
        <p:nvSpPr>
          <p:cNvPr id="2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eración crediticia activa o pasiv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 de Negociación de valores negociab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olo.</a:t>
            </a: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 la intención de obtener un beneficio o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ausar un perjuicio, para sí o para terceros. </a:t>
            </a:r>
            <a:br>
              <a:rPr sz="3200"/>
            </a:br>
            <a:r>
              <a:rPr b="1" i="1"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rt.15 ley 24769</a:t>
            </a:r>
            <a:endParaRPr b="0" lang="en-US" sz="4400" spc="-1" strike="noStrike">
              <a:solidFill>
                <a:srgbClr val="003366"/>
              </a:solidFill>
              <a:latin typeface="Times New Roman"/>
            </a:endParaRPr>
          </a:p>
        </p:txBody>
      </p:sp>
      <p:sp>
        <p:nvSpPr>
          <p:cNvPr id="2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e a sabien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Dictaminare, informare, diere fe, autorizare o certificare actos jurídicos, balances, estados contables o documentación para facilitar la comisión de los delitos previstos en esta ley, será pasible, además de las penas correspondientes por su participación criminal en el hecho, de la pena de inhabilitación especial por el doble del tiempo de la condena.</a:t>
            </a:r>
            <a:endParaRPr b="0" lang="en-US" sz="18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Concurriere con dos o más personas para la comisión de alguno de los delitos tipificados en esta ley, será reprimido con un mínimo de CUATRO (4) años de prisión.</a:t>
            </a:r>
            <a:endParaRPr b="0" lang="en-US" sz="1800" spc="-1" strike="noStrike">
              <a:solidFill>
                <a:srgbClr val="000000"/>
              </a:solidFill>
              <a:latin typeface="Arial"/>
            </a:endParaRPr>
          </a:p>
          <a:p>
            <a:pPr marL="343080" indent="-343080">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Formare parte de una organización o asociación compuesta por tres o más personas que habitualmente esté destinada a cometer cualquiera de los delitos tipificados en la presente ley, será reprimido con prisión de TRES (3) años y SEIS (6) meses a DIEZ (10) años. Si resultare ser jefe u organizador, la pena mínima se elevará a CINCO (5) años de prisión."</a:t>
            </a:r>
            <a:endParaRPr b="0" lang="en-US" sz="18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Acciones típicas Art. 15 inc.a</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ctaminar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ormar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ere f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torizare o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ertificare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t>
            </a:r>
            <a:r>
              <a:rPr b="0" lang="es-ES" sz="3200" spc="-1" strike="noStrike">
                <a:solidFill>
                  <a:srgbClr val="000000"/>
                </a:solidFill>
                <a:latin typeface="Arial"/>
              </a:rPr>
              <a:t>ara </a:t>
            </a:r>
            <a:r>
              <a:rPr b="0" lang="es-ES" sz="3200" spc="-1" strike="noStrike" u="sng">
                <a:solidFill>
                  <a:srgbClr val="000000"/>
                </a:solidFill>
                <a:uFillTx/>
                <a:latin typeface="Arial"/>
              </a:rPr>
              <a:t>facilitar</a:t>
            </a:r>
            <a:r>
              <a:rPr b="0" lang="es-ES" sz="3200" spc="-1" strike="noStrike">
                <a:solidFill>
                  <a:srgbClr val="000000"/>
                </a:solidFill>
                <a:latin typeface="Arial"/>
              </a:rPr>
              <a:t> la comisión de los delitos previstos en esta ley,</a:t>
            </a:r>
            <a:endParaRPr b="0" lang="en-US" sz="32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RECHO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TENDE POSIBILITAR LA CONVIVENCIA CON UN CONJUNTO DE NORMAS SUSTENTADAS EN VALORES APROBADOS POR LA MAYORÍA DE LA SOCIEDAD EN UN LUGAR Y TIEMPO DETERMINADO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ENE UN ELEMENTO FUERZA Y UNA PRETENSIÓN DE JUSTICIA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rt.)Sistema de  a)Propiedad b)  Seguridad c) Transferencias </a:t>
            </a:r>
            <a:endParaRPr b="0" lang="en-US" sz="2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Objetos sobre los cuales ha de recaer la acción típica</a:t>
            </a:r>
            <a:endParaRPr b="0" lang="en-US" sz="4000" spc="-1" strike="noStrike">
              <a:solidFill>
                <a:srgbClr val="003366"/>
              </a:solidFill>
              <a:latin typeface="Times New Roman"/>
            </a:endParaRPr>
          </a:p>
        </p:txBody>
      </p:sp>
      <p:sp>
        <p:nvSpPr>
          <p:cNvPr id="2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os jurídico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lance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dos contables o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cumentación</a:t>
            </a:r>
            <a:endParaRPr b="0" lang="en-US" sz="3200" spc="-1" strike="noStrike">
              <a:solidFill>
                <a:srgbClr val="000000"/>
              </a:solidFill>
              <a:latin typeface="Arial"/>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2</a:t>
            </a:r>
            <a:br>
              <a:rPr sz="3600"/>
            </a:br>
            <a:r>
              <a:rPr b="1" lang="es-ES" sz="3600" spc="-1" strike="noStrike">
                <a:solidFill>
                  <a:srgbClr val="003366"/>
                </a:solidFill>
                <a:latin typeface="Arial Unicode MS"/>
              </a:rPr>
              <a:t>Falsificación de documentos</a:t>
            </a:r>
            <a:endParaRPr b="0" lang="en-US" sz="3600" spc="-1" strike="noStrike">
              <a:solidFill>
                <a:srgbClr val="003366"/>
              </a:solidFill>
              <a:latin typeface="Times New Roman"/>
            </a:endParaRPr>
          </a:p>
        </p:txBody>
      </p:sp>
      <p:sp>
        <p:nvSpPr>
          <p:cNvPr id="241" name="PlaceHolder 2"/>
          <p:cNvSpPr>
            <a:spLocks noGrp="1"/>
          </p:cNvSpPr>
          <p:nvPr>
            <p:ph/>
          </p:nvPr>
        </p:nvSpPr>
        <p:spPr>
          <a:xfrm>
            <a:off x="1187280" y="1700280"/>
            <a:ext cx="7772400" cy="489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que hiciere en todo o en parte un documento falso o adultere uno verdadero, de modo que pueda resultar perjuicio, será reprimido con reclusión o prisión de uno a seis años, si se tratare de un instrumento público y con prisión de seis meses a dos años, si se tratare de un instrumento priv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el documento falsificado o adulterado fuere de los destinados a acreditar la identidad de las personas o la titularidad del dominio o habilitación para circular de vehículos automotores, la pena será de tres a ocho añ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los efectos del párrafo anterior están equiparados a los documentos destinados a acreditar la identidad de las personas, aquellos que a tal fin se dieren a los integrantes de las fuerzas armadas, de seguridad, policiales o penitenciarias, las cédulas de identidad expedidas por autoridad pública competente, las libretas cívicas o de enrolamiento, y los pasaportes, así como también los certificados de parto y de nacimien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3</a:t>
            </a:r>
            <a:br>
              <a:rPr sz="3600"/>
            </a:br>
            <a:r>
              <a:rPr b="1" lang="es-ES" sz="3600" spc="-1" strike="noStrike">
                <a:solidFill>
                  <a:srgbClr val="003366"/>
                </a:solidFill>
                <a:latin typeface="Arial Unicode MS"/>
              </a:rPr>
              <a:t>Falsedad Ideológica</a:t>
            </a:r>
            <a:endParaRPr b="0" lang="en-US" sz="3600" spc="-1" strike="noStrike">
              <a:solidFill>
                <a:srgbClr val="003366"/>
              </a:solidFill>
              <a:latin typeface="Times New Roman"/>
            </a:endParaRPr>
          </a:p>
        </p:txBody>
      </p:sp>
      <p:sp>
        <p:nvSpPr>
          <p:cNvPr id="24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rá reprimido con reclusión o prisión de uno a seis años, el que insertare o hiciere insertar en un instrumento público declaraciones falsas, concernientes a un hecho que el documento deba probar, de modo que pueda resultar perjuic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se tratase de los documentos o certificados mencionados en el último párrafo del artículo anterior, la pena será de 3 a 8 añ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3 bis</a:t>
            </a:r>
            <a:br>
              <a:rPr sz="3600"/>
            </a:br>
            <a:r>
              <a:rPr b="1" lang="es-ES" sz="3600" spc="-1" strike="noStrike">
                <a:solidFill>
                  <a:srgbClr val="003366"/>
                </a:solidFill>
                <a:latin typeface="Arial Unicode MS"/>
              </a:rPr>
              <a:t>Guías de ganado</a:t>
            </a:r>
            <a:endParaRPr b="0" lang="en-US" sz="36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 impondrá prisión de UNO (1) a TRES (3) años al funcionario público que, por imprudencia o negligencia, intervenga en la expedición de guías de tránsito de ganado o en el visado o legalización de certificados de adquisición u otros documentos que acrediten la propiedad del semoviente, omitiendo adoptar las medidas necesarias para cerciorarse de su procedencia legítim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4</a:t>
            </a:r>
            <a:br>
              <a:rPr sz="3600"/>
            </a:br>
            <a:r>
              <a:rPr b="1" lang="es-ES" sz="3600" spc="-1" strike="noStrike">
                <a:solidFill>
                  <a:srgbClr val="003366"/>
                </a:solidFill>
                <a:latin typeface="Arial Unicode MS"/>
              </a:rPr>
              <a:t>Destrucción de documentos</a:t>
            </a:r>
            <a:endParaRPr b="0" lang="en-US" sz="3600" spc="-1" strike="noStrike">
              <a:solidFill>
                <a:srgbClr val="003366"/>
              </a:solidFill>
              <a:latin typeface="Times New Roman"/>
            </a:endParaRPr>
          </a:p>
        </p:txBody>
      </p:sp>
      <p:sp>
        <p:nvSpPr>
          <p:cNvPr id="247" name="PlaceHolder 2"/>
          <p:cNvSpPr>
            <a:spLocks noGrp="1"/>
          </p:cNvSpPr>
          <p:nvPr>
            <p:ph/>
          </p:nvPr>
        </p:nvSpPr>
        <p:spPr>
          <a:xfrm>
            <a:off x="1173240" y="2492280"/>
            <a:ext cx="7772400" cy="266544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que suprimiere o destruyere, en todo o en parte, un documento de modo que pueda resultar perjuicio, incurrirá en las penas señaladas en los artículos anteriores, en los casos respectivos</a:t>
            </a:r>
            <a:endParaRPr b="0" lang="en-US" sz="24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5</a:t>
            </a:r>
            <a:br>
              <a:rPr sz="3600"/>
            </a:br>
            <a:r>
              <a:rPr b="1" lang="es-ES" sz="3600" spc="-1" strike="noStrike">
                <a:solidFill>
                  <a:srgbClr val="003366"/>
                </a:solidFill>
                <a:latin typeface="Arial Unicode MS"/>
              </a:rPr>
              <a:t>Certificados médicos falsos</a:t>
            </a:r>
            <a:endParaRPr b="0" lang="en-US" sz="3600" spc="-1" strike="noStrike">
              <a:solidFill>
                <a:srgbClr val="003366"/>
              </a:solidFill>
              <a:latin typeface="Times New Roman"/>
            </a:endParaRPr>
          </a:p>
        </p:txBody>
      </p:sp>
      <p:sp>
        <p:nvSpPr>
          <p:cNvPr id="2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frirá prisión de un mes a un año, el médico que diere por escrito un certificado falso, concerniente a la existencia o inexistencia, presente o pasada, de alguna enfermedad o lesión cuando de ello resulte perjuicio. </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ena será de uno a cuatro años, si el falso certificado debiera tener por consecuencia que una persona sana fuera detenida en un manicomio, lazareto u otro hospital.</a:t>
            </a:r>
            <a:r>
              <a:rPr b="0" lang="es-ES" sz="3200" spc="-1" strike="noStrike">
                <a:solidFill>
                  <a:srgbClr val="003366"/>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6</a:t>
            </a:r>
            <a:br>
              <a:rPr sz="3600"/>
            </a:br>
            <a:r>
              <a:rPr b="1" lang="es-ES" sz="3600" spc="-1" strike="noStrike">
                <a:solidFill>
                  <a:srgbClr val="003366"/>
                </a:solidFill>
                <a:latin typeface="Arial Unicode MS"/>
              </a:rPr>
              <a:t>Uso de documentos falsos</a:t>
            </a:r>
            <a:endParaRPr b="0" lang="en-US" sz="36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que hiciere uso de un documento o certificado falso o adulterado, será reprimido como si fuere autor de la falsedad.</a:t>
            </a:r>
            <a:endParaRPr b="0" lang="en-US" sz="28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7200"/>
            <a:ext cx="7772400" cy="1892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7</a:t>
            </a:r>
            <a:br>
              <a:rPr sz="3600"/>
            </a:br>
            <a:r>
              <a:rPr b="1" lang="es-ES" sz="3600" spc="-1" strike="noStrike">
                <a:solidFill>
                  <a:srgbClr val="003366"/>
                </a:solidFill>
                <a:latin typeface="Arial Unicode MS"/>
              </a:rPr>
              <a:t>Testamentos, certificados de nacimiento, títulos de crédito</a:t>
            </a:r>
            <a:endParaRPr b="0" lang="en-US" sz="3600" spc="-1" strike="noStrike">
              <a:solidFill>
                <a:srgbClr val="003366"/>
              </a:solidFill>
              <a:latin typeface="Times New Roman"/>
            </a:endParaRPr>
          </a:p>
        </p:txBody>
      </p:sp>
      <p:sp>
        <p:nvSpPr>
          <p:cNvPr id="253" name="PlaceHolder 2"/>
          <p:cNvSpPr>
            <a:spLocks noGrp="1"/>
          </p:cNvSpPr>
          <p:nvPr>
            <p:ph/>
          </p:nvPr>
        </p:nvSpPr>
        <p:spPr>
          <a:xfrm>
            <a:off x="1173240" y="2421000"/>
            <a:ext cx="7772400" cy="36748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los efectos de este Capítulo, quedan equiparados a los instrumentos públicos los testamentos ológrafos o cerrados, los certificados de parto o de nacimiento, las letras de cambio y los títulos de crédito transmisibles por endoso o al portador, no comprendidos en el artículo 285.</a:t>
            </a:r>
            <a:r>
              <a:rPr b="0" lang="es-ES" sz="3200" spc="-1" strike="noStrike">
                <a:solidFill>
                  <a:srgbClr val="003366"/>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8</a:t>
            </a:r>
            <a:br>
              <a:rPr sz="3600"/>
            </a:br>
            <a:r>
              <a:rPr b="1" lang="es-ES" sz="3600" spc="-1" strike="noStrike">
                <a:solidFill>
                  <a:srgbClr val="003366"/>
                </a:solidFill>
                <a:latin typeface="Arial Unicode MS"/>
              </a:rPr>
              <a:t>Forma agravada</a:t>
            </a:r>
            <a:endParaRPr b="0" lang="en-US" sz="3600" spc="-1" strike="noStrike">
              <a:solidFill>
                <a:srgbClr val="003366"/>
              </a:solidFill>
              <a:latin typeface="Times New Roman"/>
            </a:endParaRPr>
          </a:p>
        </p:txBody>
      </p:sp>
      <p:sp>
        <p:nvSpPr>
          <p:cNvPr id="25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alguno de los delitos previstos en este Capítulo, fuere ejecutado por un funcionario público con abuso de sus funciones, el culpable sufrirá, además, inhabilitación absoluta por doble tiempo del de la condena.</a:t>
            </a:r>
            <a:endParaRPr b="0" lang="en-US" sz="24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Unicode MS"/>
              </a:rPr>
              <a:t>Articulo 298 bis</a:t>
            </a:r>
            <a:br>
              <a:rPr sz="3600"/>
            </a:br>
            <a:r>
              <a:rPr b="1" lang="es-ES" sz="3600" spc="-1" strike="noStrike">
                <a:solidFill>
                  <a:srgbClr val="003366"/>
                </a:solidFill>
                <a:latin typeface="Arial Unicode MS"/>
              </a:rPr>
              <a:t>Facturas de crédito</a:t>
            </a:r>
            <a:endParaRPr b="0" lang="en-US" sz="36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ienes emitan o acepten facturas de crédito que no correspondan a compraventa, locación de cosas muebles, locación de servicios o locación de obra realmente contratadas, serán sancionados con la pena prevista en el artículo 293 de este Código. Igual pena les corresponderá a quienes injustificadamente rechacen o eludan la aceptación de factura de crédito, cuando el servicio ya hubiese sido prestado en forma debida, o reteniendo la mercadería que se le hubiere entregad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RECHO PENAL </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te del derecho que se ocupa de sancionar las conductas consideradas disvaliosa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 formado por un conjunto de normas que regulan el poder sancionador y preventivo del Estado establecie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cepto de delit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sponsabilidad del sujeto activ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plicación de medidas de seguridad</a:t>
            </a:r>
            <a:endParaRPr b="0" lang="en-US" sz="24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2880" y="260280"/>
            <a:ext cx="7646760" cy="17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3366"/>
                </a:solidFill>
                <a:uFillTx/>
                <a:latin typeface="Arial Unicode MS"/>
              </a:rPr>
              <a:t>Consentimiento del ofendido .</a:t>
            </a:r>
            <a:br>
              <a:rPr sz="3600"/>
            </a:br>
            <a:r>
              <a:rPr b="1" lang="es-ES" sz="3600" spc="-1" strike="noStrike" u="sng">
                <a:solidFill>
                  <a:srgbClr val="003366"/>
                </a:solidFill>
                <a:uFillTx/>
                <a:latin typeface="Arial Unicode MS"/>
              </a:rPr>
              <a:t>Antijuridicidad (causa de justif.)Atipicidad</a:t>
            </a:r>
            <a:r>
              <a:rPr b="0" lang="es-E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59" name="PlaceHolder 2"/>
          <p:cNvSpPr>
            <a:spLocks noGrp="1"/>
          </p:cNvSpPr>
          <p:nvPr>
            <p:ph/>
          </p:nvPr>
        </p:nvSpPr>
        <p:spPr>
          <a:xfrm>
            <a:off x="1173240" y="2349000"/>
            <a:ext cx="7772400" cy="3746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ol de querellan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97 del CC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La acción civil no se juzgará renunciada por no haber los ofendidos durante su vida intentado la acción criminal o por haber desistido de ella, ni se entenderá que renunciaron a la acción criminal por haber intentado la acción civil o por haber desistido de ella. Pero si renunciaron a la acción civil o hicieron convenios sobre el pago del daño, se tendrá por renunciada la acción criminal.</a:t>
            </a:r>
            <a:endParaRPr b="0" lang="en-US" sz="24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PREMIOS Y CASTIGOS</a:t>
            </a:r>
            <a:br>
              <a:rPr sz="4000"/>
            </a:br>
            <a:r>
              <a:rPr b="0" lang="es-ES" sz="4000" spc="-1" strike="noStrike">
                <a:solidFill>
                  <a:srgbClr val="003366"/>
                </a:solidFill>
                <a:latin typeface="Times New Roman"/>
              </a:rPr>
              <a:t>MENSAJES A LA SOCIEDAD </a:t>
            </a:r>
            <a:br>
              <a:rPr sz="4000"/>
            </a:br>
            <a:endParaRPr b="0" lang="en-US" sz="4000" spc="-1" strike="noStrike">
              <a:solidFill>
                <a:srgbClr val="003366"/>
              </a:solidFill>
              <a:latin typeface="Times New Roman"/>
            </a:endParaRPr>
          </a:p>
        </p:txBody>
      </p:sp>
      <p:sp>
        <p:nvSpPr>
          <p:cNvPr id="2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ub Villarreal.Tirar una banana a Alve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2000 Eu de mult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xpulsado de por vida el agresor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ma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50.000 Eu por cánticos discriminatorio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eco Hamsik Suspendido por 5 años por pedir excarcelación a un asesino de un policía </a:t>
            </a:r>
            <a:endParaRPr b="0" lang="en-US" sz="2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CAPITAL SOCIAL.NUEVAS INVERSIONES </a:t>
            </a:r>
            <a:endParaRPr b="0" lang="en-US" sz="4000" spc="-1" strike="noStrike">
              <a:solidFill>
                <a:srgbClr val="003366"/>
              </a:solidFill>
              <a:latin typeface="Times New Roman"/>
            </a:endParaRPr>
          </a:p>
        </p:txBody>
      </p:sp>
      <p:sp>
        <p:nvSpPr>
          <p:cNvPr id="2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LERANCIA Y RESPETO AL PENSAMIENTO AJEN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STADO DE DERECH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NFIANZA EN LAS INSTITUCIONES EN PARTICULAR EN LA JUSTIC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SPONSABILIDAD CIUDADAN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OBERNABILIDAD EN DEMOCRACIA  </a:t>
            </a:r>
            <a:endParaRPr b="0" lang="en-US" sz="2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Derecho penal común (de primera velocidad) Derecho Penal Económico(de segunda velocidad)</a:t>
            </a:r>
            <a:br>
              <a:rPr sz="4000"/>
            </a:br>
            <a:endParaRPr b="0" lang="en-US" sz="40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echo penal común . Bienes jurídicos individuales .El derecho penal como “ultima rati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echo penal económico.Bienes jurídicos colectivos (Rama del Derecho penal que regula el “Orden público económico” como bien jurídico a proteger )  </a:t>
            </a:r>
            <a:endParaRPr b="0" lang="en-US" sz="32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rPr>
              <a:t>Derecho Penal.Ultima ratio.Inseguridad</a:t>
            </a:r>
            <a:endParaRPr b="0" lang="en-US" sz="40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es Confianza en el Poder Judicial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jido social .42 millones de habitantes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bres :11 millones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bajan 11 millones .4 de ellos empleados públicos</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 millones de desocupados .Cada puesto de trabajo U$S 50.000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udos provinciales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udos sindicales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upción.Impunidad. 0,3 % de las causas llegan a condena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sajes contrapuestos.Efecto demostración </a:t>
            </a:r>
            <a:endParaRPr b="0" lang="en-US" sz="2000" spc="-1" strike="noStrike">
              <a:solidFill>
                <a:srgbClr val="000000"/>
              </a:solidFill>
              <a:latin typeface="Arial"/>
            </a:endParaRPr>
          </a:p>
          <a:p>
            <a:pPr marL="343080" indent="-343080">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ción NI NI –Generación CO-CO</a:t>
            </a:r>
            <a:endParaRPr b="0" lang="en-US" sz="20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6:41:46Z</dcterms:created>
  <dc:creator>sgm</dc:creator>
  <dc:description/>
  <dc:language>en-US</dc:language>
  <cp:lastModifiedBy>CMN</cp:lastModifiedBy>
  <dcterms:modified xsi:type="dcterms:W3CDTF">2014-05-14T17:46:20Z</dcterms:modified>
  <cp:revision>86</cp:revision>
  <dc:subject/>
  <dc:title>Artículo 300 Código Penal de la Nación Argentina</dc:title>
</cp:coreProperties>
</file>