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5e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143000" y="4416120"/>
            <a:ext cx="4572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73CB-6FAC-45EE-AB20-BD1783D91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DAF-2431-4063-8943-26D82AF1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43000" y="4416120"/>
            <a:ext cx="4572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D83D-0471-4FB2-B8D5-A52EC10C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43000" y="4416120"/>
            <a:ext cx="4572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CA795AA0-B533-4DB3-A9BC-9F07F7BBAA0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rigen del Término For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eneralmente, se lo asocia con la medicina legal y con quienes la practi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 forense se vincula con lo relativo al derecho y la aplicación de la ley, en la medida en que se busca que un profesional idóneo colabore con el juez en asuntos legales que le competan y para ello aporte pruebas de carácter público para presentar en la c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na Auditoria Forense es la actividad de un equipo multidisciplinario que realiza una investigación bajo la conducción de un Auditor For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cionalmente la auditoría forense se definió como una auditoría especializada en descubrir, divulgar y atestiguar sobre fraudes y delitos en el desarrollo de las funciones públicas. Sin embargo, no solo está limitada a los hechos de corrupción administrativa, también el auditor forense participa en investigaciones sob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ímenes fisc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imen corporativo y fra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avado de din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crepancias entre socios y accionis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niestros asegu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érdidas económicas en los negocios, entre o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BC30CBD6-D0D9-4FCA-B803-87A818269B2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rigen del Término For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Generalmente, se lo asocia con la medicina legal y con quienes la practi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Lo forense se vincula con lo relativo al derecho y la aplicación de la ley, en la medida en que se busca que un profesional idóneo colabore con el juez en asuntos legales que le competan y para ello aporte pruebas de carácter público para presentar en la c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Una Auditoria Forense es la actividad de un equipo multidisciplinario que realiza una investigación bajo la conducción de un Auditor For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cionalmente la auditoría forense se definió como una auditoría especializada en descubrir, divulgar y atestiguar sobre fraudes y delitos en el desarrollo de las funciones públicas. Sin embargo, no solo está limitada a los hechos de corrupción administrativa, también el auditor forense participa en investigaciones sob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ímenes fisc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imen corporativo y fra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avado de din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crepancias entre socios y accionis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niestros asegu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érdidas económicas en los negocios, entre o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52EE77E4-AF7A-4AFF-A15A-FE6309B407A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0CB3015D-B789-43A2-8D0F-3565F2E25587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427-2195-4E2F-97E4-4B6A6819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00" y="407592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1D1-1B18-4F6B-B186-E04AAA9B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0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35B-72D6-4149-99E7-20A18127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12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40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76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12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504-2A41-4874-A79C-3212C9CF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19C7-E8E7-4356-B1AA-4CEE73AC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B4CE-D6DA-4F7B-A9ED-9D89DB6B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C7B4-87C4-405F-88F7-ECB06BD1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2C4-94EB-44FC-B485-901D73D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1DD9-7B45-4B9E-BBDD-DEFDDDC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736200"/>
            <a:ext cx="822636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C761-037F-4157-9C1E-E71CFCD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612-5D02-4BBE-864F-8420E4A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FB9-F721-409D-B9D9-1D91A989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0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A981-BB63-4B20-8C08-283E3FF2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1211-90E2-4BB9-B4A4-7A0E7868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400" y="407592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761-EB7C-4FEB-9663-56D1B447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0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D44D-9757-4313-9ECC-5E6A84CC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8120" y="159984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40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676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8120" y="4075920"/>
            <a:ext cx="2648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A09-46B6-491A-8BE8-D36AFC21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98C-96D6-408D-A81B-A6D86D0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889-DCC5-4940-8A43-9626B117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405-8CB9-4EAD-B62B-618E69B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36200"/>
            <a:ext cx="822636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3C8-655E-4793-8185-37E0180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282-61A6-46B0-B52C-D0E1C50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000" y="407592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561-81FA-45FC-B3C6-BB858EE8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000" y="1599840"/>
            <a:ext cx="4014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400" y="4075920"/>
            <a:ext cx="822636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AD6-B54E-4141-A716-A59BB68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3c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5e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2120">
              <a:lnSpc>
                <a:spcPct val="95000"/>
              </a:lnSpc>
              <a:spcBef>
                <a:spcPts val="1500"/>
              </a:spcBef>
              <a:buClr>
                <a:srgbClr val="00a5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444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444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444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0" y="6432120"/>
            <a:ext cx="182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675c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675c53"/>
                </a:solidFill>
                <a:latin typeface="Times New Roman"/>
              </a:rPr>
              <a:t>Month 00, 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2960" y="6432120"/>
            <a:ext cx="365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675c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75c53"/>
                </a:solidFill>
                <a:latin typeface="Times New Roman"/>
              </a:rPr>
              <a:t>Proprietary and Confidential — Kro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7200" y="643860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a5e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22B-71E1-465A-852F-2EED08288AD3}" type="slidenum">
              <a:rPr b="1" lang="en-US" sz="1200" spc="-1" strike="noStrike">
                <a:solidFill>
                  <a:srgbClr val="00a5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3"/>
          <p:cNvSpPr/>
          <p:nvPr/>
        </p:nvSpPr>
        <p:spPr>
          <a:xfrm>
            <a:off x="457200" y="6397560"/>
            <a:ext cx="8229600" cy="0"/>
          </a:xfrm>
          <a:prstGeom prst="line">
            <a:avLst/>
          </a:prstGeom>
          <a:ln w="12600">
            <a:solidFill>
              <a:srgbClr val="00a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33" descr="PowerPoint Text Slide Header Rev0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39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Kroll Advisory Solutions_grayscale_pos_email.png"/>
          <p:cNvPicPr/>
          <p:nvPr/>
        </p:nvPicPr>
        <p:blipFill>
          <a:blip r:embed="rId3"/>
          <a:stretch/>
        </p:blipFill>
        <p:spPr>
          <a:xfrm>
            <a:off x="6265800" y="6477120"/>
            <a:ext cx="24386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1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3c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3"/>
          <p:cNvSpPr/>
          <p:nvPr/>
        </p:nvSpPr>
        <p:spPr>
          <a:xfrm>
            <a:off x="455760" y="3759120"/>
            <a:ext cx="8226360" cy="0"/>
          </a:xfrm>
          <a:prstGeom prst="line">
            <a:avLst/>
          </a:prstGeom>
          <a:ln w="19080">
            <a:solidFill>
              <a:srgbClr val="00a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PowerPoint Title Slide Header Rev01"/>
          <p:cNvPicPr/>
          <p:nvPr/>
        </p:nvPicPr>
        <p:blipFill>
          <a:blip r:embed="rId2"/>
          <a:stretch/>
        </p:blipFill>
        <p:spPr>
          <a:xfrm>
            <a:off x="0" y="0"/>
            <a:ext cx="914544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3"/>
          <a:stretch/>
        </p:blipFill>
        <p:spPr>
          <a:xfrm>
            <a:off x="7086600" y="5845320"/>
            <a:ext cx="1803240" cy="82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a5e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2120">
              <a:lnSpc>
                <a:spcPct val="95000"/>
              </a:lnSpc>
              <a:spcBef>
                <a:spcPts val="1500"/>
              </a:spcBef>
              <a:buClr>
                <a:srgbClr val="00a5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436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440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4440" indent="-228600">
              <a:lnSpc>
                <a:spcPct val="95000"/>
              </a:lnSpc>
              <a:spcBef>
                <a:spcPts val="1500"/>
              </a:spcBef>
              <a:buClr>
                <a:srgbClr val="675c5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444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444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0" y="6434280"/>
            <a:ext cx="1828800" cy="27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900" spc="-1" strike="noStrike">
                <a:solidFill>
                  <a:srgbClr val="675c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675c53"/>
                </a:solidFill>
                <a:latin typeface="Times New Roman"/>
              </a:rPr>
              <a:t>Month 00, 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2960" y="6434280"/>
            <a:ext cx="3659040" cy="27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675c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75c53"/>
                </a:solidFill>
                <a:latin typeface="Times New Roman"/>
              </a:rPr>
              <a:t>Proprietary and Confidential — Kro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55760" y="644004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a5e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53E4-9FDC-4E56-AA96-8E6AC3057D1D}" type="slidenum">
              <a:rPr b="1" lang="en-US" sz="1200" spc="-1" strike="noStrike">
                <a:solidFill>
                  <a:srgbClr val="00a5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47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gistros en la nube: una nube de cuestiones legales</a:t>
            </a:r>
            <a:endParaRPr b="1" lang="en-US" sz="32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5760" y="4800240"/>
            <a:ext cx="82310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675c53"/>
                </a:solidFill>
                <a:latin typeface="Arial"/>
              </a:rPr>
              <a:t>Presentación Dr. Martín Elizalde| Associated Consultant  Kroll Argent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675c53"/>
                </a:solidFill>
                <a:latin typeface="Arial"/>
              </a:rPr>
              <a:t>Mayo 2014 para Consejo Profesional de Ciencias Económicas de la C.A.B.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Una buena familia…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3720"/>
            <a:ext cx="2378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SAS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| Software as a Servic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visión de software  a traves de una red sin que esté almacenado en una computaora local del clie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75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1549-D568-4B39-B036-770F9D394972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838080" y="49528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Priv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Comuni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Híb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655560" y="4343400"/>
            <a:ext cx="8226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  <a:ea typeface="Arial"/>
              </a:rPr>
              <a:t>…</a:t>
            </a:r>
            <a:r>
              <a:rPr b="1" lang="es-ES" sz="2800" spc="-1" strike="noStrike">
                <a:solidFill>
                  <a:srgbClr val="00a5e6"/>
                </a:solidFill>
                <a:latin typeface="Arial"/>
                <a:ea typeface="Arial"/>
              </a:rPr>
              <a:t>Que se comporta de 4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049800" y="1593720"/>
            <a:ext cx="2514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IAS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| Infrastructure as a Ser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visión del acceso a infraestructura (Almacenamiento o capacidades de procesamiento) en una red, que sirve de complemento a una plataforma que ya exis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00400" y="1593720"/>
            <a:ext cx="2544840" cy="23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000000"/>
                </a:solidFill>
                <a:latin typeface="Arial"/>
              </a:rPr>
              <a:t>PAS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| Platform as a Serv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visión de una plataforma que crea el ambiente para que otros softwares corran (sistemas operativos) sobre una red y no sobre una computadora ocal del cliente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SaaS, lo básico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84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85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0828-41AC-41F2-A659-C162A76E4FC7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5400" y="1599840"/>
            <a:ext cx="82263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gredientes de una receta salud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1073160" y="2300400"/>
            <a:ext cx="669132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ndo es accesible la d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912960" y="2133720"/>
            <a:ext cx="322200" cy="327240"/>
          </a:xfrm>
          <a:prstGeom prst="ellipse">
            <a:avLst/>
          </a:prstGeom>
          <a:solidFill>
            <a:srgbClr val="ffcc66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6600"/>
                </a:solidFill>
                <a:latin typeface="Albertus Medium"/>
                <a:ea typeface="Aharon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1073160" y="3032280"/>
            <a:ext cx="669132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Donde está almacen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>
            <a:off x="912960" y="2865600"/>
            <a:ext cx="322200" cy="327240"/>
          </a:xfrm>
          <a:prstGeom prst="ellipse">
            <a:avLst/>
          </a:prstGeom>
          <a:solidFill>
            <a:srgbClr val="ffcc66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6600"/>
                </a:solidFill>
                <a:latin typeface="Albertus Medium"/>
                <a:ea typeface="Aharon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1073160" y="3763800"/>
            <a:ext cx="6691320" cy="60984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es  de control sobre el logeo y la retención la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>
            <a:off x="912960" y="3597120"/>
            <a:ext cx="322200" cy="327240"/>
          </a:xfrm>
          <a:prstGeom prst="ellipse">
            <a:avLst/>
          </a:prstGeom>
          <a:solidFill>
            <a:srgbClr val="ffcc66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6600"/>
                </a:solidFill>
                <a:latin typeface="Albertus Medium"/>
                <a:ea typeface="Aharon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1073160" y="4495680"/>
            <a:ext cx="6691320" cy="60984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érminos  de uso y política de priv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8"/>
          <p:cNvSpPr/>
          <p:nvPr/>
        </p:nvSpPr>
        <p:spPr>
          <a:xfrm>
            <a:off x="912960" y="4329000"/>
            <a:ext cx="322200" cy="327240"/>
          </a:xfrm>
          <a:prstGeom prst="ellipse">
            <a:avLst/>
          </a:prstGeom>
          <a:solidFill>
            <a:srgbClr val="ffcc66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6600"/>
                </a:solidFill>
                <a:latin typeface="Albertus Medium"/>
                <a:ea typeface="Aharon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No terminamos aun: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99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200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7844-B135-4CF3-B43C-1A9189E15A70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59960" y="1676160"/>
            <a:ext cx="777420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echo del usuario para auditar la data en la nube del proveedor  para un control de las medidas de seguridad acordes con la Ley de Protección de datos person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para verificar el ismo cumplimiento por parte de terceros que puedan acceder a el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9"/>
          <p:cNvGrpSpPr/>
          <p:nvPr/>
        </p:nvGrpSpPr>
        <p:grpSpPr>
          <a:xfrm>
            <a:off x="635040" y="4343400"/>
            <a:ext cx="7899480" cy="1255680"/>
            <a:chOff x="635040" y="4343400"/>
            <a:chExt cx="7899480" cy="1255680"/>
          </a:xfrm>
        </p:grpSpPr>
        <p:pic>
          <p:nvPicPr>
            <p:cNvPr id="206" name="Picture 24" descr=""/>
            <p:cNvPicPr/>
            <p:nvPr/>
          </p:nvPicPr>
          <p:blipFill>
            <a:blip r:embed="rId2"/>
            <a:stretch/>
          </p:blipFill>
          <p:spPr>
            <a:xfrm>
              <a:off x="4086000" y="4343400"/>
              <a:ext cx="287388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1" descr=""/>
            <p:cNvPicPr/>
            <p:nvPr/>
          </p:nvPicPr>
          <p:blipFill>
            <a:blip r:embed="rId3"/>
            <a:srcRect l="0" t="14376" r="0" b="14742"/>
            <a:stretch/>
          </p:blipFill>
          <p:spPr>
            <a:xfrm>
              <a:off x="6963120" y="4343400"/>
              <a:ext cx="15714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2" descr=""/>
            <p:cNvPicPr/>
            <p:nvPr/>
          </p:nvPicPr>
          <p:blipFill>
            <a:blip r:embed="rId4"/>
            <a:srcRect l="0" t="28094" r="0" b="13017"/>
            <a:stretch/>
          </p:blipFill>
          <p:spPr>
            <a:xfrm>
              <a:off x="2896200" y="4343400"/>
              <a:ext cx="159156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3" descr=""/>
            <p:cNvPicPr/>
            <p:nvPr/>
          </p:nvPicPr>
          <p:blipFill>
            <a:blip r:embed="rId5"/>
            <a:srcRect l="0" t="6159" r="0" b="0"/>
            <a:stretch/>
          </p:blipFill>
          <p:spPr>
            <a:xfrm>
              <a:off x="635040" y="4343400"/>
              <a:ext cx="226944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SLA: tips para estar a salvo de la tormenta. 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211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212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D008-92CA-48D2-A642-C8445AB44397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5400" y="1599840"/>
            <a:ext cx="822636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edad de la data y permisos de u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calización geográfica del servid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sibilidad de acceso por partes de terceros subcontrata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ándares de encriptamiento y de transmisión o transferencia de la dat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ponsabilidad por pérdida d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ck 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de confidencialidad consistentes con la del usuar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promesa de tiempo activo de funcionamiento (uptime) ofre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Falta poco…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218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219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A7D5-58E8-412A-B7C6-48691CAAAFB7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http://3.bp.blogspot.com/-nYfwe80ZzHU/TbWujikC0pI/AAAAAAAAAA8/tLPLhBYB-lo/s1600/Computer+Forensics+01.jpg"/>
          <p:cNvPicPr/>
          <p:nvPr/>
        </p:nvPicPr>
        <p:blipFill>
          <a:blip r:embed="rId2"/>
          <a:stretch/>
        </p:blipFill>
        <p:spPr>
          <a:xfrm>
            <a:off x="596880" y="3021120"/>
            <a:ext cx="7950240" cy="3011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609480" y="1342800"/>
            <a:ext cx="7940880" cy="357012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tIns="91440" bIns="91440" anchor="ctr">
            <a:normAutofit/>
          </a:bodyPr>
          <a:p>
            <a:pPr marL="533520" indent="-351000">
              <a:lnSpc>
                <a:spcPct val="150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 de audito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150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es de seguridad y continuidad del negocio en caso de desastre natural- en Argentina, que llueva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150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o se van a resolver los conflict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150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é sucede cuando termina el contrat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150000"/>
              </a:lnSpc>
              <a:spcBef>
                <a:spcPts val="1250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gración de dato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a5e6"/>
                </a:solidFill>
                <a:latin typeface="Arial"/>
              </a:rPr>
              <a:t>Checklist: resumiendo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226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227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AF6B-9C06-4DFA-B66A-E961DB36ABE1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5400" y="1599840"/>
            <a:ext cx="792612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scriba de que maneras los satos que nuestra ley considera personales serán procesados, el lugar físico donde serán almacenados o procesados, los subcontratistas que participaran en ese proces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pecifique si la data será transferida fuera del país y en ese caso, como lo será. Ese punto es importante por si la trasferencia se realiza a países que no tengan un adecuado nivel de protección a la privacid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je en claro la posibilidad que el derecho de auditar sea ejercido por terceras par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clare las políticas de retención, restitución y eliminación de data del provee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specifique como son considerados los requerimientos legales de acceso a la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dir al proveedor en la nube: ​Si tiene certificaciones de seguridad de la información y de procedimientos internos: ISO, ​ASA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Consideraciones finales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233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234" name="Rectangle 8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7053-B0FB-41BC-BB73-76D1A63838D9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59320" y="1998000"/>
            <a:ext cx="5928480" cy="2768400"/>
          </a:xfrm>
          <a:prstGeom prst="rect">
            <a:avLst/>
          </a:prstGeom>
          <a:solidFill>
            <a:srgbClr val="c7efff"/>
          </a:solidFill>
          <a:ln w="57240">
            <a:solidFill>
              <a:srgbClr val="ff9933"/>
            </a:solidFill>
            <a:miter/>
          </a:ln>
        </p:spPr>
        <p:txBody>
          <a:bodyPr lIns="0" rIns="0" tIns="0" bIns="0" anchor="t">
            <a:normAutofit/>
          </a:bodyPr>
          <a:p>
            <a:pPr marL="230040" indent="-2300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egociar un servicio de contabilidad o registro  en la nube para su cliente no es una tarea imposible. Siempre  y cuando el profesional que lo haga esté dispuesto a no ceder lo esen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Rectangle 6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240" name="Rectangle 6" descr=""/>
            <p:cNvPicPr/>
            <p:nvPr/>
          </p:nvPicPr>
          <p:blipFill>
            <a:blip r:embed="rId1"/>
            <a:stretch/>
          </p:blipFill>
          <p:spPr>
            <a:xfrm>
              <a:off x="0" y="6400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0" y="640080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5" descr="PowerPoint Title Slide Header Rev01"/>
          <p:cNvPicPr/>
          <p:nvPr/>
        </p:nvPicPr>
        <p:blipFill>
          <a:blip r:embed="rId2"/>
          <a:stretch/>
        </p:blipFill>
        <p:spPr>
          <a:xfrm>
            <a:off x="0" y="0"/>
            <a:ext cx="9145440" cy="3200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906D-E240-42AD-A485-C684E9F3F9DC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990720" y="3429000"/>
            <a:ext cx="6858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  <a:ea typeface="Arial"/>
              </a:rPr>
              <a:t>Martín Elizalde | Associated Consultant Kroll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Arial"/>
              </a:rPr>
              <a:t>Contacto: Laura Matta | lmatta@krol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3"/>
          <a:stretch/>
        </p:blipFill>
        <p:spPr>
          <a:xfrm>
            <a:off x="6705720" y="5451480"/>
            <a:ext cx="20764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5e6"/>
                </a:solidFill>
                <a:latin typeface="Arial"/>
              </a:rPr>
              <a:t>De documento electrónico a prueba digital.</a:t>
            </a:r>
            <a:br>
              <a:rPr sz="2800"/>
            </a:br>
            <a:r>
              <a:rPr b="1" lang="en-US" sz="2800" spc="-1" strike="noStrike">
                <a:solidFill>
                  <a:srgbClr val="00a5e6"/>
                </a:solidFill>
                <a:latin typeface="Arial"/>
              </a:rPr>
              <a:t>No es solo click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Rectangle 5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02" name="Rectangle 5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826F-ED27-42BC-864E-F713401BEDDF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ediscovery.quarles.com/virtualworld.jpg"/>
          <p:cNvPicPr/>
          <p:nvPr/>
        </p:nvPicPr>
        <p:blipFill>
          <a:blip r:embed="rId2"/>
          <a:srcRect l="0" t="7308" r="0" b="7627"/>
          <a:stretch/>
        </p:blipFill>
        <p:spPr>
          <a:xfrm>
            <a:off x="380880" y="1676520"/>
            <a:ext cx="8336160" cy="47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219320" y="2234880"/>
            <a:ext cx="7162560" cy="37386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tIns="91440" bIns="91440" anchor="ctr">
            <a:normAutofit/>
          </a:bodyPr>
          <a:p>
            <a:pPr marL="230040" indent="-230040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% de la documentación comercial es digital – un estanque profun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tiene tiene valor de prueb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no sé muy bien  cómo manejar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Documento electrónico: una naturaleza interesante.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08" name="Rectangle 5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09" name="Rectangle 5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38CA-BA2D-4E65-A0F3-8FF500F625E3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996840" y="20574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990720" y="27432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2"/>
          <p:cNvSpPr/>
          <p:nvPr/>
        </p:nvSpPr>
        <p:spPr>
          <a:xfrm>
            <a:off x="996840" y="34290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tent Placeholder 2"/>
          <p:cNvSpPr/>
          <p:nvPr/>
        </p:nvSpPr>
        <p:spPr>
          <a:xfrm>
            <a:off x="990720" y="41148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996840" y="48006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990720" y="5486400"/>
            <a:ext cx="6699240" cy="6094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520" y="1980720"/>
            <a:ext cx="5892840" cy="4108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/>
          </a:bodyPr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frág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peren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duplica so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complej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altera sin que se v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50000"/>
              </a:lnSpc>
              <a:spcBef>
                <a:spcPts val="1250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se sabe si se al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Es hora de hablar con su proveedor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21" name="Rectangle 5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22" name="Rectangle 5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1"/>
          <p:cNvSpPr/>
          <p:nvPr/>
        </p:nvSpPr>
        <p:spPr>
          <a:xfrm>
            <a:off x="609480" y="640080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(*) No cubierto en la encuesta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Según Encuesta Global de Fraude de Kroll 2012/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2C63-DE13-4A96-892F-8C6CA72D6392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ular Callout 4"/>
          <p:cNvSpPr/>
          <p:nvPr/>
        </p:nvSpPr>
        <p:spPr>
          <a:xfrm>
            <a:off x="898560" y="3200400"/>
            <a:ext cx="7620120" cy="2666880"/>
          </a:xfrm>
          <a:prstGeom prst="wedgeRoundRectCallout">
            <a:avLst>
              <a:gd name="adj1" fmla="val 592"/>
              <a:gd name="adj2" fmla="val -81578"/>
              <a:gd name="adj3" fmla="val 16667"/>
            </a:avLst>
          </a:prstGeom>
          <a:solidFill>
            <a:srgbClr val="c7efff">
              <a:alpha val="50000"/>
            </a:srgbClr>
          </a:solidFill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 Marcador de contenido"/>
          <p:cNvSpPr/>
          <p:nvPr/>
        </p:nvSpPr>
        <p:spPr>
          <a:xfrm>
            <a:off x="1143000" y="1602000"/>
            <a:ext cx="726444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antes de empe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uáles documentos quiero usar y que quiero probar con ell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ónde está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n que plazos puedo acce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Quién, cuando y cómo puede acce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Rectangle 11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30" name="Rectangle 11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Slide Number Placeholder 3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C787-2788-42A9-A801-8CD5B4082F27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736200"/>
            <a:ext cx="822636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a5e6"/>
                </a:solidFill>
                <a:latin typeface="Arial"/>
              </a:rPr>
              <a:t>Cadena de custodia: a lo largo del camino y hasta el Juez.</a:t>
            </a:r>
            <a:br>
              <a:rPr sz="3200"/>
            </a:br>
            <a:endParaRPr b="1" lang="en-US" sz="3200" spc="-1" strike="noStrike">
              <a:solidFill>
                <a:srgbClr val="00a5e6"/>
              </a:solidFill>
              <a:latin typeface="Arial"/>
            </a:endParaRPr>
          </a:p>
        </p:txBody>
      </p:sp>
      <p:pic>
        <p:nvPicPr>
          <p:cNvPr id="134" name="Picture 2" descr="http://www.integritylegalcorp.com/big-data.jpg"/>
          <p:cNvPicPr/>
          <p:nvPr/>
        </p:nvPicPr>
        <p:blipFill>
          <a:blip r:embed="rId2"/>
          <a:srcRect l="0" t="9823" r="0" b="11112"/>
          <a:stretch/>
        </p:blipFill>
        <p:spPr>
          <a:xfrm>
            <a:off x="438120" y="1736640"/>
            <a:ext cx="8248680" cy="46641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5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Servicios en la nube. Un delicado equilibrio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37" name="Rectangle 5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38" name="Rectangle 5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9E51-B581-432D-AD7C-A3C1052EFA0D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600200"/>
            <a:ext cx="7696440" cy="163368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txBody>
          <a:bodyPr lIns="0" rIns="0" tIns="0" bIns="0" anchor="ctr">
            <a:normAutofit/>
          </a:bodyPr>
          <a:p>
            <a:pPr marL="182520" algn="ctr">
              <a:lnSpc>
                <a:spcPct val="1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Antes de comenzar, hay una sola regla de oro: toda la información que suben sus clientes a la nube, es responsabilidad exclusiva de sus clientes y no se delega.  </a:t>
            </a:r>
            <a:r>
              <a:rPr b="1" i="1" lang="es-AR" sz="1700" spc="-1" strike="noStrike">
                <a:solidFill>
                  <a:srgbClr val="000000"/>
                </a:solidFill>
                <a:latin typeface="Arial"/>
              </a:rPr>
              <a:t>Podría ser peor!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algn="ctr">
              <a:lnSpc>
                <a:spcPct val="1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Arial"/>
              </a:rPr>
              <a:t>Ahora si, (mucho)  menos tranquilos, vamos a empezar: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2 Marcador de contenido"/>
          <p:cNvSpPr/>
          <p:nvPr/>
        </p:nvSpPr>
        <p:spPr>
          <a:xfrm>
            <a:off x="703440" y="3886200"/>
            <a:ext cx="7508520" cy="2362320"/>
          </a:xfrm>
          <a:prstGeom prst="rect">
            <a:avLst/>
          </a:prstGeom>
          <a:solidFill>
            <a:srgbClr val="d5edff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0" anchor="ctr">
            <a:normAutofit/>
          </a:bodyPr>
          <a:p>
            <a:pPr marL="181080" algn="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Una cuest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servicios en la nube no son necesariamente invasivos de la privacidad. Pero implican transferencia de información fuera del control de su cliente y en muchos casos el procesamiento y almacenaje de esa información fuera de la Argen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Deje de lado conceptos como jurisdicción, competencia, aplicación de leyes nacionales- es en se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sosceles Triangle 2"/>
          <p:cNvSpPr/>
          <p:nvPr/>
        </p:nvSpPr>
        <p:spPr>
          <a:xfrm rot="10800000">
            <a:off x="609120" y="3351960"/>
            <a:ext cx="7696440" cy="397080"/>
          </a:xfrm>
          <a:prstGeom prst="triangle">
            <a:avLst>
              <a:gd name="adj" fmla="val 50000"/>
            </a:avLst>
          </a:prstGeom>
          <a:solidFill>
            <a:srgbClr val="00a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888840"/>
            <a:ext cx="822636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Responsabilidades pesadas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46" name="Rectangle 15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47" name="Rectangle 15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B447-8477-4E52-B0EC-2F50784E391A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360" y="1646280"/>
            <a:ext cx="72644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uchas veces, lo que ofrece el proveedor del servicio es el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cceso a un disco rígido virtual en Intern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ponsabilidad de la información es del usuario (su cliente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ponsabilidad de no violar los derechos de autor es (también) de su cli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te un incidente de seguridad, el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veedor </a:t>
            </a: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se responsabiliz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términos y condiciones del servicio están sujetos a modificaciones unilaterale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,  por parte del proveed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5000"/>
              </a:lnSpc>
              <a:spcBef>
                <a:spcPts val="1125"/>
              </a:spcBef>
              <a:buClr>
                <a:srgbClr val="e0520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ervidore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donde el proveedor aloja la información de la que el cliente es responsable, 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ueden estar fuera de Argentina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y ser allí  legalmente accesibles a Gobiernos y Fuerzas de Seguridad de otros países.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Genial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El otro lado del espejo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grpSp>
        <p:nvGrpSpPr>
          <p:cNvPr id="153" name="Rectangle 16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54" name="Rectangle 16" descr=""/>
            <p:cNvPicPr/>
            <p:nvPr/>
          </p:nvPicPr>
          <p:blipFill>
            <a:blip r:embed="rId1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04E0-D5E1-42FD-B22F-A08CF3A00168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660320"/>
            <a:ext cx="822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mazon, en su Apartado 5.3 de los términos y condiciones de Amaz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https://encrypted-tbn0.gstatic.com/images?q=tbn:ANd9GcSPrgz_ozSmaE1kpNOs6a8Cv90L_MA-XB9kUAtnuH84OprPv9FwpAzlcb1Hjw"/>
          <p:cNvPicPr/>
          <p:nvPr/>
        </p:nvPicPr>
        <p:blipFill>
          <a:blip r:embed="rId2"/>
          <a:stretch/>
        </p:blipFill>
        <p:spPr>
          <a:xfrm>
            <a:off x="5638680" y="2819520"/>
            <a:ext cx="3184560" cy="318456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ular Callout 2"/>
          <p:cNvSpPr/>
          <p:nvPr/>
        </p:nvSpPr>
        <p:spPr>
          <a:xfrm>
            <a:off x="746280" y="3048120"/>
            <a:ext cx="4572000" cy="2692440"/>
          </a:xfrm>
          <a:prstGeom prst="wedgeRoundRectCallout">
            <a:avLst>
              <a:gd name="adj1" fmla="val 66490"/>
              <a:gd name="adj2" fmla="val -2437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do not guarantee that Your Files will not be subject to misappropriation, loss or damage and we will not be liable if they are. </a:t>
            </a:r>
            <a:r>
              <a:rPr b="0" i="1" lang="es-AR" sz="2000" spc="-1" strike="noStrike">
                <a:solidFill>
                  <a:srgbClr val="000000"/>
                </a:solidFill>
                <a:latin typeface="Arial"/>
              </a:rPr>
              <a:t>You’re responsible for mainta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ropriate security, protection and backup of Your Files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Users\lmatta.ALTEGRITY\AppData\Local\Microsoft\Windows\Temporary Internet Files\Content.IE5\54J0KBZ7\MP900448452[1].jpg"/>
          <p:cNvPicPr/>
          <p:nvPr/>
        </p:nvPicPr>
        <p:blipFill>
          <a:blip r:embed="rId1"/>
          <a:stretch/>
        </p:blipFill>
        <p:spPr>
          <a:xfrm>
            <a:off x="506520" y="2314440"/>
            <a:ext cx="2511360" cy="2103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a5e6"/>
                </a:solidFill>
                <a:latin typeface="Arial"/>
              </a:rPr>
              <a:t>Entonces, está todo perdido?</a:t>
            </a:r>
            <a:endParaRPr b="1" lang="en-US" sz="2800" spc="-1" strike="noStrike">
              <a:solidFill>
                <a:srgbClr val="00a5e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94800" cy="7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ara nada, solo quiere decir que hay que negociar los contratos de servicios sabiendo que deberemos ceder mucho, pero que debemos conservar algo. 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Y eso, no se negoci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Rectangle 8"/>
          <p:cNvGrpSpPr/>
          <p:nvPr/>
        </p:nvGrpSpPr>
        <p:grpSpPr>
          <a:xfrm>
            <a:off x="0" y="6419880"/>
            <a:ext cx="9144000" cy="438120"/>
            <a:chOff x="0" y="6419880"/>
            <a:chExt cx="9144000" cy="438120"/>
          </a:xfrm>
        </p:grpSpPr>
        <p:pic>
          <p:nvPicPr>
            <p:cNvPr id="165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6422760"/>
              <a:ext cx="91440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6419880"/>
              <a:ext cx="9144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Slide Number Placeholder 2"/>
          <p:cNvSpPr/>
          <p:nvPr/>
        </p:nvSpPr>
        <p:spPr>
          <a:xfrm>
            <a:off x="457200" y="643896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26D2-E8D5-4651-B9EF-376F3535EB85}" type="slidenum">
              <a:rPr b="1" lang="en-US" sz="1200" spc="-1" strike="noStrike">
                <a:solidFill>
                  <a:srgbClr val="00a5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93120" y="239760"/>
            <a:ext cx="24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7f7f7f"/>
                </a:solidFill>
                <a:latin typeface="Arial"/>
              </a:rPr>
              <a:t>Registros en la n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3200400" y="2739960"/>
            <a:ext cx="502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ntes de sentarse en la mesa de negociación – bueno, en la silla que está al lado- tenga en mente que, más allá de las vulnerabilidades, la nube permite ahorrar a su cliente en equipos, licencias y desarrollos de infraestructu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985680" y="4265640"/>
            <a:ext cx="709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Además, y gracias a la cortesía de Internet, puede acceder desde cualquier ordenador o teléfono, en cualquier lugar del mundo. En un mudo con cada vez mayor cone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s importante recordarlo,  cada vez que quiera salir corriendo después de leer el borrador del contrato de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 rot="20851200">
            <a:off x="1025280" y="3274560"/>
            <a:ext cx="14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797056"/>
                </a:solidFill>
                <a:latin typeface="Arial"/>
                <a:ea typeface="Arial"/>
              </a:rPr>
              <a:t>N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2:56:49Z</dcterms:created>
  <dc:creator/>
  <dc:description> </dc:description>
  <cp:keywords/>
  <dc:language>en-US</dc:language>
  <cp:lastModifiedBy/>
  <cp:lastPrinted>2014-04-14T19:54:21Z</cp:lastPrinted>
  <dcterms:modified xsi:type="dcterms:W3CDTF">2014-05-13T20:39:20Z</dcterms:modified>
  <cp:revision>155</cp:revision>
  <dc:subject/>
  <dc:title/>
</cp:coreProperties>
</file>