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4.jpeg" ContentType="image/jpeg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1.png" ContentType="image/png"/>
  <Override PartName="/ppt/media/image24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65C19-A450-44BA-BAEB-783F52C69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F848E-65DB-4E55-9BAD-FFA757E75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17591-0D15-47FB-A7A6-3D4CFF251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46DAA-8752-4B15-AAF1-E3A91B53E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E8C25-1635-4B40-848D-B14E13AA4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EBB58-B0E7-4694-818B-9DFB94B2E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C66BF-ADE8-4CE4-9908-4EC1D23BC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1EA53-8531-4FCC-BF5D-D16052E27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9A530-F728-4784-998E-5B99774C5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1C487-8D7D-4589-8A38-48BD9AAC3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C0C12-259A-49BE-84D5-D7C2AB0B8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E2171-E343-48FB-B6B5-4C08C606A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8007B-E74C-4643-8D17-3629EFB5C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0C623-CF7C-4FA5-86E1-D9F183081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04439-BB91-4894-92F6-324EF9953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7B8A5-7B2A-4971-B6E8-0A1CA5254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91601-CB57-4ACD-A88F-BCE404F4D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BCE6ED-8BA8-4409-BDBF-931B4E25A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C81073-AC65-40DB-983E-B37999FD5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0AFB57-7AA6-4196-B294-41D3F7C3F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E1A4CF-8B10-452A-B642-5AAF0072B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21B10A-6716-4332-9746-53C2AAD90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077C3-0522-4BDE-AF23-E26A1B9CD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DDEA2F-CA3A-4F61-B086-2D247251B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6E48E1-19F5-4A22-9A9F-B9E383B96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E53837-6D41-444E-8D46-F47B35D7E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1B2A73-5650-40AA-BA15-4B52DAE36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E0896C-9DFE-47A4-B618-A089EB328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BFDB84-4ECA-41D1-A99E-C3990967D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DC2A2E-6845-4D3E-941E-03D0D1951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9361D3-D5C0-42A7-9CCC-CCA27A098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D7FD9E-2398-4DDD-B6AA-55AEDE883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7F5248-C2A9-4BE5-A531-715B9B369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02841-A53A-47BC-B1E3-A8BB231CB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FCABB6-7053-4343-80AA-30F51A49F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BE3DC6-DD87-49CA-8A73-05229AB72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C6DE39-AED7-4E28-9AC3-72AB0A845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479155-1C2B-4C87-8EDE-6567D4B80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926073-B913-4C29-9DFC-E830C6375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6679DD-663C-4700-BE13-A5630B06E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2E3537-26D9-40A3-B86C-019ADD427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8D214F-E6F7-4E21-BAEF-CE5385691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3E9F9A-A337-40F0-AB5D-C4F5930CE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11D41F-6642-4110-90E5-110625807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F74BB-6574-40B9-A8FA-6446F6986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117A8E-A5BE-4E3E-B232-8AAACCE01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54D3DC-DBDF-4055-ABA1-7D42BDCF0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4BF571-754E-495F-928D-B400BB993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7F63CB-7F90-4A6A-BD75-7F899625A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C6EAAB-C8EA-4556-AE92-36ED23B2B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FC310E-27D3-4A01-AFBB-D411BB330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EC8031-7EB1-40F9-844F-4250A4A0E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25A4DB-1835-492C-8416-A6A8DB0EC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BE583B-9B62-43AF-8129-CC0A81DB6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32309F-8725-4329-B78D-B4CF46964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3D9F5-778B-40AA-89E6-4A893EE02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ED2CBF-E5ED-4135-A55C-40D52AC4D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88E4B-E0DC-4730-8CC4-6F7648746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1CE46-6A9E-44AD-AF06-522E01530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EAD3D-1650-406E-868B-297EC650A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8 Rectángulo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8 Rectángulo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4617b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10cf9b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10cf9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10cf9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10cf9b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4617b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4617b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100" spc="-1" strike="noStrike">
                <a:solidFill>
                  <a:srgbClr val="04617b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C555A-EDB0-468C-978F-2E96E4B1678B}" type="slidenum">
              <a:rPr b="0" lang="es-ES" sz="1100" spc="-1" strike="noStrike">
                <a:solidFill>
                  <a:srgbClr val="04617b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7 Rectángulo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7 Rectángulo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9 Conector recto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4617b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10cf9b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10cf9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10cf9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10cf9b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1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78097-90EA-4240-A14E-8C53C2C93D91}" type="slidenum">
              <a:rPr b="0" lang="es-ES" sz="11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8 Rectángulo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8 Rectángulo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4617b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10cf9b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10cf9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10cf9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10cf9b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4617b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4617b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100" spc="-1" strike="noStrike">
                <a:solidFill>
                  <a:srgbClr val="04617b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74D8E-9607-4748-8B54-14EB19AE510D}" type="slidenum">
              <a:rPr b="0" lang="es-ES" sz="1100" spc="-1" strike="noStrike">
                <a:solidFill>
                  <a:srgbClr val="04617b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7 Rectángulo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9 Rectángulo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dbf5f9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10cf9b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10cf9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10cf9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10cf9b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dbf5f9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dbf5f9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100" spc="-1" strike="noStrike">
                <a:solidFill>
                  <a:srgbClr val="dbf5f9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8CCC6-632D-42AF-B4E7-03D67C478536}" type="slidenum">
              <a:rPr b="0" lang="es-ES" sz="1100" spc="-1" strike="noStrike">
                <a:solidFill>
                  <a:srgbClr val="dbf5f9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8 Rectángulo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8 Rectángulo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4617b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10cf9b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10cf9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10cf9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10cf9b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4617b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4617b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100" spc="-1" strike="noStrike">
                <a:solidFill>
                  <a:srgbClr val="04617b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BD539-2612-4A7F-9B70-1CA043D6B4C3}" type="slidenum">
              <a:rPr b="0" lang="es-ES" sz="1100" spc="-1" strike="noStrike">
                <a:solidFill>
                  <a:srgbClr val="04617b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contadores.iprofesional.com/notas/99114-La-AFIP-ya-exige-foto-huella-dactilar-y-firma-a-los-nuevos-contribuyentes.html" TargetMode="External"/><Relationship Id="rId2" Type="http://schemas.openxmlformats.org/officeDocument/2006/relationships/hyperlink" Target="http://www.iprofesional.com/notas/9911499114-La-AFIP-ya-exige-foto-huella-dactilar-y-firma-a-los-nuevos-contribuyentes.html#comentar" TargetMode="External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4" descr=""/>
          <p:cNvPicPr/>
          <p:nvPr/>
        </p:nvPicPr>
        <p:blipFill>
          <a:blip r:embed="rId1"/>
          <a:stretch/>
        </p:blipFill>
        <p:spPr>
          <a:xfrm>
            <a:off x="1979640" y="1646280"/>
            <a:ext cx="4970520" cy="37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1 Título" descr=""/>
          <p:cNvPicPr/>
          <p:nvPr/>
        </p:nvPicPr>
        <p:blipFill>
          <a:blip r:embed="rId1"/>
          <a:stretch/>
        </p:blipFill>
        <p:spPr>
          <a:xfrm>
            <a:off x="963720" y="2163600"/>
            <a:ext cx="6272280" cy="155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6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7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1 Título" descr=""/>
          <p:cNvPicPr/>
          <p:nvPr/>
        </p:nvPicPr>
        <p:blipFill>
          <a:blip r:embed="rId1"/>
          <a:stretch/>
        </p:blipFill>
        <p:spPr>
          <a:xfrm>
            <a:off x="390600" y="1231920"/>
            <a:ext cx="7643880" cy="25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Rectangle 2" descr=""/>
          <p:cNvPicPr/>
          <p:nvPr/>
        </p:nvPicPr>
        <p:blipFill>
          <a:blip r:embed="rId1"/>
          <a:stretch/>
        </p:blipFill>
        <p:spPr>
          <a:xfrm>
            <a:off x="171360" y="1189080"/>
            <a:ext cx="7918560" cy="26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1 Título" descr=""/>
          <p:cNvPicPr/>
          <p:nvPr/>
        </p:nvPicPr>
        <p:blipFill>
          <a:blip r:embed="rId1"/>
          <a:stretch/>
        </p:blipFill>
        <p:spPr>
          <a:xfrm>
            <a:off x="49320" y="176040"/>
            <a:ext cx="8034120" cy="2249640"/>
          </a:xfrm>
          <a:prstGeom prst="rect">
            <a:avLst/>
          </a:prstGeom>
          <a:ln w="0">
            <a:noFill/>
          </a:ln>
        </p:spPr>
      </p:pic>
      <p:sp>
        <p:nvSpPr>
          <p:cNvPr id="239" name="3 Rectángulo"/>
          <p:cNvSpPr/>
          <p:nvPr/>
        </p:nvSpPr>
        <p:spPr>
          <a:xfrm>
            <a:off x="250920" y="3213000"/>
            <a:ext cx="770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1" i="1" lang="es-A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ocer a una persona es saber que le corresponde el nombre registrado en el registro competente por trato y comunicación o por fama”</a:t>
            </a:r>
            <a:r>
              <a:rPr b="1" lang="es-A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4"/>
          <p:cNvSpPr/>
          <p:nvPr/>
        </p:nvSpPr>
        <p:spPr>
          <a:xfrm>
            <a:off x="-119880" y="264600"/>
            <a:ext cx="8210520" cy="4899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eorgia"/>
                <a:ea typeface="MS Mincho"/>
              </a:rPr>
              <a:t>La AFIP ya exige foto, huella dactilar y firma a los nuevos contribuyentes</a:t>
            </a:r>
            <a:r>
              <a:rPr b="0" lang="es-ES" sz="2600" spc="-1" strike="noStrike">
                <a:solidFill>
                  <a:srgbClr val="000000"/>
                </a:solidFill>
                <a:latin typeface="Georgia"/>
                <a:ea typeface="MS Mincho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8">
            <a:hlinkClick r:id="rId1"/>
          </p:cNvPr>
          <p:cNvSpPr/>
          <p:nvPr/>
        </p:nvSpPr>
        <p:spPr>
          <a:xfrm>
            <a:off x="109440" y="1155240"/>
            <a:ext cx="8855280" cy="111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 u="sng">
                <a:solidFill>
                  <a:srgbClr val="e2d700"/>
                </a:solidFill>
                <a:uFillTx/>
                <a:latin typeface="Arial"/>
                <a:ea typeface="MS Mincho"/>
                <a:hlinkClick r:id="rId2"/>
              </a:rPr>
              <a:t>Publique su comentari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MS Mincho"/>
              </a:rPr>
              <a:t>La medida alcanza a particulares y directores o representantes legales de las empresas. Quienes ya se encuentren inscriptos ante el fisco nacional deberán reempadronarse. Serán dados de baja los responsables que no realicen el trámi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10" descr="La AFIP ya exige foto, huella dactilar y firma a los nuevos contribuyentes"/>
          <p:cNvPicPr/>
          <p:nvPr/>
        </p:nvPicPr>
        <p:blipFill>
          <a:blip r:embed="rId3"/>
          <a:stretch/>
        </p:blipFill>
        <p:spPr>
          <a:xfrm>
            <a:off x="826920" y="2276640"/>
            <a:ext cx="7632720" cy="4240080"/>
          </a:xfrm>
          <a:prstGeom prst="rect">
            <a:avLst/>
          </a:prstGeom>
          <a:ln w="0">
            <a:noFill/>
          </a:ln>
        </p:spPr>
      </p:pic>
      <p:sp>
        <p:nvSpPr>
          <p:cNvPr id="243" name="Rectangle 11"/>
          <p:cNvSpPr/>
          <p:nvPr/>
        </p:nvSpPr>
        <p:spPr>
          <a:xfrm>
            <a:off x="0" y="6566040"/>
            <a:ext cx="25383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  <a:ea typeface="MS Mincho"/>
              </a:rPr>
              <a:t>Publicada el 23 de abril pasad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Rectangle 2" descr=""/>
          <p:cNvPicPr/>
          <p:nvPr/>
        </p:nvPicPr>
        <p:blipFill>
          <a:blip r:embed="rId1"/>
          <a:stretch/>
        </p:blipFill>
        <p:spPr>
          <a:xfrm>
            <a:off x="463680" y="1047600"/>
            <a:ext cx="7284960" cy="289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34920" y="1916280"/>
            <a:ext cx="8066160" cy="2017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7000"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800" spc="-1" strike="noStrike">
                <a:solidFill>
                  <a:srgbClr val="7e9632"/>
                </a:solidFill>
                <a:latin typeface="Times New Roman"/>
                <a:ea typeface="Times New Roman"/>
              </a:rPr>
              <a:t>EL CHEQUE COMO DOCUMENTACION DE RESPALDO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Rectangle 4" descr=""/>
          <p:cNvPicPr/>
          <p:nvPr/>
        </p:nvPicPr>
        <p:blipFill>
          <a:blip r:embed="rId1"/>
          <a:stretch/>
        </p:blipFill>
        <p:spPr>
          <a:xfrm>
            <a:off x="738360" y="244440"/>
            <a:ext cx="6894360" cy="112068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324000" y="1701360"/>
            <a:ext cx="75708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Etapas de implementación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Etapa 1- Seguridad básica digita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i="1" lang="es-ES" sz="2000" spc="-1" strike="noStrike">
                <a:solidFill>
                  <a:srgbClr val="000000"/>
                </a:solidFill>
                <a:latin typeface="Times New Roman"/>
              </a:rPr>
              <a:t>*Incorporación del código de seguridad bidimensional en el campo principal del documento. Esta impresión será realizada por la imprenta de seguridad, colocándose los datos variables del valor, como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es-ES" sz="2000" spc="-1" strike="noStrike">
                <a:solidFill>
                  <a:srgbClr val="000000"/>
                </a:solidFill>
                <a:latin typeface="Times New Roman"/>
              </a:rPr>
              <a:t>por ejemplo:             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r>
              <a:rPr b="0" i="1" lang="es-ES" sz="2000" spc="-1" strike="noStrike">
                <a:solidFill>
                  <a:srgbClr val="000000"/>
                </a:solidFill>
                <a:latin typeface="Times New Roman"/>
              </a:rPr>
              <a:t>Número de serie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r>
              <a:rPr b="0" i="1" lang="es-ES" sz="2000" spc="-1" strike="noStrike">
                <a:solidFill>
                  <a:srgbClr val="000000"/>
                </a:solidFill>
                <a:latin typeface="Times New Roman"/>
              </a:rPr>
              <a:t>Razón social o nombre y apellido del titular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r>
              <a:rPr b="0" i="1" lang="es-ES" sz="2000" spc="-1" strike="noStrike">
                <a:solidFill>
                  <a:srgbClr val="000000"/>
                </a:solidFill>
                <a:latin typeface="Times New Roman"/>
              </a:rPr>
              <a:t>Número de cuenta del cliente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i="1" lang="es-ES" sz="2000" spc="-1" strike="noStrike">
                <a:solidFill>
                  <a:srgbClr val="000000"/>
                </a:solidFill>
                <a:latin typeface="Times New Roman"/>
              </a:rPr>
              <a:t>*Impresión en tóner del QR: El toner es considerado un producto comercial que en esta etapa de implementación, no posee medidas de seguridad en su composición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2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2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/>
          </p:nvPr>
        </p:nvSpPr>
        <p:spPr>
          <a:xfrm>
            <a:off x="-360" y="907560"/>
            <a:ext cx="8101080" cy="590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Etapas de implementación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Etapa 2 – Integración – Autoría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s-ES" sz="2000" spc="-1" strike="noStrike">
                <a:solidFill>
                  <a:srgbClr val="000000"/>
                </a:solidFill>
                <a:latin typeface="Times New Roman"/>
              </a:rPr>
              <a:t>*Incorporación del código de seguridad bidimensional en el campo co-mercial del documento. Esta impresión será realizada por el librador o la Entidad bancaria, completándose los campos críticos del soporte, por ejemplo:             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r>
              <a:rPr b="0" i="1" lang="es-ES" sz="2000" spc="-1" strike="noStrike">
                <a:solidFill>
                  <a:srgbClr val="000000"/>
                </a:solidFill>
                <a:latin typeface="Times New Roman"/>
              </a:rPr>
              <a:t>Importe en Número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r>
              <a:rPr b="0" i="1" lang="es-ES" sz="2000" spc="-1" strike="noStrike">
                <a:solidFill>
                  <a:srgbClr val="000000"/>
                </a:solidFill>
                <a:latin typeface="Times New Roman"/>
              </a:rPr>
              <a:t>Fechas de emisión y pago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r>
              <a:rPr b="0" i="1" lang="es-ES" sz="2000" spc="-1" strike="noStrike">
                <a:solidFill>
                  <a:srgbClr val="000000"/>
                </a:solidFill>
                <a:latin typeface="Times New Roman"/>
              </a:rPr>
              <a:t>Beneficiario y cláusulas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r>
              <a:rPr b="0" i="1" lang="es-ES" sz="2000" spc="-1" strike="noStrike">
                <a:solidFill>
                  <a:srgbClr val="000000"/>
                </a:solidFill>
                <a:latin typeface="Times New Roman"/>
              </a:rPr>
              <a:t>Importe en letras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1" i="1" lang="es-ES" sz="2000" spc="-1" strike="noStrike">
                <a:solidFill>
                  <a:srgbClr val="000000"/>
                </a:solidFill>
                <a:latin typeface="Times New Roman"/>
              </a:rPr>
              <a:t>Etapas de implementación – Integridad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i="1" lang="es-ES" sz="2000" spc="-1" strike="noStrike">
                <a:solidFill>
                  <a:srgbClr val="000000"/>
                </a:solidFill>
                <a:latin typeface="Times New Roman"/>
              </a:rPr>
              <a:t>*Impresión en tóner del QR: Producto comercial que en la primera etapa de implementación no posee medidas de seguridad en su composición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es-AR" sz="2000" spc="-1" strike="noStrike">
                <a:solidFill>
                  <a:srgbClr val="000000"/>
                </a:solidFill>
                <a:latin typeface="Times New Roman"/>
              </a:rPr>
              <a:t>Se define </a:t>
            </a:r>
            <a:r>
              <a:rPr b="1" i="1" lang="es-AR" sz="2000" spc="-1" strike="noStrike" u="sng">
                <a:solidFill>
                  <a:srgbClr val="000000"/>
                </a:solidFill>
                <a:uFillTx/>
                <a:latin typeface="Times New Roman"/>
              </a:rPr>
              <a:t>Integridad</a:t>
            </a:r>
            <a:r>
              <a:rPr b="0" i="1" lang="es-AR" sz="2000" spc="-1" strike="noStrike">
                <a:solidFill>
                  <a:srgbClr val="000000"/>
                </a:solidFill>
                <a:latin typeface="Times New Roman"/>
              </a:rPr>
              <a:t> como la imposibilidad de modificación de los datos originales contenidos en el documento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s-AR" sz="2000" spc="-1" strike="noStrike">
                <a:solidFill>
                  <a:srgbClr val="000000"/>
                </a:solidFill>
                <a:latin typeface="Times New Roman"/>
              </a:rPr>
              <a:t>La misma se logra mediante el cálculo de una función hash de clase mundial como por ejemplo las denominadas “MD5” o “SHA1”.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9" name="Rectangle 4" descr=""/>
          <p:cNvPicPr/>
          <p:nvPr/>
        </p:nvPicPr>
        <p:blipFill>
          <a:blip r:embed="rId1"/>
          <a:stretch/>
        </p:blipFill>
        <p:spPr>
          <a:xfrm>
            <a:off x="738360" y="-19080"/>
            <a:ext cx="6894360" cy="87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/>
          </p:nvPr>
        </p:nvSpPr>
        <p:spPr>
          <a:xfrm>
            <a:off x="301680" y="1676520"/>
            <a:ext cx="772632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1" i="1" lang="es-ES" sz="2000" spc="-1" strike="noStrike">
                <a:solidFill>
                  <a:srgbClr val="000000"/>
                </a:solidFill>
                <a:latin typeface="Times New Roman"/>
              </a:rPr>
              <a:t>Etapas de implementación -  Autoría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50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50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i="1" lang="es-ES" sz="2400" spc="-1" strike="noStrike">
                <a:solidFill>
                  <a:srgbClr val="000000"/>
                </a:solidFill>
                <a:latin typeface="Times New Roman"/>
              </a:rPr>
              <a:t>*Incorporación del código de seguridad bidimensional en el campo comercial del documento. </a:t>
            </a:r>
            <a:r>
              <a:rPr b="0" i="1" lang="es-AR" sz="2400" spc="-1" strike="noStrike">
                <a:solidFill>
                  <a:srgbClr val="000000"/>
                </a:solidFill>
                <a:latin typeface="Times New Roman"/>
              </a:rPr>
              <a:t>Es la cualidad de todo sujeto que interviene en un hecho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50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50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s-AR" sz="2400" spc="-1" strike="noStrike">
                <a:solidFill>
                  <a:srgbClr val="000000"/>
                </a:solidFill>
                <a:latin typeface="Times New Roman"/>
              </a:rPr>
              <a:t>En la tecnología informática la autoría se obtiene mediante procedimientos que utilizan claves asimétricas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50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50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s-AR" sz="2400" spc="-1" strike="noStrike">
                <a:solidFill>
                  <a:srgbClr val="000000"/>
                </a:solidFill>
                <a:latin typeface="Times New Roman"/>
              </a:rPr>
              <a:t>Claves asimétricas son aquellas en donde existes dos partes unívocamente vinculadas, una de ellas es privada la que se encuentra bajo total y absoluto dominio del titular mientras que la pública como su nombre lo indica es de público conocimiento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50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50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1" name="Rectangle 4" descr=""/>
          <p:cNvPicPr/>
          <p:nvPr/>
        </p:nvPicPr>
        <p:blipFill>
          <a:blip r:embed="rId1"/>
          <a:stretch/>
        </p:blipFill>
        <p:spPr>
          <a:xfrm>
            <a:off x="738360" y="-19080"/>
            <a:ext cx="6894360" cy="87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250560" y="1412640"/>
            <a:ext cx="7715160" cy="31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45520" indent="-24552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5400" spc="-1" strike="noStrike">
                <a:solidFill>
                  <a:srgbClr val="9900cc"/>
                </a:solidFill>
                <a:latin typeface="Garamond"/>
                <a:ea typeface="Times New Roman"/>
              </a:rPr>
              <a:t>Jornadas sobre Legalidad y Licitud del Sistema de Registro</a:t>
            </a:r>
            <a:br>
              <a:rPr sz="5400"/>
            </a:br>
            <a:r>
              <a:rPr b="1" i="1" lang="es-AR" sz="5400" spc="-1" strike="noStrike">
                <a:solidFill>
                  <a:srgbClr val="9900cc"/>
                </a:solidFill>
                <a:latin typeface="Garamond"/>
                <a:ea typeface="Times New Roman"/>
              </a:rPr>
              <a:t>y su Documentación</a:t>
            </a:r>
            <a:endParaRPr b="0" lang="en-US" sz="5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Rectangle 18" descr=""/>
          <p:cNvPicPr/>
          <p:nvPr/>
        </p:nvPicPr>
        <p:blipFill>
          <a:blip r:embed="rId1"/>
          <a:stretch/>
        </p:blipFill>
        <p:spPr>
          <a:xfrm>
            <a:off x="231840" y="1395360"/>
            <a:ext cx="7613640" cy="30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395280" y="69192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6600" spc="-1" strike="noStrike">
                <a:solidFill>
                  <a:srgbClr val="990099"/>
                </a:solidFill>
                <a:latin typeface="Times New Roman"/>
                <a:ea typeface="Times New Roman"/>
              </a:rPr>
              <a:t>Inspección General de Justicia</a:t>
            </a:r>
            <a:endParaRPr b="0" lang="en-US" sz="6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800" spc="-1" strike="noStrike">
                <a:solidFill>
                  <a:srgbClr val="990099"/>
                </a:solidFill>
                <a:latin typeface="Times New Roman"/>
                <a:ea typeface="Times New Roman"/>
              </a:rPr>
              <a:t>Resolución 7/2005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1"/>
          <p:cNvSpPr/>
          <p:nvPr/>
        </p:nvSpPr>
        <p:spPr>
          <a:xfrm>
            <a:off x="216000" y="257400"/>
            <a:ext cx="7885080" cy="57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ULO I: NORMAS GENERALES SOBRE INSCRIPCIONES EN EL REGISTRO PUBLICO DE COMERC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cumento Registrable. Autenticidad. Cla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tículo 36.-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Registro Público de comercio inscribe </a:t>
            </a:r>
            <a:r>
              <a:rPr b="1" i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cumentación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éntica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El documento por inscribir debe s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critura Pública. Si la misma contiene transcripción de actos o acuerdos obrantes en libros sociales, </a:t>
            </a:r>
            <a:r>
              <a:rPr b="0" i="1" lang="es-ES" sz="2800" spc="-1" strike="noStrike">
                <a:solidFill>
                  <a:srgbClr val="0f6fc6"/>
                </a:solidFill>
                <a:latin typeface="Times New Roman"/>
                <a:ea typeface="Times New Roman"/>
              </a:rPr>
              <a:t>deben identificarse los libros 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 sus datos de rúbrica y folios correspondiente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1 Título" descr=""/>
          <p:cNvPicPr/>
          <p:nvPr/>
        </p:nvPicPr>
        <p:blipFill>
          <a:blip r:embed="rId1"/>
          <a:stretch/>
        </p:blipFill>
        <p:spPr>
          <a:xfrm>
            <a:off x="317520" y="365040"/>
            <a:ext cx="7504200" cy="111600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 txBox="1"/>
          <p:nvPr/>
        </p:nvSpPr>
        <p:spPr>
          <a:xfrm>
            <a:off x="-36720" y="2071800"/>
            <a:ext cx="8281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¿Hasta donde está comprometido, y es responsable el Profesional que emite un Dictamen o Informe Profesional, basado en documentación fraudulenta?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¿Le corresponde a él efectuar los controles preventivos, necesarios para establecer la presencia de maniobras delictivas?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1 Título" descr=""/>
          <p:cNvPicPr/>
          <p:nvPr/>
        </p:nvPicPr>
        <p:blipFill>
          <a:blip r:embed="rId1"/>
          <a:stretch/>
        </p:blipFill>
        <p:spPr>
          <a:xfrm>
            <a:off x="-133200" y="122400"/>
            <a:ext cx="8472240" cy="1152360"/>
          </a:xfrm>
          <a:prstGeom prst="rect">
            <a:avLst/>
          </a:prstGeom>
          <a:ln w="0">
            <a:noFill/>
          </a:ln>
        </p:spPr>
      </p:pic>
      <p:sp>
        <p:nvSpPr>
          <p:cNvPr id="258" name="1 Título"/>
          <p:cNvSpPr/>
          <p:nvPr/>
        </p:nvSpPr>
        <p:spPr>
          <a:xfrm>
            <a:off x="5076720" y="6381720"/>
            <a:ext cx="2952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ente: Dr. Eduardo M. Favier Dubois (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6 Rectángulo"/>
          <p:cNvSpPr/>
          <p:nvPr/>
        </p:nvSpPr>
        <p:spPr>
          <a:xfrm>
            <a:off x="395280" y="3068640"/>
            <a:ext cx="8353440" cy="865080"/>
          </a:xfrm>
          <a:prstGeom prst="rect">
            <a:avLst/>
          </a:prstGeom>
          <a:solidFill>
            <a:srgbClr val="f2f2f2"/>
          </a:solidFill>
          <a:ln w="399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Trebuchet MS"/>
              </a:rPr>
              <a:t>Esta creencia implica que el agente tiene una cierta garantía de objetividad respecto de su creencia y ello le sirve para apoyar las acciones y decisiones futura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7 Rectángulo"/>
          <p:cNvSpPr/>
          <p:nvPr/>
        </p:nvSpPr>
        <p:spPr>
          <a:xfrm>
            <a:off x="395280" y="1773360"/>
            <a:ext cx="8353440" cy="863640"/>
          </a:xfrm>
          <a:prstGeom prst="rect">
            <a:avLst/>
          </a:prstGeom>
          <a:solidFill>
            <a:srgbClr val="f2f2f2"/>
          </a:solidFill>
          <a:ln w="399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Trebuchet MS"/>
              </a:rPr>
              <a:t>La “teoría de la decisión” plantea que el decisor “cree” que los estados contables son la imagen representativa de la empresa, porque existe una opinión externa y profesional que la valid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8 Rectángulo"/>
          <p:cNvSpPr/>
          <p:nvPr/>
        </p:nvSpPr>
        <p:spPr>
          <a:xfrm>
            <a:off x="395280" y="4292640"/>
            <a:ext cx="8353440" cy="1657440"/>
          </a:xfrm>
          <a:prstGeom prst="rect">
            <a:avLst/>
          </a:prstGeom>
          <a:solidFill>
            <a:srgbClr val="f2f2f2"/>
          </a:solidFill>
          <a:ln w="399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Trebuchet MS"/>
              </a:rPr>
              <a:t>En ese sentido, la creencia de que los estados contables representan la realidad económica, financiera y patrimonial de las organizaciones y que esa representación es validada por la opinión del auditor, es la base de su disposición a actuar, por ejemplo, decidir un crédito, o formular una oferta de compra, o requerir un aumento salarial, o establecer un impuesto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Rectangle 4" descr=""/>
          <p:cNvPicPr/>
          <p:nvPr/>
        </p:nvPicPr>
        <p:blipFill>
          <a:blip r:embed="rId1"/>
          <a:stretch/>
        </p:blipFill>
        <p:spPr>
          <a:xfrm>
            <a:off x="-66600" y="701640"/>
            <a:ext cx="831528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1 Título" descr=""/>
          <p:cNvPicPr/>
          <p:nvPr/>
        </p:nvPicPr>
        <p:blipFill>
          <a:blip r:embed="rId1"/>
          <a:stretch/>
        </p:blipFill>
        <p:spPr>
          <a:xfrm>
            <a:off x="1951200" y="1994040"/>
            <a:ext cx="4138560" cy="73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1 Título" descr=""/>
          <p:cNvPicPr/>
          <p:nvPr/>
        </p:nvPicPr>
        <p:blipFill>
          <a:blip r:embed="rId1"/>
          <a:stretch/>
        </p:blipFill>
        <p:spPr>
          <a:xfrm>
            <a:off x="2023920" y="2066760"/>
            <a:ext cx="4353120" cy="73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 txBox="1"/>
          <p:nvPr/>
        </p:nvSpPr>
        <p:spPr>
          <a:xfrm>
            <a:off x="468360" y="1413000"/>
            <a:ext cx="7238880" cy="167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800" spc="-1" strike="noStrike">
                <a:solidFill>
                  <a:srgbClr val="990099"/>
                </a:solidFill>
                <a:latin typeface="Times New Roman"/>
                <a:ea typeface="Times New Roman"/>
              </a:rPr>
              <a:t>Muchas gracias por su atención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6" name="2 Marcador de contenido"/>
          <p:cNvSpPr/>
          <p:nvPr/>
        </p:nvSpPr>
        <p:spPr>
          <a:xfrm>
            <a:off x="2050920" y="5805360"/>
            <a:ext cx="59770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990099"/>
                </a:solidFill>
                <a:latin typeface="Times New Roman"/>
                <a:ea typeface="Times New Roman"/>
              </a:rPr>
              <a:t>oscar_norberto_ díaz@yahoo.com.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250560" y="1412640"/>
            <a:ext cx="7715160" cy="3168360"/>
          </a:xfrm>
          <a:prstGeom prst="rect">
            <a:avLst/>
          </a:prstGeom>
          <a:noFill/>
          <a:ln w="9360">
            <a:solidFill>
              <a:srgbClr val="9900cc"/>
            </a:solidFill>
            <a:miter/>
          </a:ln>
        </p:spPr>
        <p:txBody>
          <a:bodyPr anchor="t">
            <a:normAutofit fontScale="89000"/>
          </a:bodyPr>
          <a:p>
            <a:pPr marL="242640" indent="-2426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4400" spc="-1" strike="noStrike">
                <a:solidFill>
                  <a:srgbClr val="9900cc"/>
                </a:solidFill>
                <a:latin typeface="Garamond"/>
                <a:ea typeface="Times New Roman"/>
              </a:rPr>
              <a:t>Como preservar la integridad y prevenir los fraudes al sistema de registro y su documentación respaldatoria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  <a:p>
            <a:pPr marL="242640" indent="-2426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1 Título" descr=""/>
          <p:cNvPicPr/>
          <p:nvPr/>
        </p:nvPicPr>
        <p:blipFill>
          <a:blip r:embed="rId1"/>
          <a:stretch/>
        </p:blipFill>
        <p:spPr>
          <a:xfrm>
            <a:off x="165240" y="1579680"/>
            <a:ext cx="7869240" cy="25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1 Título" descr=""/>
          <p:cNvPicPr/>
          <p:nvPr/>
        </p:nvPicPr>
        <p:blipFill>
          <a:blip r:embed="rId1"/>
          <a:stretch/>
        </p:blipFill>
        <p:spPr>
          <a:xfrm>
            <a:off x="2030400" y="719280"/>
            <a:ext cx="4071960" cy="701640"/>
          </a:xfrm>
          <a:prstGeom prst="rect">
            <a:avLst/>
          </a:prstGeom>
          <a:ln w="0">
            <a:noFill/>
          </a:ln>
        </p:spPr>
      </p:pic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-360" y="2997000"/>
            <a:ext cx="8101080" cy="136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 u="sng">
                <a:solidFill>
                  <a:srgbClr val="000000"/>
                </a:solidFill>
                <a:uFillTx/>
                <a:latin typeface="Trebuchet MS"/>
              </a:rPr>
              <a:t>P</a:t>
            </a:r>
            <a:r>
              <a:rPr b="1" i="1" lang="es-E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ocesos</a:t>
            </a:r>
            <a:r>
              <a:rPr b="1" i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es-E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Amenazas</a:t>
            </a:r>
            <a:r>
              <a:rPr b="1" i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es-E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everidad</a:t>
            </a:r>
            <a:r>
              <a:rPr b="1" i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i="1" lang="es-E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Probabilidad</a:t>
            </a:r>
            <a:r>
              <a:rPr b="1" i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i="1" lang="es-E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Nivel</a:t>
            </a:r>
            <a:r>
              <a:rPr b="1" i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s-E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de</a:t>
            </a:r>
            <a:r>
              <a:rPr b="1" i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i="1" lang="es-E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ontrole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              </a:t>
            </a:r>
            <a:r>
              <a:rPr b="1" i="1" lang="es-E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iesgo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Rectangle 2" descr=""/>
          <p:cNvPicPr/>
          <p:nvPr/>
        </p:nvPicPr>
        <p:blipFill>
          <a:blip r:embed="rId1"/>
          <a:stretch/>
        </p:blipFill>
        <p:spPr>
          <a:xfrm>
            <a:off x="1457280" y="92160"/>
            <a:ext cx="5997600" cy="699840"/>
          </a:xfrm>
          <a:prstGeom prst="rect">
            <a:avLst/>
          </a:prstGeom>
          <a:ln w="0">
            <a:noFill/>
          </a:ln>
        </p:spPr>
      </p:pic>
      <p:pic>
        <p:nvPicPr>
          <p:cNvPr id="227" name="Rectangle 3" descr=""/>
          <p:cNvPicPr/>
          <p:nvPr/>
        </p:nvPicPr>
        <p:blipFill>
          <a:blip r:embed="rId2"/>
          <a:stretch/>
        </p:blipFill>
        <p:spPr>
          <a:xfrm>
            <a:off x="208080" y="1103400"/>
            <a:ext cx="7899120" cy="549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Rectangle 2" descr=""/>
          <p:cNvPicPr/>
          <p:nvPr/>
        </p:nvPicPr>
        <p:blipFill>
          <a:blip r:embed="rId1"/>
          <a:stretch/>
        </p:blipFill>
        <p:spPr>
          <a:xfrm>
            <a:off x="1384200" y="92160"/>
            <a:ext cx="6143760" cy="699840"/>
          </a:xfrm>
          <a:prstGeom prst="rect">
            <a:avLst/>
          </a:prstGeom>
          <a:ln w="0">
            <a:noFill/>
          </a:ln>
        </p:spPr>
      </p:pic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179280" y="1196640"/>
            <a:ext cx="77774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</a:t>
            </a:r>
            <a:r>
              <a:rPr b="1" i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ventivo</a:t>
            </a:r>
            <a:r>
              <a:rPr b="0" i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Ejecutados al inicio del proceso. Previenen a los acontecimientos de errores o irregularidades y minimi-zan los riesgos de fondo. </a:t>
            </a:r>
            <a:r>
              <a:rPr b="1" i="1" lang="es-ES" sz="2400" spc="-1" strike="noStrike">
                <a:solidFill>
                  <a:srgbClr val="55a839"/>
                </a:solidFill>
                <a:latin typeface="Times New Roman"/>
                <a:ea typeface="Times New Roman"/>
              </a:rPr>
              <a:t>Controles pro-activos</a:t>
            </a:r>
            <a:r>
              <a:rPr b="0" i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tectivo</a:t>
            </a:r>
            <a:r>
              <a:rPr b="0" i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Ejecutado a lo largo del proceso. Detectan errores que son difíciles de definir y / o prevenir. Controles reactivos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matizado</a:t>
            </a:r>
            <a:r>
              <a:rPr b="0" i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Controles realizados por sistemas automáticos, no dependiendo del juicio personal. Para garantizar su consistencia, y precisión es preciso contar con un sistema  seguro y confiable. </a:t>
            </a:r>
            <a:r>
              <a:rPr b="1" i="1" lang="es-ES" sz="2400" spc="-1" strike="noStrike">
                <a:solidFill>
                  <a:srgbClr val="55a839"/>
                </a:solidFill>
                <a:latin typeface="Times New Roman"/>
                <a:ea typeface="Times New Roman"/>
              </a:rPr>
              <a:t>Control Objetivo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ual</a:t>
            </a:r>
            <a:r>
              <a:rPr b="0" i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Controles ejecutados a criterio y decisión de las personas. Control Subjetivo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1 Título" descr=""/>
          <p:cNvPicPr/>
          <p:nvPr/>
        </p:nvPicPr>
        <p:blipFill>
          <a:blip r:embed="rId1"/>
          <a:stretch/>
        </p:blipFill>
        <p:spPr>
          <a:xfrm>
            <a:off x="36360" y="2968560"/>
            <a:ext cx="8004240" cy="1408320"/>
          </a:xfrm>
          <a:prstGeom prst="rect">
            <a:avLst/>
          </a:prstGeom>
          <a:ln w="0">
            <a:noFill/>
          </a:ln>
        </p:spPr>
      </p:pic>
      <p:pic>
        <p:nvPicPr>
          <p:cNvPr id="231" name="2 Marcador de texto" descr=""/>
          <p:cNvPicPr/>
          <p:nvPr/>
        </p:nvPicPr>
        <p:blipFill>
          <a:blip r:embed="rId2"/>
          <a:stretch/>
        </p:blipFill>
        <p:spPr>
          <a:xfrm>
            <a:off x="244440" y="324000"/>
            <a:ext cx="7862760" cy="123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-360" y="1052640"/>
            <a:ext cx="8101080" cy="100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990099"/>
                </a:solidFill>
                <a:latin typeface="Times New Roman"/>
                <a:ea typeface="Times New Roman"/>
              </a:rPr>
              <a:t>Riesgo de Mercado</a:t>
            </a:r>
            <a:r>
              <a:rPr b="1" lang="es-ES" sz="2000" spc="-1" strike="noStrike">
                <a:solidFill>
                  <a:srgbClr val="02303e"/>
                </a:solidFill>
                <a:latin typeface="Times New Roman"/>
                <a:ea typeface="Times New Roman"/>
              </a:rPr>
              <a:t>: 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esgo propio de las transacciones  comerciales . Por su </a:t>
            </a:r>
            <a:r>
              <a:rPr b="1" lang="es-ES" sz="2000" spc="-1" strike="noStrike">
                <a:solidFill>
                  <a:srgbClr val="02303e"/>
                </a:solidFill>
                <a:latin typeface="Times New Roman"/>
                <a:ea typeface="Times New Roman"/>
              </a:rPr>
              <a:t>complejidad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 dificulta detectar oportunamente al fraude documental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3" name="2 Marcador de contenido"/>
          <p:cNvSpPr/>
          <p:nvPr/>
        </p:nvSpPr>
        <p:spPr>
          <a:xfrm>
            <a:off x="0" y="2565360"/>
            <a:ext cx="8101080" cy="1079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990099"/>
                </a:solidFill>
                <a:latin typeface="Times New Roman"/>
                <a:ea typeface="Times New Roman"/>
              </a:rPr>
              <a:t>Riesgo de no detectar</a:t>
            </a:r>
            <a:r>
              <a:rPr b="1" lang="es-ES" sz="2000" spc="-1" strike="noStrike">
                <a:solidFill>
                  <a:srgbClr val="02303e"/>
                </a:solidFill>
                <a:latin typeface="Times New Roman"/>
                <a:ea typeface="Times New Roman"/>
              </a:rPr>
              <a:t>: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to de que los procedimientos aplicados  por el profesional no sean los correctos o bien se apliquen inoportunamen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2 Marcador de contenido"/>
          <p:cNvSpPr/>
          <p:nvPr/>
        </p:nvSpPr>
        <p:spPr>
          <a:xfrm>
            <a:off x="0" y="4149720"/>
            <a:ext cx="8101080" cy="93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2303e"/>
                </a:solidFill>
                <a:latin typeface="Times New Roman"/>
                <a:ea typeface="Times New Roman"/>
              </a:rPr>
              <a:t> </a:t>
            </a:r>
            <a:r>
              <a:rPr b="1" lang="es-ES" sz="2000" spc="-1" strike="noStrike">
                <a:solidFill>
                  <a:srgbClr val="990099"/>
                </a:solidFill>
                <a:latin typeface="Times New Roman"/>
                <a:ea typeface="Times New Roman"/>
              </a:rPr>
              <a:t>Riesgo de control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to de los diferentes  métodos técnicos y científicos aplicados  en los distintos procesos de investigació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02T15:50:33Z</dcterms:created>
  <dc:creator>ActivoCC</dc:creator>
  <dc:description/>
  <dc:language>en-US</dc:language>
  <cp:lastModifiedBy>Oscar</cp:lastModifiedBy>
  <dcterms:modified xsi:type="dcterms:W3CDTF">2014-05-06T22:46:36Z</dcterms:modified>
  <cp:revision>33</cp:revision>
  <dc:subject/>
  <dc:title>Diapositiva 1</dc:title>
</cp:coreProperties>
</file>