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C6B-08CD-49D5-8D5A-5DE61509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C1B-6754-4A23-AB8E-1E8F68F7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336-64BF-46D6-9E74-73A6FEB4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0CE-2D06-4C5F-96BF-78DC5683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0F73-C72B-4856-A029-76CF090C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BF46-42EB-4784-86E2-8625ECF8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2DB-A592-4A56-BB50-62E437E0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819C-4C3E-4E68-B211-386D207C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5F72-A1A1-4110-961F-00551BF3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C78F-A1B6-4315-9534-9BE9B82D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7CD5-F40F-4B64-9381-45EBFD76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E92-D88C-49A0-A717-C33EB28B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CB5B-745B-4F3A-9B52-97CFED68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82E3-C3B5-434D-9B13-DD6B77B6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BE29-1E51-4FE8-AB8D-B093F23F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80AA-C62A-45BE-909E-0F378AEC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1F76-F93C-48DD-BC25-495363D1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FAAF-31FD-47DB-9C2C-E4EAA097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CAA7-8285-460A-B1B8-1A56DB4E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50A9-77F9-4666-BEF3-2EFD4C0A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BBB4-A24C-48E5-9BE5-48E4394B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72E8-EEA9-4991-9C0B-F0F3D95C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D27-92F2-4828-9724-937A8DF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5BB8-41B9-4EA1-A6AB-E4C51BE2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AE09-03A6-4D78-8E20-4270C5EE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277C-4E94-47E3-B67C-E0DD2E5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3BE5-509C-44CA-B3DF-496DBB2D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814D-A41B-4AD7-9514-DB695F32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3F95-D064-4C8B-8969-54F9027D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5DB96-8A08-4C45-9911-212B4835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ACCF0-A21B-447E-A12B-5C78D226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E825-9BA5-4D2E-A26C-B052F803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E437F-E317-47AB-B7D6-140FED38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E57-C21E-4FBC-9F3E-D4A5FB8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752D3-6977-417F-9474-98727C05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90A9-0BF3-4332-8D7D-1D8BFC5D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A88B-00EC-41E7-B23B-2151ED20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D2A0A-2B5C-435D-8C83-809F4793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1AE9-23BA-49F4-AC3C-4DC41F06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B8650-3769-4B6A-A592-F5DB7C93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9F7C-E74B-4A8C-9A55-96720584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BDE6-B2A0-44A2-92C9-35F56642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E361-CA34-4098-889B-82197795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0BC3D-D3BB-4B31-B48F-5F1142EF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068-0A6E-4AF0-B5D9-20CCBC18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A4780-9A5A-4154-B576-619CDB7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5C9D3-D129-4C15-AFB7-FC1A54AF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A103-8B6F-4AB1-8936-7942ECED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4CCDF-F501-4963-94A0-57A614AB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93E8C-E2BD-4D7D-B9E8-DC7D541B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0846-9B7A-411F-B504-49E5451D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45115-CF7D-422D-96BA-E41105F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753A-9CB1-4D43-AAD2-0F76CAD5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68248-461A-4F74-9657-0FAAD7A1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4242-AEEE-453C-85B1-147B149F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355-5590-4AB3-9000-8ACB0AF2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DB0B6-1560-4D4F-8BB8-41F5C2EF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18298-72E6-460D-A989-224AD49B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E6EB-0B11-48E5-BAC2-D19B586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A0212-B2C6-4EAA-935A-82C2C35B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B2276-FD17-427E-9D37-D12019D0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1E652-ABE7-4083-9125-3EC4D1FD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C75E9-172C-4B78-A28D-A1B8A037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F698-BCCA-4F4B-B8CB-1BC86178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311EE-283E-42B7-8DA4-46F5EA42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81251-4F31-41FF-A1D4-824EC307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ECE-EED5-4981-8F7D-7B416A8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87A3D-4EE0-458D-AD68-AC534513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6AB23-E040-4F09-A82C-94A6AAD0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1613-2253-46A5-9255-8A9BA0C5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C5AF3-31E4-4226-8939-0462A0F9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7191-3BAA-42A2-9967-780E2AAC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D4756-4308-481F-B117-54845F85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41D3C-A246-4EE4-94D3-44F60F9E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DC4BD-AA97-46F4-B91F-BEF687FB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4203D-6F11-491E-BF12-C9A6D200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41C90-6E3F-4ED1-BA01-67D7BE69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096-9376-4D95-B5CF-8A16A93B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20AB8-EB2C-46A3-AF48-74A93CA5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F5F20-4160-4CDC-880F-BC958B0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53F05-2DF9-4A86-9713-55741229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346F-F9F7-44BC-8061-B3E46C29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4A9D4-B0A0-49DE-9585-E29FA9C4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43504-E44A-42D6-93EF-0F4C0421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E21EA-D461-4349-896B-C1AFAFB2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FEAFC-F7A9-4B3E-A884-25D1E451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5FADA-DD78-4AAF-8E5E-3C314A9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B6AA2-601F-458B-93C2-580CF491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BD8-149F-467D-BB81-1126099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2BE39-3123-40D7-9413-E873A028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2891A-E9D7-4897-9C52-CC36E821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47868-1CC7-49AA-BB00-4788910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AE0E5-32B9-4E2C-9F53-B8A4CC6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33BC-954B-4779-92EE-550C5ECC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692C1-C329-42D2-9B73-40740D02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EA700-363A-44D5-BC5B-58FABAD1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6436b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FE3C-8579-4DDF-AE21-8294BD5A9EE4}" type="slidenum"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6436b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0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6436b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7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C08C-D375-4757-9AB8-C1B547B724AA}" type="slidenum"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6436b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05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pic>
        <p:nvPicPr>
          <p:cNvPr id="110" name="Straight Connector 7" descr=""/>
          <p:cNvPicPr/>
          <p:nvPr/>
        </p:nvPicPr>
        <p:blipFill>
          <a:blip r:embed="rId3"/>
          <a:stretch/>
        </p:blipFill>
        <p:spPr>
          <a:xfrm>
            <a:off x="2193840" y="2097000"/>
            <a:ext cx="287280" cy="4797360"/>
          </a:xfrm>
          <a:prstGeom prst="rect">
            <a:avLst/>
          </a:prstGeom>
          <a:ln w="0">
            <a:noFill/>
          </a:ln>
        </p:spPr>
      </p:pic>
      <p:pic>
        <p:nvPicPr>
          <p:cNvPr id="111" name="Straight Connector 8" descr=""/>
          <p:cNvPicPr/>
          <p:nvPr/>
        </p:nvPicPr>
        <p:blipFill>
          <a:blip r:embed="rId4"/>
          <a:stretch/>
        </p:blipFill>
        <p:spPr>
          <a:xfrm>
            <a:off x="2206800" y="6632640"/>
            <a:ext cx="6881760" cy="285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817D-EDCC-4C37-9327-480B605BFD80}" type="slidenum"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6436b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5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55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8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60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1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2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3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F740-5170-441D-B37D-F7B05FBA0A09}" type="slidenum"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6436b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0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09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1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16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884A-C56D-4443-9DE3-FCDFDFA007D9}" type="slidenum"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6436b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63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64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65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69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70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71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4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1046-457A-44F7-83B1-65CEAFBF7712}" type="slidenum"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6436b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19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20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21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22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24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26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28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B6CC-6535-4DB7-92B3-6642F64773E0}" type="slidenum"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6436b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74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75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76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77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79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80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1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2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3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4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CB39-279D-4E7B-9653-2DBA9559902B}" type="slidenum"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Estudio Diez - azúl"/>
          <p:cNvPicPr/>
          <p:nvPr/>
        </p:nvPicPr>
        <p:blipFill>
          <a:blip r:embed="rId2"/>
          <a:stretch/>
        </p:blipFill>
        <p:spPr>
          <a:xfrm>
            <a:off x="4475160" y="2341440"/>
            <a:ext cx="3913200" cy="3310200"/>
          </a:xfrm>
          <a:prstGeom prst="rect">
            <a:avLst/>
          </a:prstGeom>
          <a:ln w="0">
            <a:noFill/>
          </a:ln>
        </p:spPr>
      </p:pic>
      <p:sp>
        <p:nvSpPr>
          <p:cNvPr id="428" name="7 CuadroTexto"/>
          <p:cNvSpPr/>
          <p:nvPr/>
        </p:nvSpPr>
        <p:spPr>
          <a:xfrm>
            <a:off x="250920" y="333360"/>
            <a:ext cx="8208720" cy="1556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Candara"/>
              </a:rPr>
              <a:t>ENTIDADES DEPORTIVAS TRATAMIENTO IMPOSITIVO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29" name="8 CuadroTexto"/>
          <p:cNvGrpSpPr/>
          <p:nvPr/>
        </p:nvGrpSpPr>
        <p:grpSpPr>
          <a:xfrm>
            <a:off x="-139680" y="5913360"/>
            <a:ext cx="4651200" cy="925560"/>
            <a:chOff x="-139680" y="5913360"/>
            <a:chExt cx="4651200" cy="925560"/>
          </a:xfrm>
        </p:grpSpPr>
        <p:pic>
          <p:nvPicPr>
            <p:cNvPr id="430" name="8 CuadroTexto" descr=""/>
            <p:cNvPicPr/>
            <p:nvPr/>
          </p:nvPicPr>
          <p:blipFill>
            <a:blip r:embed="rId3"/>
            <a:stretch/>
          </p:blipFill>
          <p:spPr>
            <a:xfrm>
              <a:off x="-139680" y="5913360"/>
              <a:ext cx="46512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250920" y="5940360"/>
              <a:ext cx="4249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Candara"/>
                </a:rPr>
                <a:t>EXPOSITOR:</a:t>
              </a:r>
              <a:endParaRPr b="0" lang="en-US" sz="1600" spc="-1" strike="noStrike">
                <a:solidFill>
                  <a:srgbClr val="000000"/>
                </a:solidFill>
                <a:latin typeface="Candar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ndara"/>
                </a:rPr>
                <a:t>HUMBERTO P. DIEZ</a:t>
              </a:r>
              <a:endParaRPr b="0" lang="en-US" sz="1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3e87"/>
                </a:solidFill>
                <a:latin typeface="Candara"/>
              </a:rPr>
              <a:t>En consecuenc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l Valor Agregado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2556000" y="3807000"/>
            <a:ext cx="1439640" cy="91692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Asociaciones deportiva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4356000" y="2711520"/>
            <a:ext cx="1440000" cy="6426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Ingresos exento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4356000" y="4943520"/>
            <a:ext cx="1440000" cy="6426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Ingresos alcanzado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1" name="Content Placeholder 2"/>
          <p:cNvSpPr/>
          <p:nvPr/>
        </p:nvSpPr>
        <p:spPr>
          <a:xfrm>
            <a:off x="6084720" y="2276640"/>
            <a:ext cx="288000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Cuotas sociale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Estacionamiento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Donaciones recibida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2" name="Content Placeholder 2"/>
          <p:cNvSpPr/>
          <p:nvPr/>
        </p:nvSpPr>
        <p:spPr>
          <a:xfrm>
            <a:off x="6084720" y="4076640"/>
            <a:ext cx="2880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Entradas o abonos a espectáculos deportivos o artístico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Retribución por intervención en el proceso de prestación de servicios sanitarios, médicos y/o paramédico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73" name="Elbow Connector 6"/>
          <p:cNvCxnSpPr>
            <a:stCxn id="468" idx="3"/>
            <a:endCxn id="469" idx="1"/>
          </p:cNvCxnSpPr>
          <p:nvPr/>
        </p:nvCxnSpPr>
        <p:spPr>
          <a:xfrm flipV="1">
            <a:off x="3995280" y="3033000"/>
            <a:ext cx="361080" cy="1097640"/>
          </a:xfrm>
          <a:prstGeom prst="bentConnector3">
            <a:avLst>
              <a:gd name="adj1" fmla="val 50000"/>
            </a:avLst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74" name="Elbow Connector 14"/>
          <p:cNvCxnSpPr>
            <a:stCxn id="468" idx="3"/>
            <a:endCxn id="470" idx="1"/>
          </p:cNvCxnSpPr>
          <p:nvPr/>
        </p:nvCxnSpPr>
        <p:spPr>
          <a:xfrm>
            <a:off x="3995280" y="4130280"/>
            <a:ext cx="361080" cy="1135800"/>
          </a:xfrm>
          <a:prstGeom prst="bentConnector3">
            <a:avLst>
              <a:gd name="adj1" fmla="val 50000"/>
            </a:avLst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475" name="Left Brace 15"/>
          <p:cNvSpPr/>
          <p:nvPr/>
        </p:nvSpPr>
        <p:spPr>
          <a:xfrm>
            <a:off x="5940360" y="2243160"/>
            <a:ext cx="216000" cy="15462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546200"/>
              <a:gd name="textAreaBottom" fmla="*/ 1540800 h 15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6" name="Left Brace 21"/>
          <p:cNvSpPr/>
          <p:nvPr/>
        </p:nvSpPr>
        <p:spPr>
          <a:xfrm>
            <a:off x="5940360" y="4076640"/>
            <a:ext cx="216000" cy="237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376720"/>
              <a:gd name="textAreaBottom" fmla="*/ 237132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73e87"/>
                </a:solidFill>
                <a:latin typeface="Candara"/>
              </a:rPr>
              <a:t>Determinación de la obligación tributaria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l Valor Agregado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9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2771640" y="2266920"/>
            <a:ext cx="2737080" cy="36828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1" name="TextBox 11"/>
          <p:cNvSpPr/>
          <p:nvPr/>
        </p:nvSpPr>
        <p:spPr>
          <a:xfrm>
            <a:off x="2771640" y="3716280"/>
            <a:ext cx="2737080" cy="6426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Bienes, prestaciones y locaciones recibida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2" name="Content Placeholder 2"/>
          <p:cNvSpPr/>
          <p:nvPr/>
        </p:nvSpPr>
        <p:spPr>
          <a:xfrm>
            <a:off x="5796000" y="2243160"/>
            <a:ext cx="1297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Exent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83" name="Straight Arrow Connector 21"/>
          <p:cNvCxnSpPr>
            <a:stCxn id="480" idx="3"/>
          </p:cNvCxnSpPr>
          <p:nvPr/>
        </p:nvCxnSpPr>
        <p:spPr>
          <a:xfrm>
            <a:off x="5508720" y="2452320"/>
            <a:ext cx="28800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484" name="Content Placeholder 2"/>
          <p:cNvSpPr/>
          <p:nvPr/>
        </p:nvSpPr>
        <p:spPr>
          <a:xfrm>
            <a:off x="5796000" y="2944800"/>
            <a:ext cx="1297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Gravad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5" name="Content Placeholder 2"/>
          <p:cNvSpPr/>
          <p:nvPr/>
        </p:nvSpPr>
        <p:spPr>
          <a:xfrm>
            <a:off x="7461360" y="2943360"/>
            <a:ext cx="1439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Débito fiscal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86" name="Elbow Connector 7"/>
          <p:cNvCxnSpPr>
            <a:stCxn id="480" idx="3"/>
            <a:endCxn id="484" idx="1"/>
          </p:cNvCxnSpPr>
          <p:nvPr/>
        </p:nvCxnSpPr>
        <p:spPr>
          <a:xfrm>
            <a:off x="5508720" y="2452680"/>
            <a:ext cx="288000" cy="699120"/>
          </a:xfrm>
          <a:prstGeom prst="bentConnector3">
            <a:avLst>
              <a:gd name="adj1" fmla="val 49937"/>
            </a:avLst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87" name="Straight Arrow Connector 16"/>
          <p:cNvCxnSpPr>
            <a:stCxn id="484" idx="3"/>
          </p:cNvCxnSpPr>
          <p:nvPr/>
        </p:nvCxnSpPr>
        <p:spPr>
          <a:xfrm flipV="1">
            <a:off x="7093080" y="3149280"/>
            <a:ext cx="358920" cy="21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488" name="TextBox 26"/>
          <p:cNvSpPr/>
          <p:nvPr/>
        </p:nvSpPr>
        <p:spPr>
          <a:xfrm>
            <a:off x="2771640" y="4809960"/>
            <a:ext cx="2737080" cy="91692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Vinculadas directa o indirectamente con la actividad gravad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9" name="Content Placeholder 2"/>
          <p:cNvSpPr/>
          <p:nvPr/>
        </p:nvSpPr>
        <p:spPr>
          <a:xfrm>
            <a:off x="7461360" y="5075280"/>
            <a:ext cx="1439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Crédito fiscal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90" name="Straight Arrow Connector 31"/>
          <p:cNvCxnSpPr>
            <a:stCxn id="488" idx="3"/>
          </p:cNvCxnSpPr>
          <p:nvPr/>
        </p:nvCxnSpPr>
        <p:spPr>
          <a:xfrm>
            <a:off x="5508720" y="5271840"/>
            <a:ext cx="195300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91" name="Straight Arrow Connector 9"/>
          <p:cNvCxnSpPr>
            <a:stCxn id="481" idx="2"/>
            <a:endCxn id="488" idx="0"/>
          </p:cNvCxnSpPr>
          <p:nvPr/>
        </p:nvCxnSpPr>
        <p:spPr>
          <a:xfrm>
            <a:off x="4140000" y="4363560"/>
            <a:ext cx="1080" cy="4467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3e87"/>
                </a:solidFill>
                <a:latin typeface="Candara"/>
              </a:rPr>
              <a:t>Estadios o Instalaciones deportiva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l Valor Agregado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2771640" y="2411280"/>
            <a:ext cx="1871640" cy="6426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Régimen especial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6" name="TextBox 11"/>
          <p:cNvSpPr/>
          <p:nvPr/>
        </p:nvSpPr>
        <p:spPr>
          <a:xfrm>
            <a:off x="2771640" y="3716280"/>
            <a:ext cx="1871640" cy="119124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Entidades deportivas que realicen obras d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7" name="Content Placeholder 2"/>
          <p:cNvSpPr/>
          <p:nvPr/>
        </p:nvSpPr>
        <p:spPr>
          <a:xfrm>
            <a:off x="5022720" y="2260440"/>
            <a:ext cx="2952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Fuente: Ley 16.774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(Ley Armando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98" name="Straight Arrow Connector 21"/>
          <p:cNvCxnSpPr>
            <a:stCxn id="495" idx="3"/>
          </p:cNvCxnSpPr>
          <p:nvPr/>
        </p:nvCxnSpPr>
        <p:spPr>
          <a:xfrm>
            <a:off x="4642920" y="2595240"/>
            <a:ext cx="36108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499" name="Content Placeholder 2"/>
          <p:cNvSpPr/>
          <p:nvPr/>
        </p:nvSpPr>
        <p:spPr>
          <a:xfrm>
            <a:off x="5032440" y="3689280"/>
            <a:ext cx="1843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Refacción, o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Ampliación e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0" name="Content Placeholder 2"/>
          <p:cNvSpPr/>
          <p:nvPr/>
        </p:nvSpPr>
        <p:spPr>
          <a:xfrm>
            <a:off x="7093080" y="3746520"/>
            <a:ext cx="15112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Estadios y/o instalaciones deportiva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501" name="Straight Arrow Connector 24"/>
          <p:cNvCxnSpPr/>
          <p:nvPr/>
        </p:nvCxnSpPr>
        <p:spPr>
          <a:xfrm>
            <a:off x="4642920" y="4220640"/>
            <a:ext cx="36108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502" name="Left Brace 10"/>
          <p:cNvSpPr/>
          <p:nvPr/>
        </p:nvSpPr>
        <p:spPr>
          <a:xfrm>
            <a:off x="6875640" y="357336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295640"/>
              <a:gd name="textAreaBottom" fmla="*/ 12920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3e87"/>
                </a:solidFill>
                <a:latin typeface="Candara"/>
              </a:rPr>
              <a:t>Estadios o Instalaciones deportiva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l Valor Agregado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2771640" y="2411280"/>
            <a:ext cx="1871640" cy="20142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Proveedores, contratistas o cuando la entidad deportiva importe un bie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507" name="Straight Arrow Connector 21"/>
          <p:cNvCxnSpPr>
            <a:stCxn id="506" idx="3"/>
          </p:cNvCxnSpPr>
          <p:nvPr/>
        </p:nvCxnSpPr>
        <p:spPr>
          <a:xfrm>
            <a:off x="4642920" y="3288960"/>
            <a:ext cx="38988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508" name="Content Placeholder 2"/>
          <p:cNvSpPr/>
          <p:nvPr/>
        </p:nvSpPr>
        <p:spPr>
          <a:xfrm>
            <a:off x="5032440" y="2625840"/>
            <a:ext cx="18432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No se genera IV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La operación está exent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9" name="Content Placeholder 2"/>
          <p:cNvSpPr/>
          <p:nvPr/>
        </p:nvSpPr>
        <p:spPr>
          <a:xfrm>
            <a:off x="7093080" y="2622600"/>
            <a:ext cx="1800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Debe justificar a través de resolución emitida por la AFIP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0" name="Left Brace 17"/>
          <p:cNvSpPr/>
          <p:nvPr/>
        </p:nvSpPr>
        <p:spPr>
          <a:xfrm>
            <a:off x="6875640" y="2637000"/>
            <a:ext cx="144360" cy="129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296720"/>
              <a:gd name="textAreaBottom" fmla="*/ 129312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1" name="TextBox 11"/>
          <p:cNvSpPr/>
          <p:nvPr/>
        </p:nvSpPr>
        <p:spPr>
          <a:xfrm>
            <a:off x="2771640" y="4859280"/>
            <a:ext cx="187164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73e87"/>
                </a:solidFill>
                <a:latin typeface="Candara"/>
              </a:rPr>
              <a:t>Atenció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2" name="Content Placeholder 2"/>
          <p:cNvSpPr/>
          <p:nvPr/>
        </p:nvSpPr>
        <p:spPr>
          <a:xfrm>
            <a:off x="5032440" y="4537080"/>
            <a:ext cx="3716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No podrán computar crédito fiscal debido a que sus operaciones están exenta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513" name="Straight Arrow Connector 10"/>
          <p:cNvCxnSpPr>
            <a:stCxn id="511" idx="3"/>
          </p:cNvCxnSpPr>
          <p:nvPr/>
        </p:nvCxnSpPr>
        <p:spPr>
          <a:xfrm>
            <a:off x="4642920" y="5044680"/>
            <a:ext cx="38988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514" name="Straight Arrow Connector 9"/>
          <p:cNvCxnSpPr>
            <a:stCxn id="506" idx="2"/>
            <a:endCxn id="511" idx="0"/>
          </p:cNvCxnSpPr>
          <p:nvPr/>
        </p:nvCxnSpPr>
        <p:spPr>
          <a:xfrm>
            <a:off x="3708000" y="4165200"/>
            <a:ext cx="1080" cy="694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Ingresos Brut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ndara"/>
              </a:rPr>
              <a:t>Impuestos Provinciales – C.A.B.A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xención subjetiva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Art. 143, punto 2, Código Fiscal – Ley 541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mpadronamiento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Obligación dispuesta por la Resolución 33/2009 de la AGIP, se realiza por Internet y exige contar previamente con la inscripción en el impuesto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Agente de recaudación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Puede ser designado por la AGIP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2987640" y="3068640"/>
            <a:ext cx="144000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ndara"/>
              </a:rPr>
              <a:t>excepto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9" name="Content Placeholder 2"/>
          <p:cNvSpPr/>
          <p:nvPr/>
        </p:nvSpPr>
        <p:spPr>
          <a:xfrm>
            <a:off x="4788000" y="2997360"/>
            <a:ext cx="4105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Las actividades con alícuotas superiores a la tasa general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520" name="Straight Arrow Connector 10"/>
          <p:cNvCxnSpPr>
            <a:stCxn id="518" idx="6"/>
          </p:cNvCxnSpPr>
          <p:nvPr/>
        </p:nvCxnSpPr>
        <p:spPr>
          <a:xfrm>
            <a:off x="4427280" y="3357360"/>
            <a:ext cx="36108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AGI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ndara"/>
              </a:rPr>
              <a:t>Certificado de exenció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3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24" name="Picture 6" descr=""/>
          <p:cNvPicPr/>
          <p:nvPr/>
        </p:nvPicPr>
        <p:blipFill>
          <a:blip r:embed="rId2"/>
          <a:stretch/>
        </p:blipFill>
        <p:spPr>
          <a:xfrm>
            <a:off x="2413080" y="2928960"/>
            <a:ext cx="6551640" cy="25160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"/>
          <p:cNvPicPr/>
          <p:nvPr/>
        </p:nvPicPr>
        <p:blipFill>
          <a:blip r:embed="rId3"/>
          <a:stretch/>
        </p:blipFill>
        <p:spPr>
          <a:xfrm>
            <a:off x="179280" y="2928960"/>
            <a:ext cx="1979640" cy="500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4"/>
          <a:stretch/>
        </p:blipFill>
        <p:spPr>
          <a:xfrm>
            <a:off x="484200" y="3716280"/>
            <a:ext cx="1371600" cy="2286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"/>
          <p:cNvPicPr/>
          <p:nvPr/>
        </p:nvPicPr>
        <p:blipFill>
          <a:blip r:embed="rId5"/>
          <a:stretch/>
        </p:blipFill>
        <p:spPr>
          <a:xfrm>
            <a:off x="808200" y="4187880"/>
            <a:ext cx="723600" cy="190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"/>
          <p:cNvPicPr/>
          <p:nvPr/>
        </p:nvPicPr>
        <p:blipFill>
          <a:blip r:embed="rId6"/>
          <a:stretch/>
        </p:blipFill>
        <p:spPr>
          <a:xfrm>
            <a:off x="31680" y="4630680"/>
            <a:ext cx="2276640" cy="238320"/>
          </a:xfrm>
          <a:prstGeom prst="rect">
            <a:avLst/>
          </a:prstGeom>
          <a:ln w="0">
            <a:noFill/>
          </a:ln>
        </p:spPr>
      </p:pic>
      <p:sp>
        <p:nvSpPr>
          <p:cNvPr id="529" name="Content Placeholder 2"/>
          <p:cNvSpPr/>
          <p:nvPr/>
        </p:nvSpPr>
        <p:spPr>
          <a:xfrm>
            <a:off x="324000" y="2565360"/>
            <a:ext cx="1944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e87"/>
                </a:solidFill>
                <a:latin typeface="Candara"/>
              </a:rPr>
              <a:t>www.agip.gob.ar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AB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ndara"/>
              </a:rPr>
              <a:t>Impuestos Provinciales – C.A.B.A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xención subjetiva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Art. 254, Código Fiscal – Ley 541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Trámite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Ver instructivo 2.11 en página web de la AGIP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33" name="Straight Connector 5" descr=""/>
          <p:cNvPicPr/>
          <p:nvPr/>
        </p:nvPicPr>
        <p:blipFill>
          <a:blip r:embed="rId2"/>
          <a:stretch/>
        </p:blipFill>
        <p:spPr>
          <a:xfrm>
            <a:off x="2255760" y="2127240"/>
            <a:ext cx="169920" cy="4694400"/>
          </a:xfrm>
          <a:prstGeom prst="rect">
            <a:avLst/>
          </a:prstGeom>
          <a:ln w="0">
            <a:noFill/>
          </a:ln>
        </p:spPr>
      </p:pic>
      <p:pic>
        <p:nvPicPr>
          <p:cNvPr id="534" name="Straight Connector 8" descr=""/>
          <p:cNvPicPr/>
          <p:nvPr/>
        </p:nvPicPr>
        <p:blipFill>
          <a:blip r:embed="rId3"/>
          <a:stretch/>
        </p:blipFill>
        <p:spPr>
          <a:xfrm>
            <a:off x="2262240" y="6656400"/>
            <a:ext cx="6784920" cy="171360"/>
          </a:xfrm>
          <a:prstGeom prst="rect">
            <a:avLst/>
          </a:prstGeom>
          <a:ln w="0">
            <a:noFill/>
          </a:ln>
        </p:spPr>
      </p:pic>
      <p:sp>
        <p:nvSpPr>
          <p:cNvPr id="535" name="Content Placeholder 2"/>
          <p:cNvSpPr/>
          <p:nvPr/>
        </p:nvSpPr>
        <p:spPr>
          <a:xfrm>
            <a:off x="324000" y="3971880"/>
            <a:ext cx="19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Sello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2771640" y="4122720"/>
            <a:ext cx="2664000" cy="36828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Tipo de contrato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7" name="Content Placeholder 2"/>
          <p:cNvSpPr/>
          <p:nvPr/>
        </p:nvSpPr>
        <p:spPr>
          <a:xfrm>
            <a:off x="2768760" y="4653000"/>
            <a:ext cx="28112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73e87"/>
                </a:solidFill>
                <a:latin typeface="Candara"/>
              </a:rPr>
              <a:t>Contratos en general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6012000" y="4130640"/>
            <a:ext cx="2520720" cy="6426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Alícuotas de imposició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9" name="Content Placeholder 2"/>
          <p:cNvSpPr/>
          <p:nvPr/>
        </p:nvSpPr>
        <p:spPr>
          <a:xfrm>
            <a:off x="5937120" y="4653000"/>
            <a:ext cx="2811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0,8%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0" name="Content Placeholder 2"/>
          <p:cNvSpPr/>
          <p:nvPr/>
        </p:nvSpPr>
        <p:spPr>
          <a:xfrm>
            <a:off x="2771640" y="5143680"/>
            <a:ext cx="308628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Transferencia definitiva o temporaria de jugadores </a:t>
            </a:r>
            <a:r>
              <a:rPr b="0" lang="es-AR" sz="1200" spc="-1" strike="noStrike">
                <a:solidFill>
                  <a:srgbClr val="073e87"/>
                </a:solidFill>
                <a:latin typeface="Candar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1" name="Content Placeholder 2"/>
          <p:cNvSpPr/>
          <p:nvPr/>
        </p:nvSpPr>
        <p:spPr>
          <a:xfrm>
            <a:off x="5940360" y="5143680"/>
            <a:ext cx="28116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2" name="Content Placeholder 2"/>
          <p:cNvSpPr/>
          <p:nvPr/>
        </p:nvSpPr>
        <p:spPr>
          <a:xfrm>
            <a:off x="2643120" y="5929200"/>
            <a:ext cx="57913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73e87"/>
                </a:solidFill>
                <a:latin typeface="Candara"/>
              </a:rPr>
              <a:t>(1)  De aplicación para los clubes de fútbol afiliados a la AFA que formen parte de la primera división, en la medida que los contratos se suscriban en CABA, que algunas de las partes contratantes tenga su domicilio en  dicha jurisdicción, y/o que tenga efectos jurídicos y económicos en CABA</a:t>
            </a:r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24000" y="2171520"/>
            <a:ext cx="208728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3e87"/>
                </a:solidFill>
                <a:latin typeface="Candara"/>
              </a:rPr>
              <a:t>Aportes y contribucion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Entidades deportivas – Empleador</a:t>
            </a:r>
            <a:br>
              <a:rPr sz="4000"/>
            </a:b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Situación previsional – laboral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5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2771640" y="2411280"/>
            <a:ext cx="1871640" cy="6426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Instrumentació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547" name="Straight Arrow Connector 21"/>
          <p:cNvCxnSpPr>
            <a:stCxn id="546" idx="3"/>
          </p:cNvCxnSpPr>
          <p:nvPr/>
        </p:nvCxnSpPr>
        <p:spPr>
          <a:xfrm>
            <a:off x="4642920" y="2595240"/>
            <a:ext cx="39780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548" name="Content Placeholder 2"/>
          <p:cNvSpPr/>
          <p:nvPr/>
        </p:nvSpPr>
        <p:spPr>
          <a:xfrm>
            <a:off x="5032440" y="2276640"/>
            <a:ext cx="3860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Presentación DDJJ F. 931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9" name="Left Brace 17"/>
          <p:cNvSpPr/>
          <p:nvPr/>
        </p:nvSpPr>
        <p:spPr>
          <a:xfrm>
            <a:off x="4829040" y="3789360"/>
            <a:ext cx="144720" cy="175428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754280"/>
              <a:gd name="textAreaBottom" fmla="*/ 175068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"/>
                  <a:pt x="10800" y="148"/>
                </a:cubicBezTo>
                <a:lnTo>
                  <a:pt x="10800" y="10652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4"/>
                  <a:pt x="10800" y="10948"/>
                </a:cubicBezTo>
                <a:lnTo>
                  <a:pt x="10800" y="21452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0" name="TextBox 19"/>
          <p:cNvSpPr/>
          <p:nvPr/>
        </p:nvSpPr>
        <p:spPr>
          <a:xfrm>
            <a:off x="2771640" y="3203640"/>
            <a:ext cx="1871640" cy="36828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Determina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1" name="Content Placeholder 2"/>
          <p:cNvSpPr/>
          <p:nvPr/>
        </p:nvSpPr>
        <p:spPr>
          <a:xfrm>
            <a:off x="5040360" y="3059280"/>
            <a:ext cx="3852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Todas las entidades deportiva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2" name="TextBox 22"/>
          <p:cNvSpPr/>
          <p:nvPr/>
        </p:nvSpPr>
        <p:spPr>
          <a:xfrm>
            <a:off x="2771640" y="3789360"/>
            <a:ext cx="1871640" cy="20142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AFA y Clubes que intervengan en los torneos Primera A, Nacional B y Primera B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553" name="Straight Arrow Connector 23"/>
          <p:cNvCxnSpPr>
            <a:stCxn id="550" idx="3"/>
          </p:cNvCxnSpPr>
          <p:nvPr/>
        </p:nvCxnSpPr>
        <p:spPr>
          <a:xfrm>
            <a:off x="4642920" y="3387240"/>
            <a:ext cx="397800" cy="108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sp>
        <p:nvSpPr>
          <p:cNvPr id="554" name="Content Placeholder 2"/>
          <p:cNvSpPr/>
          <p:nvPr/>
        </p:nvSpPr>
        <p:spPr>
          <a:xfrm>
            <a:off x="5032440" y="4005360"/>
            <a:ext cx="385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 u="sng">
                <a:solidFill>
                  <a:srgbClr val="073e87"/>
                </a:solidFill>
                <a:uFillTx/>
                <a:latin typeface="Candara"/>
              </a:rPr>
              <a:t>NO INGRESA</a:t>
            </a:r>
            <a:endParaRPr b="0" lang="en-US" sz="15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es-AR" sz="1500" spc="-1" strike="noStrike">
                <a:solidFill>
                  <a:srgbClr val="073e87"/>
                </a:solidFill>
                <a:latin typeface="Candara"/>
              </a:rPr>
              <a:t>Sustituido por Decreto 1212/03, lo ingresa la AFA,  es  calculado sobre el  ingreso por entradas a los partidos de fútbol, los derechos de televisión y las transferencias de jugadores. </a:t>
            </a:r>
            <a:endParaRPr b="0" lang="en-US" sz="1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5" name="TextBox 25"/>
          <p:cNvSpPr/>
          <p:nvPr/>
        </p:nvSpPr>
        <p:spPr>
          <a:xfrm>
            <a:off x="2771640" y="5724360"/>
            <a:ext cx="1871640" cy="91692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Restantes Entidades Deportiva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6" name="Content Placeholder 2"/>
          <p:cNvSpPr/>
          <p:nvPr/>
        </p:nvSpPr>
        <p:spPr>
          <a:xfrm>
            <a:off x="5032440" y="5805360"/>
            <a:ext cx="385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Ingreso conforme el Régimen General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7" name="Left Brace 27"/>
          <p:cNvSpPr/>
          <p:nvPr/>
        </p:nvSpPr>
        <p:spPr>
          <a:xfrm>
            <a:off x="4832280" y="5753160"/>
            <a:ext cx="144360" cy="91584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915840"/>
              <a:gd name="textAreaBottom" fmla="*/ 912240 h 91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5400" y="10800"/>
                  <a:pt x="0" y="10800"/>
                </a:cubicBezTo>
                <a:cubicBezTo>
                  <a:pt x="54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24000" y="1773000"/>
            <a:ext cx="208728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mpleado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Entidades deportivas – Empleador</a:t>
            </a:r>
            <a:br>
              <a:rPr sz="4000"/>
            </a:b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Situación impositiva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Content Placeholder 2"/>
          <p:cNvSpPr/>
          <p:nvPr/>
        </p:nvSpPr>
        <p:spPr>
          <a:xfrm>
            <a:off x="2583000" y="17971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ntidad Deportiva – Clubes de Fútbo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1" name="TextBox 19"/>
          <p:cNvSpPr/>
          <p:nvPr/>
        </p:nvSpPr>
        <p:spPr>
          <a:xfrm>
            <a:off x="2771640" y="2290680"/>
            <a:ext cx="3240360" cy="30708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e87"/>
                </a:solidFill>
                <a:latin typeface="Candara"/>
              </a:rPr>
              <a:t>Relación de dependencia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2" name="Content Placeholder 2"/>
          <p:cNvSpPr/>
          <p:nvPr/>
        </p:nvSpPr>
        <p:spPr>
          <a:xfrm>
            <a:off x="6084720" y="2660760"/>
            <a:ext cx="3024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73e87"/>
                </a:solidFill>
                <a:latin typeface="Candara"/>
              </a:rPr>
              <a:t>Régimen general de retención en relación de dependencia – RG AFIP 2437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73e87"/>
                </a:solidFill>
                <a:latin typeface="Candara"/>
              </a:rPr>
              <a:t>Alícuotas progresivas según escala Art. 90 Ley de Impuesto a las Ganancias</a:t>
            </a: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3" name="Right Bracket 9"/>
          <p:cNvSpPr/>
          <p:nvPr/>
        </p:nvSpPr>
        <p:spPr>
          <a:xfrm>
            <a:off x="5940360" y="2732040"/>
            <a:ext cx="144360" cy="180036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1800360"/>
              <a:gd name="textAreaBottom" fmla="*/ 1794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2"/>
                  <a:pt x="21600" y="144"/>
                </a:cubicBezTo>
                <a:lnTo>
                  <a:pt x="21600" y="21456"/>
                </a:lnTo>
                <a:cubicBezTo>
                  <a:pt x="21600" y="21528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4" name="Content Placeholder 2"/>
          <p:cNvSpPr/>
          <p:nvPr/>
        </p:nvSpPr>
        <p:spPr>
          <a:xfrm>
            <a:off x="324000" y="2276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3e87"/>
                </a:solidFill>
                <a:latin typeface="Candara"/>
              </a:rPr>
              <a:t>Retención en el Impuesto a las Ganancia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5" name="TextBox 10"/>
          <p:cNvSpPr/>
          <p:nvPr/>
        </p:nvSpPr>
        <p:spPr>
          <a:xfrm>
            <a:off x="2771640" y="2732040"/>
            <a:ext cx="288000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73e87"/>
              </a:buClr>
              <a:buFont typeface="Candar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Sueldo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73e87"/>
              </a:buClr>
              <a:buFont typeface="Candar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Prima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73e87"/>
              </a:buClr>
              <a:buFont typeface="Candar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Premios (excepto a la trayectoria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73e87"/>
              </a:buClr>
              <a:buFont typeface="Candar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Todo otro concepto que integra la retribució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73e87"/>
              </a:buClr>
              <a:buFont typeface="Candar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buClr>
                <a:srgbClr val="073e87"/>
              </a:buClr>
              <a:buFont typeface="Candar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Premios a la trayectori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6" name="TextBox 30"/>
          <p:cNvSpPr/>
          <p:nvPr/>
        </p:nvSpPr>
        <p:spPr>
          <a:xfrm>
            <a:off x="2771640" y="5032440"/>
            <a:ext cx="3240360" cy="52020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e87"/>
                </a:solidFill>
                <a:latin typeface="Candara"/>
              </a:rPr>
              <a:t>No constituyen relación de dependencia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7" name="TextBox 31"/>
          <p:cNvSpPr/>
          <p:nvPr/>
        </p:nvSpPr>
        <p:spPr>
          <a:xfrm>
            <a:off x="2771640" y="5487840"/>
            <a:ext cx="30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73e87"/>
              </a:buClr>
              <a:buFont typeface="Candar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Cesión onerosa de derechos federativos y económicos (jugador de fútbol transfiere su pase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8" name="Left Bracket 11"/>
          <p:cNvSpPr/>
          <p:nvPr/>
        </p:nvSpPr>
        <p:spPr>
          <a:xfrm>
            <a:off x="2583000" y="2476440"/>
            <a:ext cx="188640" cy="2536920"/>
          </a:xfrm>
          <a:custGeom>
            <a:avLst/>
            <a:gdLst>
              <a:gd name="textAreaLeft" fmla="*/ 55440 w 188640"/>
              <a:gd name="textAreaRight" fmla="*/ 189000 w 188640"/>
              <a:gd name="textAreaTop" fmla="*/ 7560 h 2536920"/>
              <a:gd name="textAreaBottom" fmla="*/ 2529360 h 25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7"/>
                  <a:pt x="0" y="134"/>
                </a:cubicBezTo>
                <a:lnTo>
                  <a:pt x="0" y="21466"/>
                </a:lnTo>
                <a:cubicBezTo>
                  <a:pt x="0" y="215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9" name="Left Bracket 12"/>
          <p:cNvSpPr/>
          <p:nvPr/>
        </p:nvSpPr>
        <p:spPr>
          <a:xfrm>
            <a:off x="2583000" y="5216400"/>
            <a:ext cx="188640" cy="1471680"/>
          </a:xfrm>
          <a:custGeom>
            <a:avLst/>
            <a:gdLst>
              <a:gd name="textAreaLeft" fmla="*/ 55440 w 188640"/>
              <a:gd name="textAreaRight" fmla="*/ 189000 w 188640"/>
              <a:gd name="textAreaTop" fmla="*/ 7560 h 1471680"/>
              <a:gd name="textAreaBottom" fmla="*/ 1464120 h 14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6"/>
                  <a:pt x="0" y="231"/>
                </a:cubicBezTo>
                <a:lnTo>
                  <a:pt x="0" y="21369"/>
                </a:lnTo>
                <a:cubicBezTo>
                  <a:pt x="0" y="214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0" name="Right Bracket 13"/>
          <p:cNvSpPr/>
          <p:nvPr/>
        </p:nvSpPr>
        <p:spPr>
          <a:xfrm>
            <a:off x="5940360" y="4676760"/>
            <a:ext cx="144360" cy="1920960"/>
          </a:xfrm>
          <a:custGeom>
            <a:avLst/>
            <a:gdLst>
              <a:gd name="textAreaLeft" fmla="*/ 0 w 144360"/>
              <a:gd name="textAreaRight" fmla="*/ 101160 w 144360"/>
              <a:gd name="textAreaTop" fmla="*/ 5760 h 1920960"/>
              <a:gd name="textAreaBottom" fmla="*/ 1915200 h 192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8"/>
                  <a:pt x="21600" y="135"/>
                </a:cubicBezTo>
                <a:lnTo>
                  <a:pt x="21600" y="21465"/>
                </a:lnTo>
                <a:cubicBezTo>
                  <a:pt x="21600" y="21533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6084720" y="5154480"/>
            <a:ext cx="302436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Régimen especial RG AFIP 2287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Sujeto inscripto: 2%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73e87"/>
                </a:solidFill>
                <a:latin typeface="Candara"/>
              </a:rPr>
              <a:t>Sujeto no inscripto: 28%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23640" y="2171880"/>
            <a:ext cx="1944360" cy="19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xenció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 las Ganancias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4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Artículo 20 inciso m) de la Ley de Impuesto a las Ganancia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las ganancias de las asociaciones deportivas y de cultura física, </a:t>
            </a:r>
            <a:r>
              <a:rPr b="1" lang="es-AR" sz="2200" spc="-1" strike="noStrike">
                <a:solidFill>
                  <a:srgbClr val="073e87"/>
                </a:solidFill>
                <a:latin typeface="Candara"/>
              </a:rPr>
              <a:t>siempre que</a:t>
            </a: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 las mismas no persigan fines de lucro, exploten o autoricen juegos de azar y/o cuyas actividades de mero carácter social priven sobre las deportivas, conforme a la reglamentación que dicte el Poder Ejecutivo.</a:t>
            </a:r>
            <a:br>
              <a:rPr sz="2200"/>
            </a:b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La exención establecida precedentemente se extenderá a las asociaciones del exterior, mediante reciprocidad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Fuente: Ley 12.965 – Art. 1º punto 4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23640" y="2171520"/>
            <a:ext cx="2160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73e87"/>
                </a:solidFill>
                <a:latin typeface="Candara"/>
              </a:rPr>
              <a:t>Obligaciones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 las Ganancias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Debe estar empadronada en el Registro de Entidad Exentas (R.G. 2681 AFIP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Deben presentarse las declaraciones juradas del impuesto y el Informe para Fines Fiscales (Ganancias Personas Jurídicas versión 10 rel. 2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Tener actualizado el domicilio fiscal declarado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Presentar, de corresponder, las declaraciones juradas de IVA y de los Recursos de la Seguridad Social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Presentar las declaraciones juradas informativas (RG AFIP 2763), sobre identificación de los integrantes de la comisión directiva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Constanc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 las Ganancias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La AFIP emite un certificado de exención con vencimiento, el mismo se publica en la página web donde se detalla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Denominación de la entidad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C.U.I.T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Nº de certificado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Fecha de emisión del certificado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Norma exentiva (en este caso </a:t>
            </a:r>
            <a:r>
              <a:rPr b="1" lang="es-AR" sz="2200" spc="-1" strike="noStrike">
                <a:solidFill>
                  <a:srgbClr val="073e87"/>
                </a:solidFill>
                <a:latin typeface="Candara"/>
              </a:rPr>
              <a:t>Artículo 20, inciso m,</a:t>
            </a: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 Ley de Impuesto a las Ganancias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Fecha de vigencia del reconocimiento como entidad exenta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73e87"/>
                </a:solidFill>
                <a:latin typeface="Candara"/>
              </a:rPr>
              <a:t>Efecto del reconocimiento de la exención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 las Ganancias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Impuesto a las Ganancias EXENTO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No ser pasible de las retenciones y percepciones en el Impuesto a las Ganancia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Aplicación de la alícuota reducida en el impuesto sobre los créditos y débitos en cuentas bancarias (Art. 7º del Decreto PEN 380/01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24000" y="2171520"/>
            <a:ext cx="2016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Renovació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 las Ganancias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Se realiza por la AFIP, anualmente, en forma automática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A tal fin la AFIP verifica el cumplimiento de las obligaciones (descriptas en diapositiva 2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l proceso de control se ejecuta entre los 90 y 60 días corridos anteriores al vencimiento de la vigencia del certificado de exención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De existir incumplimientos, los mismos serán publicados en el sitio web de la AFIP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De no subsanarse dichos incumplimientos, se produce la pérdida automática de la exención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AFI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Candara"/>
              </a:rPr>
              <a:t>Certificado de exenció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2"/>
          <a:srcRect l="0" t="0" r="0" b="54884"/>
          <a:stretch/>
        </p:blipFill>
        <p:spPr>
          <a:xfrm>
            <a:off x="2771640" y="2637000"/>
            <a:ext cx="5791320" cy="371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3"/>
          <a:stretch/>
        </p:blipFill>
        <p:spPr>
          <a:xfrm>
            <a:off x="179280" y="2997360"/>
            <a:ext cx="1847880" cy="685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4"/>
          <a:stretch/>
        </p:blipFill>
        <p:spPr>
          <a:xfrm>
            <a:off x="665280" y="3933720"/>
            <a:ext cx="876240" cy="285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5"/>
          <a:stretch/>
        </p:blipFill>
        <p:spPr>
          <a:xfrm>
            <a:off x="27000" y="4460760"/>
            <a:ext cx="2152800" cy="839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"/>
          <p:cNvPicPr/>
          <p:nvPr/>
        </p:nvPicPr>
        <p:blipFill>
          <a:blip r:embed="rId6"/>
          <a:stretch/>
        </p:blipFill>
        <p:spPr>
          <a:xfrm>
            <a:off x="422280" y="5516640"/>
            <a:ext cx="1362240" cy="4093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"/>
          <p:cNvPicPr/>
          <p:nvPr/>
        </p:nvPicPr>
        <p:blipFill>
          <a:blip r:embed="rId7"/>
          <a:stretch/>
        </p:blipFill>
        <p:spPr>
          <a:xfrm>
            <a:off x="68400" y="6124680"/>
            <a:ext cx="2199960" cy="544320"/>
          </a:xfrm>
          <a:prstGeom prst="rect">
            <a:avLst/>
          </a:prstGeom>
          <a:ln w="0">
            <a:noFill/>
          </a:ln>
        </p:spPr>
      </p:pic>
      <p:sp>
        <p:nvSpPr>
          <p:cNvPr id="456" name="Content Placeholder 2"/>
          <p:cNvSpPr/>
          <p:nvPr/>
        </p:nvSpPr>
        <p:spPr>
          <a:xfrm>
            <a:off x="324000" y="2655720"/>
            <a:ext cx="1944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e87"/>
                </a:solidFill>
                <a:latin typeface="Candara"/>
              </a:rPr>
              <a:t>www.afip.gob.ar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xenció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 la Ganancia Mínima Presunta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9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3e87"/>
                </a:solidFill>
                <a:latin typeface="Candara"/>
              </a:rPr>
              <a:t>Fuente: Artículo 3 inciso c) de la Ley del Impuesto a la Ganancia Mínima Presunta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73e87"/>
                </a:solidFill>
                <a:latin typeface="Candara"/>
              </a:rPr>
              <a:t>Los bienes pertenecientes a entidades reconocidas como exentas por la AFIP, </a:t>
            </a:r>
            <a:r>
              <a:rPr b="1" i="1" lang="es-AR" sz="2000" spc="-1" strike="noStrike">
                <a:solidFill>
                  <a:srgbClr val="073e87"/>
                </a:solidFill>
                <a:latin typeface="Candara"/>
              </a:rPr>
              <a:t>en virtud de lo dispuesto en los incisos </a:t>
            </a:r>
            <a:r>
              <a:rPr b="0" i="1" lang="es-AR" sz="2000" spc="-1" strike="noStrike">
                <a:solidFill>
                  <a:srgbClr val="073e87"/>
                </a:solidFill>
                <a:latin typeface="Candara"/>
              </a:rPr>
              <a:t>d), e), f), g) y</a:t>
            </a:r>
            <a:r>
              <a:rPr b="1" i="1" lang="es-AR" sz="2000" spc="-1" strike="noStrike">
                <a:solidFill>
                  <a:srgbClr val="073e87"/>
                </a:solidFill>
                <a:latin typeface="Candara"/>
              </a:rPr>
              <a:t> m) del artículo 20</a:t>
            </a:r>
            <a:r>
              <a:rPr b="0" i="1" lang="es-AR" sz="2000" spc="-1" strike="noStrike">
                <a:solidFill>
                  <a:srgbClr val="073e87"/>
                </a:solidFill>
                <a:latin typeface="Candara"/>
              </a:rPr>
              <a:t> de la ley de impuesto a las ganancia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3e87"/>
                </a:solidFill>
                <a:latin typeface="Candara"/>
              </a:rPr>
              <a:t>Automático si se cumplió el empadronamiento de entidades exenta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3e87"/>
                </a:solidFill>
                <a:latin typeface="Candara"/>
              </a:rPr>
              <a:t>No es necesaria la presentación de la declaración jurada (RG AFIP 2681, Artículo 27, 2do. párrafo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0" name="Content Placeholder 2"/>
          <p:cNvSpPr/>
          <p:nvPr/>
        </p:nvSpPr>
        <p:spPr>
          <a:xfrm>
            <a:off x="324000" y="4456080"/>
            <a:ext cx="19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Trámite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1" name="Content Placeholder 2"/>
          <p:cNvSpPr/>
          <p:nvPr/>
        </p:nvSpPr>
        <p:spPr>
          <a:xfrm>
            <a:off x="324000" y="5516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Declaración jurada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23640" y="2171520"/>
            <a:ext cx="1944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Hecho imponi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Tratamiento en el Impuesto al Valor Agregado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Content Placeholder 2"/>
          <p:cNvSpPr/>
          <p:nvPr/>
        </p:nvSpPr>
        <p:spPr>
          <a:xfrm>
            <a:off x="2583000" y="2133720"/>
            <a:ext cx="6165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Desde la sanción de la Ley 25.920 del 09/09/2004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Fuente: Ley 12.965 del 16/04/1947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xcepto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Ingresos por espectáculos de carácter deportivos, artísticos, etc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636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73e87"/>
                </a:solidFill>
                <a:latin typeface="Candara"/>
              </a:rPr>
              <a:t>Servicios de asistencia sanitaria, médica y paramédica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5" name="Content Placeholder 2"/>
          <p:cNvSpPr/>
          <p:nvPr/>
        </p:nvSpPr>
        <p:spPr>
          <a:xfrm>
            <a:off x="324000" y="3251160"/>
            <a:ext cx="19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73e87"/>
                </a:solidFill>
                <a:latin typeface="Candara"/>
              </a:rPr>
              <a:t>Exención subjetiva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11:38:38Z</dcterms:created>
  <dc:creator>Julian</dc:creator>
  <dc:description/>
  <dc:language>en-US</dc:language>
  <cp:lastModifiedBy>hcastillejo</cp:lastModifiedBy>
  <dcterms:modified xsi:type="dcterms:W3CDTF">2011-11-15T20:09:02Z</dcterms:modified>
  <cp:revision>128</cp:revision>
  <dc:subject/>
  <dc:title>PowerPoint Presentation</dc:title>
</cp:coreProperties>
</file>