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4F6-2DE9-4108-AE2D-54544838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C39-D573-4479-92DE-8D13C9B1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106-6A8C-48E0-8A15-1E47CB9D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A36-08C7-405F-9A95-D7BBEB28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BC46-8522-47A3-AA8F-59DC7005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1BBE-3295-464F-B716-8142EC2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D1B0-0F37-40CA-8539-27E79442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A314-4368-4910-95D3-B108A7D2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E22D-FE2B-453A-9822-5CBD7BA4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0E99-38A6-4782-9819-D75C8E69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EED0-17D8-4CE8-8A77-747F907A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032-AA6F-4F79-B126-D8368260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53AD-50B3-4090-A0C2-036238B0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8EFC-14F0-47FC-BA2C-9376FCB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D9F5-7E24-41F5-BC31-6806DBB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3279-9C51-4C75-A036-97B76118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F041-EC78-4789-AECC-ECDEEF43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DD6-2221-4B2C-817D-8C6BD7A4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6DE-F5C2-4EE6-8EB6-2EFBFD02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3BB-3AA8-4E73-BB3F-30F15FA0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4C7-44FA-4237-84C2-03FD37FB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BD9-E550-4C58-8050-C72A275E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7DB-209C-4797-9187-229B42BD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1D6-466A-4B41-A9F3-DB3B1EE9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8B5A-A3B5-400F-AD3A-DBE7A377E8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792C-5444-4576-8631-3492259C3F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1405800">
            <a:off x="2556000" y="1267920"/>
            <a:ext cx="6211800" cy="2633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1156600">
            <a:off x="755280" y="2997000"/>
            <a:ext cx="5386320" cy="2787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20827800">
            <a:off x="826560" y="907560"/>
            <a:ext cx="6913800" cy="5178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Los falsificadores utilizan métodos sofisticados para imitar envases auténticos."/>
          <p:cNvPicPr/>
          <p:nvPr/>
        </p:nvPicPr>
        <p:blipFill>
          <a:blip r:embed="rId4"/>
          <a:stretch/>
        </p:blipFill>
        <p:spPr>
          <a:xfrm rot="1614600">
            <a:off x="2339640" y="620640"/>
            <a:ext cx="3639960" cy="554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95280" y="476280"/>
            <a:ext cx="8569440" cy="5738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258920" y="189000"/>
            <a:ext cx="6657840" cy="6505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258920" y="270000"/>
            <a:ext cx="7521480" cy="658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1692360" y="189000"/>
            <a:ext cx="5835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70880" cy="4786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675640" cy="3386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042920" y="476280"/>
            <a:ext cx="712944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1844640"/>
            <a:ext cx="7086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RAZABILIDAD DE MEDICAMENTOS EN SISTEMAS MÉDICOS</a:t>
            </a:r>
            <a:br>
              <a:rPr sz="4400"/>
            </a:b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SIMECO</a:t>
            </a:r>
            <a:br>
              <a:rPr sz="4400"/>
            </a:br>
            <a:r>
              <a:rPr b="0" lang="es-AR" sz="3600" spc="-1" strike="noStrike">
                <a:solidFill>
                  <a:srgbClr val="b2b2b2"/>
                </a:solidFill>
                <a:latin typeface="Baskerville Old Face"/>
              </a:rPr>
              <a:t>SISTEMA MÉDICO CONSEJO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Resolución S.S.S. 362/20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6820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Profesional responsable de:</a:t>
            </a:r>
            <a:br>
              <a:rPr sz="3600"/>
            </a:b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alizar o supervisar la auditoría de medicamentos traza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fectuar los controles  que resulten exigi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 la reserva y custodia del “USUARIO Y CLAVE” para acceder al S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Verificar autenticid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n caso de detectar irregularidades deberán denunciar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Resolución S.S.S. 362/20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Los Agentes de Salud deberán: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Verificar la trazabilidad por unidad de las esp. medicina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stablecer los mecanismos de control para verificar la trazabil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xigir que toda la documentación comercial consigne el código unívo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Informar a la Gcia de Control Prestacional de la SSS los P.O.N. o P.O.E. y el Profesional Respons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Resolución S.S.S. 362/20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os Agentes de Salud deberán:</a:t>
            </a: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ormalizar las contra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Velar que los prestadores deben contar con GLN y herramientas informá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areas e Implementación en SIME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1) Interpretación de la Normativa, sus alcances y responsabilidades, tiemp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2) Planificación y descripción de las tareas necesarias para la implementación de la No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2) Nombramiento del Profesional Respons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areas e Implementación en SIME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4) Se definieron: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T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ferencia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echa límite para su concre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Sector/es a car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stado (seguimien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echa del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areas e Implementación en SIME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Definimos: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22 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9 sectores involuc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3 Procedimientos Operativos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.-Prestadores de servicios Farmacéuticos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.-Establecimientos Asistenciales</a:t>
            </a:r>
            <a:br>
              <a:rPr sz="2800"/>
            </a:b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.-Entrega de medicamentos de P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areas e Implementación en SIME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6769440" cy="347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areas e Implementación en SIME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udit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68360" y="2639880"/>
            <a:ext cx="5256360" cy="3678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87632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Trazabilidad de Medicamentos</a:t>
            </a:r>
            <a:br>
              <a:rPr sz="4400"/>
            </a:b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neficios y Desafí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areas e Implementación en SIME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uditoría de Proveedores y Prest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ON para Prestadores de servicios Farmacéu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ON para Establecimientos Asisten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ON para Entrega de medicamentos de P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areas e Implementación en SIME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ON para Entrega de medicamentos de P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olicit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278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63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ud. M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03640" y="285264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764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452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Provee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299736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9640" y="465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Comprobantes comerciales con Trazado y conform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04000" y="407664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465300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Preparación, Trazado y Dispensa por Farm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508720" y="52293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11800" y="3357360"/>
            <a:ext cx="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195640" y="3213000"/>
            <a:ext cx="172872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467352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Verificación Dec 1299, Ley 17565, Traz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areas e Implementación en SIME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ON para Prestadores de servicios Farmacéu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Rp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2852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Farm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285264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7640" y="2637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Manda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48360" y="299736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0360" y="364500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Comprobantes comerciales con Trazado y conformados, R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067280" y="5589720"/>
            <a:ext cx="20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515772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Verificación Dec 1299, Ley 17565, Traz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227640" y="53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udit. Mé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48360" y="479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Baskerville Old Face"/>
              </a:rPr>
              <a:t>Tareas e Implementación en SIME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ON para Establecimientos Asisten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2637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Historias Clínicas + Facturación + Comprobantes con Tra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32130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321300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27288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Verificación Dec 1299, Ley 17565, Traz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067280" y="2997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udit. Mé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Trazabilidad de Medicament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Medida de Segur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Trazabilidad de Medicament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camento Falsifica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ducto etiquetado indebidamente de manera deliberada o fraudul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20082600">
            <a:off x="1228320" y="3097080"/>
            <a:ext cx="6553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dicamentos Robados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 rot="599400">
            <a:off x="684000" y="4508280"/>
            <a:ext cx="81756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dicamentos Contrabandeados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Trazabilidad - Implementaci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vase Invio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de Portación de Datos con medidas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s de Captura de Da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pacio Fís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sonal califi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Sistema Nacional de Trazabilidad de Medic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tificación de los diferentes estadíos por parte de cada integrante de la cadena de Comerci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457880" cy="1190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4530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38280" y="277920"/>
            <a:ext cx="4267440" cy="1139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24360" y="2060640"/>
            <a:ext cx="1486080" cy="1209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Trazabilidad – Registro de Usuari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Implementaci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pende del eslabón de la Cad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aborator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Operador Logíst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Droguerí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stablecimiento Asistenc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armac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Obras Sociales/ Medicinas Prepag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284720" y="6429240"/>
            <a:ext cx="1047600" cy="428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364440"/>
            <a:ext cx="514440" cy="493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070840" y="6446880"/>
            <a:ext cx="10731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0:53:54Z</dcterms:created>
  <dc:creator>Gabriel Cantello</dc:creator>
  <dc:description/>
  <dc:language>en-US</dc:language>
  <cp:lastModifiedBy>Gabriel Cantello</cp:lastModifiedBy>
  <dcterms:modified xsi:type="dcterms:W3CDTF">2012-10-09T13:18:10Z</dcterms:modified>
  <cp:revision>21</cp:revision>
  <dc:subject/>
  <dc:title>Diapositiva 1</dc:title>
</cp:coreProperties>
</file>