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5.jpeg" ContentType="image/jpeg"/>
  <Override PartName="/ppt/media/image28.png" ContentType="image/png"/>
  <Override PartName="/ppt/media/image10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431-4877-4F1B-AC7E-36D28A250775}" type="datetime">
              <a:rPr b="0" lang="es-A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44c21"/>
                </a:solidFill>
                <a:latin typeface="Century Gothic"/>
              </a:rPr>
              <a:t>Click to move the slide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591-2ADC-42B2-BC74-393DC56E0041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A685C68-450A-4AED-BA38-54593C0ED9B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63640" y="11556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63640" y="11556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63640" y="11556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63640" y="11556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PTPaulaOteroAzul2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64b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1d264b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PPTPaulaOteroVerde2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44c21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PPTPaulaOteroAzul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64b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1d264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8" descr="PPTPaulaOteroVer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44c21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893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44c21"/>
                </a:solidFill>
                <a:latin typeface="Century Gothic"/>
              </a:rPr>
              <a:t>Jornada Interdisciplinaria</a:t>
            </a:r>
            <a:br>
              <a:rPr sz="1800"/>
            </a:br>
            <a:r>
              <a:rPr b="1" lang="es-AR" sz="1800" spc="-1" strike="noStrike">
                <a:solidFill>
                  <a:srgbClr val="144c21"/>
                </a:solidFill>
                <a:latin typeface="Century Gothic"/>
              </a:rPr>
              <a:t>Registros Digitales en las Organizaciones de Salud:</a:t>
            </a:r>
            <a:br>
              <a:rPr sz="1800"/>
            </a:br>
            <a:r>
              <a:rPr b="1" lang="es-AR" sz="1800" spc="-1" strike="noStrike">
                <a:solidFill>
                  <a:srgbClr val="144c21"/>
                </a:solidFill>
                <a:latin typeface="Century Gothic"/>
              </a:rPr>
              <a:t> desafíos de implementación y como herramientas de gestión</a:t>
            </a:r>
            <a:br>
              <a:rPr sz="1800"/>
            </a:br>
            <a:br>
              <a:rPr sz="3200"/>
            </a:br>
            <a:r>
              <a:rPr b="1" lang="en-US" sz="3200" spc="-1" strike="noStrike">
                <a:solidFill>
                  <a:srgbClr val="144c21"/>
                </a:solidFill>
                <a:latin typeface="Century Gothic"/>
              </a:rPr>
              <a:t>Mesa Redonda: “La Historia Clínica: casos de éxito en el país y desafíos”</a:t>
            </a:r>
            <a:endParaRPr b="1" lang="en-US" sz="32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2560" y="5214960"/>
            <a:ext cx="475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Daniel Luna MD, MSc, PhD Cand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Century Gothic"/>
              </a:rPr>
              <a:t>Médico de Planta del Servicio de Clínica Médic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Century Gothic"/>
              </a:rPr>
              <a:t>Jefe del Departamento de Informática en Salud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Century Gothic"/>
              </a:rPr>
              <a:t>Hospital Italiano de Buenos Aires - Argentin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Century Gothic"/>
              </a:rPr>
              <a:t>       </a:t>
            </a:r>
            <a:r>
              <a:rPr b="0" lang="es-ES" sz="1200" spc="-1" strike="noStrike">
                <a:solidFill>
                  <a:srgbClr val="808080"/>
                </a:solidFill>
                <a:latin typeface="Century Gothic"/>
              </a:rPr>
              <a:t>daniel.luna@hospitalitaliano.org.a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85840" y="6000840"/>
            <a:ext cx="204840" cy="14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logo_italica_2010_fdo_transp"/>
          <p:cNvPicPr/>
          <p:nvPr/>
        </p:nvPicPr>
        <p:blipFill>
          <a:blip r:embed="rId2"/>
          <a:stretch/>
        </p:blipFill>
        <p:spPr>
          <a:xfrm>
            <a:off x="5435640" y="5229360"/>
            <a:ext cx="305424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8" name="Imagen 4" descr=""/>
          <p:cNvPicPr/>
          <p:nvPr/>
        </p:nvPicPr>
        <p:blipFill>
          <a:blip r:embed="rId3"/>
          <a:srcRect l="0" t="0" r="70854" b="0"/>
          <a:stretch/>
        </p:blipFill>
        <p:spPr>
          <a:xfrm>
            <a:off x="250920" y="1341360"/>
            <a:ext cx="11556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1640" y="1906560"/>
            <a:ext cx="413388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8080"/>
                </a:solidFill>
                <a:latin typeface="Century Gothic"/>
              </a:rPr>
              <a:t>Mucha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8080"/>
                </a:solidFill>
                <a:latin typeface="Century Gothic"/>
              </a:rPr>
              <a:t>Gracias !!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801800" y="6256440"/>
            <a:ext cx="287280" cy="20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1763640" y="209520"/>
            <a:ext cx="2533680" cy="3219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1692360" y="5229360"/>
            <a:ext cx="50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aniel Luna MD, MSc, PhD Cand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Médico de Planta del Servicio de Clínica Médic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Jefe del Departamento de Informática en Salu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Hospital Italiano de Buenos Aires - Argentin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</a:t>
            </a:r>
            <a:r>
              <a:rPr b="0" lang="es-ES" sz="16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daniel.luna@hospitalitaliano.org.ar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44c21"/>
                </a:solidFill>
                <a:latin typeface="Century Gothic"/>
              </a:rPr>
              <a:t>Hospital Italiano de Buenos Aires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spital de alta complejidad sin fines de lucro fundado en 1853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d Asistencial con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2 Hospita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23 Centros Ambulatori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150 Consultorios Particular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750 camas (200 cuidados crítico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500 camas de medicina domiciliari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00640" y="1600200"/>
            <a:ext cx="33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2.500.000 consultas anual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40.000 egresos anual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6.000 persona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2.000 médicos asistencia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2.500 equipo de salu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1.500 administrativ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2" name="Picture 3" descr="7"/>
          <p:cNvPicPr/>
          <p:nvPr/>
        </p:nvPicPr>
        <p:blipFill>
          <a:blip r:embed="rId8"/>
          <a:stretch/>
        </p:blipFill>
        <p:spPr>
          <a:xfrm>
            <a:off x="5435640" y="4365720"/>
            <a:ext cx="207792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Z:\proyectos\_DEPASO\Arturo\PRESENTACION NEA\AXO-1.jpg"/>
          <p:cNvPicPr/>
          <p:nvPr/>
        </p:nvPicPr>
        <p:blipFill>
          <a:blip r:embed="rId9"/>
          <a:stretch/>
        </p:blipFill>
        <p:spPr>
          <a:xfrm>
            <a:off x="6659640" y="5013360"/>
            <a:ext cx="220968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44c21"/>
                </a:solidFill>
                <a:latin typeface="Century Gothic"/>
              </a:rPr>
              <a:t>Bases para la Gobernancia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Elaboración de un Plan Maestro de Sistemas de Informació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Creación de un equipo multidisciplinari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sarrollo de conocimientos y competencias del equip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Construcción del modelo de Gobernancia del Proyect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Gothic"/>
              </a:rPr>
              <a:t>Creación del Steering Committee y Subcomites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Operativo/gestiona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Gothic"/>
              </a:rPr>
              <a:t>Creación del Departamento de Informática en Salud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cadémic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Gothic"/>
              </a:rPr>
              <a:t>Creación de la Residencia de Informática Médica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44c21"/>
                </a:solidFill>
                <a:latin typeface="Century Gothic"/>
              </a:rPr>
              <a:t>Etapa I (1998-2003)</a:t>
            </a:r>
            <a:endParaRPr b="1" lang="en-US" sz="32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Integración de múltiples sistemas “legacy” de la institució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Mensajería HL7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reación de diccionarios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 comunes “Tablas Maestras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Empadronamiento único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HCE en el Plan de Salu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HCE en el ambulatorio de toda la institució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Evolución orientada a problema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Implementación escalonada por servicios médico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rescripción y visualización electrónica ambulatoria 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Fármaco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Exámenes complementario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8" name="Picture 7" descr="06"/>
          <p:cNvPicPr/>
          <p:nvPr/>
        </p:nvPicPr>
        <p:blipFill>
          <a:blip r:embed="rId6"/>
          <a:stretch/>
        </p:blipFill>
        <p:spPr>
          <a:xfrm>
            <a:off x="6372360" y="5084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img18"/>
          <p:cNvPicPr/>
          <p:nvPr/>
        </p:nvPicPr>
        <p:blipFill>
          <a:blip r:embed="rId7"/>
          <a:stretch/>
        </p:blipFill>
        <p:spPr>
          <a:xfrm>
            <a:off x="5940360" y="2133720"/>
            <a:ext cx="251928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5"/>
          <p:cNvGraphicFramePr/>
          <p:nvPr/>
        </p:nvGraphicFramePr>
        <p:xfrm>
          <a:off x="6588000" y="404640"/>
          <a:ext cx="1944720" cy="112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404640"/>
                    <a:ext cx="19447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44c21"/>
                </a:solidFill>
                <a:latin typeface="Century Gothic"/>
              </a:rPr>
              <a:t>Etapa II (2003-2007)</a:t>
            </a:r>
            <a:endParaRPr b="1" lang="en-US" sz="32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HCE en internad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Censo en líne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Prescripción y visualización de exámenes complementario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Epicrisis electrónic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HCE en central de emergencia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HCE en internación domiciliar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rograma para el manejo de enfermedades crónica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Servicios terminológicos centralizad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Ingreso de texto libr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Autocodificación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Transcodificación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Bases de conocimiento para ajuste de dosis e interacciones farmacológica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4" name="Picture 5" descr="HCE_datos_administrativos"/>
          <p:cNvPicPr/>
          <p:nvPr/>
        </p:nvPicPr>
        <p:blipFill>
          <a:blip r:embed="rId7"/>
          <a:stretch/>
        </p:blipFill>
        <p:spPr>
          <a:xfrm>
            <a:off x="6156360" y="1125360"/>
            <a:ext cx="2592360" cy="194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resumen"/>
          <p:cNvPicPr/>
          <p:nvPr/>
        </p:nvPicPr>
        <p:blipFill>
          <a:blip r:embed="rId8"/>
          <a:stretch/>
        </p:blipFill>
        <p:spPr>
          <a:xfrm>
            <a:off x="6372360" y="2924280"/>
            <a:ext cx="2520720" cy="2058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9"/>
          <a:stretch/>
        </p:blipFill>
        <p:spPr>
          <a:xfrm>
            <a:off x="615636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44c21"/>
                </a:solidFill>
                <a:latin typeface="Century Gothic"/>
              </a:rPr>
              <a:t>Etapa III (2007-2009)</a:t>
            </a:r>
            <a:endParaRPr b="1" lang="en-US" sz="32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reación de una HCE multimed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ECG, audiometrías, etc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Implementación de un PAC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Rx, TAC, RMI, Mamo, Angio, etc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ortal Personal de Salu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Información centrada y orientada para el paciente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irma Electróni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Firma electrónica, certificación intramuros, documentos CD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Georeferenciamien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Domicilios georeferenciados, mapas de distribución mórbida de pacient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Servicios Terminológicos a tercer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Chile, Uruguay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7"/>
          <a:stretch/>
        </p:blipFill>
        <p:spPr>
          <a:xfrm>
            <a:off x="6516720" y="981000"/>
            <a:ext cx="2232000" cy="1733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isulizador_ekg"/>
          <p:cNvPicPr/>
          <p:nvPr/>
        </p:nvPicPr>
        <p:blipFill>
          <a:blip r:embed="rId8"/>
          <a:stretch/>
        </p:blipFill>
        <p:spPr>
          <a:xfrm>
            <a:off x="7380360" y="1916280"/>
            <a:ext cx="1584360" cy="1091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1944720" cy="131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10"/>
          <a:stretch/>
        </p:blipFill>
        <p:spPr>
          <a:xfrm>
            <a:off x="6659640" y="4581360"/>
            <a:ext cx="2281320" cy="1716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11"/>
          <a:stretch/>
        </p:blipFill>
        <p:spPr>
          <a:xfrm>
            <a:off x="7020000" y="3573360"/>
            <a:ext cx="1800000" cy="13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44c21"/>
                </a:solidFill>
                <a:latin typeface="Century Gothic"/>
              </a:rPr>
              <a:t>Etapa IV (2009-2012)</a:t>
            </a:r>
            <a:endParaRPr b="1" lang="en-US" sz="32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Integración de las HCE en un solo portal asistencial de la institució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rescripción electrónica de fármacos, evolución y registro de enfermería en internació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Identificación de paciente/fármaco/muestra para fortalecer la seguridad del paci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stemas de soporte para la toma de decisiones: proyecto “Sebastian” (Duke Universit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5"/>
          <a:stretch/>
        </p:blipFill>
        <p:spPr>
          <a:xfrm>
            <a:off x="5940360" y="1125360"/>
            <a:ext cx="2954520" cy="1692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wristbandbarcode"/>
          <p:cNvPicPr/>
          <p:nvPr/>
        </p:nvPicPr>
        <p:blipFill>
          <a:blip r:embed="rId6"/>
          <a:stretch/>
        </p:blipFill>
        <p:spPr>
          <a:xfrm>
            <a:off x="6372360" y="2997360"/>
            <a:ext cx="1081080" cy="1257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Barcode_Scan"/>
          <p:cNvPicPr/>
          <p:nvPr/>
        </p:nvPicPr>
        <p:blipFill>
          <a:blip r:embed="rId7"/>
          <a:stretch/>
        </p:blipFill>
        <p:spPr>
          <a:xfrm>
            <a:off x="7885080" y="530064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pearsonmedical_pic1%5B7%5D"/>
          <p:cNvPicPr/>
          <p:nvPr/>
        </p:nvPicPr>
        <p:blipFill>
          <a:blip r:embed="rId8"/>
          <a:stretch/>
        </p:blipFill>
        <p:spPr>
          <a:xfrm>
            <a:off x="6156360" y="4869000"/>
            <a:ext cx="1347840" cy="11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Barcode%201"/>
          <p:cNvPicPr/>
          <p:nvPr/>
        </p:nvPicPr>
        <p:blipFill>
          <a:blip r:embed="rId9"/>
          <a:stretch/>
        </p:blipFill>
        <p:spPr>
          <a:xfrm>
            <a:off x="7093080" y="3573360"/>
            <a:ext cx="11998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144c21"/>
                </a:solidFill>
                <a:latin typeface="Century Gothic"/>
              </a:rPr>
              <a:t>Sistema de Información Clínico Basado en Componentes</a:t>
            </a:r>
            <a:endParaRPr b="1" lang="en-US" sz="3400" spc="-1" strike="noStrike">
              <a:solidFill>
                <a:srgbClr val="144c21"/>
              </a:solidFill>
              <a:latin typeface="Century Gothic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2478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rcRect l="14764" t="10822" r="13376" b="0"/>
          <a:stretch/>
        </p:blipFill>
        <p:spPr>
          <a:xfrm>
            <a:off x="2124000" y="1217520"/>
            <a:ext cx="60483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logo_italica_2010_fdo_transp"/>
          <p:cNvPicPr/>
          <p:nvPr/>
        </p:nvPicPr>
        <p:blipFill>
          <a:blip r:embed="rId1"/>
          <a:stretch/>
        </p:blipFill>
        <p:spPr>
          <a:xfrm>
            <a:off x="3143160" y="285840"/>
            <a:ext cx="3054600" cy="86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2560" cy="5572080"/>
          </a:xfrm>
          <a:prstGeom prst="rect">
            <a:avLst/>
          </a:prstGeom>
          <a:ln w="0">
            <a:noFill/>
          </a:ln>
        </p:spPr>
      </p:pic>
      <p:sp>
        <p:nvSpPr>
          <p:cNvPr id="206" name="Rectángulo 10"/>
          <p:cNvSpPr/>
          <p:nvPr/>
        </p:nvSpPr>
        <p:spPr>
          <a:xfrm>
            <a:off x="500040" y="1714680"/>
            <a:ext cx="1071720" cy="217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2:38:34Z</dcterms:created>
  <dc:creator>Waldy</dc:creator>
  <dc:description/>
  <dc:language>en-US</dc:language>
  <cp:lastModifiedBy>Daniel Luna</cp:lastModifiedBy>
  <dcterms:modified xsi:type="dcterms:W3CDTF">2012-10-06T22:22:50Z</dcterms:modified>
  <cp:revision>183</cp:revision>
  <dc:subject/>
  <dc:title>Implementación de Servicios Terminológicos remotos Trasnacionales</dc:title>
</cp:coreProperties>
</file>