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9191DB-3224-4A22-AB83-D0D76F505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04BF9B-9764-442B-9010-F5DE3FEFB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195D82-3DB8-47E0-BA6D-8F7F0F947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7A7D52-C320-4160-B5CD-67E754D0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7057-DE05-476A-9E0A-638D61ACC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2FD4-3392-4C9F-8C30-7E25FAC28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4893-90AA-4401-862B-073E3E99E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20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668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20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8D6F-E8C8-49EF-BF56-C9D8B3E5B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9640" y="614520"/>
            <a:ext cx="829008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813B-45D3-43D3-A718-40E5A4EAD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720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772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668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720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772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24693-05D4-4256-8E2D-5CE29F153F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91D69-59D9-49C1-A331-A1701F9064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3500E-063F-4A4F-808C-C617E9CDE3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EF27B-A15A-48B7-A60F-18154030E1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77F2A-B123-4532-BFD7-DE13497CAB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4C46-0A5B-4109-91B4-F93FE7C4FF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9640" y="614520"/>
            <a:ext cx="829008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926E8-151D-4ABF-8572-5B1620D748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33610-D7D6-4BF2-964A-FD081A156A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36B55-B720-436B-800C-9B5D47146B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42089-6F58-4AE9-BECA-75EE37FAC4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B8DE3-E0B1-440A-8F4A-DB4533648C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F8586-EBAA-4264-BF34-A316AA265B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720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4772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668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720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4772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E1B4C-A4FB-495F-A4D8-C97526C6D6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5166-EBCE-4510-84B4-E07925226B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3C92-8D51-41C2-BDD8-1EE1CF7E83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3BDF-8CEA-4024-A0C8-EFF397A8F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7478-0654-4106-9696-684510533A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CEBD-B093-48B5-9E2F-2C7A32F2C1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A8FF-0ADD-46F4-B97C-F3E2949E2A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9640" y="614520"/>
            <a:ext cx="829008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8F9C-C272-44D5-BDB4-A6077499DD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98F3-6A6C-40DF-8260-FCA492A40F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6812-1DA5-442D-8809-47B200429A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B8CF-C7D9-4F00-A82A-AC73AF68E4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F07A-046C-4D3B-A86F-8EC1515052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E781-4AA8-48C9-977C-6B4EAD1464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720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4772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2668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720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4772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1285-E1BF-453A-AE53-57FD213386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F2E01-F3BB-4DF9-AD61-7B28AAB64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6932-83CC-40A1-A15B-E1D8663E05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DBC00-8E38-4CA1-BFE4-9FF4172073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B9B87-49F2-4328-A53F-384860F6770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2A29A-0EDF-4BF4-8446-6645EC9C2E6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176AB-FD26-4CD3-B796-238EE29341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9640" y="614520"/>
            <a:ext cx="829008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624BD-4740-4D91-AACF-343E08062E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A72B2-8CB8-4BD1-8F17-CD27BFEB85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72270-9D77-4A07-8F5F-59E319CEF56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8C540-C062-496B-8A4F-56BD2128E0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53D62-E9C5-40AB-A928-E1A7FB23D1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98BD5-6C84-4FCF-A7F3-347F5965A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614520"/>
            <a:ext cx="829008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9E33-22DC-48F3-9D71-E2814902F0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720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47720" y="134604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668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720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47720" y="3926880"/>
            <a:ext cx="26762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898FA-60D3-4020-BB18-63E2B3FFC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6BF6-8C95-4921-ACF5-48F196593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840" y="392688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4D1F-98BB-4F6D-9AD3-F63AAF74C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613800"/>
            <a:ext cx="829008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668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840" y="1346040"/>
            <a:ext cx="405612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680" y="3926880"/>
            <a:ext cx="8312040" cy="23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7785-8B78-431A-88F6-718FF76C4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125360"/>
            <a:ext cx="9140760" cy="63720"/>
          </a:xfrm>
          <a:prstGeom prst="rect">
            <a:avLst/>
          </a:prstGeom>
          <a:solidFill>
            <a:srgbClr val="6a5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614520"/>
            <a:ext cx="8290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63440">
              <a:lnSpc>
                <a:spcPct val="95000"/>
              </a:lnSpc>
              <a:spcBef>
                <a:spcPts val="2251"/>
              </a:spcBef>
              <a:buClr>
                <a:srgbClr val="917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1778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7280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7240" y="6401880"/>
            <a:ext cx="647712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8404-A57D-4435-A3CE-3EAF7428EE94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 | HC electrónica | Claudia Meichtry | 09Oct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7840" y="6402240"/>
            <a:ext cx="3999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0C30-31EE-4BBA-8B93-D11A553E0298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ividerColorBox"/>
          <p:cNvSpPr/>
          <p:nvPr/>
        </p:nvSpPr>
        <p:spPr>
          <a:xfrm>
            <a:off x="0" y="1128600"/>
            <a:ext cx="1496880" cy="2286000"/>
          </a:xfrm>
          <a:prstGeom prst="rect">
            <a:avLst/>
          </a:prstGeom>
          <a:solidFill>
            <a:srgbClr val="923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614520"/>
            <a:ext cx="8290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63440">
              <a:lnSpc>
                <a:spcPct val="95000"/>
              </a:lnSpc>
              <a:spcBef>
                <a:spcPts val="2251"/>
              </a:spcBef>
              <a:buClr>
                <a:srgbClr val="917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1778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7280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125360"/>
            <a:ext cx="9140760" cy="63720"/>
          </a:xfrm>
          <a:prstGeom prst="rect">
            <a:avLst/>
          </a:prstGeom>
          <a:solidFill>
            <a:srgbClr val="6a5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14520"/>
            <a:ext cx="8290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63440">
              <a:lnSpc>
                <a:spcPct val="95000"/>
              </a:lnSpc>
              <a:spcBef>
                <a:spcPts val="2251"/>
              </a:spcBef>
              <a:buClr>
                <a:srgbClr val="917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1778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7280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687240" y="6401880"/>
            <a:ext cx="647712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8E89-26EB-45A2-B2FA-CF71EC664DE7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 | Presentation Title | Presenter Name | Date | Subject | Business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4"/>
          </p:nvPr>
        </p:nvSpPr>
        <p:spPr>
          <a:xfrm>
            <a:off x="537840" y="6402240"/>
            <a:ext cx="3999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B594-409B-43C9-9961-6594D2D119C3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1125360"/>
            <a:ext cx="9140760" cy="63720"/>
          </a:xfrm>
          <a:prstGeom prst="rect">
            <a:avLst/>
          </a:prstGeom>
          <a:solidFill>
            <a:srgbClr val="6a5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614520"/>
            <a:ext cx="8290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63440">
              <a:lnSpc>
                <a:spcPct val="95000"/>
              </a:lnSpc>
              <a:spcBef>
                <a:spcPts val="2251"/>
              </a:spcBef>
              <a:buClr>
                <a:srgbClr val="917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1778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7280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687240" y="6401880"/>
            <a:ext cx="647712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B26F-287E-4DDB-92CD-3BA8B3A3ABC5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 | Presentation Title | Presenter Name | Date | Subject | Business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537840" y="6402240"/>
            <a:ext cx="3999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28FC-C2B9-4E06-BFC8-AAD528E0C638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1125360"/>
            <a:ext cx="9140760" cy="63720"/>
          </a:xfrm>
          <a:prstGeom prst="rect">
            <a:avLst/>
          </a:prstGeom>
          <a:solidFill>
            <a:srgbClr val="6a5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614520"/>
            <a:ext cx="8290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63440">
              <a:lnSpc>
                <a:spcPct val="95000"/>
              </a:lnSpc>
              <a:spcBef>
                <a:spcPts val="2251"/>
              </a:spcBef>
              <a:buClr>
                <a:srgbClr val="917b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1778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7280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7640" indent="-163440">
              <a:lnSpc>
                <a:spcPct val="9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7"/>
          </p:nvPr>
        </p:nvSpPr>
        <p:spPr>
          <a:xfrm>
            <a:off x="687240" y="6401880"/>
            <a:ext cx="647712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D135-0524-4294-8086-4E2CB33DFABC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 | Presentation Title | Presenter Name | Date | Subject | Business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8"/>
          </p:nvPr>
        </p:nvSpPr>
        <p:spPr>
          <a:xfrm>
            <a:off x="537840" y="6402240"/>
            <a:ext cx="3999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8E7C-89E1-403C-AC3C-4919174EFAD2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13000" y="3814560"/>
            <a:ext cx="7416720" cy="140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34329"/>
                </a:solidFill>
                <a:latin typeface="Arial"/>
              </a:rPr>
              <a:t>Requisitos como documento fuente en Investigación Clí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34329"/>
                </a:solidFill>
                <a:latin typeface="Arial"/>
              </a:rPr>
              <a:t>Claudia Meich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34329"/>
                </a:solidFill>
                <a:latin typeface="Arial"/>
              </a:rPr>
              <a:t>09-Oct-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413000" y="2230560"/>
            <a:ext cx="7416720" cy="9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23222"/>
                </a:solidFill>
                <a:latin typeface="Arial"/>
              </a:rPr>
              <a:t>Historias Clínicas Electrónicas</a:t>
            </a:r>
            <a:br>
              <a:rPr sz="3200"/>
            </a:br>
            <a:endParaRPr b="0" lang="en-US" sz="3200" spc="-1" strike="noStrike">
              <a:solidFill>
                <a:srgbClr val="92322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201240"/>
            <a:ext cx="83250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ANMAT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posición 6677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23800" y="1346040"/>
            <a:ext cx="8477280" cy="37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5000"/>
              </a:lnSpc>
              <a:spcBef>
                <a:spcPts val="1687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investigador es responsable de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acidad, legibilidad, consistencia y oportun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los registros de datos clínicos tanto en las historias clínicas (documentos fuente) como en los formularios de datos clínicos (FD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687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ngún cambio o corrección en cualquiera de los registros del estudio deberá ocultar o eliminar el dato original. Las correcciones deben se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echadas e inicializadas por el aut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687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nto los datos clínicos de los participantes como la descripción de los procedimientos relacionados a ellos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en registrarse en el mismo formato de notas médic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e utiliza para el resto de los pacientes que se atienden en el cen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687240" y="6402240"/>
            <a:ext cx="6477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0E8F-E38D-4262-B5F7-3206C010A8B4}" type="slidenum">
              <a:rPr b="0" lang="en-US" sz="9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| HC electrónica | Claudia Meichtry | 09Oct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90080" cy="44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23222"/>
                </a:solidFill>
                <a:latin typeface="Arial"/>
              </a:rPr>
              <a:t>CÓDIGO DE ÉTICA PARA EL EQUIPO DE SALUD</a:t>
            </a:r>
            <a:endParaRPr b="0" lang="en-US" sz="24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0040" y="1357200"/>
            <a:ext cx="847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0760" indent="-230760">
              <a:lnSpc>
                <a:spcPct val="95000"/>
              </a:lnSpc>
              <a:spcBef>
                <a:spcPts val="1312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.-170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eberá ser redactada y firmada por el mismo médico que realizó la prestación. Deber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onsignarse puntualmente cuando un colega reemplace a otro en algunas fun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.-171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a Historia Clínica debe ser legible, no debe tener tachaduras, no se debe escri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obre lo ya escrito, no debe ser borrada, no se debe dejar espacios en blanco y ante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quivocación debe escribirse ERROR y aclarar lo que sea necesario. No se debe añadir 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tre rengl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.-172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as hojas de las Historias Clínicas deben ser foliadas y cada una de ellas debe 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l nombre del paciente, del miembro del Equipo de Salud y la fecha. Deberán destacarse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rarios de  las prestaciones que se realicen y fundamentalmente un preciso detalle de  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ondiciones en que ingresa el pac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.-173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 la Historia Clínica se deberá hacer una descripción exacta de todos los estudio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nálisis que se vayan practic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312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.-185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 caso de computarización de la Historia Clínica deberán implementarse sistemas de seguridad suficientes para asegurar  la inalterabilidad de  los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687240" y="6402240"/>
            <a:ext cx="6477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BABC-738F-49E9-9760-B94AE999A364}" type="slidenum">
              <a:rPr b="0" lang="en-US" sz="9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| HC electrónica | Claudia Meichtry | 09Oct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55640" y="5661000"/>
            <a:ext cx="7848720" cy="504720"/>
          </a:xfrm>
          <a:prstGeom prst="rect">
            <a:avLst/>
          </a:prstGeom>
          <a:noFill/>
          <a:ln w="19080">
            <a:solidFill>
              <a:srgbClr val="6967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610920"/>
            <a:ext cx="829008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FDA – Guia para sistemas computarizados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23800" y="1346040"/>
            <a:ext cx="84772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0760" indent="-230760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 e Integridad de los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emporá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ww.fda.gov/downloads/Drugs/GuidanceComplianceRegulatoryInformation/Guidances/UCM070266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687240" y="6402240"/>
            <a:ext cx="6477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98F4-48A7-4A0D-8E83-0F900E5ADBF9}" type="slidenum">
              <a:rPr b="0" lang="en-US" sz="9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| HC electrónica | Claudia Meichtry | 09Oct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610920"/>
            <a:ext cx="829008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FDA – Guia para sistemas computarizados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23800" y="1345680"/>
            <a:ext cx="847728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 Operativo Estándar (SOP) que descri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nstalación del sistema (uso del hardware, software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alidación y test de fun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antenimiento del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edidas de segur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ack-ups, recuperación de datos y planes de contin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colección de datos y manejo (archivo, audit tr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étodos alternativos de reg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ntrena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687240" y="6402240"/>
            <a:ext cx="6477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A622-D97B-49A6-97CC-A6B8F080D30B}" type="slidenum">
              <a:rPr b="0" lang="en-US" sz="9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| HC electrónica | Claudia Meichtry | 09Oct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10920"/>
            <a:ext cx="829008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222"/>
                </a:solidFill>
                <a:latin typeface="Arial"/>
              </a:rPr>
              <a:t>FDA – Guia para sistemas computarizados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23800" y="1345680"/>
            <a:ext cx="8477280" cy="33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4560" indent="-214560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5000"/>
              </a:lnSpc>
              <a:spcBef>
                <a:spcPts val="1874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eso limitado: cuentas individuales con contraseña, bloqueo para accesos no permitidos (log-off, protector de panta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5000"/>
              </a:lnSpc>
              <a:spcBef>
                <a:spcPts val="1874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dit trails: para identificar creación, modificación o borrado de datos, cuándo y quién los hi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5000"/>
              </a:lnSpc>
              <a:spcBef>
                <a:spcPts val="1874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5000"/>
              </a:lnSpc>
              <a:spcBef>
                <a:spcPts val="1874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l pa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5000"/>
              </a:lnSpc>
              <a:spcBef>
                <a:spcPts val="1874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tección del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687240" y="6402240"/>
            <a:ext cx="6477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524-954A-4F16-B497-A5D151AAEF8A}" type="slidenum">
              <a:rPr b="0" lang="en-US" sz="9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| HC electrónica | Claudia Meichtry | 09Oct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614520"/>
            <a:ext cx="829008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3222"/>
                </a:solidFill>
                <a:latin typeface="Arial"/>
              </a:rPr>
              <a:t>Recordar……</a:t>
            </a:r>
            <a:endParaRPr b="0" lang="en-US" sz="2800" spc="-1" strike="noStrike">
              <a:solidFill>
                <a:srgbClr val="92322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26680" y="1346040"/>
            <a:ext cx="8312040" cy="49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buClr>
                <a:srgbClr val="fcaf1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687240" y="6402240"/>
            <a:ext cx="6477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0C90-0BFB-4EED-B56B-22BDCA638940}" type="slidenum">
              <a:rPr b="0" lang="en-US" sz="9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| HC electrónica | Claudia Meichtry | 09Oct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1763640" y="1700280"/>
            <a:ext cx="6840720" cy="2808360"/>
          </a:xfrm>
          <a:prstGeom prst="ellipse">
            <a:avLst/>
          </a:prstGeom>
          <a:solidFill>
            <a:srgbClr val="fcaf17"/>
          </a:solidFill>
          <a:ln w="25560">
            <a:solidFill>
              <a:srgbClr val="b980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23222"/>
                </a:solidFill>
                <a:latin typeface="Arial"/>
              </a:rPr>
              <a:t>Un sistema electrónico puede 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23222"/>
                </a:solidFill>
                <a:latin typeface="Arial"/>
              </a:rPr>
              <a:t>adecuado para mantener registros en la práctica médica, pero puede no ser adecuado para mantener registros en un estudio clí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20:10:27Z</dcterms:created>
  <dc:creator> </dc:creator>
  <dc:description> </dc:description>
  <dc:language>en-US</dc:language>
  <cp:lastModifiedBy> Meichtry</cp:lastModifiedBy>
  <dcterms:modified xsi:type="dcterms:W3CDTF">2012-10-02T15:45:02Z</dcterms:modified>
  <cp:revision>10</cp:revision>
  <dc:subject/>
  <dc:title>HISTORIAS CLINICAS Requisi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ividerSectionCount">
    <vt:lpwstr>12</vt:lpwstr>
  </property>
</Properties>
</file>