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FE7C-73A4-4DAD-808D-9535F45D3A43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5D6D-BA3F-470B-8C39-D3DDB42F3C68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B779-F326-460B-82A5-EB3B1D270C03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9F4D-50CE-47D5-B6C7-E58A9FF80DAE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DCCD-8963-47CB-AF5A-0A67F2A4BBE6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02EA-766E-48C3-874D-DDA9E317F6BE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B1F4-F8A1-4E7C-99F6-3A8B9D725664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9F3F-BCBB-449E-BB5F-82D643D1C0E5}" type="slidenum">
              <a:rPr b="0" lang="es-E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6704-B764-45EF-97E6-F5723456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D975-9561-43DD-9124-7490D95E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7B22-A0A9-4420-9670-0124E3773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7725-D745-4094-8E98-9A4C71AD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8CA9-AAD0-4F95-B732-EF98EDB8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EF0-9755-4C1A-B509-275250D1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1768-317A-4FB1-9E5F-65E07BD6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4FD7-3AE4-4B83-835D-07660EBF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2AB4-6FB1-48D1-BC28-D55715FC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A43-F034-44E4-B723-680A5103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D2DB-2DB7-4210-8496-E5D9724B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952E-899A-4C0E-9672-8F7FAC6C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Jorge H Santesteban Hu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6467-1112-47A1-8B30-5C8724B4492F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848360" cy="19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LAVADO DE ACTIVOS DE ORIGEN DELICTIVO Y EL FINANCIAMIENTO DEL TERRORIS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15640" y="2565360"/>
            <a:ext cx="71629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ACTUACION DEL CONTADOR PÚBLICO FRENTE A LAS NORMAS DE LA UNIDAD DE INFORMACION FINANCI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B92A-A9BA-4931-ACBA-4FF618D3AC28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572000" y="5638680"/>
            <a:ext cx="457200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JORGE H. SANTESTEBAN HUN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Unicode MS"/>
              </a:rPr>
              <a:t>C. P. (U.B.A.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5 Rectángulo"/>
          <p:cNvSpPr/>
          <p:nvPr/>
        </p:nvSpPr>
        <p:spPr>
          <a:xfrm>
            <a:off x="684360" y="42210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IMPORTANCIA DE LOS PAPELES DE TRABAJ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94920" y="404640"/>
            <a:ext cx="82040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ipos de delitos (preferentemente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42DD-AFA5-43DB-8ACE-E4B415CC70AB}" type="slidenum">
              <a:rPr b="0" lang="es-AR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122640" y="4362480"/>
            <a:ext cx="2960640" cy="1025640"/>
          </a:xfrm>
          <a:prstGeom prst="rect">
            <a:avLst/>
          </a:prstGeom>
          <a:solidFill>
            <a:srgbClr val="ff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VADO DE ACTIV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453960" y="3781440"/>
            <a:ext cx="1943280" cy="67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ráfico de seres ú órganos humano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6742080" y="3781440"/>
            <a:ext cx="1943280" cy="67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litos contra la Administración Públic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5869080" y="2714760"/>
            <a:ext cx="1942920" cy="67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ntrabando de Arma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2414520" y="1927080"/>
            <a:ext cx="1943280" cy="67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stitución de menores y pornografía infanti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1336680" y="2701800"/>
            <a:ext cx="2082960" cy="67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errorismo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(210 bis o 213 ter CP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84" name="AutoShape 10"/>
          <p:cNvCxnSpPr>
            <a:stCxn id="79" idx="2"/>
            <a:endCxn id="78" idx="1"/>
          </p:cNvCxnSpPr>
          <p:nvPr/>
        </p:nvCxnSpPr>
        <p:spPr>
          <a:xfrm>
            <a:off x="1425600" y="4454640"/>
            <a:ext cx="1697760" cy="42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AutoShape 11"/>
          <p:cNvCxnSpPr>
            <a:stCxn id="83" idx="2"/>
            <a:endCxn id="78" idx="1"/>
          </p:cNvCxnSpPr>
          <p:nvPr/>
        </p:nvCxnSpPr>
        <p:spPr>
          <a:xfrm>
            <a:off x="2378160" y="3374640"/>
            <a:ext cx="745200" cy="150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AutoShape 12"/>
          <p:cNvCxnSpPr>
            <a:endCxn id="78" idx="0"/>
          </p:cNvCxnSpPr>
          <p:nvPr/>
        </p:nvCxnSpPr>
        <p:spPr>
          <a:xfrm flipH="1">
            <a:off x="4602960" y="1844640"/>
            <a:ext cx="113400" cy="251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AutoShape 13"/>
          <p:cNvCxnSpPr>
            <a:stCxn id="81" idx="2"/>
            <a:endCxn id="78" idx="3"/>
          </p:cNvCxnSpPr>
          <p:nvPr/>
        </p:nvCxnSpPr>
        <p:spPr>
          <a:xfrm flipH="1">
            <a:off x="6082560" y="3387600"/>
            <a:ext cx="757800" cy="1488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AutoShape 14"/>
          <p:cNvCxnSpPr>
            <a:stCxn id="80" idx="2"/>
            <a:endCxn id="78" idx="3"/>
          </p:cNvCxnSpPr>
          <p:nvPr/>
        </p:nvCxnSpPr>
        <p:spPr>
          <a:xfrm flipH="1">
            <a:off x="6082560" y="4454640"/>
            <a:ext cx="1631160" cy="42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Rectangle 15"/>
          <p:cNvSpPr/>
          <p:nvPr/>
        </p:nvSpPr>
        <p:spPr>
          <a:xfrm>
            <a:off x="4788000" y="1940040"/>
            <a:ext cx="1942920" cy="67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cuestro Extorsiv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0" name="AutoShape 16"/>
          <p:cNvCxnSpPr>
            <a:stCxn id="89" idx="2"/>
            <a:endCxn id="78" idx="0"/>
          </p:cNvCxnSpPr>
          <p:nvPr/>
        </p:nvCxnSpPr>
        <p:spPr>
          <a:xfrm flipH="1">
            <a:off x="4603320" y="2612880"/>
            <a:ext cx="1156320" cy="175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AutoShape 11"/>
          <p:cNvCxnSpPr/>
          <p:nvPr/>
        </p:nvCxnSpPr>
        <p:spPr>
          <a:xfrm flipV="1">
            <a:off x="1692000" y="5013000"/>
            <a:ext cx="144036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2" name="Rectangle 9"/>
          <p:cNvSpPr/>
          <p:nvPr/>
        </p:nvSpPr>
        <p:spPr>
          <a:xfrm>
            <a:off x="395280" y="4724280"/>
            <a:ext cx="1943280" cy="67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rata de persona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6875640" y="4869000"/>
            <a:ext cx="1942920" cy="67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litos Ley 24769 (ley Penal Tributaria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4356000" y="1125360"/>
            <a:ext cx="1943280" cy="67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xtorsión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95" name="AutoShape 12"/>
          <p:cNvCxnSpPr>
            <a:endCxn id="78" idx="0"/>
          </p:cNvCxnSpPr>
          <p:nvPr/>
        </p:nvCxnSpPr>
        <p:spPr>
          <a:xfrm>
            <a:off x="3780000" y="2636640"/>
            <a:ext cx="824400" cy="1726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AutoShape 12"/>
          <p:cNvCxnSpPr>
            <a:stCxn id="93" idx="1"/>
          </p:cNvCxnSpPr>
          <p:nvPr/>
        </p:nvCxnSpPr>
        <p:spPr>
          <a:xfrm flipH="1" flipV="1">
            <a:off x="5940000" y="5012640"/>
            <a:ext cx="936000" cy="192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AutoShape 12"/>
          <p:cNvCxnSpPr>
            <a:stCxn id="98" idx="2"/>
          </p:cNvCxnSpPr>
          <p:nvPr/>
        </p:nvCxnSpPr>
        <p:spPr>
          <a:xfrm>
            <a:off x="1798560" y="1798200"/>
            <a:ext cx="1766160" cy="2639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Rectangle 8"/>
          <p:cNvSpPr/>
          <p:nvPr/>
        </p:nvSpPr>
        <p:spPr>
          <a:xfrm>
            <a:off x="826920" y="1125360"/>
            <a:ext cx="1943280" cy="67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arcotráfico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4360" y="90792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omic Sans MS"/>
              </a:rPr>
              <a:t>Etapas en el proceso de lavado de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14407-04E7-47A4-94CA-C30F55C6B0E4}" type="slidenum">
              <a:rPr b="0" lang="es-AR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AutoShape 27"/>
          <p:cNvSpPr/>
          <p:nvPr/>
        </p:nvSpPr>
        <p:spPr>
          <a:xfrm>
            <a:off x="3583080" y="2757600"/>
            <a:ext cx="5103720" cy="2133360"/>
          </a:xfrm>
          <a:prstGeom prst="wedgeRoundRectCallout">
            <a:avLst>
              <a:gd name="adj1" fmla="val -68925"/>
              <a:gd name="adj2" fmla="val -31939"/>
              <a:gd name="adj3" fmla="val 16667"/>
            </a:avLst>
          </a:prstGeom>
          <a:solidFill>
            <a:srgbClr val="fcf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Line 2"/>
          <p:cNvSpPr/>
          <p:nvPr/>
        </p:nvSpPr>
        <p:spPr>
          <a:xfrm>
            <a:off x="2158920" y="2484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852480" y="5124600"/>
            <a:ext cx="3081240" cy="10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SIMULACIÓN DE LICITU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(OBJETIVO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826920" y="1628640"/>
            <a:ext cx="2624400" cy="84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ACTIVO ILÍCIT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( ORIGE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05" name="AutoShape 8"/>
          <p:cNvCxnSpPr/>
          <p:nvPr/>
        </p:nvCxnSpPr>
        <p:spPr>
          <a:xfrm>
            <a:off x="2161800" y="3313080"/>
            <a:ext cx="1080" cy="324720"/>
          </a:xfrm>
          <a:prstGeom prst="straightConnector1">
            <a:avLst/>
          </a:prstGeom>
          <a:ln w="0">
            <a:noFill/>
          </a:ln>
        </p:spPr>
      </p:cxnSp>
      <p:sp>
        <p:nvSpPr>
          <p:cNvPr id="106" name="Rectangle 9"/>
          <p:cNvSpPr/>
          <p:nvPr/>
        </p:nvSpPr>
        <p:spPr>
          <a:xfrm>
            <a:off x="3795840" y="2970360"/>
            <a:ext cx="4879800" cy="1768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Objetivo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268200" indent="-268200">
              <a:lnSpc>
                <a:spcPct val="105000"/>
              </a:lnSpc>
              <a:spcBef>
                <a:spcPts val="451"/>
              </a:spcBef>
              <a:buClr>
                <a:srgbClr val="ffd2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ransformar el dinero en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EFECTIV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268200" indent="-26820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268200" indent="-268200">
              <a:lnSpc>
                <a:spcPct val="105000"/>
              </a:lnSpc>
              <a:spcBef>
                <a:spcPts val="451"/>
              </a:spcBef>
              <a:buClr>
                <a:srgbClr val="ffd2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Separar o diferenciar el dinero del delito de orig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2158920" y="323388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2158920" y="417996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2158920" y="4541760"/>
            <a:ext cx="0" cy="584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762840" y="2889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Coloca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041480" y="3449520"/>
            <a:ext cx="29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2)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Decantación o estratifica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719280" y="440676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3)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Integra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2"/>
          <p:cNvSpPr/>
          <p:nvPr/>
        </p:nvSpPr>
        <p:spPr>
          <a:xfrm>
            <a:off x="2158920" y="4811760"/>
            <a:ext cx="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2843280" y="306864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27"/>
          <p:cNvSpPr/>
          <p:nvPr/>
        </p:nvSpPr>
        <p:spPr>
          <a:xfrm>
            <a:off x="3583080" y="2757600"/>
            <a:ext cx="5103720" cy="2133360"/>
          </a:xfrm>
          <a:prstGeom prst="wedgeRoundRectCallout">
            <a:avLst>
              <a:gd name="adj1" fmla="val -63134"/>
              <a:gd name="adj2" fmla="val -8134"/>
              <a:gd name="adj3" fmla="val 16667"/>
            </a:avLst>
          </a:prstGeom>
          <a:solidFill>
            <a:srgbClr val="fcf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4360" y="69228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omic Sans MS"/>
              </a:rPr>
              <a:t>Etapas en el proceso de lavado de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9950-09F4-4E77-B119-2E69CEFA0E57}" type="slidenum">
              <a:rPr b="0" lang="es-AR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3795840" y="2970360"/>
            <a:ext cx="4879800" cy="1768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Objetivo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268200" indent="-268200">
              <a:lnSpc>
                <a:spcPct val="105000"/>
              </a:lnSpc>
              <a:spcBef>
                <a:spcPts val="451"/>
              </a:spcBef>
              <a:buClr>
                <a:srgbClr val="ffd2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Transformar o disfraza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268200" indent="-268200">
              <a:lnSpc>
                <a:spcPct val="5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268200" indent="-268200">
              <a:lnSpc>
                <a:spcPct val="105000"/>
              </a:lnSpc>
              <a:spcBef>
                <a:spcPts val="451"/>
              </a:spcBef>
              <a:buClr>
                <a:srgbClr val="ffd2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rtar cadena de evidenci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2158920" y="2484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852480" y="5124600"/>
            <a:ext cx="3081240" cy="10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SIMULACIÓN DE LICITU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(OBJETIVO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865080" y="1701720"/>
            <a:ext cx="2624400" cy="8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ACTIVO ILÍCIT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( ORIGE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2" name="AutoShape 8"/>
          <p:cNvCxnSpPr/>
          <p:nvPr/>
        </p:nvCxnSpPr>
        <p:spPr>
          <a:xfrm>
            <a:off x="2161800" y="3313080"/>
            <a:ext cx="1080" cy="324720"/>
          </a:xfrm>
          <a:prstGeom prst="straightConnector1">
            <a:avLst/>
          </a:prstGeom>
          <a:ln w="0">
            <a:noFill/>
          </a:ln>
        </p:spPr>
      </p:cxnSp>
      <p:sp>
        <p:nvSpPr>
          <p:cNvPr id="123" name="Line 10"/>
          <p:cNvSpPr/>
          <p:nvPr/>
        </p:nvSpPr>
        <p:spPr>
          <a:xfrm>
            <a:off x="2158920" y="323388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2158920" y="417996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2158920" y="4541760"/>
            <a:ext cx="0" cy="584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62840" y="2889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Coloca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1041480" y="3449520"/>
            <a:ext cx="29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2)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Decantación o estratifica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719280" y="440676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3)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Integra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2"/>
          <p:cNvSpPr/>
          <p:nvPr/>
        </p:nvSpPr>
        <p:spPr>
          <a:xfrm>
            <a:off x="2158920" y="4811760"/>
            <a:ext cx="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11"/>
          <p:cNvSpPr/>
          <p:nvPr/>
        </p:nvSpPr>
        <p:spPr>
          <a:xfrm flipH="1">
            <a:off x="3132000" y="3860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7"/>
          <p:cNvSpPr/>
          <p:nvPr/>
        </p:nvSpPr>
        <p:spPr>
          <a:xfrm>
            <a:off x="3583080" y="2757600"/>
            <a:ext cx="5103720" cy="2133360"/>
          </a:xfrm>
          <a:prstGeom prst="wedgeRoundRectCallout">
            <a:avLst>
              <a:gd name="adj1" fmla="val -68564"/>
              <a:gd name="adj2" fmla="val 35592"/>
              <a:gd name="adj3" fmla="val 16667"/>
            </a:avLst>
          </a:prstGeom>
          <a:solidFill>
            <a:srgbClr val="fcf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360" y="1125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omic Sans MS"/>
              </a:rPr>
              <a:t>Etapas en el proceso de lavado de dine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EF33-1F38-4B53-862A-A4EE6F94CE72}" type="slidenum">
              <a:rPr b="0" lang="es-AR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795840" y="2970360"/>
            <a:ext cx="4663800" cy="1768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Objetivo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>
              <a:lnSpc>
                <a:spcPct val="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268200" indent="-268200">
              <a:lnSpc>
                <a:spcPct val="105000"/>
              </a:lnSpc>
              <a:spcBef>
                <a:spcPts val="451"/>
              </a:spcBef>
              <a:buClr>
                <a:srgbClr val="ffd2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Incorporar el dinero al circuito económico leg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268200" indent="-268200"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268200" indent="-268200">
              <a:lnSpc>
                <a:spcPct val="105000"/>
              </a:lnSpc>
              <a:spcBef>
                <a:spcPts val="451"/>
              </a:spcBef>
              <a:buClr>
                <a:srgbClr val="ffd2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ar apariencia lega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Line 2"/>
          <p:cNvSpPr/>
          <p:nvPr/>
        </p:nvSpPr>
        <p:spPr>
          <a:xfrm>
            <a:off x="2158920" y="2484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852480" y="5124600"/>
            <a:ext cx="3081240" cy="102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SIMULACIÓN DE LICITU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(OBJETIVO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865080" y="1757520"/>
            <a:ext cx="2624400" cy="84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ACTIVO ILÍCIT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Comic Sans MS"/>
              </a:rPr>
              <a:t>( ORIGE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8" name="AutoShape 8"/>
          <p:cNvCxnSpPr/>
          <p:nvPr/>
        </p:nvCxnSpPr>
        <p:spPr>
          <a:xfrm>
            <a:off x="2161800" y="3313080"/>
            <a:ext cx="1080" cy="324720"/>
          </a:xfrm>
          <a:prstGeom prst="straightConnector1">
            <a:avLst/>
          </a:prstGeom>
          <a:ln w="0">
            <a:noFill/>
          </a:ln>
        </p:spPr>
      </p:cxnSp>
      <p:sp>
        <p:nvSpPr>
          <p:cNvPr id="139" name="Line 10"/>
          <p:cNvSpPr/>
          <p:nvPr/>
        </p:nvSpPr>
        <p:spPr>
          <a:xfrm>
            <a:off x="2158920" y="323388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2158920" y="417996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2158920" y="4541760"/>
            <a:ext cx="0" cy="584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762840" y="288936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Coloca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1041480" y="3449520"/>
            <a:ext cx="29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2)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Decantación o estratifica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719280" y="440676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3)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Comic Sans MS"/>
              </a:rPr>
              <a:t>Integració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Line 2"/>
          <p:cNvSpPr/>
          <p:nvPr/>
        </p:nvSpPr>
        <p:spPr>
          <a:xfrm>
            <a:off x="2158920" y="4811760"/>
            <a:ext cx="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Line 11"/>
          <p:cNvSpPr/>
          <p:nvPr/>
        </p:nvSpPr>
        <p:spPr>
          <a:xfrm flipV="1">
            <a:off x="2843280" y="4005000"/>
            <a:ext cx="936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El Grupo de Acción Financiera Internacional sobre el Blanqueo de Capitales (GAF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Fue creado por el Grupo de los Siete Países mas industrializados (G-7) durante la cumbre que tuvo lugar en París en 198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A262-AC06-4FAB-902E-ECF2BA2C9FA6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7621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l GAFI agrupa a los principales centros financieros mundia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4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stados/ jurisdicciones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(Alemania, Argentina, Australia, Austria, Bélgica, Brasil, Canadá, China, Corea, Dinamarca, España, Estados Unidos, Finlandia, Francia, Grecia, Hong Kong, India, Irlanda, Islandia, Italia, Japón, Luxemburgo, México, Noruega, Nueva Zelanda, Países Bajos, Portugal, Reino Unido, Rusia, Singapur, Sudáfrica, Suecia, Suiza y Turquía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os organizaciones/organismos internacionales (La Comisión Europea y el Consejo de Cooperación del Golfo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69E5-4181-4EA5-978F-7A95831569FF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974520"/>
            <a:ext cx="807552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900" spc="-1" strike="noStrike">
                <a:solidFill>
                  <a:srgbClr val="000000"/>
                </a:solidFill>
                <a:latin typeface="Calibri"/>
              </a:rPr>
              <a:t>Metodología de evaluación del GAFI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4B3C-1C6E-413D-803A-257C6362F60D}" type="slidenum">
              <a:rPr b="0" lang="es-AR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3" name="16 Grupo"/>
          <p:cNvGrpSpPr/>
          <p:nvPr/>
        </p:nvGrpSpPr>
        <p:grpSpPr>
          <a:xfrm>
            <a:off x="755640" y="1773360"/>
            <a:ext cx="5079960" cy="4024080"/>
            <a:chOff x="755640" y="1773360"/>
            <a:chExt cx="5079960" cy="4024080"/>
          </a:xfrm>
        </p:grpSpPr>
        <p:sp>
          <p:nvSpPr>
            <p:cNvPr id="154" name="Rectangle 7"/>
            <p:cNvSpPr/>
            <p:nvPr/>
          </p:nvSpPr>
          <p:spPr>
            <a:xfrm>
              <a:off x="755640" y="2797200"/>
              <a:ext cx="5075280" cy="88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c0504d"/>
                  </a:solidFill>
                  <a:latin typeface="Comic Sans MS"/>
                </a:rPr>
                <a:t>Criterios esenciales / Elementos adicionale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c0504d"/>
                  </a:solidFill>
                  <a:latin typeface="Comic Sans MS"/>
                </a:rPr>
                <a:t>Aplicación efectiva / Riesgo de LD-FT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Rectangle 8"/>
            <p:cNvSpPr/>
            <p:nvPr/>
          </p:nvSpPr>
          <p:spPr>
            <a:xfrm>
              <a:off x="760320" y="4089240"/>
              <a:ext cx="5075280" cy="660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800" spc="-1" strike="noStrike">
                  <a:solidFill>
                    <a:srgbClr val="c0504d"/>
                  </a:solidFill>
                  <a:latin typeface="Comic Sans MS"/>
                </a:rPr>
                <a:t>Calificació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Rectangle 9"/>
            <p:cNvSpPr/>
            <p:nvPr/>
          </p:nvSpPr>
          <p:spPr>
            <a:xfrm>
              <a:off x="760320" y="1773360"/>
              <a:ext cx="5075280" cy="660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800" spc="-1" strike="noStrike">
                  <a:solidFill>
                    <a:srgbClr val="c0504d"/>
                  </a:solidFill>
                  <a:latin typeface="Comic Sans MS"/>
                </a:rPr>
                <a:t>40 + 9 Recomendacione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AutoShape 10"/>
            <p:cNvSpPr/>
            <p:nvPr/>
          </p:nvSpPr>
          <p:spPr>
            <a:xfrm>
              <a:off x="2867040" y="2490840"/>
              <a:ext cx="865080" cy="2538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Rectangle 11"/>
            <p:cNvSpPr/>
            <p:nvPr/>
          </p:nvSpPr>
          <p:spPr>
            <a:xfrm>
              <a:off x="760320" y="5137200"/>
              <a:ext cx="5075280" cy="660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800" spc="-1" strike="noStrike">
                  <a:solidFill>
                    <a:srgbClr val="c0504d"/>
                  </a:solidFill>
                  <a:latin typeface="Comic Sans MS"/>
                </a:rPr>
                <a:t>Informe de Evaluació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AutoShape 12"/>
            <p:cNvSpPr/>
            <p:nvPr/>
          </p:nvSpPr>
          <p:spPr>
            <a:xfrm>
              <a:off x="2867040" y="3767040"/>
              <a:ext cx="865080" cy="2538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AutoShape 13"/>
            <p:cNvSpPr/>
            <p:nvPr/>
          </p:nvSpPr>
          <p:spPr>
            <a:xfrm>
              <a:off x="2867040" y="4834080"/>
              <a:ext cx="865080" cy="2538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1" name="17 Llamada con línea 1 (borde y barra de énfasis)"/>
          <p:cNvSpPr/>
          <p:nvPr/>
        </p:nvSpPr>
        <p:spPr>
          <a:xfrm>
            <a:off x="6516720" y="3573360"/>
            <a:ext cx="2376360" cy="1079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20" y="17663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Cumplido (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Mayormente cumplido (M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Parcialmente Cumplido (P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Calibri"/>
              </a:rPr>
              <a:t>No Cumplido (NC)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13 Rectángulo"/>
          <p:cNvSpPr/>
          <p:nvPr/>
        </p:nvSpPr>
        <p:spPr>
          <a:xfrm>
            <a:off x="5929200" y="1785960"/>
            <a:ext cx="29257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omic Sans MS"/>
              </a:rPr>
              <a:t>40 Recomendacio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0504d"/>
                </a:solidFill>
                <a:latin typeface="Comic Sans MS"/>
              </a:rPr>
              <a:t>MODIFICADAS EN FEBRERO DE 201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09FA-56FE-4767-882B-077881F9B9F7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71629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RECOMENDACIONES G.A.F.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16 a) SE DEBERIA REQUERIR A LOS ABOGADOS, NOTARIOS, OTROS PROFESIONALES JURIDICOS INDEPENDIENTES Y CONTADORES O CONTABLES QUE REPORTEN OPERACIONES SOSPECHOSAS CUANDO, POR CUENTA O EN REPRESENTACION DE UN CLIENTE, PARTICIPEN EN UNA OPERACIÓN EN RELACION CON LAS ACTIVIDADES DESCRIPTAS EN LA RECOMENDACIÓN 12 d). 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SE ALIENTA FIRMEMENTE A LOS PAISES A QUE HAGAN EXTENSIVO EL REQUISITO DE REPORTE AL RESTO DE LAS ACTIVIDADES PROFESIONALES DE LOS CONTADORES O CONTABLES, INCLUYENDO LAS AUDITORI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1280" y="974520"/>
            <a:ext cx="807552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alibri"/>
              </a:rPr>
              <a:t>Situación de Argentina frente a GAF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9640" y="2779560"/>
          <a:ext cx="3168720" cy="2165400"/>
        </p:xfrm>
        <a:graphic>
          <a:graphicData uri="http://schemas.openxmlformats.org/drawingml/2006/table">
            <a:tbl>
              <a:tblPr/>
              <a:tblGrid>
                <a:gridCol w="1584360"/>
                <a:gridCol w="15843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c0c0"/>
                          </a:solidFill>
                          <a:latin typeface="Times New Roman"/>
                          <a:ea typeface="Times New Roman"/>
                        </a:rPr>
                        <a:t>Cantidad de recomend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c0c0c0"/>
                          </a:solidFill>
                          <a:latin typeface="Times New Roman"/>
                          <a:ea typeface="Times New Roman"/>
                        </a:rPr>
                        <a:t>Calificaci</a:t>
                      </a:r>
                      <a:r>
                        <a:rPr b="1" lang="es-ES" sz="1400" spc="-1" strike="noStrike">
                          <a:solidFill>
                            <a:srgbClr val="c0c0c0"/>
                          </a:solidFill>
                          <a:latin typeface="Arial"/>
                          <a:ea typeface="Times New Roman"/>
                        </a:rPr>
                        <a:t>ó</a:t>
                      </a:r>
                      <a:r>
                        <a:rPr b="1" lang="es-ES" sz="1400" spc="-1" strike="noStrike">
                          <a:solidFill>
                            <a:srgbClr val="c0c0c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mpl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rmente Cumpl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cialmente Cumpl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Cumpl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DE73-EF40-47FF-8790-8A2E51DF2EEB}" type="slidenum">
              <a:rPr b="0" lang="es-AR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8 CuadroTexto"/>
          <p:cNvSpPr/>
          <p:nvPr/>
        </p:nvSpPr>
        <p:spPr>
          <a:xfrm>
            <a:off x="2074680" y="5950080"/>
            <a:ext cx="20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Arial"/>
              </a:rPr>
              <a:t>Fuente: </a:t>
            </a:r>
            <a:r>
              <a:rPr b="0" lang="es-ES" sz="12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www.fatf.-gafi.org</a:t>
            </a:r>
            <a:r>
              <a:rPr b="0" lang="es-AR" sz="12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9 Imagen" descr=""/>
          <p:cNvPicPr/>
          <p:nvPr/>
        </p:nvPicPr>
        <p:blipFill>
          <a:blip r:embed="rId1"/>
          <a:stretch/>
        </p:blipFill>
        <p:spPr>
          <a:xfrm>
            <a:off x="4165560" y="2492280"/>
            <a:ext cx="45100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Jorge H Santesteban Hu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A272-67BD-4D0E-9935-C28CBA12E3FF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684360" y="0"/>
            <a:ext cx="7772400" cy="10159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ASPECTOS CENTRALES DE LA LEY 25.246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(con modificaciones Ley 2668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84360" y="981000"/>
            <a:ext cx="7772400" cy="5151240"/>
          </a:xfrm>
          <a:prstGeom prst="rect">
            <a:avLst/>
          </a:prstGeom>
          <a:noFill/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TIPIFICACIÓN DEL DELITO ( “PREFERENTEMENTE…”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23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DEFINICIÓN DE SUJETOS OBLIGADOS A INFORMAR (INCORPORA NUEVO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23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UNIDAD DE INFORMACIÓN FINANCIERA (MODIFICA FACULTADES , FINANCIACION Y ELECCION AUTORIDAD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23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RÉGIMEN PENAL ADMINISTRATIVO (MODIFIC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23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OPERACIONES SOSPECHOSA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SUMARIO DE LA PRESENTAC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ANTECEDENTES INTERNAC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LEGISLACION ARGENT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RESOLUCIONES DE LA UIF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NORMAS DE LA PROFESION CON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CONTENIDO MINIMO DEL MANUAL GUIA PARA ESTUD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RECOMENDACIONES /CONCLUS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AA7D-D135-44FC-A61B-4100EA1498FE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4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Jorge H Santesteban Hu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02F0-A4B2-413E-8033-32226942D3D6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684360" y="0"/>
            <a:ext cx="7772400" cy="1015920"/>
          </a:xfrm>
          <a:prstGeom prst="rect">
            <a:avLst/>
          </a:prstGeom>
          <a:noFill/>
          <a:ln w="572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ASPECTOS CENTRALES DE LA LEY 25.246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(con modificaciones Ley 26683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24000" y="981000"/>
            <a:ext cx="8569080" cy="4377600"/>
          </a:xfrm>
          <a:prstGeom prst="rect">
            <a:avLst/>
          </a:prstGeom>
          <a:noFill/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INCORPORA 20 BIS, (OFICIAL DE CUMPLIMIENTO) Y 21 BIS (DEFINICION DE CLIENTE E INFORMACION MINIMA A REQUERI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23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23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omic Sans MS"/>
              </a:rPr>
              <a:t>SUSTITUYE ARTS 23 Y 24 (SANCIONES) , ARTS 27 (FINANCIACION DE LA UIF)  Y ART 30 (MEDIDAS PROCESALES 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23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091A-B40D-408A-A04B-99C91CC9A211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omic Sans MS"/>
              </a:rPr>
              <a:t>LEY 25.24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980640"/>
            <a:ext cx="883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L CUMPLIMIENTO DE BUENA FE EXIME RESPONSABILIDADES (ART 1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UJETOS OBLIGADOS A INFORMAR (ART 20) -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¿QUIÉN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EBER DE INFORMAR Y OFICIAL DE CUMPLIMIENTO (ART 20 B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OBLIGACIONES DE PERSONAS ALCANZADAS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¿QUE? (ART 2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EFINICION CLIENTE E INFORMACION MINIMA (ART 21 B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REGIMEN PENAL ADMINISTRATI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UJETOS OBLIGADOS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EBER DE INFORMAR ART. 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267920"/>
            <a:ext cx="9144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TIDADES FINANCIER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TES COMPRA VENTA DIVI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F o J QUE EXPLOTEN JUEGOS DE AZ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GENTES Y SOC DE BOLSA, SOC GTE DE FCI , AGENTES DE MAE, TODOS LOS INTERMEDIARIOS EN BOLSAS DE COMERCIO CON O SIN MERCADOS ADHER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GENTES MERCADOS FUTUROS Y OP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R.P.C., I.G.J, RPI, RPA, R PREND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F o J CPA VTA OBRAS DE ARTE, ANTIGUEDADES, BIENES SUNTUARIOS, FILATELIA, NUMISMATICA, JOYAS O BIENES CON METALES O PIEDRAS PRECIO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9BC6-27FB-4C42-A21A-0D6F74D8C0B6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9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UJETOS OBLIGADOS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EBER DE INFORMAR ART. 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24000" y="1052280"/>
            <a:ext cx="88200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MPRESAS ASEGURADOR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MPRESAS EMISORAS DE CHEQUES DE VIAJERO U OPERADORAS DE TARJETAS DE CREDITO O DEBI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MPRESAS DE TRANSPORTES DE CAUD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MPRESAS PRESTATARIAS DE SERV POSTALES QUE REALICEN GIRO DE DIVISAS O TRASLADO BILLE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SCRIBANOS PUBLI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NTIDADES DEL ART 9º LEY 22.315 </a:t>
            </a:r>
            <a:r>
              <a:rPr b="1" lang="es-ES" sz="1600" spc="-1" strike="noStrike">
                <a:solidFill>
                  <a:srgbClr val="000000"/>
                </a:solidFill>
                <a:latin typeface="Comic Sans MS"/>
              </a:rPr>
              <a:t>(Sociedades que realizan operaciones de capitalización y ahorr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ESPACHANTES DE ADUA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REGULADORES :BCRA – AFIP – SSEGUROS – CNV – IG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RODUCTORES DE  SEGUROS, AGENTES, PERITOS Y LIQUIDADORES DE SEGUR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LOS PROFESIONALES MATRICULADOS EN LOS CP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TODAS LA PJ QUE RECIBEN DONACIONES O APOR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ED75-C2D3-4C9A-9EE2-0CF7191B4DBB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9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UJETOS OBLIGADOS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EBER DE INFORMAR ART. 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4000" y="1052280"/>
            <a:ext cx="88200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AGENTES O CORREDORES INMOBILIARIOS MATRICULADOS Y LAS SOCIEDADES DE CUALQUIER TIPO QUE TENGAN POR OBJETO EL CORRETAJE INMOBILIARIO, INTEGRADAS Y/O ADMINISTRADAS EXCLUSIVAMENTE POR AGENTES O CORREDORES INMOBILIARIOS MATRICULA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AS ASOCIACIONES MUTUALES Y COOPERATIVAS REGULADAS POR LAS LEYES 20.321 Y 20337 RESPECTIVAM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AS PERSONAS F O J CUYA ACTIVIDAD HABITUAL SEA LA COMPRAVENTA DE AUTOMOVILES, CAMIONES, MOTOS, OMNIBUS Y MICROÓMNIBUS, MAQUINARIA AGRICOLA Y VIAL, NAVES, YATES Y SIMILARES, AERONAVES Y AERODIN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AS PERSONAS F O J QUE ACTUEN COMO FIDUCIARIOS, EN CUALQUIER TIPO DE FIDEICOMISO Y LAS PF O J TITULARES DE O VINCULADAS, DIRECTA O INDIRECTAMENTE, CON CUENTAS DE FIDEICOMISOS, FIDUCIANTES Y FIDUCIARIOS EN VIRTUD DE CONTRATOS DE FIDEICOMI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LAS PJ QUE CUMPLEN FUNCIONES DE ORGANIZACIÓN Y REGULACION DE LOS DEPORTES PROFESIONA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D21F-91A0-4E0F-90DC-FBE035191352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4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F368-098D-48D9-B9E3-1AC1C9DD7741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SUJETOS OBLIGADOS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DEBER DE INFORMAR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ART. 21 LEY 25.24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8390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REGLA :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OZCA A SU CLIE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Comic Sans MS"/>
              </a:rPr>
              <a:t>INFORMAR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omic Sans MS"/>
              </a:rPr>
              <a:t>A LA UIF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LAS OPERACIONES SOSPECHOS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Comic Sans MS"/>
              </a:rPr>
              <a:t>ABSTENERSE DE REVELAR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AL CLIENTE O A TERCEROS LAS ACTUACIONES QUE ESTE REALIZAND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.O. ULTIMAS RESOLUCIONES U.I.F.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(20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28240" y="836280"/>
            <a:ext cx="8915400" cy="5832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11/2011 PERSONAS POLITICAMENTE EXPUES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12/2011 B.C.R.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18/2011 PF o J EXPLOTEN JUEGOS DE AZ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19/2011 SUPERINTENDENCIA DE SEGUROS DE LA NAC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21/2011 ESCRIBANOS PÚBL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22/2011 CN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23/2011 REMISORES DE FONDOS Y EMPRESAS PRESTATARIAS O CONCESIONARIAS QUE OPEREN EN GIRO DE DIVISAS , MONEDA O BILLE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24/2011 TRANSPORTADORES DE CAUD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25/2011 PROFESIONALES EN CS. ECONOMICAS (derogad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26/2011 D.N.R.AUTOMO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27/2011 TARJETAS DE CREDITO O CHEQUES DE VIAJ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.O. ULTIMAS RESOLUCIONES U.I.F.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(20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0" y="980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28/2011 PF o PJ. COMPRA VENTA OBRAS DE ARTE, ANTIGUEDADES U OTROS BIENES SUNTUARIOS, FILATELIA, NUMISMATICA, JOYAS O BIENES CON PIEDRAS PRECIO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29/2011 REGISTROS PUBLICOS DE COMERCIO - IG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30/2011 PERSONAS JURIDICAS QUE RECIBEN DON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32/2011 SECTOR SEGU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33/2011 MERCADO DE CAPIT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34/2011 SOC. DE CAPITALIZACION Y AHOR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37/2011 SISTEMA FINANCIERO Y CAMBIA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38/2011 A.F.I.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.O. ULTIMAS RESOLUCIONES U.I.F.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(20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125000"/>
            <a:ext cx="896472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39/2011 DESPACHANTES DE ADUANA, AGENTES DE TRANSPORTE ADUANERO, IMPORTADORES / EXPORTADORES (*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41/2011 REGISTRO PROPIEDAD INMUE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50/2011 REGISTRACION DE SUJETOS OBLIG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51/2011 REPORTE DE OPERACIONES SOSPECHOSAS “ON LIN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52/2011 PRORROGA BANCO CENTRAL RES. 37/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(*) 55/2011 CONVOCATORIA A SECTORES DE IMPORTADORES, EXPORTADORES, AGENTES DE TRANSPORTE ADUANERO PARA LA FORMACION DE UNA COMISION INTERDISCIPLINARIA.  PRORROGA POR 180 DIAS DE LA RESOLUCION 39/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.O. ULTIMAS RESOLUCIONES U.I.F.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(20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964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63/2011 EXCLUSION DE LA RES UIF 39 A LOS DESPACHANTES DE ADU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64/2011 DEROGA RES UIF 25/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65/2011 PROFESIONALES DE CIENCIAS ECONOM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Comic Sans MS"/>
              </a:rPr>
              <a:t>70/2011 REPORTE SISTEMATICO DE OPERACIONES ON 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98/2011 DEROGA RESOLUCIONES 39/2011 Y 55/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121/11 SECTOR FINANCIERO, ENTIDADES CAMBIARIAS DEROGA RES UIF 37/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06292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s-ES_tradnl" sz="4000" spc="-1" strike="noStrike">
                <a:solidFill>
                  <a:srgbClr val="000000"/>
                </a:solidFill>
                <a:latin typeface="Comic Sans MS"/>
              </a:rPr>
              <a:t>RESPONSABILIDAD DEL CONTADOR PUBLICO DERIVADA DE INFORMES, DICTAMENES, CERTIFICACIONES Y DEMAS FUNCION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CD7E-4F29-4F14-A9FD-5BCAAAFE4EC9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.O. ULTIMAS RESOLUCIONES U.I.F.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(20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896472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165/11 DEROGA RES UIF 104/10 SUPERVISION DE SUJETOS OBLIG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199/11 PF o PJ QUE EXPLOTEN JUEGOS DE AZ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220/11 DIRECTIVA DEL DEBER DE COLABORACION Y PROCEDIMIENTO DE SUPERVISION DEL CUMPLIMIENTO DE LAS OBLIGACIONES ESTABLECIDAS POR LA LEY 25.246 (AFI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229/11 MERCADO DE CAPITALES (MODIFICA 33/1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230/11 SECTOR SEGUROS (MODIFICA LA 32/1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.O. ULTIMAS RESOLUCIONES U.I.F.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(201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1/2012 MODIFICA VARIAS DE 2011 (ENTRE OTRAS 65/11 limite $ 8.000.000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2/2012 EMISORAS CHEQUES VIAJ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11/2012 MUTUALES Y COOPERATIV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12/2012 INA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16/ 2012 AGENTES O CORREDORES INMOBILIARIOS Y SOCIEDADES QUE LO TENGAN COMO OBJE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17/2012 REGISTRO DE EMBARC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18/2012 COMPRA VENTA DE YATES Y SIMILARES (PF /PJ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22/2012 COMPRA VENTA DE AERONAVES Y AERODINOS (PF/PJ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23/2012 REGISTRO DE AERONA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28/2012 PREVENCION DEL TERRORI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.O. ULTIMAS RESOLUCIONES U.I.F.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(201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31/2012 PF o PJ QUE HAGAN COMPRAVENTA HABITUAL DE CAMIONES, MOTOS, OMNIBUS Y MICROOMNIBUS, TRACTORES, MAQUINARIA AGRICOLA Y VI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32/2012  AFA Y CLUBES PRIMERA 1RA Y NACIONAL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42/2012 EMISORAS CHEQUES VIAJERO (SUB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52/2012 PEPS (allegado cercano solo para funcionarios extranjeros y baja hasta el primer grado de consanguinidad – antes tercer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66/2012 BCRA REMESADORES DE FON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136/2012 REGISTRACION OFICIALES DE EN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140/2012 FIDEICOMIS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772400" cy="6919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omic Sans MS"/>
              </a:rPr>
              <a:t>ALGUNOS PUNTOS EN COMUN DE LAS RESOLUCIONES UI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0" y="980640"/>
            <a:ext cx="8964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OBJETO Y DEFINI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UJETO OBLI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LI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PORTE SISTEMAT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OI / 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ROPIETARIO BENEFICIA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A226-5104-4569-9A54-7CA1D901F776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138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U.I.F - </a:t>
            </a:r>
            <a:r>
              <a:rPr b="1" lang="es-ES" sz="3200" spc="-1" strike="noStrike">
                <a:solidFill>
                  <a:srgbClr val="ff0000"/>
                </a:solidFill>
                <a:latin typeface="Comic Sans MS"/>
              </a:rPr>
              <a:t>RESOLUCION 65/2011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CAPITULO I.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Comic Sans MS"/>
              </a:rPr>
              <a:t>OBJETO</a:t>
            </a: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 Y DEFINI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360" y="2276640"/>
            <a:ext cx="88390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ESTABLECER LAS MEDIDAS Y PROCEDIMIENTOS QUE LOS SUJETOS OBLIGADOS 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(Profesionales en Ciencias Económicas)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EBERÁN OBSERVAR PARA PREVENIR, DETECTAR Y REPORTAR, LOS HECHOS, ACTOS, OPERACIONES U OMISIONES QUE PUEDAN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PROVENIR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 DE LA COMISION DE LOS DELITOS DE LAVADO DE ACTIVOS Y FINANCIACION DEL TERRORISMO 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(art. 1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9A72-8299-4FBB-AA17-429B70861C0A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7138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U.I.F - RESOLUCION 65/2011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APITULO I. OBJETO Y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ONES 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(art 2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883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omic Sans MS"/>
              </a:rPr>
              <a:t>b)OPERACIONES INUS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SON AQUELLAS OPERACIONES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mic Sans MS"/>
              </a:rPr>
              <a:t>TENTADAS O REALIZADA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EN FORMA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mic Sans MS"/>
              </a:rPr>
              <a:t>AISLADA O REITERADA</a:t>
            </a:r>
            <a:r>
              <a:rPr b="1" lang="es-E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mic Sans MS"/>
              </a:rPr>
              <a:t>JUSTIFICACION ECONOMICA Y/O JURIDICA</a:t>
            </a: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QUE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mic Sans MS"/>
              </a:rPr>
              <a:t>NO</a:t>
            </a: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 GUARDAN RELACION CON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mic Sans MS"/>
              </a:rPr>
              <a:t>EL PERFIL ECONOMICO-FINANCIERO DEL CLIENTE</a:t>
            </a: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DESVIANDOSE EN LOS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Comic Sans MS"/>
              </a:rPr>
              <a:t>USOS Y COSTUMBRES EN LAS PRACTICAS DE MERCADO</a:t>
            </a:r>
            <a:r>
              <a:rPr b="1" lang="es-ES" sz="2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YA SEA POR SU FRECUENCIA, HABITUALIDAD, MONTO, COMPLEJIDAD, NATURALEZA Y/O CARACTERISTICAS PARTICULA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E994-E585-4086-9C3A-743C1EDAA20F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9840" y="-360"/>
            <a:ext cx="87138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U.I.F - RESOLUCION 65/2011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APITULO I. OBJETO Y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ONES 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(art 2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c) OPERACIONES SOSPECHOS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ON AQUELLAS OPERACIONES TENTADAS O REALIZADAS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QUE HABIENDOSE IDENTIFICADO PREVIAMENTE COMO INUSUALES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LUEGO DEL ANALISIS Y EVALUACION REALIZADOS POR EL SUJETO OBLIGADO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, LAS MISMAS NO GUARDAN RELACION CON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LAS ACTIVIDADES LÍCITAS DECLARADAS POR EL CLIENTE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OCASIONANDO SOSPECHA DE LAVADO DE ACTIVOS O AÚN TRATANDOSE DE OPERACIONES RELACIONADAS CON ACTIVIDADES LÍCITAS, EXISTA SOSPECHA DE QUE ESTEN VINCULADAS O QUE VAYAN A SER UTILIZADAS PARA LA FINANCIACION DEL TERRORIS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80DF-E98F-41BA-A375-C21D58352A08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9840" y="0"/>
            <a:ext cx="87138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U.I.F - RESOLUCION 65/2011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CAPITULO I. OBJETO Y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DEFINICIONES 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(art 2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ALGUNAS OPERACIONES PUEDEN SER  INUSU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pero…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mic Sans MS"/>
              </a:rPr>
              <a:t>NO TODA OPERACIÓN INUSUAL ES SOSPECHOS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115F-EBC0-4891-9D61-AC1250FEA9AA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87138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U.I.F - RESOLUCION 65/2011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CAPITULO I. OBJETO Y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DEFINICIONES 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(art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2421000"/>
            <a:ext cx="9144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) PROPIETARIO / BENEFICIA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PERSONAS FÍSICAS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QUE TENGAN COMO MINIMO EL 20% DEL CAPITAL O DE LOS DERECHOS DE VOTO DE UNA PERSONA JURIDICA O QUE POR OTROS MEDIOS EJERZAN EL CONTROL FINAL, DIRECTO O INDIRECTO SOBRE UNA PERSONA JURID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1608-F76B-4AA0-B192-E311025E1E8D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U.I.F - RESOLUCION 65/2011</a:t>
            </a:r>
            <a:br>
              <a:rPr sz="2200"/>
            </a:b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CAPITULO I. OBJETO Y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Comic Sans MS"/>
              </a:rPr>
              <a:t>DEFINICIONES </a:t>
            </a:r>
            <a:r>
              <a:rPr b="1" i="1" lang="es-ES" sz="1800" spc="-1" strike="noStrike">
                <a:solidFill>
                  <a:srgbClr val="000000"/>
                </a:solidFill>
                <a:latin typeface="Comic Sans MS"/>
              </a:rPr>
              <a:t>(art 2º)</a:t>
            </a:r>
            <a:br>
              <a:rPr sz="2200"/>
            </a:br>
            <a:br>
              <a:rPr sz="25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)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SUJETO OBLIGA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UDITOR  EXTERNO - SINDICO SOCIETA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UANDO SE BRINDEN SERVICIOS 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 -LOS SUJETOS DEL ART 20 LEY 25.246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B -BIEN A LOS NO ALCANZADOS PERO QU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OSEAN UN ACTIVO SUPERIOR A $ 8.000.000.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b) HAYAN DUPLICADO SU ACTIVO O SUS VENTAS EN EL TERMINO DE UN AÑO, CONFORME SURJA DE EECC AUDITADOS. 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(SUPERANDO LOS $600.000.-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CONTADOR COMO AUDITOR EXTER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4360" y="1557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MITE OPINION RESPECTO “SENSOR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QUISITO ESENCIAL INDEPENDENC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LO LE INTERESA LO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</a:rPr>
              <a:t>SIGNIFICATI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MPLIMIENTO DE LAS NORMAS CONTABLES VIGENT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PINION = INFORME BREVE SUSTENTADO EN PROCEDIMI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</a:rPr>
              <a:t>PAPELES DE TRABAJO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RESPAL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7927-98AB-46B7-94F0-F2AEF74614C8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ADDF-FAB4-49A7-8D09-F77F8393C8E8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54524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U.I.F - RESOLUCION 65/2011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APITULO II. POLITICAS PARA PREVENIR E IMPEDIR EL LDA Y LFDT 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(arts. 3 a 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mic Sans MS"/>
              </a:rPr>
              <a:t>ART 3 .ADOPTAR POLITICA DE PREVENCION DE CONFORMIDAD A LA NORMATIVA LEGAL Y PROFESIONAL.  AL MENOS DEBERA CONTEMPLA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ELABORACION DE UN MANUAL CON MECANISMOS Y PROCEDIMIENTOS CONFORME EL TIPO DE SERVICIO QUE PRESTE. </a:t>
            </a:r>
            <a:r>
              <a:rPr b="1" lang="es-MX" sz="2200" spc="-1" strike="noStrike">
                <a:solidFill>
                  <a:srgbClr val="ff0000"/>
                </a:solidFill>
                <a:latin typeface="Comic Sans MS"/>
              </a:rPr>
              <a:t>(*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CAPACITAR AL PERS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ELABORAR UN REGISTRO ESCRITO DEL ANALISIS Y CONTROL DE RIESGO DE LAS O.S. REPORTAD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Comic Sans MS"/>
              </a:rPr>
              <a:t>IMPLEMENTACION DE HERRAMIENTAS TECNOLOGIC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0000"/>
                </a:solidFill>
                <a:latin typeface="Comic Sans MS"/>
              </a:rPr>
              <a:t>(*) … de acuerdo con las normas que emitan los CP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2493-E3F3-48A4-9557-E5A8FCF8AAB3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54524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U.I.F - RESOLUCION 65/2011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APITULO II. POLITICAS PARA PREVENIR E IMPEDIR EL LDA Y LFDT 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(arts. 3 a 7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RT. 4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EL MANUAL DE PROCEDIMIENTOS DEBERA CONTEMPLAR LOS REQUERIMIENTOS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Comic Sans MS"/>
              </a:rPr>
              <a:t>QUE ESTABLEZCAN LAS NORMAS DE LOS CP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OLITICAS COORDINADAS DE CONT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OLITICAS DE PREVENC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LAS FUNCIONES DE AUDITORÍA Y DE CONTROL INTER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NCIONES QUE CADA PROFESIONAL DEBE CUMPLIR CON CADA UNO DE LOS MECANISMOS DE PREVENC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LOS SISTEMAS DE CAPACITAC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POLITICAS Y PROCEDIMIENTOS DE CONSERVACION DE DOCUMENT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 PROCESO PARA ATENDER REQUERIMIENTOS DE LA UI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METODOLOGIAS Y CRITERIOS PARA ANALIZAR Y EVALUAR LA INFORMACION, PARA DETECTAR OPERACIONES INUSUALES Y SOSPECHOSAS Y EL MODO DE SU REPOR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OTROS MECANISMOS PREVENTIVOS Y DETECTIV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4 Diagrama" descr=""/>
          <p:cNvPicPr/>
          <p:nvPr/>
        </p:nvPicPr>
        <p:blipFill>
          <a:blip r:embed="rId1"/>
          <a:stretch/>
        </p:blipFill>
        <p:spPr>
          <a:xfrm>
            <a:off x="158760" y="139680"/>
            <a:ext cx="8747280" cy="155592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3"/>
          <p:cNvSpPr/>
          <p:nvPr/>
        </p:nvSpPr>
        <p:spPr>
          <a:xfrm>
            <a:off x="395280" y="1916280"/>
            <a:ext cx="8209080" cy="1657080"/>
          </a:xfrm>
          <a:prstGeom prst="wedgeRoundRectCallout">
            <a:avLst>
              <a:gd name="adj1" fmla="val -1305"/>
              <a:gd name="adj2" fmla="val 80333"/>
              <a:gd name="adj3" fmla="val 16667"/>
            </a:avLst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Comic Sans MS"/>
              </a:rPr>
              <a:t>establecer un ranking cuantitativo y/o cualitativo de los riesgos implícitos de los diversos tipos de operaciones de los clientes del Estudio que cumplan con los requisitos enunciados en base a la información disponib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5 Diagrama" descr=""/>
          <p:cNvPicPr/>
          <p:nvPr/>
        </p:nvPicPr>
        <p:blipFill>
          <a:blip r:embed="rId2"/>
          <a:stretch/>
        </p:blipFill>
        <p:spPr>
          <a:xfrm>
            <a:off x="195120" y="4218120"/>
            <a:ext cx="87235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0" y="189000"/>
          <a:ext cx="9144000" cy="6330960"/>
        </p:xfrm>
        <a:graphic>
          <a:graphicData uri="http://schemas.openxmlformats.org/drawingml/2006/table">
            <a:tbl>
              <a:tblPr/>
              <a:tblGrid>
                <a:gridCol w="3635280"/>
                <a:gridCol w="1873440"/>
                <a:gridCol w="1295280"/>
                <a:gridCol w="1224000"/>
                <a:gridCol w="1116000"/>
              </a:tblGrid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ámet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ta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ndera-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ora-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sul-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storia del cli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mbio de gerencias o due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po, volumen y frecuencia de las transac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v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álisis de EE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igen capit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ferencia de terce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cedimientos reforz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oración = relación entre el parámetro y la valoración; Resultado = relación entre ponderación y valo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0" y="189000"/>
          <a:ext cx="9144000" cy="6611760"/>
        </p:xfrm>
        <a:graphic>
          <a:graphicData uri="http://schemas.openxmlformats.org/drawingml/2006/table">
            <a:tbl>
              <a:tblPr/>
              <a:tblGrid>
                <a:gridCol w="3564000"/>
                <a:gridCol w="4070160"/>
                <a:gridCol w="766800"/>
                <a:gridCol w="7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ámet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ta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istoria del cli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ditado por nuestro Estudio des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mbio de gerencias o due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stantes desde hace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umen y frecuencia de las transacci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oducto con bajas probabilidades de robo. Volumen de producción medi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ctivida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ábrica de pastas fres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álisis de EEC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álisis comparativo últimos tres ejerci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sumen riesgo cli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sumen riesgo 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sumen factores riesgo mayor que el nor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asta 60 = riesgo bajo; 61 a 80 = riesgo medio; de 81 a 95 riesgo alto; de 96 a 100 = rechazo del cli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4FF3-6992-472B-9269-095C9388E501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RT. 17. LA POLITICA DE CONOCIMIENTO DEL CLIENTE, DEBE CONTENER CRITERIOS MEDIDAS Y PROCEDIMIENTOS , AL MEN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ANALISIS DE LAS VARIACIONES DE LAS OPERACIONES REALIZADAS POR LOS CLIENTES, EN RELACION CON LA OBTENIDA ANTERIORM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LA DETERMINACION DE UN PERFIL TRANSACCIONAL DEL CLIEN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LA IDENTIFICACION DE OPERACIONES QUE SE APARTAN DEL PERFI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RT. 18. EL PERFIL TRANSACCIONAL DEBE ESTAR BASADO EN INFORMACION PROPORCIONADA POR EL CLIENTE  Y EN EL MONTO, TIPO , NATURALEZA Y FRECUENCIA DE LAS OPERACIONES HABITUALES, ASI COMO EL ORIGEN Y DESTINO DE LOS RECURSOS Y EL CONOCIMIENTO DE LOS EMPLE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684360" y="0"/>
            <a:ext cx="75452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U.I.F - RESOLUCION 65/2011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APITULO III. POLITICA DE IDENTIFICACION Y CONOCIMIENTO DEL CLIENTE ART. 21 a) LEY 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(arts. 8 a 2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5B79-245D-4078-8925-01C7A1766F06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51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RT. 19. LOS SUJETOS OBLIGADOS DEBERAN CONSERVAR DURANTE UN PERIODO DE 10 AÑ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RESPECTO DE LA IDENTIFICACION DEL CLIENTE: LAS COPIAS DE LOS DOCUMENTOS EXIGI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RESPECTO DE LAS TRANSACCIONES U OPERACIONES LAS COPIAS DE LA DOCUMENTACION ORIGINAL,LOS PAPELES DE TRABAJO 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L REGISTRO DEL ANALISIS DE LAS O.S. REPORTA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RT. 20. LAS OBLIGACIONES EMERGENTES DEL PRESENTE CAPITULO NO PODRAN SER DELEGADAS EN TERCEROS AJENOS A LOS SUJETOS OBLIG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684360" y="0"/>
            <a:ext cx="75452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U.I.F - RESOLUCION 65/2011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APITULO III. POLITICA DE IDENTIFICACION Y CONOCIMIENTO DEL CLIENTE ART. 21 a) LEY </a:t>
            </a:r>
            <a:r>
              <a:rPr b="1" i="1" lang="es-ES" sz="2000" spc="-1" strike="noStrike">
                <a:solidFill>
                  <a:srgbClr val="000000"/>
                </a:solidFill>
                <a:latin typeface="Comic Sans MS"/>
              </a:rPr>
              <a:t>(arts. 8 a 2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650A-73FA-4F71-AB5B-1840B0AE0656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19280" y="260280"/>
            <a:ext cx="8424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U.I.F - RESOLUCION 65/2011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APITULO IV. REPORTE (hasta ART. 27)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APITULO V. SANCIONES (ART 28)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CAPITULO VI DISPOSICIONES TRANSITORIAS (art 29 a 31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RT. 26  EL REPORTE DE OPERACIONES SOSPECHOSAS DEBERA AJUSTARSE A LO ESTABLECIDO EN LA RESOLUCION UIF 51/201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RT 27. EL S.O. DEBERA ELABORAR UN REGISTRO O BASE DE DATOS QUE CONTENGA IDENTIFICADOS TODOS LOS SUPUESTOS EN QUE HAYAN EXISTIDO O. S. ESTA DEBERA SER SUFICIENTE PARA LA RECONSTRUCCION DE LAS O.S. Y SERVIR DE PRUEBA EN EVENTUALES ACCIONES JUDICI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RT 28. CUALQUIER INCUMPLIMIENTO SE SANCIONARÁ CONFORME EL CAP. IV LEY 2524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RT.29. VIGENC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RT 30 Y 31 DE FORM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7D90-EAE2-4115-8515-4905DC608768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503280" y="762120"/>
            <a:ext cx="8640720" cy="53337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CONSIDERACION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ACERCA DE L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OBLIGACION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LEGALES Y PROFESIONALES PARA AUDITORES Y SÍNDIC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omic Sans MS"/>
              </a:rPr>
              <a:t>RESOLUCION 420/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DE LA FACP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9209-5A66-4456-97CA-0910C91CFD02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RESOLUCION 420/11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FACPCE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SEGUNDA PAR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641600"/>
            <a:ext cx="91440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PROFESIONALES EN CS. ECOM. ALCANZADOS (2.20 a 2.2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INTERPRETACION DE VENT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ONDICION SE SUPERE EL LIMITE DE $ 600.000.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 COMPRENDE REVISIONES LIMITADAS, CERTIFICACIONES O INVESTIGACIONES ESPECI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L PROFESIONAL QUE FIRMA ES RESPONSABLE NO SUS ASIST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I SE EXTIENDE A LA FIRMA EL CUMPLIMIEN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 SE PREVE ACTUALIZACION AUTOMATICA DE LOS $ 8.000.000.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7B7A-5ADB-4D84-ADA6-F5FEBAD3C7F1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85680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CONTADOR = AUDITOR EXTER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 INTERESA LO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</a:rPr>
              <a:t>SIGNIFICATI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 deja constancia de ese “umbral” en lo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Comic Sans MS"/>
              </a:rPr>
              <a:t>PAPELES DE TRABAJO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RESPAL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ENCIAL PARA PROBAR LA 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Comic Sans MS"/>
              </a:rPr>
              <a:t>AUSENCIA DE DOLO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N CASO DE PRETENDER IMPUTARLE  RESPONSABILIDAD EN MATERIA DE LDA O FD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41BB-A3E9-43CC-BD35-3520F1CFA9E6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RESOLUCION 420/11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FACPCE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SEGUNDA PAR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641600"/>
            <a:ext cx="883908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DEBER DE INFORMAR (2.24 a 2.2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LEY MARCA UN LIMITE DE $ 300.000.- QUE DEBE SER VALORADO CON LA SIGNIFICAC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IMPORTANCIA DE LA FIJACION DE LA MUESTRA DE AUDITORIA = SIGNIFICAC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ETECTADA UNA O.I. DEBE SER INVESTIGADA Y SI ES SOSPECHOSA REPORTAR DENTRO DE LOS 150 DIAS MEDIANTE UN ROS E INFORME FUNDADO </a:t>
            </a:r>
            <a:r>
              <a:rPr b="1" i="1" lang="es-ES" sz="2400" spc="-1" strike="noStrike">
                <a:solidFill>
                  <a:srgbClr val="000000"/>
                </a:solidFill>
                <a:latin typeface="Comic Sans MS"/>
              </a:rPr>
              <a:t>(NO MAS ALLA DEL INFORME DE AUDITORÍ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EGAJO DE REPORTE CON TODA LA DOCUMENTACION Y LA OPINION FUNDADA RESPECTO DE LA SOSPECHA DE LA TRANSACCION  INFORM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D8FD-0A9D-4EC4-A634-B50FB641119B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RESOLUCION 420/11 FACPCE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SEGUNDA PAR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9144000" cy="5629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PROGRAMAS DE TRABAJO ANTILAVADO (2.34 a 2.3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ISEÑAR E INCORPORARLOS A SUS PROCEDIMIENTOS DE AUDITORIA Y SINDICAT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ROCEDIMIENTOS SOBRE MUESTRAS REPRESENTATIVAS DE OPERACIONES O RUBROS DE MAYOR RIESGO, SEGÚN CRITE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Comic Sans MS"/>
              </a:rPr>
              <a:t>DIFERENCIA ESENCIAL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 SI SE TRATA DE SUJETOS OBLIGADOS DE LOS “NO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ART 20 = EVALUAR CONTROL INTERN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62600" indent="-5227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EMITIR INFORME ANUAL SOBRE CUMPLIMIEN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62600" indent="-5227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PARA EL RESTO DE OPERACIONES NO ALCANZADAS POR LAS NORMAS DE C.I. APLICAR PROCEDIMIENTOS CONFORME PUNTO 4.1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RESTO = BUSCAR “O.I.” EVALUAR Y VER SI SON “O.S.” MEDIANTE PROCEDIMIENTOS DE 4.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6F47-CDD1-48D9-A39D-675386FDF5CA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RESOLUCION 420/11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FACPCE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SEGUNDA PAR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92888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TIPIFICACION DEL DELITO y RESPONSABILIDADES DEL PROFESIONAL – PENALIDADES (2.36 a 2.4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LA CONDUCTA DE LOS PROFESIONALES SOLO RESULTARA PENALMENTE PUNIBLE EN LA MEDIDA QUE RESPONDA A UNA ACTUACION A SABIENDAS, ESTO ES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DOLO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0000"/>
                </a:solidFill>
                <a:uFillTx/>
                <a:latin typeface="Comic Sans MS"/>
              </a:rPr>
              <a:t>PARA EVITAR SER CUESTIONADO POR UNA PRESUNTA ACTITUD OMISIVA O NEGLIGENTE, ES IMPORTANTE QUE DEMUESTRE QUE APLICÓ LA LEY, LA RES. 65/2011 Y LA 420/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0000"/>
                </a:solidFill>
                <a:uFillTx/>
                <a:latin typeface="Comic Sans MS"/>
              </a:rPr>
              <a:t>REGISTRACION ANTE LA U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1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5259-9514-4C07-9DDB-EF40458DE3E0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-3808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RESOLUCION 420/11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FACPCE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SEGUNDA PAR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4. NORMAS PARTICULAR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ROCEDIMIENTOS A APLICAR 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UJETOS ART. 20 (4.1 a 4.4) ANEX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UJETOS NO OBLIGADOS (4.5 a 4.13) ANEXOS  B.I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y B.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OBRE EL CONTENIDO DE LOS INFOR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SPECIALES (4.14 a 4.15) ANEXO C.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OBRE CONTROL INTERNO SEGÚN RESOLUCIÓN 3/2004 UIF (4.16) ANEXO C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7824-4A5A-4D22-A75B-A47DCB0DC1A7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RESOLUCION 420/11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FACPCE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SEGUNDA PAR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Comic Sans MS"/>
              </a:rPr>
              <a:t>4. NORMAS PARTICULAR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IMPACTO EN LOS INFORMES DE AUDITOR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ESPONSABILIDADES (4.17 a 4.2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DEBILIDADES DE CONTROL INTERNO (4.21 a 4.2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R.O.S. (4.24 a 4.2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IMPACTO EN LOS INFORMES DE SINDICATURA ( 4.2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INCLUSION DE MANIFESTACION EN INFORME SOBRE APLICACIÓN PROCEDIMIENTOS PREVENCION LDA Y FDT (4.2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A532-827C-4B2D-9874-628C8B1B9C65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RESOLUCION 420/11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FACPCE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omic Sans MS"/>
              </a:rPr>
              <a:t>SEGUNDA PAR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0" y="149976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Comic Sans MS"/>
              </a:rPr>
              <a:t>ANEXO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EN 67 CARILLAS SE INCORPOR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ROGRAMAS DE TRABAJO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ORIENTACIONES DE PARRAFOS EN CARTA ACUERDO Y GERENCIA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MODELOS DE INFORMES Y PARRAFOS DE ELLO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MODELOS DE IDENTIFICACION DE CLIENTE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PROCEDIMIENTOS REFORZADOS (PEPS) 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Comic Sans MS"/>
              </a:rPr>
              <a:t>QUE MERECEN SU DETENIDA LECT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6084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6084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60840" indent="0"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1 Marcador de pie de página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Jorge H Santesteban Hu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2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C138-F1F2-4457-A804-DEE2BD9ED9EA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3 Rectángulo"/>
          <p:cNvSpPr/>
          <p:nvPr/>
        </p:nvSpPr>
        <p:spPr>
          <a:xfrm>
            <a:off x="285840" y="857160"/>
            <a:ext cx="8501040" cy="70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Conocimiento previo de la ley, resoluciones de la UIF y normas profesionales aplicables.  Conveniente también conocer las cuarenta recomendaciones del GAF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istinción entre clientes incluidos o no en el art 20 de la ley 25.24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Activo superior a $ 8.000.000.-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n caso de duplicarse activo o ventas, el crecimiento debe superar los $ 600.000.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 corresponder : Inscribirse en la UIF.  Pagina web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iseñar una Política Global Antilavado del Estudi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4 Rectángulo"/>
          <p:cNvSpPr/>
          <p:nvPr/>
        </p:nvSpPr>
        <p:spPr>
          <a:xfrm>
            <a:off x="1571760" y="35712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1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1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1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4CD6-CC11-42CF-88AB-A1C8A2D65169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240" y="836640"/>
            <a:ext cx="8915400" cy="57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laborar un Manual de Control interno del Estudio / Firma Anti lav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Preparar programa global anti lava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Confeccionar programas de trabajo con procedimientos adecuados por rangos de clientes, con base en las normas profesion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Conozca a su cliente. Confeccionar legajo de cada uno alcanzado. Establezca un perfil de riesgo de cada cli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termine rango de significación del servicio a prest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Emita y conserve adecuados papeles de trabaj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9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4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9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4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9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4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CEB9-AAD6-42A8-ADFF-3DF0ED4D1477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052280"/>
            <a:ext cx="861048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istinga entre operación usual, inusual y sospecho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Lleve a cabo un debido proceso de identificación y “clarificación” de las operaciones inusua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 calificarse como sospechosas: Reporte en los plazos estableci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 Reportar, lleve registro del Repor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e Reportar, evaluar el dilema ético de mantener al Cli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1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6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1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6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1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B795-9C93-4F70-AA5C-3FCE841A1B9E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240" y="1071360"/>
            <a:ext cx="891540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Capacítese y extienda la capacitación al personal profesional o afectado a auditorías o colaboración en sindicaturas societarias al menos una vez al añ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ncorpore herramientas tecnológicas a los procedimien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Incorpore un párrafo en su informe de auditoría o sindicatura societaria, que se refiera a la aplicación de la nor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8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3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8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969D-4548-43C6-9996-50DE7F4E0AC2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PAPELES DE TRABAJ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ocumentación de la AUDITOR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contador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debe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ocumentar apropiadamente su trabaj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papeles de trabajo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deben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conten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descripción de la t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datos y antecedentes recogi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conclusiones particulares y genera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programas de trabajo escritos con la indicación de su cumplimiento 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elementos de juicio válidos y suficientes reunidos por el contador en el desarrollo de su tarea constituyen el conjunto de sus papeles de trabaj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D48D-A317-4AB2-B0BC-4D1F6F9C6B6C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600" y="5105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jsantesteban@fibertel.com.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WordArt 1027"/>
          <p:cNvSpPr txBox="1"/>
          <p:nvPr/>
        </p:nvSpPr>
        <p:spPr>
          <a:xfrm>
            <a:off x="2057400" y="1828800"/>
            <a:ext cx="5257800" cy="27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UCHAS GRACIA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AE21-BE01-40BC-8880-F58628423EB0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PAPELES DE TRABAJ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ocumentación del encar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contador 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alibri"/>
              </a:rPr>
              <a:t>debe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conservar, en un soporte adecuado a las circunstancias y por el plazo que fijen las normas legales o por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alibri"/>
              </a:rPr>
              <a:t>diez años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, el que fuera mayor, los papeles de trabajo, una copia de los informes emitidos y, en su caso, una copia de los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stados contables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u otra información objeto del encargo, firmada por el representante legal del ente al que tales 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stados contables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o información correspond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E3E1-9211-42A2-A768-8FC5320CE328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mic Sans MS"/>
              </a:rPr>
              <a:t>AUDITOR EXTER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14240" y="92844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MODIFICA LA ESENCIA DEL TRABAJO DEL AUDITOR, CUAL ES EL EXAMEN DE LOS EEFF PARA REVISAR SI CUMPLEN CON LAS NORMAS CONTABLES DE APLIC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HORA………ADEMAS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NECESARIO, POR SER UN SUJETO OBLIGADO, QUE UTILICE RECURSOS DE LA AUDITORIA FORENSE EN LA BUSQUEDA DE UN FRAUDE ESPECI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Comic Sans MS"/>
              </a:rPr>
              <a:t>EL LAVADO DE DINER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Lavado de Ac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s el proceso de apariencia legitima a ingresos ilegíti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Encubrir la existencia ilegal de una fuente de ingresos o la aplicación de los mis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Procesos de ocultamiento de dinero de origen ilegal y los subsiguientes actos para hacerlos aparecer como legítim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9E57-4C89-4D13-AFB3-0F9416F6956D}" type="slidenum">
              <a:rPr b="0" lang="es-E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19:42:14Z</dcterms:created>
  <dc:creator>..</dc:creator>
  <dc:description/>
  <dc:language>en-US</dc:language>
  <cp:lastModifiedBy>Jorge Santesteban Hunter</cp:lastModifiedBy>
  <dcterms:modified xsi:type="dcterms:W3CDTF">2012-09-25T12:33:48Z</dcterms:modified>
  <cp:revision>243</cp:revision>
  <dc:subject/>
  <dc:title>Sin título de diapositiva</dc:title>
</cp:coreProperties>
</file>