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A1E-06AF-4D13-9571-FAADF4C1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D86-8C8D-4B10-8352-99FD5059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893-254C-4C63-8838-9AB63989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59E-7563-427B-B27E-078EB75C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7689-6672-4646-B113-24686141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5D40-F979-46DE-92C2-3889B335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C408-4196-4F0F-9AB9-210DF70D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96C2-94DD-4788-898B-D1DF6A87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C243-D9C9-4F40-ADF4-5EC40BC4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00F2-E4B2-4848-8B08-A7B86676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C77D-B4FD-4C47-916F-011710D7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B5D-D3D5-4F10-B318-C3274B75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B37C-4E5D-44F0-8E11-3CE7D326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97D2-05EA-4D88-B747-4DCB6BCD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B097-4111-4BBA-8EA4-15724609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18BB-5088-410E-9512-49CA3F8B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9A1D-6383-48C2-BD4D-B5A18D01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A77-7AA0-4BB5-B0CF-0F8D88C7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938-247F-4091-AAD8-9C5C0F9E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307-9578-4754-8A11-A5DCCC38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E27-022D-4FA8-8FDB-8FD1819A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AA1-C9BD-4AD4-B12F-5E4FE341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3F2-6ED5-4463-A931-0D3C03C7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8B4-0A82-4291-929D-3B4D15D2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97B3-A9C3-4011-938F-57527CB665F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6E0F-D0BD-445E-A4FF-A4990786651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6666"/>
                </a:solidFill>
                <a:uFillTx/>
                <a:latin typeface="Arial"/>
              </a:rPr>
              <a:t>PROBLEMÁTICA DE LOS REGIMENES DE RETENCION Y PERCEPCI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Verdana"/>
              </a:rPr>
              <a:t>Ventajas y peligros de la utilización de estas herramient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Verdana"/>
              </a:rPr>
              <a:t>Diferencias entre contribuyente, responsable por deuda ajena y sustitut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Verdana"/>
              </a:rPr>
              <a:t>Criterios para designación de agentes de recaudació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. Cr. Santiago Saenz Valien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093-F013-4B57-A62A-D8CC6EDE6C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6666"/>
                </a:solidFill>
                <a:uFillTx/>
                <a:latin typeface="Arial"/>
              </a:rPr>
              <a:t>INCONVENIENTES PUNTUALES PRODUCIDOS POR LAS RETENCIONE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Verdana"/>
              </a:rPr>
              <a:t>Retenciones en tributos de período mensual cuando ya se ingresó la obligación fisc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Alternativa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Demostrar al agente el ingreso previo del impuest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Lograr la devolución inmediata del saldo a favor generado por la retención sufrid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Devolución por el agente de retención y compensación de dicho pago con otras obligacion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. Cr. Santiago Saenz Valien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EAE-EE3C-4AEB-867A-4B434BA4AE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6666"/>
                </a:solidFill>
                <a:uFillTx/>
                <a:latin typeface="Arial"/>
              </a:rPr>
              <a:t>OTROS PROBLEMAS DERIVADOS DE LAS OMISIONES DE PERCEPCION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Verdana"/>
              </a:rPr>
              <a:t>Responsabilidad solidaria del agente de retención por su omisió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Verdana"/>
              </a:rPr>
              <a:t>Exigencia al contribuyente de la percepción omitida a pesar de haber ingresado el tributo de dicha operació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. Cr. Santiago Saenz Valien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1F7-1762-42C4-AEFE-3FDDF58882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6666"/>
                </a:solidFill>
                <a:uFillTx/>
                <a:latin typeface="Arial"/>
              </a:rPr>
              <a:t>BENEFICIARIOS DEL EXTERIO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Verdana"/>
              </a:rPr>
              <a:t>Pautas fundamentales de retención en carácter de pago único y definitiv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Verdana"/>
              </a:rPr>
              <a:t>Su vinculación con los Convenios de Doble Imposició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Verdana"/>
              </a:rPr>
              <a:t>Consideración del agente como Responsable Sustituto. Análisis de esta categoría de sujet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. Cr. Santiago Saenz Valien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61D-4A77-4336-BED1-09CA1A002F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6666"/>
                </a:solidFill>
                <a:uFillTx/>
                <a:latin typeface="Arial"/>
              </a:rPr>
              <a:t>RESPONSABILIDADES DERIVADA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Solidaria: Es indirecta, es por conducta de un tercer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Subsidiaria: Fisco puede perseguir luego de ejecutar bienes del deud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Sustituta: El presupuesto de hecho de sustitución es distinto al HI. Se desplaza la obligación. Disposición expres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. Cr. Santiago Saenz Valien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E3C-806A-49A9-8DB5-5AD564B4CC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06240" y="357120"/>
            <a:ext cx="690732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6666"/>
                </a:solidFill>
                <a:uFillTx/>
                <a:latin typeface="Arial"/>
              </a:rPr>
              <a:t>DISPONIBILIDAD DE LA RENTA (INSTRUMENTOS DE CREDITO)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Diferentes modos de cancelación de obligacion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Diferencias entre cheque común y de pago diferi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rt 18 LIG : Disponibilida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creditación en cuenta : Decisión de su destino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fecto liberatorio del pago : Novació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. Cr. Santiago Saenz Valien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067-A0CB-4BD6-AD21-C957D7E91E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6666"/>
                </a:solidFill>
                <a:uFillTx/>
                <a:latin typeface="Arial"/>
              </a:rPr>
              <a:t>CONCLUSIONES y PROPUESTAS (I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mitar la cantidad y casos de aplicación de regimenes de retención y percepción. Evitar duplicaciones y saldos a favor constan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gilizar y cumplir régimen de devoluciones y de exclusió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os agentes de retención deben ser aquellos con posibilidades reales de cumplir esta carga pública. Deben adecuarse los montos de ingresos o ventas fijados actualmen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. Cr. Santiago Saenz Valien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08A-CAF4-48BF-ABA5-EF88CB9191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6666"/>
                </a:solidFill>
                <a:uFillTx/>
                <a:latin typeface="Arial"/>
              </a:rPr>
              <a:t>CONCLUSIONES Y PROPUESTAS (II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nstrumentar alternativas para resolver la cuestión de retención cuando el impuesto ya fue ingresado en operaciones esporád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r que si hubo omisión de actuar como agente de recaudación,  y el responsable acredita que el sujeto pasible ingreso el impuesto , solo deba afrontar el sumario que juzgue su conducta frente a la omisión producida. Derecho a reembols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. Cr. Santiago Saenz Valien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B58-2EC3-4429-A100-DB0A722A16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6666"/>
                </a:solidFill>
                <a:uFillTx/>
                <a:latin typeface="Arial"/>
              </a:rPr>
              <a:t>CONCLUSIONES Y PROPUESTAS (III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larificar el carácter de actuación de los agentes pagadores de beneficios al exterior. Responsabilidad sustituta.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terminar que cuando se cancela la operación con instrumentos de crédito no existe disponibilidad en tal momento y por tanto no corresponde retención en tal oportunidad. Pago neto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. Cr. Santiago Saenz Valien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308-C5DB-44EA-AC93-E9CFB3D950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5T04:39:44Z</dcterms:created>
  <dc:creator>Estudio Santiago Saenz Valiente y Asoc.</dc:creator>
  <dc:description/>
  <dc:language>en-US</dc:language>
  <cp:lastModifiedBy>C.P.C.E.C.A.B.A.</cp:lastModifiedBy>
  <dcterms:modified xsi:type="dcterms:W3CDTF">2005-11-24T15:32:52Z</dcterms:modified>
  <cp:revision>18</cp:revision>
  <dc:subject/>
  <dc:title>PROBLEMÁTICA DE LOS REGIMENES DE RETENCION Y PERCEPCION</dc:title>
</cp:coreProperties>
</file>