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372-6455-4FC3-A736-9B3DE8CE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B25-CD6F-41E7-98B0-B2944F3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126-430A-4F2F-8916-3390F1C3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E9D-DDAB-4909-87CC-9774AF48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16BB-7E12-4475-BFAC-0732F97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9DD0-3D6B-4F38-BF85-4FD7E06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7CC6-B3F0-4B26-A1BA-3C44CB5B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3F92-A483-4E17-B871-C6476D9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BB63-D0D1-4AFD-A6B4-1BCCDD48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ED3B-C1C6-493B-B4CC-7317EA52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9C50-33AF-4F2D-B878-8E1C5C1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265-3234-4955-9266-D15B1596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40E2-8E18-4F0E-83D3-261CC1C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D39-DFD8-45DD-9562-EA3D8DF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125-BB3E-4EA0-9C12-A68622D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D375-FB56-4184-A9F7-73EBD5B2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1B06-ED14-4C6C-97DA-C4858684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309-7276-4F3E-9396-B0C7BBC1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EA8-4807-46CE-9FEC-8856D708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8C1-DCA0-4A5D-86B7-597EE69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46E-5A83-47E8-A61C-87666CA4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9A4-11C1-42AC-8252-EBA48DC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95A-9AFF-45D2-A607-4D67415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959-363E-4F7D-921D-920AF42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9C10-9B85-40EE-B577-A1602DCF5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68FB-5E0F-4DF2-9B7B-1E35285D7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239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e5ffff"/>
                </a:solidFill>
                <a:latin typeface="Tahoma"/>
              </a:rPr>
              <a:t>Congreso Metropolitano de Ciencias Económicas</a:t>
            </a:r>
            <a:br>
              <a:rPr sz="4000"/>
            </a:br>
            <a:br>
              <a:rPr sz="4000"/>
            </a:br>
            <a:r>
              <a:rPr b="0" lang="es-AR" sz="4000" spc="-1" strike="noStrike">
                <a:solidFill>
                  <a:srgbClr val="e5ffff"/>
                </a:solidFill>
                <a:latin typeface="Tahoma"/>
              </a:rPr>
              <a:t>C.P.C.E.C.A.B.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Área II: TRIBU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ema 3: Aspectos controvertidos en el 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1774440"/>
            <a:ext cx="81378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operacione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Bolsas de Cereales,  Productores,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gentes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Ret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onvenientes en el  no cobro de la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volución sistemática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blemática de la  inclusión por primera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z en el  R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usas de bajas en el R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REGIMENES DE RETENCION EN LA COMERCIALIZACION DE GR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e5ffff"/>
                </a:solidFill>
                <a:uFillTx/>
                <a:latin typeface="Tahoma"/>
              </a:rPr>
              <a:t>JURISPRUDENCIA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ABORES CULTURALES VINCULADAS A LA  ALIMENTACION DE HACIENDA BOV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CTAMEN 13/99 (D.A.T.) 24.03.99- ALICUOTAS APLIC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- Capitalización de hacienda de inver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- Pasta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CTAMEN 14/99 (D.A.T.) 29.03.99-ENFARDADO Y ENSIL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- Enfardado,  almacenaje de pasturas o granos - alícuota general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- El pastaje gravado a tasa general (Dictamen 6/9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CTAMEN 34/99 (D.A.T.) 14.05.99-PASTURAS PARA ALIMENTACION TAMBO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stablecimientos de tambo – prestaci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- Responsabilidad por la diferencia de alícuo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ES_tradnl" sz="3200" spc="-1" strike="noStrike" u="sng">
                <a:solidFill>
                  <a:srgbClr val="e5ffff"/>
                </a:solidFill>
                <a:uFillTx/>
                <a:latin typeface="Tahoma"/>
              </a:rPr>
              <a:t>JURISPRUDENCIA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e5ffff"/>
                </a:solidFill>
                <a:latin typeface="Tahoma"/>
              </a:rPr>
              <a:t>OTROS TEMAS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ICTAMEN 79/98 (D.A.T.) 30.11.98-Tareas de selección,conservación y envasad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- Procesos que impliquen prepar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33cc"/>
                </a:solidFill>
                <a:latin typeface="Tahoma"/>
              </a:rPr>
              <a:t>Código Alimentario Argent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ICTAMEN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80/98 (D.A.T.)30.11.98 Frutas fres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- Servicios de refriger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DICTAMEN 11/2003 (D.A.T.) 20.02.2003-Plantines</a:t>
            </a: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- Ciclo de crecimineto o ma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DICTAMEN 49/04 (D.A.T.)- 3.08.2004 Productos agroquim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- Establecimientos frutihorti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  <a:ea typeface="Arial"/>
              </a:rPr>
              <a:t>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5ffff"/>
                </a:solidFill>
                <a:uFillTx/>
                <a:latin typeface="Tahoma"/>
              </a:rPr>
              <a:t>JURISPRUDENCIA </a:t>
            </a:r>
            <a:br>
              <a:rPr sz="2800"/>
            </a:br>
            <a:br>
              <a:rPr sz="2400"/>
            </a:br>
            <a:r>
              <a:rPr b="1" lang="es-ES_tradnl" sz="2400" spc="-1" strike="noStrike" u="sng">
                <a:solidFill>
                  <a:srgbClr val="e5ffff"/>
                </a:solidFill>
                <a:uFillTx/>
                <a:latin typeface="Tahoma"/>
              </a:rPr>
              <a:t>SERVICIOS PRESTADOS EN FORMA CONJUNTA O QUE DERIVAN DE ACTIVIDADES A TASA REDUCIDA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ICTAMEN 59/02 (D.A.L.) 20.06.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l fisco opina que: “los conceptos tales como comisiones, fletes, financiación, certificado, guías, etc. facturados en  ocasión de la comercialización de ganado en pie resultan alcanzados por la alícuota reducida 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Arial"/>
              </a:rPr>
              <a:t>DICTAMEN  55/04 (DAT) 01.09.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Arial"/>
              </a:rPr>
              <a:t>“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os conceptos liquidados en ocasión de la comercialización de cereales tales como comisiones, gastos de almacenaje y fletes -excepto intereses que constituyen un hecho imponible autónomo independiente-, resultarán alcanzados por la alícuota reducida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Arial"/>
              </a:rPr>
              <a:t> 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0" y="2163600"/>
            <a:ext cx="4572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IVA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 OPC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PAGO 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.P. Claudia A. Chiarad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0"/>
            <a:ext cx="82296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ERIODO FISCAL DE LIQUID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reto 1684/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y 25063/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G 597/99 - dero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a externa 6/99- dero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G 1745/65/2004 (AF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ctámenes DAT 87/94 – 67/96 – 59/97-67/00-25/2004 Dictamen DAL 15/0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5ffff"/>
                </a:solidFill>
                <a:uFillTx/>
                <a:latin typeface="Tahoma"/>
              </a:rPr>
              <a:t>LIQUIDACION ULTIMO MES</a:t>
            </a:r>
            <a:br>
              <a:rPr sz="3200"/>
            </a:br>
            <a:r>
              <a:rPr b="1" lang="es-MX" sz="3200" spc="-1" strike="noStrike" u="sng">
                <a:solidFill>
                  <a:srgbClr val="e5ffff"/>
                </a:solidFill>
                <a:uFillTx/>
                <a:latin typeface="Tahoma"/>
              </a:rPr>
              <a:t>RG 1765/2004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aldo a favor de libre disponibilidad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odrá ser utilizado  para cancelar los saldos a favor de la AFIP que correspondan a períodos fiscales mensuales devengados durante la vigencia de la opción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aldo a favor técnic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ólo podrá aplicarse a los débitos fiscales correspondientes a los períodos fiscales siguient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5ffff"/>
                </a:solidFill>
                <a:uFillTx/>
                <a:latin typeface="Tahoma"/>
              </a:rPr>
              <a:t>CONCEPTO DE ACTIVIDAD AGROPECUAR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Quedan comprendidas en la actividad agropecuaria las que tengan por finalidad el cultivo y obtención de productos de la tierra como así también la crianza y explotación de ganado y animales de granja, tales como fruticultura, horticultura, avicultura y apicultura. RG (DGI) 369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311040"/>
            <a:ext cx="89154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ACTIVIDAD “EXCLUSIVAMENTE AGROPECUARI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 87/94 (D.A.T.) 30.06.94 - SERVICIOS Y LO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opción de IVA anual sólo la pueden ejercer  los que realicen exclusivamente actividades agropecuarias, por lo que los que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resten servicios o locaciones gravad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exentas, o no alcanzad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or el impuesto además de una actividad agropecuaria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no  puede ejercer la op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 67/96 (D.A.T.) 26.06.96- ACTIVIDADES CONJUNTAS Y/O COMPLEMENT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resulta procedente la opción de IVA anual cuando se realizan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servicios agropecuari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los que si bien se desarrollan en forma conjunta, tornan improcedente la posibilidad de opción de IVA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96920"/>
            <a:ext cx="847224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 59/97 (D.A.T.) PRESTACIONES EN RELACION DE DEPEND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xclusividad se refiere a aquellas operaciones que determinan la responsabilidad frente al impuesto, por lo que si una persona tiene ingresos por relación de dependencia  y además posee un campo que explota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uede ejercer la opción de IVA  anua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  67/00 (DAT)- 29.12.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lusión por multiactividad.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Producción de sem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  25/2004 (D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cio sociedad de hecho agropecuaria y productor agropecuario- </a:t>
            </a: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son dos sujetos disti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206064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El IVA  en la Actividad Agropecuari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.P. Claudia A. Chiarad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34280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33cc"/>
              </a:buClr>
              <a:buFont typeface="Webdings" charset="2"/>
              <a:buChar char="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debería precisar en forma inequívoca el término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ctividad agropecuar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cc"/>
              </a:buClr>
              <a:buFont typeface="Webdings" charset="2"/>
              <a:buChar char=""/>
              <a:tabLst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nto los  ingresos en relación de dependencia, conceptos no alcanzados por el IVA,  como  los ingresos exentos en dicho gravamen   son conceptos que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no tien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repercusión en la declaración jurada de 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y por lo tanto en uno y otro caso no deberían provocar la expulsión de la opción an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046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PERIODO DE LIQUIDACION (IVA AN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333360"/>
            <a:ext cx="82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CONTRATOS AGROPECU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416520"/>
            <a:ext cx="806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92160"/>
                <a:tab algn="l" pos="449280"/>
                <a:tab algn="l" pos="549360"/>
                <a:tab algn="l" pos="1006560"/>
                <a:tab algn="l" pos="1463760"/>
                <a:tab algn="l" pos="1920960"/>
                <a:tab algn="l" pos="2378160"/>
                <a:tab algn="l" pos="2835360"/>
                <a:tab algn="l" pos="3292560"/>
                <a:tab algn="l" pos="3749760"/>
                <a:tab algn="l" pos="4206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92160"/>
                <a:tab algn="l" pos="449280"/>
                <a:tab algn="l" pos="549360"/>
                <a:tab algn="l" pos="1006560"/>
                <a:tab algn="l" pos="1463760"/>
                <a:tab algn="l" pos="1920960"/>
                <a:tab algn="l" pos="2378160"/>
                <a:tab algn="l" pos="2835360"/>
                <a:tab algn="l" pos="3292560"/>
                <a:tab algn="l" pos="3749760"/>
                <a:tab algn="l" pos="4206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92160"/>
                <a:tab algn="l" pos="449280"/>
                <a:tab algn="l" pos="549360"/>
                <a:tab algn="l" pos="1006560"/>
                <a:tab algn="l" pos="1463760"/>
                <a:tab algn="l" pos="1920960"/>
                <a:tab algn="l" pos="2378160"/>
                <a:tab algn="l" pos="2835360"/>
                <a:tab algn="l" pos="3292560"/>
                <a:tab algn="l" pos="3749760"/>
                <a:tab algn="l" pos="4206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biera asegurarse en los </a:t>
            </a:r>
            <a:r>
              <a:rPr b="1" lang="es-ES_tradnl" sz="2800" spc="-1" strike="noStrike">
                <a:solidFill>
                  <a:srgbClr val="ff33cc"/>
                </a:solidFill>
                <a:latin typeface="Arial"/>
              </a:rPr>
              <a:t>negocios agropecuari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tan variados en la actividad normas claras, para que los mismos se realicen en un marco de </a:t>
            </a:r>
            <a:r>
              <a:rPr b="1" lang="es-ES_tradnl" sz="2800" spc="-1" strike="noStrike">
                <a:solidFill>
                  <a:srgbClr val="ff33cc"/>
                </a:solidFill>
                <a:latin typeface="Arial"/>
              </a:rPr>
              <a:t>seguridad jurídic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fundamental  a la hora de determinar la correcta incidencia de la carga tributaria en cada uno de los contra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92160"/>
                <a:tab algn="l" pos="449280"/>
                <a:tab algn="l" pos="549360"/>
                <a:tab algn="l" pos="1006560"/>
                <a:tab algn="l" pos="1463760"/>
                <a:tab algn="l" pos="1920960"/>
                <a:tab algn="l" pos="2378160"/>
                <a:tab algn="l" pos="2835360"/>
                <a:tab algn="l" pos="3292560"/>
                <a:tab algn="l" pos="3749760"/>
                <a:tab algn="l" pos="4206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Webdings" charset="2"/>
              <a:buChar char=""/>
              <a:tabLst>
                <a:tab algn="l" pos="92160"/>
                <a:tab algn="l" pos="449280"/>
                <a:tab algn="l" pos="549360"/>
                <a:tab algn="l" pos="1006560"/>
                <a:tab algn="l" pos="1463760"/>
                <a:tab algn="l" pos="1920960"/>
                <a:tab algn="l" pos="2378160"/>
                <a:tab algn="l" pos="2835360"/>
                <a:tab algn="l" pos="3292560"/>
                <a:tab algn="l" pos="3749760"/>
                <a:tab algn="l" pos="4206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bieran  plasmarse en </a:t>
            </a:r>
            <a:r>
              <a:rPr b="1" lang="es-ES_tradnl" sz="2800" spc="-1" strike="noStrike">
                <a:solidFill>
                  <a:srgbClr val="ff33cc"/>
                </a:solidFill>
                <a:latin typeface="Arial"/>
              </a:rPr>
              <a:t>normas de mayor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33cc"/>
                </a:solidFill>
                <a:latin typeface="Arial"/>
              </a:rPr>
              <a:t>jerarquí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las opiniones vertidas por el fisco en meros dictáme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449280"/>
                <a:tab algn="l" pos="549360"/>
                <a:tab algn="l" pos="1006560"/>
                <a:tab algn="l" pos="1463760"/>
                <a:tab algn="l" pos="1920960"/>
                <a:tab algn="l" pos="2378160"/>
                <a:tab algn="l" pos="2835360"/>
                <a:tab algn="l" pos="3292560"/>
                <a:tab algn="l" pos="3749760"/>
                <a:tab algn="l" pos="4206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Los intereses como hecho </a:t>
            </a:r>
            <a:br>
              <a:rPr sz="3600"/>
            </a:b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imponible autónomo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ra. Mónica Ye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Algunos concept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rincipio de leg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eoría de la uni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eoría de la divisi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Normativa apli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ey del IVA, art. 10, 5º párr., pto.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Son integrantes del precio neto gravado -aunque se facturen o convengan por separado- y aun cuando considerados independientemente no se encuentren sometidos al gravam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2) Los intereses, actualizaciones, comisiones, recuperos de gastos y similares percibidos o devengados con motivo de pagos diferidos o fuera de térmi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Normativa apli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R, art. 10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os intereses originados en la financiación o el pago diferido o fuera de término, del precio correspondiente a las ventas, obras, locaciones o prestaciones, resultan alcanzados por el impuesto aun cuando las operaciones que dieron lugar a su determinación se encuentren exentas o no gravad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Normativa apli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ey del IVA, art. 10, 7º y 9º párr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tablecen la exclusión de la base imponible para los intereses por pago diferido en el caso de obras realizadas sobre inmueble propio y las operaciones de seguro o reasegu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Normativa apli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R, art. 2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Tratándose de los intereses a que se refiere el punto 2), del quinto párrafo del artículo 10 de la ley -incluidos los comprendidos en su segundo párrafo-, cuando se convengan y facturen discriminados del precio de la venta, obra, locación o prestación, el hecho imponible que los mismos originan se perfeccionará de acuerdo a lo dispuesto en el punto 7, del inciso b) del artículo 5º de la misma norma lega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Idéntico tratamiento será de aplicación para los hechos imponibles originados en los intereses a que se refiere el séptimo párrafo del citado artículo 10 de la ley, correspondientes al pago diferido por la venta de obras realizadas directamente o a través de terceros sobre inmueble propio y en los recargos financieros de las pólizas de seguro o reaseguro a que alude el noveno párrafo de la misma norma legal, que no integran el precio neto gravado de las referidas operacion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03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Jurisprude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7354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SUCESIÓN DE FRANCISCO LA GROTTERÍA - TFN - SALA B - 20/6/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ICT. (DAT) 23/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ICT. (DAT) 24/9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ICT. (DAT) 86/9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ICT. (DAT) 33/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ICT. (DAT) 34/0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ICT. (DAT) 52/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197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Intereses       Hecho imponible autóno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41300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03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Jurisprude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7354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BELGRANO DAY SCHOOL – TFN – SALA A – 4/11/2002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ICT. (DAT) 23/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HRYSE SA - CNCAF - SALA III - 15/10/20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ICT. (DAT) 59/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197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Intereses       Ilegalidad del D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41300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97812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 20.361 -  01/01/75 eximió a los productos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gropecu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  22.294 -  06/10/80, exención con crédito 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iscal  presu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  22.817 -  26/05/83   exención con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mputación del  crédito fiscal del IVA por 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ras contra el 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puesto a las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nancias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sobre los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pi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c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 23.765- 01/02/90  elimina la exención para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sector agropecuario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TRATAMIENTO DEL SECTOR AGROPECUARIO EN NUESTRO P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03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Jurisprude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7354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ICT. (DAT) 55/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ICT. (DAT) 49/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19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Segu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Doctr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Ilegalidad del D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Hecho imponible autóno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Los alcances de las exenciones</a:t>
            </a:r>
            <a:br>
              <a:rPr sz="3600"/>
            </a:b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 contempladas en el artículo 7.1 </a:t>
            </a:r>
            <a:br>
              <a:rPr sz="3600"/>
            </a:b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de la ley de IVA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. 7º, inc. h, pto. 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Las prestaciones y locaciones comprendidas en el apartado 21 del inciso e) del artículo 3º, que se indican a continu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6) Los servicios prestados por obras sociales creadas o reconocidas por normas legales nacionales o provinciales, por instituciones, entidades y asociaciones comprendidas en los incisos f), g) y m) del artículo 20 de la ley de impuesto a las ganancias (t.o. 1997 y modif.), por instituciones políticas sin fines de lucro y legalmente reconocidas, y por los colegios y consejos profesionales, cuando tales servicios se relacionen en forma directa con sus fines específ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Algunas leyes espe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glesia Catól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operadoras escola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ociaciones civiles sin fines de lucro que se dediquen a la educación, asistencia social y salud públ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Mut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Univers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ntidades depor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strucción general (DGI) 28/199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ey 25063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strucción general (AFIP) 5/20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ctamen 46/2002 P.T.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ey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592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strucción general (DGI) 28/199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disposiciones de la ley del impuesto al valor agregado, por tratarse de normas de carácter genérico, no afectan ni derogan beneficios concedidos a determinados sujetos por leyes especiales, las que de hallarse vigentes prevalecen sobre las previsiones de la ley del impues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06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 parcialmente las exenciones de carácter subjetivo pa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servicios de asistencia sanitaria, médica y paraméd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espectáculos y reuniones de carácter artístico, científico, cultural, teatral, musical, de canto, de danza, circenses, deportivos y cinematográf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06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1628640"/>
            <a:ext cx="2305080" cy="116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. 7 h)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3355920"/>
            <a:ext cx="2305080" cy="947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Otras no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1553400" y="2857320"/>
            <a:ext cx="383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Ex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1280" y="2060280"/>
            <a:ext cx="792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068640"/>
            <a:ext cx="8650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1628640"/>
            <a:ext cx="289080" cy="2664000"/>
          </a:xfrm>
          <a:custGeom>
            <a:avLst/>
            <a:gdLst>
              <a:gd name="textAreaLeft" fmla="*/ 0 w 289080"/>
              <a:gd name="textAreaRight" fmla="*/ 104400 w 28908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1280" y="1628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No resultan de aplicación respecto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318276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servicios mé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3213000"/>
            <a:ext cx="219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espectáculos o reun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4437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Excepto los brindados por las OS a sus afiliados obligatorios y por los Colegios o Consejos profesionales a sus matriculados, afiliados directos y grupos famili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44370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Excepto los espectáculos teatrales previstos en el art. 7º h)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299736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9973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29973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0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472428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Excepto regímenes de promoción económica, AFJP y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strucción general (AFIP) 5/20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ja sin efecto la instrucción general (DGI) 28/199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ley del impuesto al valor agregado, en tanto contiene disposiciones exentivas específicas, acota las franquicias genéricas contenidas en leyes u otras normas anteriores a su dict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0"/>
            <a:ext cx="81532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LÍCUOTA REDUC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Animales vivos de las especies de ganados  bovinos, ovinos, camélidos y caprinos (incluidos los convenios de capitalización de hacienda cuando corresponda liquidar el gravámen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 Carnes y despojos comestibles de animales de las especies anterio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3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Frutas, legumbres y hortalizas, frescas, refrigeradas o congeladas que no hayan sido sometidas a procesos que impliquen una verdadera cocción o elaboración que lo constituyan en un preparado del produ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Dictamen 46/2002 P.T.N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exenciones genéricas contenidas en normas especiales prevalecen sobre las disposiciones de la ley del impuesto al valor agreg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92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riterio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ningún caso serán de aplicación respecto del IVA las exenciones genéricas de impuestos, en cuanto no lo incluyan taxativ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limitación establecida en el párrafo anterior no será de aplicación cuando la exención referida a todo impuesto nacional se encuentre prevista en leyes vigentes al 9/9/200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92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ituación espe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inúa la limitación parcial de las exenciones subjetivas para los servicios de asistencia sanitaria, médica y paramédica y los espectáculos y reuniones de carácter artístico, científico, cultural, teatral, musical, de canto, de danza, circenses, deportivos y cinematográf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92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secuencias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erivadas de su apl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¿Se aplica a la totalidad de los hechos imponibles o únicamente a lo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rvicios incluidos en el artículo 3, inciso e), apartado 21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ceden respecto de l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totalida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 los hechos imponi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726080"/>
            <a:ext cx="10094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92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secuencias derivadas de su apl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legales que establecen exenciones genéricas y/o taxativas vigentes al 9/09/2004: prevalecen sobre las previsiones de la ley de 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3860640"/>
            <a:ext cx="1224000" cy="79236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5076720"/>
            <a:ext cx="705636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ectos respecto de hechos imponibles que hayan configurado con anterioridad al 09/09/2004 y aquellos que se perfeccionen a partir de dicha fe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92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secuencias derivadas de su apl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Normas legales especiales que establecen exenciones a partir del 09/09/2004: sólo en la medida que incluya taxativamente al IVA procederá la exención en el impues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860640"/>
            <a:ext cx="1224000" cy="79236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5076720"/>
            <a:ext cx="74167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ecto de las nuevas normas legales con aplicación a partir del 9/9/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Ley 2592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secuencias derivadas de su apl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xcepción a la aplicación de exenciones subjetivas: para los servicios de asistencia sanitaria, médica y paramédica y los espectáculos y reuniones de carácter artístico, científico, cultural, teatral, musical, de canto, de danza, circenses, deportivos y cinematográficos de acuerdo con lo dispuesto en el primer párrafo del artículo 7.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Exposición trabaj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res. Martín y Echavar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Síntesis fi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4360" y="3141720"/>
            <a:ext cx="77040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Resumen de ponencias, propuestas y conclu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r. César M. Caval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052640"/>
            <a:ext cx="80769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4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Miel de abejas a gran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5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Granos -cereales y oleaginosos, excluido arroz- y legumbres secas -porotos, arvejas y lentejas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6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Cuero bovino fresco o salado, seco, encal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7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Fertilizantes químicos para uso agrícola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800100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siguientes, obras, locaciones y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estaciones de servicios vinculadas con la obtención de bienes comprendidos en los puntos 1, 3 y 5 del inciso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abores cultur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eparación, roturación, etc., del suelo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Siembra y/o plan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3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Aplicaciones de agroquím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4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Fertilizantes y su apli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5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Cose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04920"/>
            <a:ext cx="853416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LÍCUOTA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Cultivos agríco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arr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flores y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algod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caña de azú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té, yerba 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taba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ltivo de especias y de plantas aromáticas y medic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oducción de semill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838080"/>
            <a:ext cx="813096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ría de an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ría de </a:t>
            </a:r>
            <a:r>
              <a:rPr b="1" lang="es-AR" sz="2800" spc="-1" strike="noStrike">
                <a:solidFill>
                  <a:srgbClr val="ff33cc"/>
                </a:solidFill>
                <a:latin typeface="Arial"/>
              </a:rPr>
              <a:t>ganado porcino equino</a:t>
            </a:r>
            <a:r>
              <a:rPr b="1" lang="es-A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y ot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ría de aves para producción de carne y hue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ría de animales para la obtención de pieles, cuer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(excepto bovi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ducción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eche, lana y hue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21464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blemas de interpretación entre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el F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sco y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ibuyentes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tenta contra la neutralidad del tributo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eneración de saldos técnicos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ool de siem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aplicación de una alícuota reducida con reg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enes de retenciones    percepción y pagos a cuenta incrementa  los efectos no dese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ería reducirse la tasa a los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insumos principales de la activi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Debería incrementarse   monto de la RG  3852/94($20.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INCONVENIENTES DE LA APLICACIÓN DE LA TASA REDUC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3:21:27Z</dcterms:created>
  <dc:creator>Cliente</dc:creator>
  <dc:description/>
  <dc:language>en-US</dc:language>
  <cp:lastModifiedBy>C.P.C.E.C.A.B.A.</cp:lastModifiedBy>
  <dcterms:modified xsi:type="dcterms:W3CDTF">2005-11-24T15:43:03Z</dcterms:modified>
  <cp:revision>28</cp:revision>
  <dc:subject/>
  <dc:title>Diapositiva 1</dc:title>
</cp:coreProperties>
</file>