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ADA-B50A-483A-8B7F-6FE8C4E7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864-02BB-494E-ABD4-07D30B04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51B-49D0-4896-9866-37D7EE2C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4DB-6924-40B3-80B9-EBAC6528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CF4-C43E-401C-A6DE-38A7D278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31B-C390-4B6B-B232-032CB5A5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DF3-C802-47FE-8B56-386DB67C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C9F-8A04-44E5-A31B-FF66DD5E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5D8-B778-40F6-9B25-C0695F7E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D16-9EB2-4C99-ACD5-7F0B61C7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276-FC30-4089-B938-C16EB835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579-0AEA-4B6E-A170-0560DAB9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ECB5-9DE6-40AD-955D-5CCC8DC53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270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95960" y="0"/>
            <a:ext cx="2048040" cy="270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76320" y="2819520"/>
            <a:ext cx="93963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b6d5"/>
                </a:solidFill>
                <a:latin typeface="Cooper Black"/>
              </a:rPr>
              <a:t>Potestades Tributari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b6d5"/>
                </a:solidFill>
                <a:latin typeface="Cooper Black"/>
              </a:rPr>
              <a:t>de los Municip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6381720"/>
            <a:ext cx="31687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8601"/>
                </a:solidFill>
                <a:latin typeface="Arial"/>
              </a:rPr>
              <a:t>Dra. Adriana Ad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69840" y="115920"/>
            <a:ext cx="7489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doni MT Condensed"/>
              </a:rPr>
              <a:t>Congreso Metropolitano de Ciencias Econó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doni MT Condensed"/>
              </a:rPr>
              <a:t>60º Anivers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3b6d5"/>
                </a:solidFill>
                <a:latin typeface="Cooper Black"/>
                <a:ea typeface="Times New Roman"/>
              </a:rPr>
              <a:t>Jurisprudencia de la </a:t>
            </a:r>
            <a:r>
              <a:rPr b="0" lang="es-MX" sz="3200" spc="-1" strike="noStrike">
                <a:solidFill>
                  <a:srgbClr val="43b6d5"/>
                </a:solidFill>
                <a:latin typeface="Cooper Black"/>
                <a:ea typeface="Times New Roman"/>
              </a:rPr>
              <a:t>Co</a:t>
            </a:r>
            <a:r>
              <a:rPr b="0" lang="es-ES" sz="3200" spc="-1" strike="noStrike">
                <a:solidFill>
                  <a:srgbClr val="43b6d5"/>
                </a:solidFill>
                <a:latin typeface="Cooper Black"/>
                <a:ea typeface="Times New Roman"/>
              </a:rPr>
              <a:t>misión </a:t>
            </a:r>
            <a:r>
              <a:rPr b="0" lang="es-MX" sz="3200" spc="-1" strike="noStrike">
                <a:solidFill>
                  <a:srgbClr val="43b6d5"/>
                </a:solidFill>
                <a:latin typeface="Cooper Black"/>
                <a:ea typeface="Times New Roman"/>
              </a:rPr>
              <a:t>A</a:t>
            </a:r>
            <a:r>
              <a:rPr b="0" lang="es-ES" sz="3200" spc="-1" strike="noStrike">
                <a:solidFill>
                  <a:srgbClr val="43b6d5"/>
                </a:solidFill>
                <a:latin typeface="Cooper Black"/>
                <a:ea typeface="Times New Roman"/>
              </a:rPr>
              <a:t>rbitral sobre la cuestión tributaria municip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. 8/95. Bca. Nazionales del Laboro c/Municipalidad de Rió cuarto-obligatoriedad del art. 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. 7/96;18/05; 25/05;35/2005, Obligatoriedad de aplicar los acuerdos de armonización tributaria, Convenios y ley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,aunque el municipio no lo haya suscript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. 32/03;6/05 distribución de la base im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.10/98/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6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xistencia o no de local habilitado depende de cada municipio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si  existe debe distribuirse el 100 % en el que este habilitado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(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ro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b6d5"/>
                </a:solidFill>
                <a:latin typeface="Cooper Black"/>
              </a:rPr>
              <a:t>Jurisprudencia comisión arbi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.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o pueden ser sometidos a cuotas fijas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(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PF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. 3/99- competencia sobre establecimiento de base imponible y actividades gravadas por cada tribut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. 48/04-distribución en supuesto de inicio de actividad cfe art. 14 inc a o b del Convenio , confirmo el criterio sustentado por municipalidad de Paraná .(casos Wal Mart y Electrónica Megatone 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3b6d5"/>
                </a:solidFill>
                <a:latin typeface="Cooper Black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4920" y="845640"/>
            <a:ext cx="820908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Necesidad de Acuerdos Interjurisdiccionales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de armonización de criterios sobre tributos muni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ey de coparticipación que armonice el criterio de concurrencia para la atribución de las fuentes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efinición de la CSJN sobre  las condiciones de legitimidad de las tasas y  otros tributos municipales 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Hasta las definiciones jurisprudenciales pendientes Derogación del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solve et repete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para la discusión ante la justicia ,atento el problema conceptual vigente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ara la existencia y legitimidad de la tasa de seguridad e higiene  es indispensable la existencia de local o establ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96360" y="761760"/>
            <a:ext cx="84963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Hasta un nuevo sistema integral,el art. 35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 aplica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  los municipios que opera como  limite a la potestad tributari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reación de un órgano supramunicipal provincial de interpre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finir potestades tributarias municipales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y los principios que deben  regir su imposició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s provincias definan política tributaria y si descentralizan  contemplen los recursos  para financiar los nuevos gastos, como asimismo  establezcan directivas para las administraciones fiscales municipales no avancen sobre los derechos de los contribuy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3b6d5"/>
                </a:solidFill>
                <a:latin typeface="Cooper Black"/>
              </a:rPr>
              <a:t>MUNICIPIOS </a:t>
            </a:r>
            <a:br>
              <a:rPr sz="3200"/>
            </a:br>
            <a:r>
              <a:rPr b="0" lang="es-MX" sz="3200" spc="-1" strike="noStrike">
                <a:solidFill>
                  <a:srgbClr val="43b6d5"/>
                </a:solidFill>
                <a:latin typeface="Cooper Black"/>
              </a:rPr>
              <a:t> </a:t>
            </a:r>
            <a:r>
              <a:rPr b="0" lang="es-MX" sz="2800" spc="-1" strike="noStrike">
                <a:solidFill>
                  <a:srgbClr val="43b6d5"/>
                </a:solidFill>
                <a:latin typeface="Cooper Black"/>
              </a:rPr>
              <a:t>Status Jurídico – Facultades Tributarias</a:t>
            </a:r>
            <a:r>
              <a:rPr b="0" lang="es-MX" sz="3200" spc="-1" strike="noStrike">
                <a:solidFill>
                  <a:srgbClr val="43b6d5"/>
                </a:solidFill>
                <a:latin typeface="Cooper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560" y="206064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Verdana"/>
              </a:rPr>
              <a:t>Art. 5 de la C.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C/Pvcia  debe asegurar su régimen munici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27280" y="1988640"/>
            <a:ext cx="43210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Verdana"/>
              </a:rPr>
              <a:t>Art. 123 de la C.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C/Pvcia  dicta su propia constitución asegurando la autonomía municipal y reglando su alc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50842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   “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UTONOMIA RELATIVA O SUBORDINADA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n función a lo que regula la constitución de cada provincia y  ley orgánic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3b6d5"/>
                </a:solidFill>
                <a:latin typeface="Cooper Black"/>
              </a:rPr>
              <a:t>¿Cómo y qué pueden cobrar los municipi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2349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Facultad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 imposición exclusiva sobre su jurisdicción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jerce c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n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rm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 a la ley orgánica municipal (art. 18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rohibición expresa de establecer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ribu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os directos ni indirectos sobre la producción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nforme 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rt. 18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y orgánica –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faculta a fijar tributos y forma de percepción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6680" y="1557360"/>
            <a:ext cx="71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j: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Verdana"/>
              </a:rPr>
              <a:t>Const. de Entre Ríos – Ley Orgánica Muni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3b6d5"/>
                </a:solidFill>
                <a:latin typeface="Cooper Black"/>
              </a:rPr>
              <a:t>Tributos municip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4920" y="907920"/>
            <a:ext cx="80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os municipios deben ajustar su imposición tributaria a lo dispuesto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2066400"/>
            <a:ext cx="820908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nstitución de su provi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ey orgá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Y ACUERDOS SUSCRIPTOS POR LAS PV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quidad tributaria y limitar las potestades tribu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l Convenio Multilat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Ley de Coparticipación Federal (ley 23.54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l Pacto Federal para el empleo, la producción y el cr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88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b6d5"/>
                </a:solidFill>
                <a:latin typeface="Cooper Black"/>
              </a:rPr>
              <a:t>Tributos municipales </a:t>
            </a:r>
            <a:br>
              <a:rPr sz="3200"/>
            </a:br>
            <a:r>
              <a:rPr b="0" lang="en-US" sz="3200" spc="-1" strike="noStrike">
                <a:solidFill>
                  <a:srgbClr val="43b6d5"/>
                </a:solidFill>
                <a:latin typeface="Cooper Black"/>
              </a:rPr>
              <a:t>Compromisos asumidos por las provi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28036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asas respondan a servicios efectivamente prestados. (tasa de seguridad e higi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rogación de tributos que graven directa o indirectamente la circulación interjurisdic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ilegitimidad del monto de la tasa que no guarde relación con el costo del servicio y que atiendan otras necesidades presupuesta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¿Generan derechos subjetiv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3b6d5"/>
                </a:solidFill>
                <a:latin typeface="Cooper Black"/>
                <a:ea typeface="Times New Roman"/>
              </a:rPr>
              <a:t>Art. 35 - Convenio Multilateral</a:t>
            </a:r>
            <a:br>
              <a:rPr sz="3200"/>
            </a:br>
            <a:r>
              <a:rPr b="0" lang="es-ES" sz="2800" spc="-1" strike="noStrike">
                <a:solidFill>
                  <a:srgbClr val="43b6d5"/>
                </a:solidFill>
                <a:latin typeface="Cooper Black"/>
                <a:ea typeface="Times New Roman"/>
              </a:rPr>
              <a:t>Limites a las Facultades </a:t>
            </a:r>
            <a:r>
              <a:rPr b="0" lang="es-MX" sz="2800" spc="-1" strike="noStrike">
                <a:solidFill>
                  <a:srgbClr val="43b6d5"/>
                </a:solidFill>
                <a:latin typeface="Cooper Black"/>
                <a:ea typeface="Times New Roman"/>
              </a:rPr>
              <a:t>municipales Necesidad de Acuerdo interjurisdiccional</a:t>
            </a:r>
            <a:r>
              <a:rPr b="0" lang="es-MX" sz="2800" spc="-1" strike="noStrike" u="sng">
                <a:solidFill>
                  <a:srgbClr val="43b6d5"/>
                </a:solidFill>
                <a:uFillTx/>
                <a:latin typeface="Cooper Black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3534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ravar  con tributos solo sobre la parte de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B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atribuible al fisco  adherido (1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r. pá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rra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tribución  c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n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rm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 al  C.M.  si no hay convenio interjurisdiccional (2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.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rrafo). Criterios de distribución de la base imponible –prevalencia provi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Requiere  establecimiento –el municipio percibe el 100%  las que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umplen con la condición .(3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r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á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rrafo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imita al 1ero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60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b6d5"/>
                </a:solidFill>
                <a:latin typeface="Cooper Black"/>
              </a:rPr>
              <a:t>TASA DE SEGURIDAD E HIGIE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801800"/>
          <a:ext cx="8280360" cy="40035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216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pos de Base Impon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de Municipios por tipo de Base Imponible utiliz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gresos Bru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úmero de emple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erficie afect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b6d5"/>
                </a:solidFill>
                <a:latin typeface="Cooper Black"/>
              </a:rPr>
              <a:t>Método de distribución de la  base impon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360" y="1981080"/>
            <a:ext cx="806292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terminar coeficiente unificado provi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fe art. 2 reg. Gral o  art 6-13  reg. Espe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terminación coeficiente a nivel muni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fe donde se desarrollen actividad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tinguir aquellas con local o no ,(fuero de atracción comunal , del 10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b6d5"/>
                </a:solidFill>
                <a:latin typeface="Cooper Black"/>
              </a:rPr>
              <a:t>Problemas de interpretación </a:t>
            </a:r>
            <a:br>
              <a:rPr sz="3200"/>
            </a:br>
            <a:r>
              <a:rPr b="0" lang="en-US" sz="3200" spc="-1" strike="noStrike">
                <a:solidFill>
                  <a:srgbClr val="43b6d5"/>
                </a:solidFill>
                <a:latin typeface="Cooper Black"/>
              </a:rPr>
              <a:t>Comisión Arbit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Res. Gral 1/2005-reglamenta art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tribución de la base imponible cfe régimen general o espe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existencia de municipios con parámetros no similares, no hay atracción de ingresos sobre  los que toman diferente base imponible. (art 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ohibición de establecer montos mínimos (art.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4:04:21Z</dcterms:created>
  <dc:creator>vbailo</dc:creator>
  <dc:description/>
  <dc:language>en-US</dc:language>
  <cp:lastModifiedBy>C.P.C.E.C.A.B.A.</cp:lastModifiedBy>
  <dcterms:modified xsi:type="dcterms:W3CDTF">2005-11-24T15:34:17Z</dcterms:modified>
  <cp:revision>8</cp:revision>
  <dc:subject/>
  <dc:title>¿Es aplicable el Convenio Multilateral a los municipios?</dc:title>
</cp:coreProperties>
</file>