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D014-CD8C-4294-A0EE-A4296AE40C91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or lo general, las personas encargadas de realizar una presentación deben proporcionar material técnico a una audiencia que no suele estar familiarizada con el tema o el vocabulario. Este material suele ser complejo y excesivamente detallado. Para presentar material técnico de forma eficaz, tenga en cuenta las siguientes directrices de Dale Carnegie Training®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úe la cantidad de tiempo disponible y organice el material.  Limite el área del tema que va a tratar en la presentación. Divida la presentación en segmentos definidos. Siga una progresión lógica sin desviarse del tema principal. Concluya la presentación con un resumen, repitiendo los pasos importantes o elaborando una conclusión lóg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enga siempre en mente a la audiencia. Por ejemplo, asegúrese de que los datos son claros y la información es relevante. Intente que el vocabulario y los detalles sean adecuados para la audiencia. Utilice pruebas para respaldar los puntos o procesos clave. Preste atención a las necesidades de los oyentes y conseguirá una audiencia más recep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ija la mejor conclusión para la audiencia y la presentación. Termine con un resumen, una oferta de opciones, una recomendación de una estrategia o un plan, o con el establecimiento de un objetivo. Intente no desviarse del tema principal durante la presentación y tendrá más posibilidades de alcanzar su obje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ija la mejor conclusión para la audiencia y la presentación. Termine con un resumen, una oferta de opciones, una recomendación de una estrategia o un plan, o con el establecimiento de un objetivo. Intente no desviarse del tema principal durante la presentación y tendrá más posibilidades de alcanzar su obje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n la introducción, exponga la importancia del tema para la audiencia. Ofrezca un breve adelanto de la presentación y demuestre el valor que puede tener para los oyentes. Tenga en cuenta el interés y la experiencia de la audiencia en el tema a la hora de elegir el vocabulario, los ejemplos y las ilustraciones que va a utilizar. Céntrese en la importancia que tiene el tema para la audiencia y conseguirá que los oyentes estén más at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FC1-5F10-402E-A165-D30D817B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0A8-46B3-4AFB-BE0F-6CC2939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92E-6CA7-49D3-947F-DBF337B1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B91-FEA5-4135-A668-063DE802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59422-EA6F-43C6-83C5-770A21B3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8BC3F-2FE6-4FC1-9926-2D50945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4D786-0533-4B68-9857-AD027B8F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D69FD-87CE-40CB-9C46-DC30D6A9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1402F-4168-43FC-8DA9-15CFB5DD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1852-4397-4C8D-93BF-ACA5E11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9DB1B-7DE7-4A8E-8BDB-36946965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007-A316-471D-A3D2-58C9390F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5A640-EBB4-42B6-B830-EDB19AC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4AD67-C8C7-43E5-ADFB-304093F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523F4-5E1B-4590-8B1B-6CACA08E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85D8-1454-421C-A458-F3128043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5F14A-A43B-4370-B9C7-058EF705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1DA-84DB-4582-8797-BA1615F1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2CEC-6866-4B40-8010-082DCD84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F41-C860-4B34-BF6B-2F2A6D09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7A4-E803-4C5A-AECB-AB5D5CB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471-93C1-40A9-BD0F-E319429E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F76-33F1-43F8-B039-C94D521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388-1C9D-4EE4-BEBB-75154683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5DA3-04A3-4CCB-800E-7D05CD39FC3B}" type="datetime5">
              <a:rPr b="0" lang="es-ES_tradnl" sz="1400" spc="-1" strike="noStrike">
                <a:solidFill>
                  <a:srgbClr val="ffffff"/>
                </a:solidFill>
                <a:latin typeface="Arial"/>
              </a:rPr>
              <a:t>28 de jul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965D-ECD2-4D18-808F-36B865AD25E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AFDF-D99E-4478-94D3-E0B0C8DB6FB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5E9D-A65B-4A09-9F50-53D0C1FCC36B}" type="datetime5">
              <a:rPr b="0" lang="es-ES_tradnl" sz="1400" spc="-1" strike="noStrike">
                <a:solidFill>
                  <a:srgbClr val="ffffff"/>
                </a:solidFill>
                <a:latin typeface="Arial"/>
              </a:rPr>
              <a:t>28 de jul de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Congreso Metropolitano de Ciencias Económicas.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35053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60º ANIVERS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. A. B. A. 16 AL 18 DE  NOVIEMBRE DE 2005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6172200"/>
            <a:ext cx="5638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43462-C461-43DB-9805-2EACFDB752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ff99ff"/>
                </a:solidFill>
                <a:latin typeface="Tahoma"/>
              </a:rPr>
              <a:t>Empresas recuperadas</a:t>
            </a:r>
            <a:r>
              <a:rPr b="1" lang="es-ES" sz="2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* Un denominador común: la imposibilidad de seguir produciendo y el cierre como destino inevi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* Aparecen entonces las cooperativas de trabajo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860640"/>
            <a:ext cx="7696080" cy="115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ensamos que no es admisible que se compense 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réditos laborales de sus asociados y se sacrifiquen l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rechos de los restantes acr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5805360"/>
            <a:ext cx="76960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10199"/>
                </a:solidFill>
                <a:latin typeface="Arial"/>
              </a:rPr>
              <a:t>Jurisprud: “Hotel Bauen, IMPA, Club Comunicaciones..”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862-69C0-4037-9C44-6E625B709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ff"/>
                </a:solidFill>
                <a:latin typeface="Tahoma"/>
              </a:rPr>
              <a:t>Regularización de Honorarios  en los incidentes de verificación Tardía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412640"/>
            <a:ext cx="75438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* La Ley 24522   </a:t>
            </a:r>
            <a:r>
              <a:rPr b="1" lang="es-ES_tradnl" sz="3000" spc="-1" strike="noStrike" u="sng">
                <a:solidFill>
                  <a:srgbClr val="ffffff"/>
                </a:solidFill>
                <a:uFillTx/>
                <a:latin typeface="Tahoma"/>
              </a:rPr>
              <a:t>No prevé </a:t>
            </a: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los parámetros de regularización de honorarios para los incidentes y se remite a las leyes arancelarias loca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3716280"/>
            <a:ext cx="7842240" cy="2665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Resumiendo vemos que se torna inaplicab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la norma especifica porque  existirían tanta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Bases,  Topes y Pautas de regularizació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como leyes arancelarias locales  existan e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el País.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3FA-933E-4D22-BBD0-5EAA3662D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ff"/>
                </a:solidFill>
                <a:latin typeface="Tahoma"/>
              </a:rPr>
              <a:t>Fuero de Atra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Conflictos de compe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* Planteos de Inscontitucionalidad h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nido que resolver la Cáma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229360"/>
            <a:ext cx="7696080" cy="12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Jurisprud: “ Miranda Aurora y Otro c/ Perea Luis y Otro” 12-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   “ </a:t>
            </a: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Dozeta Benjamin D C/Birl Cristaleria SA y Otros” Sala VI C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   “ </a:t>
            </a: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Romero Domingo c/ Neptno Estibajes SRL y otro Sala II CNT </a:t>
            </a:r>
            <a:r>
              <a:rPr b="0" lang="es-ES" sz="20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9EBC-9FF2-4521-95EF-CBADFC25E8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100" spc="-1" strike="noStrike" u="sng">
                <a:solidFill>
                  <a:srgbClr val="ff99ff"/>
                </a:solidFill>
                <a:uFillTx/>
                <a:latin typeface="Tahoma"/>
              </a:rPr>
              <a:t>CONCLUSION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Entendemos que las falencias detalladas de la Ley Concursal  no son todas sino una pequeña parte vinculada con el que hacer cotidiano y la necesidad de encontrar soluciones en la Jurisprudencia, de allí, la permanente actualización en la materi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En consecuencia, deberíamos sumar esfuerzos de todos los profesionales a fin de colaborar en el mejoramiento del Instituto de la Sindicatura Concursal acorde a nuestra realida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4DE-B08F-4794-AFCE-DC8715119B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5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1" lang="es-AR" sz="4500" spc="-1" strike="noStrike" u="sng">
                <a:solidFill>
                  <a:srgbClr val="ffffff"/>
                </a:solidFill>
                <a:uFillTx/>
                <a:latin typeface="Tahoma"/>
              </a:rPr>
              <a:t>ÁREA  VII: ACTUACIÓN JUDICIAL, DERECHO SOCIETARIO Y RESOLUCIÓN DE CONFLICTOS</a:t>
            </a:r>
            <a:r>
              <a:rPr b="0" lang="pt-BR" sz="4500" spc="-1" strike="noStrike">
                <a:solidFill>
                  <a:srgbClr val="ffffff"/>
                </a:solidFill>
                <a:latin typeface="Arial Black"/>
              </a:rPr>
              <a:t>”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C75-461D-411C-A821-B472315911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500" spc="-1" strike="noStrike" u="sng">
                <a:solidFill>
                  <a:srgbClr val="ffffff"/>
                </a:solidFill>
                <a:uFillTx/>
                <a:latin typeface="Tahoma"/>
              </a:rPr>
              <a:t>1) ACTUACIÓN JUDICIAL</a:t>
            </a: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ffffff"/>
                </a:solidFill>
                <a:uFillTx/>
                <a:latin typeface="Tahoma"/>
              </a:rPr>
              <a:t>* El instituto de la sindicatura concursal y la problemática del desempeño profe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ES_tradnl" sz="2800" spc="-1" strike="noStrike">
                <a:solidFill>
                  <a:srgbClr val="ff99ff"/>
                </a:solidFill>
                <a:latin typeface="Tahoma"/>
              </a:rPr>
              <a:t>TITULO: 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DE MODIFICACIÓN EN MODIFICACIÓN 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	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DE 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	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LA LCQ CON LAS CONSIGUIENTES 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	</a:t>
            </a:r>
            <a:r>
              <a:rPr b="1" lang="es-AR" sz="2800" spc="-1" strike="noStrike">
                <a:solidFill>
                  <a:srgbClr val="ff99ff"/>
                </a:solidFill>
                <a:latin typeface="Tahoma"/>
              </a:rPr>
              <a:t>DESPROLIJIDADES DE LA LEY VIGENTE</a:t>
            </a:r>
            <a:r>
              <a:rPr b="1" lang="es-A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Dra. CP Marcela Vergareche - </a:t>
            </a:r>
            <a:r>
              <a:rPr b="0" lang="pt-BR" sz="1700" spc="-1" strike="noStrike">
                <a:solidFill>
                  <a:srgbClr val="ffffff"/>
                </a:solidFill>
                <a:latin typeface="Tahoma"/>
              </a:rPr>
              <a:t>Dra. CP Cecilia 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García Chescotta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EFC4-3F36-48D3-AD2A-978F0D25E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ff"/>
                </a:solidFill>
                <a:latin typeface="Tahoma"/>
              </a:rPr>
              <a:t>Ponenc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3000" spc="-1" strike="noStrike">
                <a:solidFill>
                  <a:srgbClr val="ffffff"/>
                </a:solidFill>
                <a:latin typeface="Tahoma"/>
              </a:rPr>
              <a:t>Se trata de destacar en este trabajo las situaciones observables, no definidas o de conflictos del actual Derecho Concursal, y en especial las que afectan al Instituto de la Sindicatura Concursal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49C-0251-4AF0-852B-543AAEC193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99ff"/>
                </a:solidFill>
                <a:latin typeface="Tahoma"/>
              </a:rPr>
              <a:t>ANTECED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Históricamente existía en Argentina un derecho represivo y de carácter delict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AR" sz="3200" spc="-1" strike="noStrike">
                <a:solidFill>
                  <a:srgbClr val="ffffff"/>
                </a:solidFill>
                <a:latin typeface="Tahoma"/>
              </a:rPr>
              <a:t>Con el correr de los años se fueron elaborando ciertos mecanismos jurisdiccionales tendientes a dar solución a los conflictos  del deudor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0C9-65AA-419B-ACBF-5F1B2EFF2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Estos mecanismos fueron</a:t>
            </a: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125000"/>
            <a:ext cx="81536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Los tradicionale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* El Proceso Concursal Preventivo o de Prevención-actualmente P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cesos  Concursales  de Reorganización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*  El  Proceso Concursal Liquidativo o Quie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canismos mas informales que se sumar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* Acuerdos preconcursales o paraconcurs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A9F-7581-43D4-BAE1-2AE039153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99ff"/>
                </a:solidFill>
                <a:latin typeface="Tahoma"/>
              </a:rPr>
              <a:t>DESARROLLO </a:t>
            </a:r>
            <a:r>
              <a:rPr b="0" lang="es-ES_tradnl" sz="3000" spc="-1" strike="noStrike">
                <a:solidFill>
                  <a:srgbClr val="ff99ff"/>
                </a:solidFill>
                <a:latin typeface="Tahoma"/>
              </a:rPr>
              <a:t>	</a:t>
            </a:r>
            <a:r>
              <a:rPr b="0" lang="es-ES_tradnl" sz="3000" spc="-1" strike="noStrike">
                <a:solidFill>
                  <a:srgbClr val="ff99ff"/>
                </a:solidFill>
                <a:latin typeface="Tahoma"/>
              </a:rPr>
              <a:t>DEL TRABAJ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ahoma"/>
              </a:rPr>
              <a:t>* Algunas modificaciones de la LCQ que afectaron o solucionaron el desempeño del profesion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4076640"/>
            <a:ext cx="7848720" cy="1067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FLIC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DB1-1FCB-4BE2-89C0-D1A2757C1A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678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1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s-AR" sz="2300" spc="-1" strike="noStrike">
                <a:solidFill>
                  <a:srgbClr val="ffffff"/>
                </a:solidFill>
                <a:latin typeface="Times New Roman"/>
              </a:rPr>
              <a:t>    </a:t>
            </a:r>
            <a:r>
              <a:rPr b="0" lang="es-AR" sz="3200" spc="-1" strike="noStrike">
                <a:solidFill>
                  <a:srgbClr val="ff99ff"/>
                </a:solidFill>
                <a:latin typeface="Times New Roman"/>
              </a:rPr>
              <a:t>Clases de Sindicaturas y jerarquías de sínd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AR" sz="2800" spc="-1" strike="noStrike" u="sng">
                <a:solidFill>
                  <a:srgbClr val="ffffff"/>
                </a:solidFill>
                <a:uFillTx/>
                <a:latin typeface="Tahoma"/>
              </a:rPr>
              <a:t>Polémica existencia de clases de sindicaturas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( A y 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es-AR" sz="2800" spc="-1" strike="noStrike" u="sng">
                <a:solidFill>
                  <a:srgbClr val="ffffff"/>
                </a:solidFill>
                <a:uFillTx/>
                <a:latin typeface="Tahoma"/>
              </a:rPr>
              <a:t>La convivencia entre jerarquías  de síndicos titulares y suplent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1- Sindicatura suplente para titularizar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2-Sindicatura suplente por inhabilidad parcial (síndico ad hoc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3-Sindicatura suplente por licencia (o propiamente dich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165720"/>
            <a:ext cx="7696080" cy="692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2860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199"/>
                </a:solidFill>
                <a:latin typeface="Arial"/>
              </a:rPr>
              <a:t>* Jurisp:”Fricard SA s/Quiebra” CNCOM SALA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0199"/>
                </a:solidFill>
                <a:latin typeface="Arial"/>
              </a:rPr>
              <a:t>Causa 34031/05 3/8/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908-67D2-4E9D-A070-87F0A9E14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300" spc="-1" strike="noStrike">
                <a:solidFill>
                  <a:srgbClr val="ff99ff"/>
                </a:solidFill>
                <a:latin typeface="Tahoma"/>
              </a:rPr>
              <a:t>¿El sindico es un funcionario publico?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Tahoma"/>
              </a:rPr>
              <a:t>Corte Suprema de Justicia de la Nación considera que el síndico "no es funcionario del estado, sino del concurso“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819520"/>
            <a:ext cx="7696080" cy="1523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Pensamos que la proposición es correcta,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733920"/>
            <a:ext cx="15140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no así las consecuencias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5373720"/>
            <a:ext cx="7696080" cy="9349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101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Jurisp: “ Amiano Marcelo E y otro C/E N Mº de just y otro s/proc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10199"/>
                </a:solidFill>
                <a:latin typeface="Arial"/>
              </a:rPr>
              <a:t>CSJN 4-11-2003</a:t>
            </a: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19E-7601-4153-BF91-44CA776BD3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11-28T13:23:14Z</dcterms:modified>
  <cp:revision>36</cp:revision>
  <dc:subject/>
  <dc:title>Presentación de PowerPoint</dc:title>
</cp:coreProperties>
</file>