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753480" y="0"/>
            <a:ext cx="152640" cy="68580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876560" y="-4876920"/>
            <a:ext cx="152280" cy="990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4876560" y="1828440"/>
            <a:ext cx="152280" cy="9906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04920" y="1523880"/>
            <a:ext cx="9296280" cy="358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68440" y="1752480"/>
            <a:ext cx="8762760" cy="31244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a8a88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1520" y="1981080"/>
            <a:ext cx="8454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EL SISTEMA DE REGISTROS CO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(S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LOS REGISTROS TRIBU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(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0640" y="53352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SRC   vs.  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9080" y="2349360"/>
            <a:ext cx="816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Los Registros Tributarios son Registros Cont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La Factura Electrónica es un documento respaldator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5335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Los registros tributarios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son registros co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57200"/>
            <a:ext cx="68580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436840"/>
            <a:ext cx="81532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considerarlos, se deb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stionar la opción del Art 61 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lizar el encabezado del registro de acuerdo a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s de la IG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car título a cada columna del Registro Tribu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ficar al Deudor y/o Acree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La factura tributaria electrónica 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es un documento respald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57200"/>
            <a:ext cx="68580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9880" y="2044800"/>
            <a:ext cx="53956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be demostra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t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cha de recepción del doc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7760" y="4680000"/>
            <a:ext cx="60933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logra media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utilización de Firma Digital (Ley 255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dor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5040" y="533520"/>
            <a:ext cx="70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Presentación de Copias en Papel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143000"/>
            <a:ext cx="815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ganismo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Deman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01760" y="3124080"/>
            <a:ext cx="3294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logra mediant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olución AFIP 136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exo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ta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nto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29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ge la posibilidad de imprimir la copia de los comprobantes y regist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88200" y="533520"/>
            <a:ext cx="78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SISTEMA DE REGISTROS CO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4160" y="258912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integran, según los Arts 43 Y 44 C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6840" y="3382920"/>
            <a:ext cx="865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OS QUE RESPALDAN LAS REGIST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33960" y="533520"/>
            <a:ext cx="685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REGISTROS Y DOCUMENT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TRIBUTARIA (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3760" y="2057400"/>
            <a:ext cx="218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s. AFIP 13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9600" y="4572000"/>
            <a:ext cx="218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s. AFIP 195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9160" y="2590920"/>
            <a:ext cx="7047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ÍTÚLO I   - Almacenamiento electrónico del duplica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VA Ven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ÍTULO II – Registr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VA Comp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7000" y="5146560"/>
            <a:ext cx="543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macenamiento electrónico de origin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8280" y="3241800"/>
            <a:ext cx="76320" cy="1066680"/>
          </a:xfrm>
          <a:custGeom>
            <a:avLst/>
            <a:gdLst>
              <a:gd name="textAreaLeft" fmla="*/ 22320 w 76320"/>
              <a:gd name="textAreaRight" fmla="*/ 76320 w 76320"/>
              <a:gd name="textAreaTop" fmla="*/ 44280 h 1066680"/>
              <a:gd name="textAreaBottom" fmla="*/ 10224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79680" y="533520"/>
            <a:ext cx="672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Los registros integrantes del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deben cumplim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0280" y="30607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 53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8280" y="2452680"/>
            <a:ext cx="3041640" cy="17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cuader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l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vidu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úb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4572000"/>
            <a:ext cx="251460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jas mó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cos óp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crofil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1920" y="495144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ción de almacenamiento del Art 61 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5640" y="2452680"/>
            <a:ext cx="76320" cy="1676520"/>
          </a:xfrm>
          <a:custGeom>
            <a:avLst/>
            <a:gdLst>
              <a:gd name="textAreaLeft" fmla="*/ 22320 w 76320"/>
              <a:gd name="textAreaRight" fmla="*/ 76320 w 7632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94480" y="459252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4897440"/>
            <a:ext cx="2514600" cy="547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9880" y="533520"/>
            <a:ext cx="24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Docu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70120"/>
            <a:ext cx="93726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 toda cosa susceptible de percepción sensorial y aprehensión mental que sirve de demostración histórica indirecta y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presentativa de un hecho cualquiera, pudiendo ser declarativa, representativa o únicamente representativa y estar expresad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n cualquier elemento material que sirva para fines representativos: papel, madera, tela, muro, película fotográfica o cinematográfica, cinta grabadora, CD Rom , etc.; definición que la adapta al tráfico mercantil, agregan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“capaz de representar un hecho y apto para producir efectos jurídico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90120" y="5364000"/>
            <a:ext cx="31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Arial"/>
              </a:rPr>
              <a:t>Definición dada por el Dr. Bernardo Carl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4156200"/>
            <a:ext cx="1143000" cy="339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2560" y="53352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Clasificación de los Doc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6240" y="251316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ún 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mis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4800" y="418932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ún su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un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30960" y="2374920"/>
            <a:ext cx="40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vad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no tienen valor per 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70920" y="4043520"/>
            <a:ext cx="235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ald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243828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09428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360160" y="187200"/>
            <a:ext cx="510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Pruebas de los Contr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Código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06440"/>
            <a:ext cx="899172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rt 1190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stable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contratos se prueban por el modo que dispongan los Códigos de procedimientos de las Provincias Federad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instrument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r instrumentos particulares firmados o no fi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r confesión de partes, judicial o extrajudi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juramento judic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presunciones legales o judi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 testigo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3830760"/>
            <a:ext cx="8153280" cy="5540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235320"/>
            <a:ext cx="8153280" cy="5540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60160" y="152280"/>
            <a:ext cx="510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Pruebas de los Contr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Código de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1066680"/>
            <a:ext cx="92203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 207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El derecho civil, en cuanto no esté modificado por este Código,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aplicable a las materias y negocio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 208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contratos comerciales pueden justificar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º  Por instrumentos públ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º  Por las notas de los corredores, y certificaciones extraídas de su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lib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º  Por documentos privados, firmados por los contratantes o algú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testigo, a su ruego y en su nomb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º  Por la correspondencia epistolar y telegráf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º  Por los libros de los comerciantes y las facturas acept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º  Por confesión de parte y por jur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7º  Por testi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también admisibles las presuncion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conforme a las regl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ecidas en el presente 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93880" y="4246560"/>
            <a:ext cx="8153280" cy="7970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7569"/>
            </a:gs>
            <a:gs pos="50000">
              <a:srgbClr val="e5ffe5"/>
            </a:gs>
            <a:gs pos="100000">
              <a:srgbClr val="6975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59080" y="533520"/>
            <a:ext cx="51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Contenido de una Fa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92962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 rot="10800000">
            <a:off x="304560" y="61718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32080" y="1273320"/>
            <a:ext cx="346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ripción de la 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5360" y="3400560"/>
            <a:ext cx="82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Condición para ser considerada como acep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086360"/>
            <a:ext cx="944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rt 474 C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iendo reclamadas por el comprador dentro de los diez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guientes, a la entrega y recibo, se presumen cuentas liquid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9:50:51Z</dcterms:created>
  <dc:creator>Marcelo</dc:creator>
  <dc:description/>
  <dc:language>en-US</dc:language>
  <cp:lastModifiedBy>C.P.C.E.C.A.B.A.</cp:lastModifiedBy>
  <dcterms:modified xsi:type="dcterms:W3CDTF">2005-11-15T19:42:16Z</dcterms:modified>
  <cp:revision>29</cp:revision>
  <dc:subject/>
  <dc:title>Presentación de PowerPoint</dc:title>
</cp:coreProperties>
</file>