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1.wav" ContentType="audio/x-wav"/>
  <Override PartName="/ppt/media/image2.jpeg" ContentType="image/jpeg"/>
  <Override PartName="/ppt/media/image3.png" ContentType="image/png"/>
  <Override PartName="/ppt/media/chimes.wav" ContentType="audio/x-wav"/>
  <Override PartName="/ppt/media/chimes%202.wav" ContentType="audio/x-wav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6DB-37AC-4869-A0ED-F867FA13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40D-7A42-472A-B7E9-BBE85DDF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A9C-6449-4E38-979B-6898C692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E01-A2AD-4DC6-89FC-630280D5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F12-2108-46F4-B4C8-5A4453D5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676-C73A-4D59-82C2-E90EBB7C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443-791D-4015-A2B6-5A97F2F3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F70-5D01-4CD1-A54C-53AE714E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A01-7F90-4A62-9CD4-EB8C68CB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3EC-8FF0-4395-B6B5-B19D33F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EEF-1FA4-409E-BDA4-81239007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CEF-5CE3-46DA-92B8-E922239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A499-C152-4D67-9AA5-1078E6EC9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%202.wav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1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%202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ff"/>
                </a:solidFill>
                <a:latin typeface="Times New Roman"/>
              </a:rPr>
              <a:t>CONGRESO METROPOLITANO DE CIENCIAS ECONÓMICAS</a:t>
            </a:r>
            <a:br>
              <a:rPr sz="5400"/>
            </a:br>
            <a:r>
              <a:rPr b="1" lang="es-AR" sz="5400" spc="-1" strike="noStrike">
                <a:solidFill>
                  <a:srgbClr val="66ccff"/>
                </a:solidFill>
                <a:latin typeface="Times New Roman"/>
              </a:rPr>
              <a:t>60° ANIVERSAR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55627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9900"/>
                </a:solidFill>
                <a:latin typeface="Verdana"/>
              </a:rPr>
              <a:t>16 al 18 de noviembre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iudad Autónoma de Buenos 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ÁREA IV: ADMIN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irulete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firulete2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D2B6-C4D6-4E78-9BCB-13C16BED684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cc3300"/>
                </a:solidFill>
                <a:latin typeface="Arial"/>
              </a:rPr>
              <a:t>Ejemplo: El dilema del prisio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Juegos de Nego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19112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434340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1 , </a:t>
            </a:r>
            <a:r>
              <a:rPr b="1" lang="es-AR" sz="3200" spc="-1" strike="noStrike">
                <a:solidFill>
                  <a:srgbClr val="b2b2b2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3505320"/>
            <a:ext cx="190512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505320"/>
            <a:ext cx="190512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3581280"/>
            <a:ext cx="167616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b2b2b2"/>
                </a:solidFill>
                <a:latin typeface="Arial"/>
              </a:rPr>
              <a:t>No 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4191120"/>
            <a:ext cx="190476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434340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5 , </a:t>
            </a:r>
            <a:r>
              <a:rPr b="1" lang="es-AR" sz="3200" spc="-1" strike="noStrike">
                <a:solidFill>
                  <a:srgbClr val="b2b2b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1320" y="3505320"/>
            <a:ext cx="190476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3581280"/>
            <a:ext cx="137160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b2b2b2"/>
                </a:solidFill>
                <a:latin typeface="Arial"/>
              </a:rPr>
              <a:t>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419112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267080"/>
            <a:ext cx="16765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No 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502920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10552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0 , </a:t>
            </a:r>
            <a:r>
              <a:rPr b="1" lang="es-AR" sz="3200" spc="-1" strike="noStrike">
                <a:solidFill>
                  <a:srgbClr val="b2b2b2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5029200"/>
            <a:ext cx="190476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510552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3 , </a:t>
            </a:r>
            <a:r>
              <a:rPr b="1" lang="es-AR" sz="3200" spc="-1" strike="noStrike">
                <a:solidFill>
                  <a:srgbClr val="b2b2b2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502920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5105520"/>
            <a:ext cx="16765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819520"/>
            <a:ext cx="571500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4191120"/>
            <a:ext cx="1676160" cy="167616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895480"/>
            <a:ext cx="25909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b2b2b2"/>
                </a:solidFill>
                <a:latin typeface="Arial"/>
              </a:rPr>
              <a:t>PRISIONER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419720"/>
            <a:ext cx="1371600" cy="1381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PRISIO- N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himes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5CC-BF82-432D-BA40-CBA375D405BA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anto A como B preferirán delatar al o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Juegos de Nego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419112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34340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1 ,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505320"/>
            <a:ext cx="190512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3505320"/>
            <a:ext cx="190512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3581280"/>
            <a:ext cx="167616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No 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191120"/>
            <a:ext cx="190476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434340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5 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505320"/>
            <a:ext cx="190476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3581280"/>
            <a:ext cx="137160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419112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267080"/>
            <a:ext cx="16765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No 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502920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10552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0 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5029200"/>
            <a:ext cx="1904760" cy="838080"/>
          </a:xfrm>
          <a:prstGeom prst="rect">
            <a:avLst/>
          </a:prstGeom>
          <a:solidFill>
            <a:srgbClr val="ff00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5105520"/>
            <a:ext cx="990720" cy="581400"/>
          </a:xfrm>
          <a:prstGeom prst="rect">
            <a:avLst/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3 ,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502920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5105520"/>
            <a:ext cx="16765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819520"/>
            <a:ext cx="571500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191120"/>
            <a:ext cx="1676160" cy="167616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2895480"/>
            <a:ext cx="25909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PRISIONER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419720"/>
            <a:ext cx="1371600" cy="1381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PRISIO- N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himes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4902-BED5-429A-A389-DA42F16757E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i A y B coordinasen sus conductas, no se delatarían, y obtendrían mejores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495680"/>
            <a:ext cx="1905120" cy="838440"/>
          </a:xfrm>
          <a:prstGeom prst="rect">
            <a:avLst/>
          </a:prstGeom>
          <a:solidFill>
            <a:srgbClr val="00ff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4648320"/>
            <a:ext cx="990720" cy="5814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1 ,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809880"/>
            <a:ext cx="190512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809880"/>
            <a:ext cx="190512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3886200"/>
            <a:ext cx="167616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No 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4495680"/>
            <a:ext cx="1904760" cy="838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64832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5 ,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3809880"/>
            <a:ext cx="190476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3886200"/>
            <a:ext cx="137160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495680"/>
            <a:ext cx="1905120" cy="83844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4572000"/>
            <a:ext cx="16765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No 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33412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541008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0 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5334120"/>
            <a:ext cx="190476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5410080"/>
            <a:ext cx="990720" cy="5814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3 ,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334120"/>
            <a:ext cx="1905120" cy="8380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5410080"/>
            <a:ext cx="16765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Dela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124080"/>
            <a:ext cx="571500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495680"/>
            <a:ext cx="1676160" cy="167652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200400"/>
            <a:ext cx="259092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PRISIONER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4724280"/>
            <a:ext cx="1371600" cy="13816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PRISIO- N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Ventajas de la coord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E2B5-B904-4C1F-BE60-BD5F37A1C35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xisten otros casos donde la colaboración permite obtener mejores resultados posi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4495680"/>
            <a:ext cx="1905120" cy="838440"/>
          </a:xfrm>
          <a:prstGeom prst="rect">
            <a:avLst/>
          </a:prstGeom>
          <a:solidFill>
            <a:srgbClr val="00ff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4648320"/>
            <a:ext cx="990720" cy="5814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5 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3809880"/>
            <a:ext cx="190512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809880"/>
            <a:ext cx="190512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886200"/>
            <a:ext cx="167616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labo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495680"/>
            <a:ext cx="1904760" cy="83844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4648320"/>
            <a:ext cx="99072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2 ,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3809880"/>
            <a:ext cx="190476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3886200"/>
            <a:ext cx="167652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o col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4495680"/>
            <a:ext cx="1905120" cy="83844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4572000"/>
            <a:ext cx="167652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labo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5334120"/>
            <a:ext cx="190512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5410080"/>
            <a:ext cx="99072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6 ,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5334120"/>
            <a:ext cx="190476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5410080"/>
            <a:ext cx="99072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3 ,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334120"/>
            <a:ext cx="190512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5410080"/>
            <a:ext cx="167652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o col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3124080"/>
            <a:ext cx="571500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4495680"/>
            <a:ext cx="1676160" cy="16765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200400"/>
            <a:ext cx="259092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JUGADOR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4724280"/>
            <a:ext cx="1371600" cy="13816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JUGA- 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Ventajas de la coord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%202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0DB1-8977-4CA1-9161-785878E9487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 veces pueden sumarse los beneficios para luego repartirlos entre los que colabor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495680"/>
            <a:ext cx="1905120" cy="838440"/>
          </a:xfrm>
          <a:prstGeom prst="rect">
            <a:avLst/>
          </a:prstGeom>
          <a:solidFill>
            <a:srgbClr val="00ff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4648320"/>
            <a:ext cx="990720" cy="5814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809880"/>
            <a:ext cx="1905120" cy="6858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809880"/>
            <a:ext cx="190512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3886200"/>
            <a:ext cx="167616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labo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8520" y="4495680"/>
            <a:ext cx="1904760" cy="83844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648320"/>
            <a:ext cx="99072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3809880"/>
            <a:ext cx="190476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3886200"/>
            <a:ext cx="167652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o col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4495680"/>
            <a:ext cx="1905120" cy="83844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4572000"/>
            <a:ext cx="167652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labo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5334120"/>
            <a:ext cx="190512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24280" y="5410080"/>
            <a:ext cx="99072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5334120"/>
            <a:ext cx="190476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5410080"/>
            <a:ext cx="990720" cy="5814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5334120"/>
            <a:ext cx="1905120" cy="83808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5410080"/>
            <a:ext cx="167652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No col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3124080"/>
            <a:ext cx="571500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495680"/>
            <a:ext cx="1676160" cy="1676520"/>
          </a:xfrm>
          <a:prstGeom prst="rect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3200400"/>
            <a:ext cx="259092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JUGADOR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4724280"/>
            <a:ext cx="1371600" cy="13816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JUGA- 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cc99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Ventajas de la coordin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784C-D494-4C80-9978-ABE16E5FCF5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3333cc"/>
                </a:solidFill>
                <a:latin typeface="Arial"/>
              </a:rPr>
              <a:t>Al introducir un tercer jugador algo camb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1. En juegos de suma cero la inexistencia de ventajas en la coordinación vale sólo para el conjunto de los tres jug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. En las coaliciones, dos jugadores pueden aliarse a costa del ter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3. Deben incluirse por separado los resultados individuales de cada jug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4. Deben analizarse las posibles coal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Matriz de juegos tridimen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8651-23FD-4C43-920D-13F48D0465CE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el modelo siguiente se planteará un esquema reducido de tres jugadores, con dos alternativas para cada uno (S1 y S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os jugadores son 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AR" sz="32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alternativas  son </a:t>
            </a: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AS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AS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BS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BS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AR" sz="3200" spc="-1" strike="noStrike">
                <a:solidFill>
                  <a:srgbClr val="9933ff"/>
                </a:solidFill>
                <a:latin typeface="Arial"/>
              </a:rPr>
              <a:t>CS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AR" sz="3200" spc="-1" strike="noStrike">
                <a:solidFill>
                  <a:srgbClr val="9933ff"/>
                </a:solidFill>
                <a:latin typeface="Arial"/>
              </a:rPr>
              <a:t>CS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os resultados individuales son </a:t>
            </a:r>
            <a:r>
              <a:rPr b="1" lang="es-AR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AR" sz="32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Matriz de juegos tridimen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1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E939-2F30-4815-9645-FBEEF6D313E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609480"/>
            <a:ext cx="86104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Matriz de juegos tridimen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da resultado necesita tres subíndices    (uno por cada jugador) que indicarán el curso de acción respectivo que da lugar a ese resultad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sí el resultado </a:t>
            </a:r>
            <a:r>
              <a:rPr b="0" lang="es-AR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s-AR" sz="3200" spc="-1" strike="noStrike" baseline="-25000">
                <a:solidFill>
                  <a:srgbClr val="ff0000"/>
                </a:solidFill>
                <a:latin typeface="Arial"/>
              </a:rPr>
              <a:t>11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es el obtenido por el jugador </a:t>
            </a:r>
            <a:r>
              <a:rPr b="1" lang="es-AR" sz="32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cuando elija su alternativa </a:t>
            </a:r>
            <a:r>
              <a:rPr b="0" lang="es-AR" sz="3200" spc="-1" strike="noStrike">
                <a:solidFill>
                  <a:srgbClr val="ff0066"/>
                </a:solidFill>
                <a:latin typeface="Arial"/>
              </a:rPr>
              <a:t>AS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mientras el jugador </a:t>
            </a:r>
            <a:r>
              <a:rPr b="1" lang="es-AR" sz="32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elige su alternativa </a:t>
            </a:r>
            <a:r>
              <a:rPr b="0" lang="es-AR" sz="3200" spc="-1" strike="noStrike">
                <a:solidFill>
                  <a:srgbClr val="ffff00"/>
                </a:solidFill>
                <a:latin typeface="Arial"/>
              </a:rPr>
              <a:t>BS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y el jugador </a:t>
            </a:r>
            <a:r>
              <a:rPr b="1" lang="es-AR" sz="32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elige su alternativa </a:t>
            </a:r>
            <a:r>
              <a:rPr b="0" lang="es-AR" sz="3200" spc="-1" strike="noStrike">
                <a:solidFill>
                  <a:srgbClr val="9933ff"/>
                </a:solidFill>
                <a:latin typeface="Arial"/>
              </a:rPr>
              <a:t>CS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1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D048-0C44-441A-B3B7-91ECE7C5D20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609480"/>
            <a:ext cx="86104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Matriz de juegos tridimen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or lo mencionado habrá </a:t>
            </a: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combinaciones de alternativas: 2 x 2 x 2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da una de dichas combinaciones presentará </a:t>
            </a: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resultados, uno para cada jugad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otalizando así </a:t>
            </a: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2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resultados disti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1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54CF-EA05-4720-BDBD-D328D590927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la matriz se reservará la fila ancha para indicar las alternativas del jugador A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himes%20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1EBD-DC22-49F7-AFF1-8C258004415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"/>
              </a:rPr>
              <a:t>AREA IV: ADMINISTR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99ff"/>
                </a:solidFill>
                <a:latin typeface="Arial"/>
              </a:rPr>
              <a:t>1) Paradigmas en la Administración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Creatividad e innovación en las empresas. Nuevos modelos de estrategi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Verdana"/>
              </a:rPr>
              <a:t>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4956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99ff"/>
                </a:solidFill>
                <a:latin typeface="Verdana"/>
              </a:rPr>
              <a:t>MATRIZ DE JUEGOS TRIDIMEN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99ff"/>
                </a:solidFill>
                <a:latin typeface="Verdana"/>
              </a:rPr>
              <a:t>autor: C.P. Ricardo Esteban Liz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EF8B-D1E8-48E4-A4CC-73753284360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41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457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.. Las columnas serán para indicar las alternativas del jugador B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%202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9326-E6D9-45A5-ADAF-DBAC64BBE37B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627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457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609480"/>
            <a:ext cx="838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1143000"/>
            <a:ext cx="106704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1295280"/>
            <a:ext cx="8380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.. y la fila angosta para las alternativas del jugador C, las que se verán como solapas de hojas ordenadas dentro de la casilla may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2" name="chimes%202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05FA-DA8A-41EF-A31C-3EE0B5831E8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1981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627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0384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1981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40384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457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609480"/>
            <a:ext cx="838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52480" y="1143000"/>
            <a:ext cx="106704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1295280"/>
            <a:ext cx="8380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or último se agregan los result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%202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519-B108-4DE4-8FE4-49EA05D0DA5B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1981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627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1981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81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457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609480"/>
            <a:ext cx="838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52480" y="1143000"/>
            <a:ext cx="106704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4852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i C adopta su alternativa CS1 los resultados a considerar son los de la solapa más amplia en la parte superior de las filas anc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1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9E38-344D-4166-AD42-41934DBEAD7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38680" y="40384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81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40384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41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47920" y="457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143000"/>
            <a:ext cx="106704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1295280"/>
            <a:ext cx="8380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5760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cambio, si adopta CS2 entonces los resultados a considerar son los de las solapas más pequeñas, ubicadas 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1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77C-C125-4A29-B344-9CCE6703D0E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1981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1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1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s-AR" sz="2400" spc="-1" strike="noStrike" baseline="-25000">
                <a:solidFill>
                  <a:srgbClr val="9933ff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627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1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1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s-AR" sz="2400" spc="-1" strike="noStrike" baseline="-25000">
                <a:solidFill>
                  <a:srgbClr val="9933ff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386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2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2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s-AR" sz="2400" spc="-1" strike="noStrike" baseline="-25000">
                <a:solidFill>
                  <a:srgbClr val="9933ff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38680" y="40384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2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2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s-AR" sz="2400" spc="-1" strike="noStrike" baseline="-25000">
                <a:solidFill>
                  <a:srgbClr val="9933ff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1981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1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1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s-AR" sz="2400" spc="-1" strike="noStrike" baseline="-25000">
                <a:solidFill>
                  <a:srgbClr val="9933ff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81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1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1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s-AR" sz="2400" spc="-1" strike="noStrike" baseline="-25000">
                <a:solidFill>
                  <a:srgbClr val="9933ff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2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2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s-AR" sz="2400" spc="-1" strike="noStrike" baseline="-25000">
                <a:solidFill>
                  <a:srgbClr val="9933ff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81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0384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2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s-AR" sz="2400" spc="-1" strike="noStrike" baseline="-25000">
                <a:solidFill>
                  <a:srgbClr val="ffff00"/>
                </a:solidFill>
                <a:latin typeface="Arial"/>
              </a:rPr>
              <a:t>2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AR" sz="24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s-AR" sz="2400" spc="-1" strike="noStrike" baseline="-25000">
                <a:solidFill>
                  <a:srgbClr val="9933ff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47920" y="457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609480"/>
            <a:ext cx="838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1143000"/>
            <a:ext cx="106704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05120" y="1295280"/>
            <a:ext cx="8380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cordemos que es necesario reconocer los distintos resultados para cada uno de los intervinientes en el jue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B703-06FE-4683-8B63-F3049A1CD82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quí se muestra una notación más abreviada de los resultados contenidos dentro de la matriz tridimens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1981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 b, 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3868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 b, 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386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 b, 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38680" y="40384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 b, 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19810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 b, 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26668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 b, 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 b, 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40384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 b, 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457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23880" y="609480"/>
            <a:ext cx="838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52480" y="1143000"/>
            <a:ext cx="106704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05120" y="1295280"/>
            <a:ext cx="8380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5760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4852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1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D554-BC75-420B-8F6F-5075CD63895B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77320" cy="11430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Domina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l análisis de dominancia requiere que todos los resultados de la alternativa dominante sean mejores (o, por lo menos, iguales) que los de la alternativa dominada, frente a todas las combinaciones de los cursos de acción disponibles  para los otros jug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4C26-53AD-458E-9BEE-9D985AA29AD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38680" y="198108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800" spc="-1" strike="noStrike" baseline="-25000">
                <a:solidFill>
                  <a:srgbClr val="ff0066"/>
                </a:solidFill>
                <a:latin typeface="Arial"/>
              </a:rPr>
              <a:t>1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386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22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627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1981080"/>
            <a:ext cx="20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800" spc="-1" strike="noStrike" baseline="-25000">
                <a:solidFill>
                  <a:srgbClr val="ff0066"/>
                </a:solidFill>
                <a:latin typeface="Arial"/>
              </a:rPr>
              <a:t>1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81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33526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211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481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195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457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609480"/>
            <a:ext cx="838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1143000"/>
            <a:ext cx="106704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05120" y="1295280"/>
            <a:ext cx="8380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724280"/>
            <a:ext cx="8991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l curso de acción AS1 dominará al AS2 si a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es mejor que a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 es mejor que a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22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uando el jugador C elige CS1, pero tambié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35AC-8A53-4581-AE98-7CB5EBA766B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-360" y="47242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.. se necesita que a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sea mejor que a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212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y a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mejor que a</a:t>
            </a:r>
            <a:r>
              <a:rPr b="0" lang="es-AR" sz="3200" spc="-1" strike="noStrike" baseline="-25000">
                <a:solidFill>
                  <a:srgbClr val="000000"/>
                </a:solidFill>
                <a:latin typeface="Arial"/>
              </a:rPr>
              <a:t>222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que es cuando el jugador C elige CS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47920" y="2666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41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1828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22860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3200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38680" y="2666880"/>
            <a:ext cx="20574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800" spc="-1" strike="noStrike" baseline="-25000">
                <a:solidFill>
                  <a:srgbClr val="ff0066"/>
                </a:solidFill>
                <a:latin typeface="Arial"/>
              </a:rPr>
              <a:t>1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341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38680" y="40384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22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1828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48120" y="2514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2666880"/>
            <a:ext cx="20574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800" spc="-1" strike="noStrike" baseline="-25000">
                <a:solidFill>
                  <a:srgbClr val="ff0066"/>
                </a:solidFill>
                <a:latin typeface="Arial"/>
              </a:rPr>
              <a:t>1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3200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3886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40384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s-AR" sz="2400" spc="-1" strike="noStrike" baseline="-25000">
                <a:solidFill>
                  <a:srgbClr val="ff0066"/>
                </a:solidFill>
                <a:latin typeface="Arial"/>
              </a:rPr>
              <a:t>212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4120" y="457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1295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457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609480"/>
            <a:ext cx="838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1143000"/>
            <a:ext cx="106704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5120" y="1295280"/>
            <a:ext cx="8380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65760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48520" y="914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E513-2AC6-4226-AE7B-3F57004F3AF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xpositor: LIZASO, Ricardo Esteban</a:t>
            </a:r>
            <a:br>
              <a:rPr sz="3200"/>
            </a:b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tador Público - Universidad de Buenos 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Profesor Adjunto en la materia Teoría de la Decisión de la Facultad de Ciencias Económicas de la U.B.A. desde 1996 hasta la fecha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Docente en el posgrado de Especialización en Administración Financiera, en la Facultad de Ciencias Económicas de la U.B.A. desde 1987 hasta 2001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676520"/>
            <a:ext cx="86104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Antecedentes Doc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19720"/>
            <a:ext cx="8534160" cy="1981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Coautor del libro “La decisión, su teoría y práctica” junto con el Dr. Pavesi, Pedro y otr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Autor de diversos artículos de la especialidad, entre otros: “Costos para la toma de decisiones, un concepto relevante”; “Influencia de los consumidores en las decisiones de las empresas públicas”; “Matrices de decisión”; etc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962520"/>
            <a:ext cx="8610480" cy="380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Publicacion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1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3746-0583-4852-B253-D988A888B42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8600" y="167652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4920" y="198108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167652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19320" y="16765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1932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20574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3000" y="609480"/>
            <a:ext cx="144792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0880" y="1143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8600" y="609480"/>
            <a:ext cx="91440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68580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143000"/>
            <a:ext cx="838080" cy="533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121932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0020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251460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4920" y="281952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251460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19320" y="25146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1932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28954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90920" y="167652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666880" y="16765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20574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90920" y="609480"/>
            <a:ext cx="144756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4812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590920" y="251460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66880" y="25146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6688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666880" y="28954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5720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ff"/>
                </a:solidFill>
                <a:latin typeface="Arial"/>
              </a:rPr>
              <a:t>M A T R I Z       A M P L I A D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419360" y="9140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ara observar en forma simultánea las </a:t>
            </a: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ventajas de la</a:t>
            </a:r>
            <a:r>
              <a:rPr b="0" lang="es-AR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coordinación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 las elecciones que pueden surgir de eventuales </a:t>
            </a:r>
            <a:r>
              <a:rPr b="1" lang="es-AR" sz="3200" spc="-1" strike="noStrike">
                <a:solidFill>
                  <a:srgbClr val="cc3300"/>
                </a:solidFill>
                <a:latin typeface="Arial"/>
              </a:rPr>
              <a:t>coalicione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se puede extender la matri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B4FF-042E-4369-BE8C-E77DA74C69F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167652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198108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167652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19320" y="16765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19320" y="20574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43000" y="609480"/>
            <a:ext cx="144792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0880" y="1143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09480"/>
            <a:ext cx="91440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68580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4920" y="1143000"/>
            <a:ext cx="838080" cy="533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0880" y="121932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60020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251460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281952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3848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18288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34340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 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3848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26668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5780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18288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5780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6272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 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5780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257800" y="26668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77120" y="1676520"/>
            <a:ext cx="121896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1828800"/>
            <a:ext cx="1218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609480"/>
            <a:ext cx="121896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168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 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2514600"/>
            <a:ext cx="121896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477120" y="2666880"/>
            <a:ext cx="1218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9608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18288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9608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00100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 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96080" y="26668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43000" y="251460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19320" y="25146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932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19320" y="28954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90920" y="167652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66880" y="16765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6880" y="20574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90920" y="609480"/>
            <a:ext cx="144756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812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251460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66880" y="25146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6688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66880" y="28954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5720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ff"/>
                </a:solidFill>
                <a:latin typeface="Arial"/>
              </a:rPr>
              <a:t>M A T R I Z       A M P L I A D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240" y="358092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 puede ampliar hacia la derecha para ver el juego entre A y la coalición de B y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F04-EB28-4D49-AEF4-DDC59281302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167652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198108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43000" y="167652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16765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19320" y="20574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143000" y="609480"/>
            <a:ext cx="144792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0880" y="1143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609480"/>
            <a:ext cx="91440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4920" y="68580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4920" y="1143000"/>
            <a:ext cx="838080" cy="533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121932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60020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251460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4920" y="281952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38480" y="18288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3848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34340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 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26668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5780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8288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56272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 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5780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57800" y="26668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77120" y="1676520"/>
            <a:ext cx="121896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77120" y="1828800"/>
            <a:ext cx="1218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477120" y="609480"/>
            <a:ext cx="121896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 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477120" y="2514600"/>
            <a:ext cx="121896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77120" y="2666880"/>
            <a:ext cx="1218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9608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96080" y="18288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00100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 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9608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96080" y="26668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43000" y="251460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25146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1932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219320" y="28954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0920" y="167652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16765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6688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66880" y="20574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609480"/>
            <a:ext cx="144756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812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0920" y="251460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5146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6688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666880" y="28954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43000" y="5638680"/>
            <a:ext cx="144792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219320" y="57913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" y="5638680"/>
            <a:ext cx="91440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571500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2C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43000" y="3352680"/>
            <a:ext cx="144792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19320" y="35053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" y="3352680"/>
            <a:ext cx="91440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342900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1C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43000" y="4114800"/>
            <a:ext cx="144792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19320" y="42670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" y="4114800"/>
            <a:ext cx="91440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419112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2C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43000" y="4876920"/>
            <a:ext cx="1447920" cy="7617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292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4876920"/>
            <a:ext cx="914400" cy="7617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880" y="495288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1C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590920" y="5638680"/>
            <a:ext cx="144756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66880" y="57913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90920" y="3352680"/>
            <a:ext cx="144756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666880" y="35053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90920" y="4114800"/>
            <a:ext cx="144756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42670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590920" y="4876920"/>
            <a:ext cx="1447560" cy="7617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66880" y="50292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5720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ff"/>
                </a:solidFill>
                <a:latin typeface="Arial"/>
              </a:rPr>
              <a:t>M A T R I Z       A M P L I A D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419360" y="3657240"/>
            <a:ext cx="4343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 puede ampliar hacia abajo para ver el juego entre B y la coalición de A y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3120-12D4-4A64-810E-3D04A3178442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8600" y="167652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198108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143000" y="167652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6765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1932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19320" y="20574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43000" y="609480"/>
            <a:ext cx="144792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0880" y="1143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" y="609480"/>
            <a:ext cx="91440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4920" y="68580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4920" y="1143000"/>
            <a:ext cx="838080" cy="533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0880" y="121932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60020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" y="251460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281952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848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38480" y="18288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3848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4340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 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03848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26668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18288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25780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56272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 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25780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26668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1676520"/>
            <a:ext cx="121896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77120" y="1828800"/>
            <a:ext cx="1218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77120" y="609480"/>
            <a:ext cx="121896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78168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 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77120" y="2514600"/>
            <a:ext cx="121896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477120" y="2666880"/>
            <a:ext cx="1218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9608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6080" y="18288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9608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00100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 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9608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96080" y="26668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43000" y="251460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19320" y="25146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1932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19320" y="28954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90920" y="167652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66880" y="16765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6688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66880" y="20574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590920" y="609480"/>
            <a:ext cx="144756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90920" y="251460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666880" y="25146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666880" y="28954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,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143000" y="5638680"/>
            <a:ext cx="144792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219320" y="57913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5638680"/>
            <a:ext cx="91440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571500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2C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43000" y="3352680"/>
            <a:ext cx="144792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5053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8600" y="3352680"/>
            <a:ext cx="91440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0880" y="342900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1C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43000" y="4114800"/>
            <a:ext cx="144792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219320" y="42670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" y="4114800"/>
            <a:ext cx="91440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0880" y="419112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2C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3000" y="4876920"/>
            <a:ext cx="1447920" cy="7617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19320" y="50292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" y="4876920"/>
            <a:ext cx="914400" cy="7617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0880" y="495288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1C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5638680"/>
            <a:ext cx="144756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666880" y="57913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590920" y="3352680"/>
            <a:ext cx="144756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666880" y="350532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90920" y="4114800"/>
            <a:ext cx="144756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666880" y="426708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90920" y="4876920"/>
            <a:ext cx="1447560" cy="7617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66880" y="5029200"/>
            <a:ext cx="137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c,b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45720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ff"/>
                </a:solidFill>
                <a:latin typeface="Arial"/>
              </a:rPr>
              <a:t>M A T R I Z       A M P L I A D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352680"/>
            <a:ext cx="121932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038480" y="350532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257800" y="3352680"/>
            <a:ext cx="121932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257800" y="350532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77120" y="3352680"/>
            <a:ext cx="121896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77120" y="4267080"/>
            <a:ext cx="1218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696080" y="3352680"/>
            <a:ext cx="121932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96080" y="426708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38480" y="4876920"/>
            <a:ext cx="12193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50292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7800" y="4876920"/>
            <a:ext cx="12193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57800" y="502920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477120" y="4876920"/>
            <a:ext cx="121896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477120" y="5791320"/>
            <a:ext cx="1218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96080" y="4876920"/>
            <a:ext cx="12193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96080" y="5791320"/>
            <a:ext cx="121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(ab,c)</a:t>
            </a:r>
            <a:r>
              <a:rPr b="1" lang="es-AR" sz="2400" spc="-1" strike="noStrike" baseline="-25000">
                <a:solidFill>
                  <a:srgbClr val="000000"/>
                </a:solidFill>
                <a:latin typeface="Arial"/>
              </a:rPr>
              <a:t>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EF4E-8B05-4F62-9F79-0CDB2186623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010280" cy="76176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14800" cy="3733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e trata de 3 firmas que deben ubicar sus locales de venta en una ciu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ienen dos opciones: 1-Centro  ó 2-Perif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edimos sus beneficios n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lanoCiudad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4267080" cy="379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%202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80D-4A89-4A5D-B969-E82816F1CCB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8600" y="167652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04920" y="198108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43000" y="167652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219320" y="167652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7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1932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19320" y="205740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8, 7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43000" y="609480"/>
            <a:ext cx="144792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0880" y="1143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" y="609480"/>
            <a:ext cx="91440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04920" y="68580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04920" y="1143000"/>
            <a:ext cx="838080" cy="53352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80880" y="1219320"/>
            <a:ext cx="685800" cy="387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0020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8600" y="2514600"/>
            <a:ext cx="91440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04920" y="2819520"/>
            <a:ext cx="685800" cy="387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3848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38480" y="182880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03848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34340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 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38480" y="266688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5780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257800" y="182880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9,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25780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6272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 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5780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57800" y="266688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477120" y="1676520"/>
            <a:ext cx="121896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77120" y="1828800"/>
            <a:ext cx="1218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8,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477120" y="609480"/>
            <a:ext cx="121896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78168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 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77120" y="2514600"/>
            <a:ext cx="121896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77120" y="2666880"/>
            <a:ext cx="1218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96080" y="167652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96080" y="182880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0,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96080" y="609480"/>
            <a:ext cx="1219320" cy="1067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001000" y="762120"/>
            <a:ext cx="685800" cy="753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 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696080" y="2514600"/>
            <a:ext cx="121932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96080" y="266688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43000" y="2514600"/>
            <a:ext cx="144792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219320" y="251460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8,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21932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19320" y="289548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9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590920" y="167652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167652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9, 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666880" y="205740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666880" y="205740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0, 6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590920" y="609480"/>
            <a:ext cx="1447560" cy="106704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048120" y="914400"/>
            <a:ext cx="685800" cy="387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590920" y="2514600"/>
            <a:ext cx="1447560" cy="8380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66880" y="251460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7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66880" y="2895480"/>
            <a:ext cx="137160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666880" y="289548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7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43000" y="5638680"/>
            <a:ext cx="144792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19320" y="579132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3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28600" y="5638680"/>
            <a:ext cx="91440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0880" y="571500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2C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143000" y="3352680"/>
            <a:ext cx="144792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19320" y="350532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4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8600" y="3352680"/>
            <a:ext cx="91440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0880" y="342900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1C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143000" y="4114800"/>
            <a:ext cx="144792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219320" y="426708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5,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8600" y="4114800"/>
            <a:ext cx="91440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80880" y="419112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2C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43000" y="4876920"/>
            <a:ext cx="1447920" cy="7617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19320" y="502920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3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" y="4876920"/>
            <a:ext cx="914400" cy="7617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0880" y="4952880"/>
            <a:ext cx="533520" cy="631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S1C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590920" y="5638680"/>
            <a:ext cx="144756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666880" y="579132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3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590920" y="3352680"/>
            <a:ext cx="144756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350532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6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590920" y="4114800"/>
            <a:ext cx="1447560" cy="762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666880" y="426708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6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590920" y="4876920"/>
            <a:ext cx="1447560" cy="7617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66880" y="5029200"/>
            <a:ext cx="1371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5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3657600" cy="45720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3352680"/>
            <a:ext cx="121932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38480" y="350532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4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57800" y="3352680"/>
            <a:ext cx="121932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257800" y="350532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5,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477120" y="3352680"/>
            <a:ext cx="121896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477120" y="4267080"/>
            <a:ext cx="1218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5,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96080" y="3352680"/>
            <a:ext cx="1219320" cy="1524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696080" y="426708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4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38480" y="4876920"/>
            <a:ext cx="12193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038480" y="502920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5,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57800" y="4876920"/>
            <a:ext cx="12193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57800" y="502920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4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477120" y="4876920"/>
            <a:ext cx="121896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477120" y="5791320"/>
            <a:ext cx="1218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6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96080" y="4876920"/>
            <a:ext cx="121932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96080" y="5791320"/>
            <a:ext cx="1219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4,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chimes%202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7E8-8E35-4810-A814-80E39FFB482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76176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23880" y="3809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410080" y="2971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1500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9,    6,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23880" y="2971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3429000"/>
            <a:ext cx="838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523880" y="4343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28800" y="4800600"/>
            <a:ext cx="838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38680" y="3657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150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10,    6,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410080" y="4343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7150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   7,  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638680" y="5029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1500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   7,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95480" y="2971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  7,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124080" y="3657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200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8,   7,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895480" y="4343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004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  8,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124080" y="5029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2004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7,    9,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95480" y="1600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10080" y="1600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23880" y="2438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523880" y="1600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00200" y="1752480"/>
            <a:ext cx="8380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828800" y="2286000"/>
            <a:ext cx="106668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2438280"/>
            <a:ext cx="838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733920" y="2057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324480" y="2057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chimes%202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7412-EA8C-49FD-AFDD-5636AC049A1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76176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23880" y="38098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0080" y="2971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71500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523880" y="29718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28800" y="3429000"/>
            <a:ext cx="838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523880" y="43434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828800" y="4800600"/>
            <a:ext cx="838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38680" y="3657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150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410080" y="4343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150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638680" y="5029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1500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29718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0040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124080" y="36576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200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95480" y="43434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004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124080" y="5029200"/>
            <a:ext cx="228600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2004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1600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10080" y="1600200"/>
            <a:ext cx="2514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523880" y="2438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523880" y="1600200"/>
            <a:ext cx="1371600" cy="1371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00200" y="1752480"/>
            <a:ext cx="8380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828800" y="2286000"/>
            <a:ext cx="1066680" cy="6858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2438280"/>
            <a:ext cx="838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33920" y="2057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324480" y="2057400"/>
            <a:ext cx="9144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B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2" name="chimes%202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9D42-0EA7-4BFC-83DB-C7773257D0F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9036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95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l esquema se basa en las tradicionales matrices de pago de la Teoría de los Jue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uestra situaciones de decisión en que intervienen tres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ermite apreciar los resultado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ambién los resultados de las coal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l modelo puede replicarse en una planilla de cálculo para situaciones re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chimes%202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F08D-2B13-4043-8E5E-5A3CF8CE408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90360"/>
          </a:xfrm>
          <a:prstGeom prst="rect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505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nálisis de situaciones con enfoques de “principal - agen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odelos de evaluaciones de alianz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valuación de la estabilidad de las mis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Negociaciones triparti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%20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54D1-8978-4696-9AE3-41C4C8FDA8F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Actualmente se desempeña en carácter de asesor de la Dirección de Programas y Normas de Fiscalización de la Administración Federal de Ingresos Públic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Ex integrante del Grupo Coordinador AFIP, convocado en el año1996 para la fusión de la Dirección General Impositiva y la Administración Nacional de Aduanas, grupo disuelto al cumplir su cometido el 31/12/1998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Ex integrante de diversos equipos de investigación y fiscalización de la Dirección de Grandes Contribuyentes Nacionales de la DGI y de la ex Dirección de Auditoría Fiscal, conocida periodísticamente como “los intocables”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Arial"/>
              </a:rPr>
              <a:t>Ex integrante del equipo especializado en el análisis de Quebrantos Impositivos, dependiente de Grandes Contribuyentes Naciona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cc"/>
                </a:solidFill>
                <a:latin typeface="Arial"/>
              </a:rPr>
              <a:t>e-mail: relizaso@yahoo.com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04920"/>
            <a:ext cx="861048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200" spc="-1" strike="noStrike" u="sng">
                <a:solidFill>
                  <a:srgbClr val="000000"/>
                </a:solidFill>
                <a:uFillTx/>
                <a:latin typeface="Arial"/>
              </a:rPr>
              <a:t>Antecedentes labora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6CE4-FD88-44A2-80E3-21C6802F7E3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rata sobre situaciones donde la efectividad de las decisiones tomadas por una parte depende de las decisiones tomadas por las otras partes, que suponemos que actúan en forma r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Teoría de los Jue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43EB-8E42-44C1-8E3F-5C3525E85FB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gún los intereses de los jugadores los juegos se clasifican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Juegos de Conflicto P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Juegos de Coordinación P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Juegos de Negoc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Teoría de los Jue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2" name="chimes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EE8A-A881-4A54-951F-C3557AED0CF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os intereses de los participantes son diverg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Juegos de </a:t>
            </a: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Suma Cero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de dos jugadores: lo que gana uno, lo pierde el o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Juegos de </a:t>
            </a:r>
            <a:r>
              <a:rPr b="1" lang="es-AR" sz="3200" spc="-1" strike="noStrike">
                <a:solidFill>
                  <a:srgbClr val="3333cc"/>
                </a:solidFill>
                <a:latin typeface="Arial"/>
              </a:rPr>
              <a:t>Suma Constante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, de dos jugadores: lo que se lleva uno, no se lo lleva el ot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Juegos de Conflicto P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himes%202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E93B-AD02-40F4-8EE4-6D5A8230685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os intereses de los participantes son conver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o mejor para uno es también lo mejor para to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 elección individual coincide con la elección del conju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3300"/>
                </a:solidFill>
                <a:latin typeface="Arial"/>
              </a:rPr>
              <a:t>Ejemplo: La casa en ll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Juegos de Cooordinación P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himes%202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477120"/>
            <a:ext cx="83059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99ff"/>
                </a:solidFill>
                <a:latin typeface="Verdana"/>
              </a:rPr>
              <a:t>MATRIZ DE JUEGO TRIDIMENSIONAL     C.P. Ricardo E. Liz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C785-69BD-4AA7-8335-E4FEA9B7B3D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os intereses de los participantes no son totalmente converg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 da una situación ambivalente:    mezcla de conflicto y mutua dependencia, de compañerismo y riv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3200" spc="-1" strike="noStrike">
                <a:solidFill>
                  <a:srgbClr val="cc3300"/>
                </a:solidFill>
                <a:latin typeface="Arial"/>
              </a:rPr>
              <a:t>Ejemplo: El dilema del prision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381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99ff"/>
                </a:solidFill>
                <a:latin typeface="Arial"/>
              </a:rPr>
              <a:t>Juegos de Nego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himes%202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9:50:55Z</dcterms:created>
  <dc:creator>Administrador</dc:creator>
  <dc:description/>
  <dc:language>en-US</dc:language>
  <cp:lastModifiedBy>C.P.C.E.C.A.B.A.</cp:lastModifiedBy>
  <cp:lastPrinted>2005-11-15T20:55:09Z</cp:lastPrinted>
  <dcterms:modified xsi:type="dcterms:W3CDTF">2005-11-24T16:40:33Z</dcterms:modified>
  <cp:revision>12</cp:revision>
  <dc:subject/>
  <dc:title>CONGRESO METROPOLITANO DE CIENCIAS ECONÓMICAS 60° ANIVERSARIO</dc:title>
</cp:coreProperties>
</file>