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21D4C-51CE-4BD0-BD52-B40C84B03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2D7A3-7044-46D2-924D-500E4A8FA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79062-9730-4A0C-89AF-0B73F89DB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215F4-03A0-4FC6-9111-71D5514CF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8FB66-5A6C-4B0D-8DD5-B76D43EA2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6A252-7102-4EBD-8FD6-FD54E7E32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28992-37F4-43D9-B027-C1BB33D67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DC3B8-2D69-44AC-86F7-734377D0C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96F46-1E75-450B-A921-53D86515D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33CF2-9320-4BC1-A274-081194D48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7B759-3725-4339-B91C-2E9A6B252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918F5-44E1-4713-85EB-93D88C073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83DEB-0744-4D02-8703-6CBC083D76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000000"/>
                </a:solidFill>
                <a:uFillTx/>
                <a:latin typeface="Arial"/>
              </a:rPr>
              <a:t>HONORARIOS COMPLEMENTARIOS EN LA QUIEBRA</a:t>
            </a:r>
            <a:r>
              <a:rPr b="0" lang="es-AR" sz="4000" spc="-1" strike="noStrike">
                <a:solidFill>
                  <a:srgbClr val="000000"/>
                </a:solidFill>
                <a:latin typeface="Arial"/>
              </a:rPr>
              <a:t> </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9D832B2A-38DC-4270-B093-99B18F6ADD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000000"/>
                </a:solidFill>
                <a:uFillTx/>
                <a:latin typeface="Arial"/>
              </a:rPr>
              <a:t>FUNDAMENTOS DEL FISCAL DE CÁMARA</a:t>
            </a:r>
            <a:r>
              <a:rPr b="0" lang="es-AR" sz="4000" spc="-1" strike="noStrike">
                <a:solidFill>
                  <a:srgbClr val="000000"/>
                </a:solidFill>
                <a:latin typeface="Arial"/>
              </a:rPr>
              <a:t> </a:t>
            </a:r>
            <a:endParaRPr b="0" lang="en-US" sz="4000" spc="-1" strike="noStrike">
              <a:solidFill>
                <a:srgbClr val="000000"/>
              </a:solidFill>
              <a:latin typeface="Arial"/>
            </a:endParaRPr>
          </a:p>
        </p:txBody>
      </p:sp>
      <p:sp>
        <p:nvSpPr>
          <p:cNvPr id="59" name="PlaceHolder 2"/>
          <p:cNvSpPr>
            <a:spLocks noGrp="1"/>
          </p:cNvSpPr>
          <p:nvPr>
            <p:ph/>
          </p:nvPr>
        </p:nvSpPr>
        <p:spPr>
          <a:xfrm>
            <a:off x="250920" y="155736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t>
            </a:r>
            <a:r>
              <a:rPr b="1" lang="es-ES" sz="3200" spc="-1" strike="noStrike">
                <a:solidFill>
                  <a:srgbClr val="000000"/>
                </a:solidFill>
                <a:latin typeface="Arial"/>
              </a:rPr>
              <a:t>Ello es así claramente en lo relativo a los trabajos relacionados con la verificación de los créditos   ( arg. Art. 32 y 275 de la ley 24522) y con el cobro de los créditos del fallido ( art. 182 de la ley 24.522) y con el control de fondos de la quiebra ( art. 183 de la ley citad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C13101B-4F72-4E68-B1EE-04716D12CD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000000"/>
                </a:solidFill>
                <a:uFillTx/>
                <a:latin typeface="Arial"/>
              </a:rPr>
              <a:t>FUNDAMENTOS DEL FISCAL DE CÁMARA</a:t>
            </a:r>
            <a:r>
              <a:rPr b="0" lang="es-AR"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250920" y="155736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Añádase a los expuesto que la recurrente no ha rebatido lo que señaló el juez a quo, en el sentido de que en la causa en que la quiebra triunfó, aún no se ha traducido ese resultado en el ingreso de nuevos activos para la mas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5358F04-129E-4D9C-8DE2-26D495FB7B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t>
            </a:r>
            <a:r>
              <a:rPr b="1" lang="es-ES" sz="3200" spc="-1" strike="noStrike">
                <a:solidFill>
                  <a:srgbClr val="000000"/>
                </a:solidFill>
                <a:latin typeface="Arial"/>
              </a:rPr>
              <a:t>Por último las tareas explicadas en los puntos b y c del mencionado memorial – generadoras de ahorro que habría beneficiado a la masa frente a eventuales créditos del fisco nacional – están comprendidas en las funciones y deberes de la funcionaria en orden a la averiguación de la situación patrimonial del concursado, tal como lo prevee el art. 275 de la nueva ley concursal.”</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9652587-EC72-4C6D-ADFD-F0E75CD06D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t>
            </a:r>
            <a:r>
              <a:rPr b="1" lang="es-ES" sz="3200" spc="-1" strike="noStrike">
                <a:solidFill>
                  <a:srgbClr val="000000"/>
                </a:solidFill>
                <a:latin typeface="Arial"/>
              </a:rPr>
              <a:t>Agregó que si bien puede reconocerse que la apelante se desempeñó con encomiable diligencia en este aspecto, conducta no siempre observada por los funcionarios concursales, tal circunstancia es insuficiente para soslayar el requisito previsto en el art. 219 de la ley 19551, relativo al ingreso de nuevos bienes al activo del concurso”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E466F9C-083D-4269-BCC7-43CBD5E8E4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u="sng">
                <a:solidFill>
                  <a:srgbClr val="000000"/>
                </a:solidFill>
                <a:uFillTx/>
                <a:latin typeface="Arial"/>
              </a:rPr>
              <a:t>Sentencia de Cámara</a:t>
            </a:r>
            <a:r>
              <a:rPr b="0" lang="es-AR" sz="4400" spc="-1" strike="noStrike">
                <a:solidFill>
                  <a:srgbClr val="000000"/>
                </a:solidFill>
                <a:latin typeface="Arial"/>
              </a:rPr>
              <a:t>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De conformidad con los fundamentos desarrollados por el Sr. Fiscal de Cámara el dictamen que antecede que el Tribunal comparte y que por razones de brevedad da por reproducidos, se lo confirma en cuanto fuera materia de agravio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DF077D5-12E3-4F95-862C-7DC8BC56A6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000000"/>
                </a:solidFill>
                <a:uFillTx/>
                <a:latin typeface="Arial"/>
              </a:rPr>
              <a:t>Sentencia de Cámara</a:t>
            </a:r>
            <a:r>
              <a:rPr b="0" lang="es-AR"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t>
            </a:r>
            <a:r>
              <a:rPr b="1" lang="es-ES" sz="2800" spc="-1" strike="noStrike">
                <a:solidFill>
                  <a:srgbClr val="000000"/>
                </a:solidFill>
                <a:latin typeface="Arial"/>
              </a:rPr>
              <a:t>Aclárase que la solución que antecede, resulta la única posible frente a los claros términos de la ley aplicable, lo que por cierto no implica desconocer la – lamentablemente poco frecuente – idoneidad de la Síndico actuante en autos así como la encomiable contracción que ha lucido su desempeño” .</a:t>
            </a:r>
            <a:r>
              <a:rPr b="0" lang="es-E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B784542-6DCC-437B-9076-02DB85DF40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000000"/>
                </a:solidFill>
                <a:uFillTx/>
                <a:latin typeface="Arial"/>
              </a:rPr>
              <a:t>NUESTRA OPINIÓN</a:t>
            </a:r>
            <a:r>
              <a:rPr b="0" lang="es-AR" sz="4400" spc="-1" strike="noStrike">
                <a:solidFill>
                  <a:srgbClr val="000000"/>
                </a:solidFill>
                <a:latin typeface="Arial"/>
              </a:rPr>
              <a:t> </a:t>
            </a:r>
            <a:endParaRPr b="0" lang="en-US" sz="4400" spc="-1" strike="noStrike">
              <a:solidFill>
                <a:srgbClr val="000000"/>
              </a:solidFill>
              <a:latin typeface="Arial"/>
            </a:endParaRPr>
          </a:p>
        </p:txBody>
      </p:sp>
      <p:sp>
        <p:nvSpPr>
          <p:cNvPr id="6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1" lang="en-US" sz="3200" spc="-1" strike="noStrike">
                <a:solidFill>
                  <a:srgbClr val="000000"/>
                </a:solidFill>
                <a:latin typeface="Arial"/>
              </a:rPr>
              <a:t>Desde el punto de vista contable  </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ctivo – Pasivo = Patrimonio</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776E1C8-4821-4659-9553-94A5AC7006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000000"/>
                </a:solidFill>
                <a:uFillTx/>
                <a:latin typeface="Arial"/>
              </a:rPr>
              <a:t>NUESTRA OPINIÓN</a:t>
            </a:r>
            <a:r>
              <a:rPr b="0" lang="es-AR" sz="4400" spc="-1" strike="noStrike">
                <a:solidFill>
                  <a:srgbClr val="000000"/>
                </a:solidFill>
                <a:latin typeface="Arial"/>
              </a:rPr>
              <a:t> </a:t>
            </a:r>
            <a:endParaRPr b="0" lang="en-US" sz="4400" spc="-1" strike="noStrike">
              <a:solidFill>
                <a:srgbClr val="000000"/>
              </a:solidFill>
              <a:latin typeface="Arial"/>
            </a:endParaRPr>
          </a:p>
        </p:txBody>
      </p:sp>
      <p:sp>
        <p:nvSpPr>
          <p:cNvPr id="71"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s decir que el aumento del patrimonio se produce no sólo por la existencia de un activo, sino por una disminución del pasivo.</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553261D-C05B-4E3B-B7B0-CC2AB3F7C0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000000"/>
                </a:solidFill>
                <a:uFillTx/>
                <a:latin typeface="Arial"/>
              </a:rPr>
              <a:t>NUESTRA OPINIÓN</a:t>
            </a:r>
            <a:r>
              <a:rPr b="0" lang="es-AR"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1" lang="es-ES" sz="3200" spc="-1" strike="noStrike">
                <a:solidFill>
                  <a:srgbClr val="000000"/>
                </a:solidFill>
                <a:latin typeface="Arial"/>
              </a:rPr>
              <a:t>En el caso que planteamos una disminución de la deuda con el fisco, permitió que los acreedores de la quiebra vieran aumentado los dividendos concursales que recibirían por al acción de la Sindicatura y la pregunta es : si los acreedores se vieron beneficiados por el desempeño tan creativo de la Sindicatura</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139B409-6707-42ED-B3F9-F7E29A85B0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000000"/>
                </a:solidFill>
                <a:uFillTx/>
                <a:latin typeface="Arial"/>
              </a:rPr>
              <a:t>NUESTRA OPINIÓN</a:t>
            </a:r>
            <a:r>
              <a:rPr b="0" lang="es-AR" sz="4400" spc="-1" strike="noStrike">
                <a:solidFill>
                  <a:srgbClr val="000000"/>
                </a:solidFill>
                <a:latin typeface="Arial"/>
              </a:rPr>
              <a:t> </a:t>
            </a:r>
            <a:endParaRPr b="0" lang="en-US" sz="4400" spc="-1" strike="noStrike">
              <a:solidFill>
                <a:srgbClr val="000000"/>
              </a:solidFill>
              <a:latin typeface="Arial"/>
            </a:endParaRPr>
          </a:p>
        </p:txBody>
      </p:sp>
      <p:sp>
        <p:nvSpPr>
          <p:cNvPr id="75"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y esa actividad no pudo ser evaluada al momento de la regulación de honorarios, ¿porqué no se pueden aumentar los mismos al efectuar la distribución complementaria, teniendo en cuenta que al efectuar la regulación original no se utilizaron  los porcentajes máximos permitidos por la ley?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A338794-E0B4-40BC-B104-2599C6C774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000000"/>
                </a:solidFill>
                <a:uFillTx/>
                <a:latin typeface="Arial"/>
              </a:rPr>
              <a:t>Oportunidad para la regulación de honorarios</a:t>
            </a:r>
            <a:br>
              <a:rPr sz="4000"/>
            </a:br>
            <a:endParaRPr b="0" lang="en-US" sz="4000" spc="-1" strike="noStrike">
              <a:solidFill>
                <a:srgbClr val="000000"/>
              </a:solidFill>
              <a:latin typeface="Arial"/>
            </a:endParaRPr>
          </a:p>
        </p:txBody>
      </p:sp>
      <p:sp>
        <p:nvSpPr>
          <p:cNvPr id="43" name="PlaceHolder 2"/>
          <p:cNvSpPr>
            <a:spLocks noGrp="1"/>
          </p:cNvSpPr>
          <p:nvPr>
            <p:ph/>
          </p:nvPr>
        </p:nvSpPr>
        <p:spPr>
          <a:xfrm>
            <a:off x="250560" y="1125000"/>
            <a:ext cx="8589960" cy="531828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 homologar el acuerdo preventivo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 sobreseer los procedimientos por avenimiento</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 aprobar cada estado de distribución complementaria por el monto que corresponda a lo liquidado en ella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5440D75-4D9D-414B-842D-891BB995F1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539640" y="549360"/>
            <a:ext cx="8229600" cy="596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ompartimos el criterio del titular del Juzgado Nacional en lo Comercial N° 16, quien con fecha 10/3/04 homologó el acuerdo preventivo alcanzado por Havanna S.A. con sus acreedores cuando dijo: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BD09871-CADF-49CF-8455-529600DCF8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539640" y="549360"/>
            <a:ext cx="8229600" cy="596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a:t>
            </a:r>
            <a:r>
              <a:rPr b="0" lang="es-AR" sz="3200" spc="-1" strike="noStrike">
                <a:solidFill>
                  <a:srgbClr val="000000"/>
                </a:solidFill>
                <a:latin typeface="Arial"/>
              </a:rPr>
              <a:t>.. </a:t>
            </a:r>
            <a:r>
              <a:rPr b="1" lang="es-ES" sz="3200" spc="-1" strike="noStrike">
                <a:solidFill>
                  <a:srgbClr val="000000"/>
                </a:solidFill>
                <a:latin typeface="Arial"/>
              </a:rPr>
              <a:t>“siempre pensé que el Juez no debía ser un autómata o un mero aplicador de textos legales, cual matemático que sólo realiza silogismos a través de los cuales lo único que se procura es subsumir la premisa menor( que es el caso concreto) dentro del mayor (que es la norma), como lo postula el “ kelsenianismo” más ortodoxo. No es esa la misión de los jueces. Y en este caso aplicar el límite del pasivo verificado del modo que “prima facie” lo impondrían las normas legales constituiría una verdadera inequidad”.</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C4419DD-2B1E-43FE-8414-FC13B5E241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000000"/>
                </a:solidFill>
                <a:uFillTx/>
                <a:latin typeface="Arial"/>
              </a:rPr>
              <a:t>NUESTRA OPINION</a:t>
            </a:r>
            <a:r>
              <a:rPr b="0" lang="es-AR" sz="4400" spc="-1" strike="noStrike">
                <a:solidFill>
                  <a:srgbClr val="000000"/>
                </a:solidFill>
                <a:latin typeface="Arial"/>
              </a:rPr>
              <a:t> </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Pensamos que resultó una inequidad, en el caso planteado,  para la Sindicatura que no se regularan honorarios complementarios por su labor, máxime que pudiera haberse efectuado, en ese caso  sin superar los límites del activo realizado que permitían las normas legale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9D3D28B-8F8D-4B0D-BA60-9329FA2485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000000"/>
                </a:solidFill>
                <a:uFillTx/>
                <a:latin typeface="Arial"/>
              </a:rPr>
              <a:t>JURISPRUDENCIA CORTE SUPREMA</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En autos “ S.A. Canteras El Sauce S.A. s/ Quiebra”  resolvió hacer lugar al recurso interpuesto por el Síndico contra al resolución de la Cámara Nacional de Apelaciones en lo Comercial que había denegado el pedido de regulación de honorarios complementario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95BDAF1-CE90-4F13-82A4-320A01A5F5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000000"/>
                </a:solidFill>
                <a:uFillTx/>
                <a:latin typeface="Arial"/>
              </a:rPr>
              <a:t>JURISPRUDENCIA DE LA CORTE</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2800" spc="-1" strike="noStrike">
                <a:solidFill>
                  <a:srgbClr val="000000"/>
                </a:solidFill>
                <a:latin typeface="Arial"/>
              </a:rPr>
              <a:t>El Procurador Genera  Dr. Nicolás Eduardo Becerra señaló : ....“que la sentencia impugnada, no obstante reconocer de modo expreso la actividad realizada por el Síndico con posterioridad a la regulación de honorarios efectuada en autos, más allá que admita o no la procedencia del reclamo, incurre en una afirmación dogmática, al sostener que la pretensión invocada no encuentra sustento legal positivo, ignorando lo dispuesto en el artículo 265 inc. 3° de la ley 24.522, o en su caso el artículo 288 inc. 3° de la ley 19551”.</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FCC7566-26CB-44CD-A04A-A4E500980B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24000" y="69228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a:t>
            </a:r>
            <a:r>
              <a:rPr b="1" lang="en-US" sz="2800" spc="-1" strike="noStrike">
                <a:solidFill>
                  <a:srgbClr val="000000"/>
                </a:solidFill>
                <a:latin typeface="Arial"/>
              </a:rPr>
              <a:t>De igual manera resulta dogmática por constituir una afirmación sin sustento fáctico alguno, y tan sólo una conjetura, sostener que la primera regulación preveía la ulterior actividad de la sindicatura, ya que ella está sujeta a situaciones procesales de imposible determinación y aparece en contradicción con la disposición legal que prevé la existencia de más de una oportunidad para la regulación de honorarios y en particular respecto a la actividad posterior a la presentación del informe final”</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56EE26E-2919-4961-8B16-085191A3AB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os magistrados haciendo suyos los argumentos del Procurador dejaron sin efecto la sentencia apelada, ordenando que por medio de quien corresponda se dicte un nuevo fallo al efecto. Con la firma de Petracchi, Belluscio, Boggiano, Vazquez,  Zaffaroni , En disidencia lo hizo Maqueda. ( S. 1690. XXXVIII. S.A. Canteras El Sauce s/ Quiebra” en el “Recurso de hecho deducido por Roberto José Alvarez” )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71683EF-1CE2-46D7-8F72-38B5D0F76C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000000"/>
                </a:solidFill>
                <a:uFillTx/>
                <a:latin typeface="Arial"/>
              </a:rPr>
              <a:t>CONCLUSIONES </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La regulación de honorarios practicada con base en el total del activo realizado, no remuneran en forma íntegra la labor desempeñada por la Sindicatura en el procedimiento concursal, especialmente cuando se desarrollan actividades profesionales con posterioridad a dicha regulación, que no pudieron ser evaluadas al momento de practicar la misma.</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6880848-3626-4C7A-98FF-81423472CE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24000" y="148428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icho pedido, más allá que se admita o no la procedencia del reclamo, encuentra sustento en el Artículo 265 inc. 3 de la ley 24522 cuando dice que los honorarios de los funcionarios deben ser regulados por el juez en las siguientes oportunidades .... 3) Al aprobar cada estado de distribución complementaria por el monto que corresponda a lo liquidado en ella.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C95BB7B-5D82-4AF2-983B-C4D4678C4C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24000" y="148428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Para regular los honorarios de la Sindicatura la ley concursal debiera considerar no sólo  la realización de los bienes aplicando el criterio </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Activo = Patrimonio</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sino que debiera tener un criterio más amplio: que toda actividad de la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64C0478-86C0-4C4B-BFE8-96E56C1EB2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000000"/>
                </a:solidFill>
                <a:uFillTx/>
                <a:latin typeface="Arial"/>
              </a:rPr>
              <a:t>Oportunidad para la regulación de honorarios</a:t>
            </a: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250560" y="1197000"/>
            <a:ext cx="8589960" cy="524664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l finalizar la realización de bienes en la oportunidad del Art. 218.</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l concluir por cualquier causa el procedimiento del concurso preventivo o de la quiebra.</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0143F14-DB5A-416A-987E-7AC0F30A4C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sindicatura que permita disminuir el pasivo ( por ejemplo: disminuyend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gastos ) aumenta el patrimonio , si se considera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Activo – Pasivo = Patrimonio     resultado que redunda en beneficio de los acreedores. Por lo tanto dicha      actividad debiera permitir una base regulatoria más amplia.</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A447930-629C-486E-B7AF-0AA3C91009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bemos tener presente lo manifestado por el titular del Juzgado Nacional de Primera Instancia en lo Comercial N° 16 cuando homologó el acuerdo preventivo alcanzado por  “HAVANNA SA” con fecha 10/03/04.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79FAC0E-D1A5-4C00-AD84-D83B8CBE84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t>
            </a:r>
            <a:r>
              <a:rPr b="1" lang="es-ES" sz="3200" spc="-1" strike="noStrike">
                <a:solidFill>
                  <a:srgbClr val="000000"/>
                </a:solidFill>
                <a:latin typeface="Arial"/>
              </a:rPr>
              <a:t>siempre pensé que el Juez no debía ser un autómata o un mero aplicador de textos legales, cual matemático que sólo realiza silogismos a través de los cuales lo único que se procura es subsumir la premisa menor (que es el caso concreto) dentro del mayor (que es la norma), como lo postula el “ kelsenianismo” más ortodoxo</a:t>
            </a:r>
            <a:r>
              <a:rPr b="1" lang="es-ES" sz="3600" spc="-1" strike="noStrike">
                <a:solidFill>
                  <a:srgbClr val="000000"/>
                </a:solidFill>
                <a:latin typeface="Arial"/>
              </a:rPr>
              <a:t>. </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66221C3E-7ACB-44A8-9366-E082573F08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No es esa la misión de los jueces. Y en este caso aplicar el límite del pasivo verificado del modo que “prima facie” lo impondrían las normas legales constituiría una verdadera inequidad”</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272F630-4199-4AE9-A866-E8AB02D95C20}"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000000"/>
                </a:solidFill>
                <a:uFillTx/>
                <a:latin typeface="Arial"/>
              </a:rPr>
              <a:t>Pedido de regulación complementaria</a:t>
            </a:r>
            <a:r>
              <a:rPr b="0" lang="es-AR" sz="4000" spc="-1" strike="noStrike">
                <a:solidFill>
                  <a:srgbClr val="000000"/>
                </a:solidFill>
                <a:latin typeface="Arial"/>
              </a:rPr>
              <a:t> </a:t>
            </a:r>
            <a:endParaRPr b="0" lang="en-US" sz="4000" spc="-1" strike="noStrike">
              <a:solidFill>
                <a:srgbClr val="000000"/>
              </a:solidFill>
              <a:latin typeface="Arial"/>
            </a:endParaRPr>
          </a:p>
        </p:txBody>
      </p:sp>
      <p:sp>
        <p:nvSpPr>
          <p:cNvPr id="47"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Frente a una pedido de regulación complementaria por tareas realizadas con posterioridad a la regulación de honorarios el juez de 1ª Instancia resolvió desestimar la pretensión introducida por la Sindicatura en torno que se regulen honorarios por labores posteriores a la presentación del informe fi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3257044-F6BD-4027-A9A2-4E6FB8A06E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000000"/>
                </a:solidFill>
                <a:uFillTx/>
                <a:latin typeface="Arial"/>
              </a:rPr>
              <a:t>SENTENCIA 1ª INSTANCIA</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La sentencia de primera instancia resolvió a) “Desestimar la pretensión introducida por la Sindicatura en torno a que se regulen honorarios por las labores posteriores a la presentación del informe final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13D1556-CA46-4511-A051-E91EFDC437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0000"/>
                </a:solidFill>
                <a:latin typeface="Arial"/>
              </a:rPr>
              <a:t>SENTENCIA 1ª INSTANCIA</a:t>
            </a:r>
            <a:r>
              <a:rPr b="0" lang="es-AR" sz="4400" spc="-1" strike="noStrike">
                <a:solidFill>
                  <a:srgbClr val="000000"/>
                </a:solidFill>
                <a:latin typeface="Arial"/>
              </a:rPr>
              <a:t>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lang="es-ES" sz="2800" spc="-1" strike="noStrike">
                <a:solidFill>
                  <a:srgbClr val="000000"/>
                </a:solidFill>
                <a:latin typeface="Arial"/>
              </a:rPr>
              <a:t>“</a:t>
            </a:r>
            <a:r>
              <a:rPr b="1" lang="es-ES" sz="2800" spc="-1" strike="noStrike">
                <a:solidFill>
                  <a:srgbClr val="000000"/>
                </a:solidFill>
                <a:latin typeface="Arial"/>
              </a:rPr>
              <a:t>Y es que, en oportunidad de efectuarse la mentada resolución correspondiente al informe final presentado, los emolumentos fueron  fijados sobre la base del </a:t>
            </a:r>
            <a:r>
              <a:rPr b="1" lang="es-ES" sz="2800" spc="-1" strike="noStrike" u="sng">
                <a:solidFill>
                  <a:srgbClr val="000000"/>
                </a:solidFill>
                <a:uFillTx/>
                <a:latin typeface="Arial"/>
              </a:rPr>
              <a:t>total</a:t>
            </a:r>
            <a:r>
              <a:rPr b="1" lang="es-ES" sz="2800" spc="-1" strike="noStrike">
                <a:solidFill>
                  <a:srgbClr val="000000"/>
                </a:solidFill>
                <a:latin typeface="Arial"/>
              </a:rPr>
              <a:t> del activo realizado que es precisamente la pauta a considerar al efecto ( art. 267 de la ley 24522) y que –obviamente – incluía aquéllas sumas que en el momento se reservaron y que ahora – sumados los intereses que se fueron devengando- son el único basamento para la nueva distribución”.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EC1A204-17DC-46AE-96F2-BEF527B2F9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000000"/>
                </a:solidFill>
                <a:uFillTx/>
                <a:latin typeface="Arial"/>
              </a:rPr>
              <a:t>SENTENCIA 1ª INSTANCI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t>
            </a:r>
            <a:r>
              <a:rPr b="1" lang="es-ES" sz="2800" spc="-1" strike="noStrike">
                <a:solidFill>
                  <a:srgbClr val="000000"/>
                </a:solidFill>
                <a:latin typeface="Arial"/>
              </a:rPr>
              <a:t>Esto es, en otros términos, que obviando los bienes enajenados en aquella oportunidad, ningún otro fue realizado posteriormente ingresando su producido al activo de la quiebra. Reitero: la distribución complementaria en cuya virtud se pretenden nuevos honorarios tiene su única génesis en la reservas anteriormente efectuadas, aditados los réditos que las mismas devengaron”</a:t>
            </a:r>
            <a:r>
              <a:rPr b="0" lang="es-ES" sz="2800" spc="-1" strike="noStrike">
                <a:solidFill>
                  <a:srgbClr val="000000"/>
                </a:solidFill>
                <a:latin typeface="Arial"/>
              </a:rPr>
              <a:t> .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5FBD25A-50FD-413D-8617-FADDE973A8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000000"/>
                </a:solidFill>
                <a:uFillTx/>
                <a:latin typeface="Arial"/>
              </a:rPr>
              <a:t>SENTENCIA 1ª INSTANCI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1" lang="es-ES" sz="2800" spc="-1" strike="noStrike">
                <a:solidFill>
                  <a:srgbClr val="000000"/>
                </a:solidFill>
                <a:latin typeface="Arial"/>
              </a:rPr>
              <a:t>“</a:t>
            </a:r>
            <a:r>
              <a:rPr b="1" lang="es-ES" sz="2800" spc="-1" strike="noStrike">
                <a:solidFill>
                  <a:srgbClr val="000000"/>
                </a:solidFill>
                <a:latin typeface="Arial"/>
              </a:rPr>
              <a:t>Concordantemente, y para un caso sumamente similar al sub- examine , se ha dicho que la fijación de emolumentos sobre distribuciones complementarias , presupone necesariamente el ingreso del producido de bienes no realizados a la fecha de presentación del informe final, no correspondiendo si aquéllas son simples postergaciones o fragmentaciones temporales del proyecto de distribución general ( Amadeo –Speroni, Concursos . Ed 1991, pág 1044, jurisprudencia allí citad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43DD9FB-2A21-456B-AAC6-05D3009DDF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u="sng">
                <a:solidFill>
                  <a:srgbClr val="000000"/>
                </a:solidFill>
                <a:uFillTx/>
                <a:latin typeface="Arial"/>
              </a:rPr>
              <a:t>FUNDAMENTOS DEL FISCAL DE CÁMARA</a:t>
            </a:r>
            <a:r>
              <a:rPr b="0" lang="es-AR" sz="4000" spc="-1" strike="noStrike">
                <a:solidFill>
                  <a:srgbClr val="000000"/>
                </a:solidFill>
                <a:latin typeface="Arial"/>
              </a:rPr>
              <a:t> </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El Fiscal de Cámara consideró “ que debe confirmarse lo resuelto, pues las tareas desarrolladas por la Sindicatura, que indica en su memorial, son inherentes a la índole de los deberes y funciones propios del cargo desempeñado.”</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C3BA78C-0CAF-471E-B282-3E31098D87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2T19:01:41Z</dcterms:created>
  <dc:creator>PC</dc:creator>
  <dc:description/>
  <dc:language>en-US</dc:language>
  <cp:lastModifiedBy>C.P.C.E.C.A.B.A.</cp:lastModifiedBy>
  <dcterms:modified xsi:type="dcterms:W3CDTF">2005-11-28T13:27:51Z</dcterms:modified>
  <cp:revision>53</cp:revision>
  <dc:subject/>
  <dc:title>HONORARIOS COMPLEMENTARIOS EN LA QUIEBRA </dc:title>
</cp:coreProperties>
</file>