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FB4F-92F2-4D6E-BEA2-D191754C6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6448-6BD8-46A4-826A-567ECFF2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913F-E095-4439-8A1F-A06C24EE0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FE92-3900-4090-80FC-E06485C5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E37E-F649-4434-A6E9-023FF35EB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FC79-D84F-416C-8964-6AEFC31B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F87E-2B81-45AF-959F-B95978E2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CE55C-DF7A-431A-9469-06D8A5F6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C24F-8FD1-48FC-AEC7-7657AA10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5B8B-3FDE-4171-BAD8-2222958B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A2A9-88F0-4351-AF66-E4726B20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C2A9-F0FD-4840-95EC-CC998164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9DB4-A978-498E-A0C3-F090AA6B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962E-439A-4142-8D94-D38B7ACC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3681-22FC-43B0-8430-07E1F1A3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2EFB-8824-4AAA-A23B-5AEFA9A6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7634-A392-4AC8-84F3-D3D6F33A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4929-4579-4CCC-BD43-9057C7B1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4874-A05B-4EE9-A7EE-2CC2B794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1F0F-E789-4002-B399-78A0DEE5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8BB9-5564-445B-9C70-EC230D2F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C584-204C-4B3F-BEB2-53A8761C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B04D-6BF4-4324-91CB-EB3A78BB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9689-16AF-4D51-BC88-02CCFB87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ddddd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ddddd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18CC-03B1-4D28-9B97-6ACE8AEF898E}" type="slidenum">
              <a:rPr b="0" lang="es-E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82AA-A2D4-4C0E-9E81-5A159B33B7E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dddd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ddddd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dddd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262080"/>
            <a:ext cx="8259840" cy="33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7200" spc="-1" strike="noStrike">
                <a:solidFill>
                  <a:srgbClr val="ccecff"/>
                </a:solidFill>
                <a:latin typeface="Arial"/>
                <a:ea typeface="Times New Roman"/>
              </a:rPr>
              <a:t>POR HONORARIOS COBRABLES</a:t>
            </a:r>
            <a:r>
              <a:rPr b="0" lang="es-ES" sz="72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99ccff"/>
                </a:solidFill>
                <a:latin typeface="Arial"/>
              </a:rPr>
              <a:t>Dra. C.P. Gladys Ades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POR HONORARIOS  COBRABLES</a:t>
            </a:r>
            <a:br>
              <a:rPr sz="3200"/>
            </a:b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Dra. C.P. Gladys Ad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ccff"/>
                </a:solidFill>
                <a:latin typeface="Arial"/>
                <a:ea typeface="Arial"/>
              </a:rPr>
              <a:t>a)</a:t>
            </a:r>
            <a:r>
              <a:rPr b="0" lang="es-ES" sz="3200" spc="-1" strike="noStrike">
                <a:solidFill>
                  <a:srgbClr val="99ccff"/>
                </a:solidFill>
                <a:latin typeface="Times New Roman"/>
                <a:ea typeface="Times New Roman"/>
              </a:rPr>
              <a:t>     </a:t>
            </a:r>
            <a:r>
              <a:rPr b="0" lang="es-ES" sz="3200" spc="-1" strike="noStrike">
                <a:solidFill>
                  <a:srgbClr val="99ccff"/>
                </a:solidFill>
                <a:latin typeface="Arial"/>
                <a:ea typeface="Arial"/>
              </a:rPr>
              <a:t>Que la parte con solvencia económica  haya impugnado la procedencia de la pericia y en ese caso los honorarios están sólo a cargo de la parte que propuso la pericia ( art 478 C.P.C.yC.) 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POR HONORARIOS  COBRABLES</a:t>
            </a:r>
            <a:br>
              <a:rPr sz="3200"/>
            </a:b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Dra. C.P. Gladys Ad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9ccff"/>
                </a:solidFill>
                <a:latin typeface="Arial"/>
              </a:rPr>
              <a:t>b) Que la parte con solvencia economica haya manifestado no tener interes en la pericia y en ese caso los honorarios estarán a cargo solo de la parte que propuso la pericia ( art. 478 CPCC)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POR HONORARIOS  COBRABLES</a:t>
            </a:r>
            <a:br>
              <a:rPr sz="3200"/>
            </a:b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Dra. C.P. Gladys Ad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9ccff"/>
                </a:solidFill>
                <a:latin typeface="Arial"/>
                <a:ea typeface="Arial"/>
              </a:rPr>
              <a:t>c</a:t>
            </a:r>
            <a:r>
              <a:rPr b="0" lang="es-ES" sz="3200" spc="-1" strike="noStrike">
                <a:solidFill>
                  <a:srgbClr val="99ccff"/>
                </a:solidFill>
                <a:latin typeface="Arial"/>
                <a:ea typeface="Arial"/>
              </a:rPr>
              <a:t>)</a:t>
            </a:r>
            <a:r>
              <a:rPr b="0" lang="es-ES" sz="3200" spc="-1" strike="noStrike">
                <a:solidFill>
                  <a:srgbClr val="99ccff"/>
                </a:solidFill>
                <a:latin typeface="Times New Roman"/>
                <a:ea typeface="Times New Roman"/>
              </a:rPr>
              <a:t>     </a:t>
            </a:r>
            <a:r>
              <a:rPr b="0" lang="es-ES" sz="3200" spc="-1" strike="noStrike">
                <a:solidFill>
                  <a:srgbClr val="99ccff"/>
                </a:solidFill>
                <a:latin typeface="Arial"/>
                <a:ea typeface="Arial"/>
              </a:rPr>
              <a:t>Que una parte tenga el beneficio de litigar sin gastos y no hay otras partes con solvencia económica  ( art 84 C.P.C. y C.).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POR HONORARIOS  COBRABLES</a:t>
            </a:r>
            <a:br>
              <a:rPr sz="3200"/>
            </a:b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Dra. C.P. Gladys Ad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99ccff"/>
                </a:solidFill>
                <a:latin typeface="Arial"/>
                <a:ea typeface="Times New Roman"/>
              </a:rPr>
              <a:t>d) Que la empresa con costas a cargo se encuentre en quiebra y sin activo , por lo que el perito no tiene posibilidades de verificar su crédito</a:t>
            </a:r>
            <a:r>
              <a:rPr b="0" lang="es-ES" sz="3200" spc="-1" strike="noStrike">
                <a:solidFill>
                  <a:srgbClr val="99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POR HONORARIOS  COBRABLES</a:t>
            </a:r>
            <a:br>
              <a:rPr sz="3200"/>
            </a:b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Dra. C.P. Gladys Ad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9ccff"/>
                </a:solidFill>
                <a:latin typeface="Arial"/>
                <a:ea typeface="Arial"/>
              </a:rPr>
              <a:t>e</a:t>
            </a:r>
            <a:r>
              <a:rPr b="0" lang="es-ES" sz="3200" spc="-1" strike="noStrike">
                <a:solidFill>
                  <a:srgbClr val="99ccff"/>
                </a:solidFill>
                <a:latin typeface="Arial"/>
                <a:ea typeface="Arial"/>
              </a:rPr>
              <a:t>)</a:t>
            </a:r>
            <a:r>
              <a:rPr b="0" lang="es-ES" sz="3200" spc="-1" strike="noStrike">
                <a:solidFill>
                  <a:srgbClr val="99ccff"/>
                </a:solidFill>
                <a:latin typeface="Times New Roman"/>
                <a:ea typeface="Times New Roman"/>
              </a:rPr>
              <a:t>     </a:t>
            </a:r>
            <a:r>
              <a:rPr b="0" lang="es-ES" sz="3200" spc="-1" strike="noStrike">
                <a:solidFill>
                  <a:srgbClr val="99ccff"/>
                </a:solidFill>
                <a:latin typeface="Arial"/>
                <a:ea typeface="Arial"/>
              </a:rPr>
              <a:t>Que la empresa se encuentre en quiebra o concurso y con activo, pero que los honorarios sean tan bajos que siendo necesario el patrocinio letrado, ningún abogado quiera tomar el caso.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POR HONORARIOS  COBRABLES</a:t>
            </a:r>
            <a:br>
              <a:rPr sz="3200"/>
            </a:b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Dra. C.P. Gladys Ad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99ccff"/>
                </a:solidFill>
                <a:latin typeface="Arial"/>
                <a:ea typeface="Times New Roman"/>
              </a:rPr>
              <a:t>f) Que la empresa simplemente haya desaparecido</a:t>
            </a:r>
            <a:r>
              <a:rPr b="0" lang="es-AR" sz="3200" spc="-1" strike="noStrike">
                <a:solidFill>
                  <a:srgbClr val="dddddd"/>
                </a:solidFill>
                <a:latin typeface="Arial"/>
                <a:ea typeface="Times New Roman"/>
              </a:rPr>
              <a:t>.</a:t>
            </a:r>
            <a:r>
              <a:rPr b="0" lang="es-ES" sz="32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POR HONORARIOS  COBRABLES</a:t>
            </a:r>
            <a:br>
              <a:rPr sz="3200"/>
            </a:b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Dra. C.P. Gladys Ad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9ccff"/>
                </a:solidFill>
                <a:latin typeface="Arial"/>
                <a:ea typeface="Arial"/>
              </a:rPr>
              <a:t>g</a:t>
            </a:r>
            <a:r>
              <a:rPr b="0" lang="es-ES" sz="3200" spc="-1" strike="noStrike">
                <a:solidFill>
                  <a:srgbClr val="99ccff"/>
                </a:solidFill>
                <a:latin typeface="Arial"/>
                <a:ea typeface="Arial"/>
              </a:rPr>
              <a:t>)</a:t>
            </a:r>
            <a:r>
              <a:rPr b="0" lang="es-ES" sz="3200" spc="-1" strike="noStrike">
                <a:solidFill>
                  <a:srgbClr val="99ccff"/>
                </a:solidFill>
                <a:latin typeface="Times New Roman"/>
                <a:ea typeface="Times New Roman"/>
              </a:rPr>
              <a:t>     </a:t>
            </a:r>
            <a:r>
              <a:rPr b="0" lang="es-ES" sz="3200" spc="-1" strike="noStrike">
                <a:solidFill>
                  <a:srgbClr val="99ccff"/>
                </a:solidFill>
                <a:latin typeface="Arial"/>
                <a:ea typeface="Arial"/>
              </a:rPr>
              <a:t>Por el art 40 de la Ley 18345 en los juicios laborales son exigibles a cualquiera de las partes pero según el art. 3° Ley 24432 los peritos intervinientes podrán reclamar de la parte no condenada en costas hasta el cincuenta por ciento (50%) de los honorarios que fueran regulados, sin perjuicio de lo dispuesto en el art. 478” 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POR HONORARIOS  COBRABLES</a:t>
            </a:r>
            <a:br>
              <a:rPr sz="3200"/>
            </a:b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Dra. C.P. Gladys Ad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9ccff"/>
                </a:solidFill>
                <a:latin typeface="Arial"/>
                <a:ea typeface="Arial"/>
              </a:rPr>
              <a:t>h</a:t>
            </a:r>
            <a:r>
              <a:rPr b="0" lang="es-ES" sz="3200" spc="-1" strike="noStrike">
                <a:solidFill>
                  <a:srgbClr val="99ccff"/>
                </a:solidFill>
                <a:latin typeface="Arial"/>
                <a:ea typeface="Arial"/>
              </a:rPr>
              <a:t>)</a:t>
            </a:r>
            <a:r>
              <a:rPr b="0" lang="es-ES" sz="3200" spc="-1" strike="noStrike">
                <a:solidFill>
                  <a:srgbClr val="99ccff"/>
                </a:solidFill>
                <a:latin typeface="Times New Roman"/>
                <a:ea typeface="Times New Roman"/>
              </a:rPr>
              <a:t>     </a:t>
            </a:r>
            <a:r>
              <a:rPr b="0" lang="es-ES" sz="3200" spc="-1" strike="noStrike">
                <a:solidFill>
                  <a:srgbClr val="99ccff"/>
                </a:solidFill>
                <a:latin typeface="Arial"/>
                <a:ea typeface="Arial"/>
              </a:rPr>
              <a:t>Que haya sido designado y que se le haya ordenado abstenerse de cumplir con su cometido por lo que perdió la posibilidad de presentar la pericia y cobrarla.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POR HONORARIOS  COBRABLES</a:t>
            </a:r>
            <a:br>
              <a:rPr sz="3200"/>
            </a:b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Dra. C.P. Gladys Ad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9ccff"/>
                </a:solidFill>
                <a:latin typeface="Arial"/>
                <a:ea typeface="Arial"/>
              </a:rPr>
              <a:t>i</a:t>
            </a:r>
            <a:r>
              <a:rPr b="0" lang="es-ES" sz="3200" spc="-1" strike="noStrike">
                <a:solidFill>
                  <a:srgbClr val="99ccff"/>
                </a:solidFill>
                <a:latin typeface="Arial"/>
                <a:ea typeface="Arial"/>
              </a:rPr>
              <a:t>)</a:t>
            </a:r>
            <a:r>
              <a:rPr b="0" lang="es-ES" sz="3200" spc="-1" strike="noStrike">
                <a:solidFill>
                  <a:srgbClr val="99ccff"/>
                </a:solidFill>
                <a:latin typeface="Times New Roman"/>
                <a:ea typeface="Times New Roman"/>
              </a:rPr>
              <a:t>     </a:t>
            </a:r>
            <a:r>
              <a:rPr b="0" lang="es-ES" sz="3200" spc="-1" strike="noStrike">
                <a:solidFill>
                  <a:srgbClr val="99ccff"/>
                </a:solidFill>
                <a:latin typeface="Arial"/>
                <a:ea typeface="Arial"/>
              </a:rPr>
              <a:t>Que las partes transen o desistan de la acción una vez aceptado el cargo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POR HONORARIOS  COBRABLES</a:t>
            </a:r>
            <a:br>
              <a:rPr sz="3200"/>
            </a:b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Dra. C.P. Gladys Ad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9ccff"/>
                </a:solidFill>
                <a:latin typeface="Arial"/>
                <a:ea typeface="Arial"/>
              </a:rPr>
              <a:t>j</a:t>
            </a:r>
            <a:r>
              <a:rPr b="0" lang="es-ES" sz="3200" spc="-1" strike="noStrike">
                <a:solidFill>
                  <a:srgbClr val="99ccff"/>
                </a:solidFill>
                <a:latin typeface="Arial"/>
                <a:ea typeface="Arial"/>
              </a:rPr>
              <a:t>)</a:t>
            </a:r>
            <a:r>
              <a:rPr b="0" lang="es-ES" sz="3200" spc="-1" strike="noStrike">
                <a:solidFill>
                  <a:srgbClr val="99ccff"/>
                </a:solidFill>
                <a:latin typeface="Times New Roman"/>
                <a:ea typeface="Times New Roman"/>
              </a:rPr>
              <a:t>     </a:t>
            </a:r>
            <a:r>
              <a:rPr b="0" lang="es-ES" sz="3200" spc="-1" strike="noStrike">
                <a:solidFill>
                  <a:srgbClr val="99ccff"/>
                </a:solidFill>
                <a:latin typeface="Arial"/>
                <a:ea typeface="Arial"/>
              </a:rPr>
              <a:t>Que los jueces dispongan una regulación compensatoria “adecuada” por no haber presentado pericia por falta de libros contables y documentación aunque se hayan insumido horas de labor haciendo la investigación sobre la persona o empresa demandada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878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POR HONORARIOS  COBRABLES</a:t>
            </a:r>
            <a:br>
              <a:rPr sz="3200"/>
            </a:b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Dra. C.P. Gladys Ades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99ccff"/>
                </a:solidFill>
                <a:latin typeface="Arial"/>
                <a:ea typeface="Times New Roman"/>
              </a:rPr>
              <a:t>Este trabajo está orientado a que pueda en el futuro servir de aporte para un cambio en la forma de cobro de honorarios judiciales.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POR HONORARIOS  COBRABLES</a:t>
            </a:r>
            <a:br>
              <a:rPr sz="3200"/>
            </a:b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Dra. C.P. Gladys Ad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ccff"/>
                </a:solidFill>
                <a:latin typeface="Arial"/>
                <a:ea typeface="Arial"/>
              </a:rPr>
              <a:t>Vemos hasta aquí que son muchas las dificultades que tienen los peritos para cobrar sus honorarios .  </a:t>
            </a: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POR HONORARIOS  COBRABLES</a:t>
            </a:r>
            <a:br>
              <a:rPr sz="3200"/>
            </a:b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Dra. C.P. Gladys Ad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99ccff"/>
                </a:solidFill>
                <a:latin typeface="Arial"/>
                <a:ea typeface="Arial"/>
              </a:rPr>
              <a:t>CONSTITUCION DE LA NACION ARGENTINA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99ccff"/>
                </a:solidFill>
                <a:latin typeface="Arial"/>
                <a:ea typeface="Arial"/>
              </a:rPr>
              <a:t>ART 14 BIS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99ccff"/>
                </a:solidFill>
                <a:latin typeface="Arial"/>
                <a:ea typeface="Arial"/>
              </a:rPr>
              <a:t>PROTECCION DEL TRABAJO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99ccff"/>
                </a:solidFill>
                <a:latin typeface="Arial"/>
                <a:ea typeface="Arial"/>
              </a:rPr>
              <a:t>PERITOS = TRABAJADORES INTELECTUALES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99ccff"/>
                </a:solidFill>
                <a:latin typeface="Arial"/>
                <a:ea typeface="Arial"/>
              </a:rPr>
              <a:t>PERITOS NO TIENEN PROTECCION DE LAS LEYES PARA COBRAR SUS HONORARIO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POR HONORARIOS  COBRABLES</a:t>
            </a:r>
            <a:br>
              <a:rPr sz="3200"/>
            </a:b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Dra. C.P. Gladys Ad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99ccff"/>
                </a:solidFill>
                <a:latin typeface="Arial"/>
                <a:ea typeface="Times New Roman"/>
              </a:rPr>
              <a:t>HONORARIOS ???? = INCERTIDUMBRE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99ccff"/>
                </a:solidFill>
                <a:latin typeface="Arial"/>
                <a:ea typeface="Times New Roman"/>
              </a:rPr>
              <a:t>SERVICIO DE EXCELENCIA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99ccff"/>
                </a:solidFill>
                <a:latin typeface="Arial"/>
                <a:ea typeface="Times New Roman"/>
              </a:rPr>
              <a:t>	</a:t>
            </a:r>
            <a:r>
              <a:rPr b="0" lang="es-AR" sz="3200" spc="-1" strike="noStrike">
                <a:solidFill>
                  <a:srgbClr val="99ccff"/>
                </a:solidFill>
                <a:latin typeface="Arial"/>
                <a:ea typeface="Times New Roman"/>
              </a:rPr>
              <a:t>	</a:t>
            </a:r>
            <a:r>
              <a:rPr b="0" lang="es-AR" sz="3200" spc="-1" strike="noStrike">
                <a:solidFill>
                  <a:srgbClr val="99ccff"/>
                </a:solidFill>
                <a:latin typeface="Arial"/>
                <a:ea typeface="Times New Roman"/>
              </a:rPr>
              <a:t>	</a:t>
            </a:r>
            <a:r>
              <a:rPr b="0" lang="es-AR" sz="3200" spc="-1" strike="noStrike">
                <a:solidFill>
                  <a:srgbClr val="99ccff"/>
                </a:solidFill>
                <a:latin typeface="Arial"/>
                <a:ea typeface="Times New Roman"/>
              </a:rPr>
              <a:t>POR LO TANTO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99ccff"/>
                </a:solidFill>
                <a:latin typeface="Arial"/>
                <a:ea typeface="Times New Roman"/>
              </a:rPr>
              <a:t>RETRIBUCION ACORD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POR HONORARIOS  COBRABLES</a:t>
            </a:r>
            <a:br>
              <a:rPr sz="3200"/>
            </a:b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Dra. C.P. Gladys Ad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99ccff"/>
                </a:solidFill>
                <a:latin typeface="Arial"/>
                <a:ea typeface="Times New Roman"/>
              </a:rPr>
              <a:t>Al no saber quien va a ser el condenado en costas ninguna parte esta obligada a pagar los honorarios anticipados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POR HONORARIOS  COBRABLES</a:t>
            </a:r>
            <a:br>
              <a:rPr sz="3200"/>
            </a:b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Dra. C.P. Gladys Ad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99ccff"/>
                </a:solidFill>
                <a:latin typeface="Arial"/>
                <a:ea typeface="Times New Roman"/>
              </a:rPr>
              <a:t>Teniendo en cuenta las leyes actuales se resume lo siguiente  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99ccff"/>
                </a:solidFill>
                <a:latin typeface="Wingdings"/>
                <a:ea typeface="Wingdings"/>
              </a:rPr>
              <a:t></a:t>
            </a:r>
            <a:r>
              <a:rPr b="0" lang="es-AR" sz="2800" spc="-1" strike="noStrike">
                <a:solidFill>
                  <a:srgbClr val="99ccff"/>
                </a:solidFill>
                <a:latin typeface="Times New Roman"/>
                <a:ea typeface="Times New Roman"/>
              </a:rPr>
              <a:t>      </a:t>
            </a:r>
            <a:r>
              <a:rPr b="0" lang="es-AR" sz="2800" spc="-1" strike="noStrike">
                <a:solidFill>
                  <a:srgbClr val="99ccff"/>
                </a:solidFill>
                <a:latin typeface="Arial"/>
                <a:ea typeface="Times New Roman"/>
              </a:rPr>
              <a:t>Monto del asunto es monto de sentencia o transacción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99ccff"/>
                </a:solidFill>
                <a:latin typeface="Wingdings"/>
                <a:ea typeface="Wingdings"/>
              </a:rPr>
              <a:t></a:t>
            </a:r>
            <a:r>
              <a:rPr b="0" lang="es-AR" sz="2800" spc="-1" strike="noStrike">
                <a:solidFill>
                  <a:srgbClr val="99ccff"/>
                </a:solidFill>
                <a:latin typeface="Times New Roman"/>
                <a:ea typeface="Times New Roman"/>
              </a:rPr>
              <a:t>      </a:t>
            </a:r>
            <a:r>
              <a:rPr b="0" lang="es-AR" sz="2800" spc="-1" strike="noStrike">
                <a:solidFill>
                  <a:srgbClr val="99ccff"/>
                </a:solidFill>
                <a:latin typeface="Arial"/>
                <a:ea typeface="Times New Roman"/>
              </a:rPr>
              <a:t>Para regular honorarios se debe tener en cuenta el resultado que se hubiere obtenido.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99ccff"/>
                </a:solidFill>
                <a:latin typeface="Wingdings"/>
                <a:ea typeface="Wingdings"/>
              </a:rPr>
              <a:t></a:t>
            </a:r>
            <a:r>
              <a:rPr b="0" lang="es-AR" sz="2800" spc="-1" strike="noStrike">
                <a:solidFill>
                  <a:srgbClr val="99ccff"/>
                </a:solidFill>
                <a:latin typeface="Times New Roman"/>
                <a:ea typeface="Times New Roman"/>
              </a:rPr>
              <a:t>      </a:t>
            </a:r>
            <a:r>
              <a:rPr b="0" lang="es-AR" sz="2800" spc="-1" strike="noStrike">
                <a:solidFill>
                  <a:srgbClr val="99ccff"/>
                </a:solidFill>
                <a:latin typeface="Arial"/>
                <a:ea typeface="Times New Roman"/>
              </a:rPr>
              <a:t>Se pueden regular honorarios antes de la sentencia en base a la mitad del reclamo y luego ajustar esa regulación al momento de dictar sentencia.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POR HONORARIOS  COBRABLES</a:t>
            </a:r>
            <a:br>
              <a:rPr sz="3200"/>
            </a:b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Dra. C.P. Gladys Ad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99ccff"/>
                </a:solidFill>
                <a:latin typeface="Arial"/>
                <a:ea typeface="Times New Roman"/>
              </a:rPr>
              <a:t>        </a:t>
            </a:r>
            <a:r>
              <a:rPr b="0" lang="es-AR" sz="2800" spc="-1" strike="noStrike">
                <a:solidFill>
                  <a:srgbClr val="99ccff"/>
                </a:solidFill>
                <a:latin typeface="Arial"/>
                <a:ea typeface="Times New Roman"/>
              </a:rPr>
              <a:t>El pago debe ser efectuado por la condenada en costas.</a:t>
            </a:r>
            <a:r>
              <a:rPr b="0" lang="es-AR" sz="2400" spc="-1" strike="noStrike">
                <a:solidFill>
                  <a:srgbClr val="99cc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99ccff"/>
                </a:solidFill>
                <a:latin typeface="Wingdings"/>
                <a:ea typeface="Wingdings"/>
              </a:rPr>
              <a:t></a:t>
            </a:r>
            <a:r>
              <a:rPr b="0" lang="es-AR" sz="2800" spc="-1" strike="noStrike">
                <a:solidFill>
                  <a:srgbClr val="99ccff"/>
                </a:solidFill>
                <a:latin typeface="Times New Roman"/>
                <a:ea typeface="Times New Roman"/>
              </a:rPr>
              <a:t>      </a:t>
            </a:r>
            <a:r>
              <a:rPr b="0" lang="es-AR" sz="2800" spc="-1" strike="noStrike">
                <a:solidFill>
                  <a:srgbClr val="99ccff"/>
                </a:solidFill>
                <a:latin typeface="Arial"/>
                <a:ea typeface="Times New Roman"/>
              </a:rPr>
              <a:t>Las costas no pueden ser mayores al 25% del monto de la sentencia o transacción.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99ccff"/>
                </a:solidFill>
                <a:latin typeface="Wingdings"/>
                <a:ea typeface="Wingdings"/>
              </a:rPr>
              <a:t></a:t>
            </a:r>
            <a:r>
              <a:rPr b="0" lang="es-AR" sz="2800" spc="-1" strike="noStrike">
                <a:solidFill>
                  <a:srgbClr val="99ccff"/>
                </a:solidFill>
                <a:latin typeface="Times New Roman"/>
                <a:ea typeface="Times New Roman"/>
              </a:rPr>
              <a:t>      </a:t>
            </a:r>
            <a:r>
              <a:rPr b="0" lang="es-AR" sz="2800" spc="-1" strike="noStrike">
                <a:solidFill>
                  <a:srgbClr val="99ccff"/>
                </a:solidFill>
                <a:latin typeface="Arial"/>
                <a:ea typeface="Times New Roman"/>
              </a:rPr>
              <a:t>A la no condenada en costas se le puede reclamar solo el 50% de los honorarios.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99ccff"/>
                </a:solidFill>
                <a:latin typeface="Wingdings"/>
                <a:ea typeface="Wingdings"/>
              </a:rPr>
              <a:t></a:t>
            </a:r>
            <a:r>
              <a:rPr b="0" lang="es-AR" sz="2800" spc="-1" strike="noStrike">
                <a:solidFill>
                  <a:srgbClr val="99ccff"/>
                </a:solidFill>
                <a:latin typeface="Times New Roman"/>
                <a:ea typeface="Times New Roman"/>
              </a:rPr>
              <a:t>      </a:t>
            </a:r>
            <a:r>
              <a:rPr b="0" lang="es-AR" sz="2800" spc="-1" strike="noStrike">
                <a:solidFill>
                  <a:srgbClr val="99ccff"/>
                </a:solidFill>
                <a:latin typeface="Arial"/>
                <a:ea typeface="Times New Roman"/>
              </a:rPr>
              <a:t>En la regulación de honorarios se debe respetar la proporcionalidad con los demás profesionales intervinientes.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POR HONORARIOS  COBRABLES</a:t>
            </a:r>
            <a:br>
              <a:rPr sz="3200"/>
            </a:b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Dra. C.P. Gladys Ad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99ccff"/>
                </a:solidFill>
                <a:latin typeface="Arial"/>
                <a:ea typeface="Times New Roman"/>
              </a:rPr>
              <a:t>Los avances tecnológicos son vertiginosos pero no así las actualizaciones de las leyes para legislar sobre hechos cotidianos y existentes.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99ccff"/>
                </a:solidFill>
                <a:latin typeface="Arial"/>
                <a:ea typeface="Times New Roman"/>
              </a:rPr>
              <a:t>Por eso es que no se impulsa la modificación de las leyes de regulación de honorarios en una primera instancia</a:t>
            </a:r>
            <a:r>
              <a:rPr b="0" lang="es-AR" sz="3200" spc="-1" strike="noStrike">
                <a:solidFill>
                  <a:srgbClr val="dddddd"/>
                </a:solidFill>
                <a:latin typeface="Arial"/>
                <a:ea typeface="Times New Roman"/>
              </a:rPr>
              <a:t>.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POR HONORARIOS  COBRABLES</a:t>
            </a:r>
            <a:br>
              <a:rPr sz="3200"/>
            </a:b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Dra. C.P. Gladys Ad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99ccff"/>
                </a:solidFill>
                <a:latin typeface="Arial"/>
                <a:ea typeface="Times New Roman"/>
              </a:rPr>
              <a:t>OBJETIVO DEL TRABAJO: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99ccff"/>
                </a:solidFill>
                <a:latin typeface="Arial"/>
                <a:ea typeface="Times New Roman"/>
              </a:rPr>
              <a:t>COBRAR HONORARIOS POR TODAS LAS PERICIAS REALIZADAS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99ccff"/>
                </a:solidFill>
                <a:latin typeface="Arial"/>
                <a:ea typeface="Times New Roman"/>
              </a:rPr>
              <a:t>ELEVAR EL MONTO DE HONORARIOS PROMEDIO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99ccff"/>
                </a:solidFill>
                <a:latin typeface="Arial"/>
                <a:ea typeface="Times New Roman"/>
              </a:rPr>
              <a:t>NO DESILUSIONAR A LOS PERITOS Y QUE NO ABANDONEN LA LABOR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POR HONORARIOS  COBRABLES</a:t>
            </a:r>
            <a:br>
              <a:rPr sz="3200"/>
            </a:b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Dra. C.P. Gladys Ad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99ccff"/>
                </a:solidFill>
                <a:latin typeface="Arial"/>
              </a:rPr>
              <a:t>LEY 23853 :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99ccff"/>
                </a:solidFill>
                <a:latin typeface="Arial"/>
              </a:rPr>
              <a:t>AUTARQUIA JUDICIAL</a:t>
            </a: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99ccff"/>
                </a:solidFill>
                <a:latin typeface="Arial"/>
              </a:rPr>
              <a:t>LA C.S.J.N. PREPARARA EL PRESUPUESTO DE GASTOS Y RECURSOS</a:t>
            </a: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POR HONORARIOS  COBRABLES</a:t>
            </a:r>
            <a:br>
              <a:rPr sz="3200"/>
            </a:b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Dra. C.P. Gladys Ad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665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99ccff"/>
                </a:solidFill>
                <a:latin typeface="Arial"/>
              </a:rPr>
              <a:t>LEY 23853 RECURSOS: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99ccff"/>
                </a:solidFill>
                <a:latin typeface="Arial"/>
              </a:rPr>
              <a:t>       </a:t>
            </a:r>
            <a:r>
              <a:rPr b="0" lang="es-MX" sz="2400" spc="-1" strike="noStrike">
                <a:solidFill>
                  <a:srgbClr val="99ccff"/>
                </a:solidFill>
                <a:latin typeface="Arial"/>
              </a:rPr>
              <a:t>_ TASAS DE ACTUACION JUDICIAL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99ccff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99ccff"/>
                </a:solidFill>
                <a:latin typeface="Arial"/>
              </a:rPr>
              <a:t>FACULTADES DE LA CSJN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99ccff"/>
                </a:solidFill>
                <a:latin typeface="Arial"/>
              </a:rPr>
              <a:t>_ ESTABLECER ARANCELES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99ccff"/>
                </a:solidFill>
                <a:latin typeface="Arial"/>
              </a:rPr>
              <a:t>_ FIJAR SUS  MONTOS Y ACTUALIZACIONES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99ccff"/>
                </a:solidFill>
                <a:latin typeface="Arial"/>
              </a:rPr>
              <a:t>_ DISPONER DE SU PATRIMONIO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99ccff"/>
                </a:solidFill>
                <a:latin typeface="Arial"/>
              </a:rPr>
              <a:t>_DETERMINAR EL REGIMEN DE PERCEPCION , ADMINISTRACION Y CONTRALOR DE SUS RECURSOS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99ccff"/>
                </a:solidFill>
                <a:latin typeface="Arial"/>
              </a:rPr>
              <a:t>_  EFECTUAR EL CONTROL Y EXIGIR EL COBRO DE RECURSOS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POR HONORARIOS  COBRABLES</a:t>
            </a:r>
            <a:br>
              <a:rPr sz="3200"/>
            </a:b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Dra. C.P. Gladys Ad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99ccff"/>
                </a:solidFill>
                <a:latin typeface="Arial"/>
              </a:rPr>
              <a:t>Ley 23898 Tasas Judiciale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99ccff"/>
                </a:solidFill>
                <a:latin typeface="Arial"/>
                <a:ea typeface="Arial"/>
              </a:rPr>
              <a:t>Art. 1</a:t>
            </a:r>
            <a:r>
              <a:rPr b="0" lang="es-AR" sz="2800" spc="-1" strike="noStrike">
                <a:solidFill>
                  <a:srgbClr val="99ccff"/>
                </a:solidFill>
                <a:latin typeface="Arial"/>
                <a:ea typeface="Times New Roman"/>
              </a:rPr>
              <a:t> – Todas las actuaciones judiciales... estarán sujetas a las tasas que se establecen en la presente ley......</a:t>
            </a:r>
            <a:r>
              <a:rPr b="0" lang="es-ES" sz="2800" spc="-1" strike="noStrike">
                <a:solidFill>
                  <a:srgbClr val="99cc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ccff"/>
                </a:solidFill>
                <a:latin typeface="Arial"/>
                <a:ea typeface="Arial"/>
              </a:rPr>
              <a:t>Art. 2 – A todas las actuaciones, cualquiera sea su naturaleza, susceptibles de apreciación pecuniaria se aplicará una tasa del tres por ciento (3%), .....</a:t>
            </a:r>
            <a:r>
              <a:rPr b="0" lang="es-AR" sz="2800" spc="-1" strike="noStrike">
                <a:solidFill>
                  <a:srgbClr val="99cc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POR HONORARIOS  COBRABLES</a:t>
            </a:r>
            <a:br>
              <a:rPr sz="3200"/>
            </a:b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Dra. C.P. Gladys Ad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2880" y="1980720"/>
            <a:ext cx="7970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9ccff"/>
                </a:solidFill>
                <a:latin typeface="Arial"/>
              </a:rPr>
              <a:t>ATRASO DE EXPEDIENTES POR FALTA DE PRESENTACION DE PERICIAS EN JUICIOS DE ESCASO MONTO :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9ccff"/>
                </a:solidFill>
                <a:latin typeface="Arial"/>
              </a:rPr>
              <a:t>PERJUICIO PARA JUECES, AUXILIARES DE LA JUSTICIA Y PARTE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POR HONORARIOS  COBRABLES</a:t>
            </a:r>
            <a:br>
              <a:rPr sz="3200"/>
            </a:b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Dra. C.P. Gladys Ad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2361960"/>
            <a:ext cx="80773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99ccff"/>
                </a:solidFill>
                <a:latin typeface="Arial"/>
                <a:ea typeface="Times New Roman"/>
              </a:rPr>
              <a:t>LEY 23898 : ESTABLECE TASA PARA ABONAR LOS SERVICIOS DE JUSTICIA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99ccff"/>
                </a:solidFill>
                <a:latin typeface="Arial"/>
                <a:ea typeface="Times New Roman"/>
              </a:rPr>
              <a:t>ACORDADA 2995 ARANCELO SERVICIOS Y ACTIVIDADES ADMINISTRATIVAS QUE PRESTA EL PODER JUDICIAL DE LA NACION  ENTRE ELLAS LA INSCRIPCION DE PERITOS EN $50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POR HONORARIOS  COBRABLES</a:t>
            </a:r>
            <a:br>
              <a:rPr sz="3200"/>
            </a:b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Dra. C.P. Gladys Ad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Arial"/>
              </a:rPr>
              <a:t>                   </a:t>
            </a:r>
            <a:r>
              <a:rPr b="0" lang="es-MX" sz="3200" spc="-1" strike="noStrike">
                <a:solidFill>
                  <a:srgbClr val="99ccff"/>
                </a:solidFill>
                <a:latin typeface="Arial"/>
              </a:rPr>
              <a:t>SE SUGIER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99ccff"/>
                </a:solidFill>
                <a:latin typeface="Arial"/>
                <a:ea typeface="Times New Roman"/>
              </a:rPr>
              <a:t>TASA POR CADA DESIGNACION DE AUXILIAR DE LA JUSTICIA DEL 3% DEL MONTO ACTUALIZADO MAS INTERESES AL MOMENTO DEL DEPOSITO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POR HONORARIOS  COBRABLES</a:t>
            </a:r>
            <a:br>
              <a:rPr sz="3200"/>
            </a:b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Dra. C.P. Gladys Ad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9ccff"/>
                </a:solidFill>
                <a:latin typeface="Arial"/>
              </a:rPr>
              <a:t>DEPOSITO ANTERIOR A LA DESIGNACION DEL PERITO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9ccff"/>
                </a:solidFill>
                <a:latin typeface="Arial"/>
              </a:rPr>
              <a:t>POR LA PARTE QUE SOLICITO LA PERICIA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POR HONORARIOS  COBRABLES</a:t>
            </a:r>
            <a:br>
              <a:rPr sz="3200"/>
            </a:b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Dra. C.P. Gladys Ad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99ccff"/>
                </a:solidFill>
                <a:latin typeface="Arial"/>
              </a:rPr>
              <a:t>SI DISTINTAS PARTES SOLICITASEN LA DESIGNACION DE UN AUXILIAR DE LA MISMA ESPECIALIDAD, CADA UNA DEBERA ABONAR EL TOTAL DE LA TASA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99ccff"/>
                </a:solidFill>
                <a:latin typeface="Arial"/>
              </a:rPr>
              <a:t>LA CONTRAPARTE DE QUIEN ACTUARE CON BENEFICIO DE LITIGAR SIN GASTOS DEBERA ABONAR LA TASA PREVISTA</a:t>
            </a:r>
            <a:r>
              <a:rPr b="0" lang="es-MX" sz="28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POR HONORARIOS  COBRABLES</a:t>
            </a:r>
            <a:br>
              <a:rPr sz="3200"/>
            </a:b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Dra. C.P. Gladys Ad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9ccff"/>
                </a:solidFill>
                <a:latin typeface="Arial"/>
              </a:rPr>
              <a:t>LOS FONDOS QUE RESULTEN DE LA PERCEPCION DE LA TASA SE DESTINARAN A LOS HONORARIOS Y GASTOS DEL PERITO DESIGNADO EN ESE EXPEDIENT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POR HONORARIOS  COBRABLES</a:t>
            </a:r>
            <a:br>
              <a:rPr sz="3200"/>
            </a:b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Dra. C.P. Gladys Ad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99ccff"/>
                </a:solidFill>
                <a:latin typeface="Arial"/>
                <a:ea typeface="Times New Roman"/>
              </a:rPr>
              <a:t>LIQUIDACION DE CONDENA POR EL PERITO : DEPOSITO DE NUEVA TASA POR CONDENADA EN COSTA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POR HONORARIOS  COBRABLES</a:t>
            </a:r>
            <a:br>
              <a:rPr sz="3200"/>
            </a:b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Dra. C.P. Gladys Ad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99ccff"/>
                </a:solidFill>
                <a:latin typeface="Arial"/>
                <a:ea typeface="Times New Roman"/>
              </a:rPr>
              <a:t>IMPORTE MINIMO DE LA TASA : EN PROPORCION A LOS SUELDOS DE LOS PERITOS OFICIALES POR REALIZAR LA MISMA TAREA Y CONSIDERANDO UN MINIMO DE LABOR DE 12 HORAS DE TRABAJO EQUIVALENTE A DOS DIAS DE UN PERITO OFICIA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POR HONORARIOS  COBRABLES</a:t>
            </a:r>
            <a:br>
              <a:rPr sz="3200"/>
            </a:b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Dra. C.P. Gladys Ad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9ccff"/>
                </a:solidFill>
                <a:latin typeface="Arial"/>
              </a:rPr>
              <a:t>SUELDO PERITO OFICIAL $3625.66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9ccff"/>
                </a:solidFill>
                <a:latin typeface="Arial"/>
              </a:rPr>
              <a:t>TASA  MINIMA                       $330.00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9ccff"/>
                </a:solidFill>
                <a:latin typeface="Arial"/>
              </a:rPr>
              <a:t>HONORARIO MINIMO           $330.00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9ccff"/>
                </a:solidFill>
                <a:latin typeface="Arial"/>
              </a:rPr>
              <a:t>ACTUALIZACION DE TASA DE ACUERDO A SUELDOS JUSTICIA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POR HONORARIOS  COBRABLES</a:t>
            </a:r>
            <a:br>
              <a:rPr sz="3200"/>
            </a:b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Dra. C.P. Gladys Ad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9ccff"/>
                </a:solidFill>
                <a:latin typeface="Arial"/>
              </a:rPr>
              <a:t>MOMENTO DEL COBRO DE LA TASA POR EL PERITO: CUANDO QUEDA FIRME LA PERICIA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POR HONORARIOS  COBRABLES</a:t>
            </a:r>
            <a:br>
              <a:rPr sz="3200"/>
            </a:b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Dra. C.P. Gladys Ad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ccff"/>
                </a:solidFill>
                <a:latin typeface="Arial"/>
                <a:ea typeface="Arial"/>
              </a:rPr>
              <a:t>Art. 4 – Para la determinación de la tasa se tomarán en cuenta los siguientes montos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99ccff"/>
                </a:solidFill>
                <a:latin typeface="Arial"/>
                <a:ea typeface="Times New Roman"/>
              </a:rPr>
              <a:t>monto de la pretensión al momento del ingreso de la tasa</a:t>
            </a:r>
            <a:r>
              <a:rPr b="0" lang="es-ES" sz="2800" spc="-1" strike="noStrike">
                <a:solidFill>
                  <a:srgbClr val="99ccff"/>
                </a:solidFill>
                <a:latin typeface="Arial"/>
                <a:ea typeface="Times New Roman"/>
              </a:rPr>
              <a:t> </a:t>
            </a:r>
            <a:r>
              <a:rPr b="0" lang="es-MX" sz="2800" spc="-1" strike="noStrike">
                <a:solidFill>
                  <a:srgbClr val="99ccff"/>
                </a:solidFill>
                <a:latin typeface="Arial"/>
                <a:ea typeface="Times New Roman"/>
              </a:rPr>
              <a:t>+ actualizacion e interese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99ccff"/>
                </a:solidFill>
                <a:latin typeface="Arial"/>
                <a:ea typeface="Times New Roman"/>
              </a:rPr>
              <a:t>monto del proceso a los fines regulatorios si se hubiera fijado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99ccff"/>
                </a:solidFill>
                <a:latin typeface="Arial"/>
                <a:ea typeface="Times New Roman"/>
              </a:rPr>
              <a:t>Juicios sin valor pecuniario: monto fijo según CSJN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POR HONORARIOS  COBRABLES</a:t>
            </a:r>
            <a:br>
              <a:rPr sz="3200"/>
            </a:b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Dra. C.P. Gladys Ad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9ccff"/>
                </a:solidFill>
                <a:latin typeface="Arial"/>
              </a:rPr>
              <a:t>RECUPERO DE LA TASA POR LA NO CONDENADA EN COSTAS EN EL MOMENTO DE LA LIQUIDACION YA QUE LA CONDENA EN COSTAS COMPRENDE LOS GASTOS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9ccff"/>
                </a:solidFill>
                <a:latin typeface="Arial"/>
              </a:rPr>
              <a:t>LOS HONORARIOS DEL PERITO PUEDEN ESTAR COMPRENDIDOS EN LAS COSTAS.</a:t>
            </a:r>
            <a:r>
              <a:rPr b="0" lang="es-MX" sz="32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POR HONORARIOS  COBRABLES</a:t>
            </a:r>
            <a:br>
              <a:rPr sz="3200"/>
            </a:b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Dra. C.P. Gladys Ad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9ccff"/>
                </a:solidFill>
                <a:latin typeface="Arial"/>
              </a:rPr>
              <a:t>SENTENCIA: REGULACION DE HONORARIOS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9ccff"/>
                </a:solidFill>
                <a:latin typeface="Arial"/>
              </a:rPr>
              <a:t>LIQUIDACION: DESCUENTO DE LA TASA ACTUALIZADA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POR HONORARIOS  COBRABLES</a:t>
            </a:r>
            <a:br>
              <a:rPr sz="3200"/>
            </a:b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Dra. C.P. Gladys Ad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9ccff"/>
                </a:solidFill>
                <a:latin typeface="Arial"/>
              </a:rPr>
              <a:t>IMPORTE MINIMO DE LA TASA :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9ccff"/>
                </a:solidFill>
                <a:latin typeface="Arial"/>
              </a:rPr>
              <a:t>JUZGADO TRABAJO 72 $350.-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9ccff"/>
                </a:solidFill>
                <a:latin typeface="Arial"/>
              </a:rPr>
              <a:t>REGLAMENTO DE MEDIADORES $300.-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9ccff"/>
                </a:solidFill>
                <a:latin typeface="Arial"/>
              </a:rPr>
              <a:t>LEY 10620 OPINION ESCRITA $150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9ccff"/>
                </a:solidFill>
                <a:latin typeface="Arial"/>
              </a:rPr>
              <a:t>LEY 21839 ABOGADOS $500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POR HONORARIOS  COBRABLES</a:t>
            </a:r>
            <a:br>
              <a:rPr sz="3200"/>
            </a:b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Dra. C.P. Gladys Ad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9ccff"/>
                </a:solidFill>
                <a:latin typeface="Arial"/>
              </a:rPr>
              <a:t>DE ESTA FORMA ESTARIA ASEGURADA LA CONTINUIDAD DE LA LABOR PERICIAL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POR HONORARIOS  COBRABLES</a:t>
            </a:r>
            <a:br>
              <a:rPr sz="3200"/>
            </a:b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Dra. C.P. Gladys Ad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99ccff"/>
                </a:solidFill>
                <a:latin typeface="Arial"/>
                <a:ea typeface="Times New Roman"/>
              </a:rPr>
              <a:t>Art. 10 – La tasa de justicia integrará las costas del juicio y será soportada, en definitiva, por las partes, en la misma proporción en que dichas costas debieren ser satisfechas.</a:t>
            </a: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POR HONORARIOS  COBRABLES</a:t>
            </a:r>
            <a:br>
              <a:rPr sz="3200"/>
            </a:b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Dra. C.P. Gladys Ad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99ccff"/>
                </a:solidFill>
                <a:latin typeface="Arial"/>
                <a:ea typeface="Times New Roman"/>
              </a:rPr>
              <a:t>ACORDADA C.S.J.N. 29/95</a:t>
            </a:r>
            <a:r>
              <a:rPr b="0" lang="es-ES" sz="28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99ccff"/>
                </a:solidFill>
                <a:latin typeface="Arial"/>
                <a:ea typeface="Arial"/>
              </a:rPr>
              <a:t>Auxiliares de la Justicia. Poder Judicial de la Nación. Arancel de inscripción de peritos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ccff"/>
                </a:solidFill>
                <a:latin typeface="Arial"/>
                <a:ea typeface="Arial"/>
              </a:rPr>
              <a:t>ACORDARON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99ccff"/>
                </a:solidFill>
                <a:latin typeface="Arial"/>
                <a:ea typeface="Times New Roman"/>
              </a:rPr>
              <a:t>2. Arancelar, a partir del 1 de octubre de 1995 ..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99ccff"/>
                </a:solidFill>
                <a:latin typeface="Arial"/>
                <a:ea typeface="Times New Roman"/>
              </a:rPr>
              <a:t>a) Inscripción de peritos, síndicos y martilleros: cincuenta pesos ($ 50).</a:t>
            </a:r>
            <a:r>
              <a:rPr b="0" lang="es-ES" sz="2800" spc="-1" strike="noStrike">
                <a:solidFill>
                  <a:srgbClr val="99cc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POR HONORARIOS  COBRABLES</a:t>
            </a:r>
            <a:br>
              <a:rPr sz="3200"/>
            </a:b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Dra. C.P. Gladys Ad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99ccff"/>
                </a:solidFill>
                <a:uFillTx/>
                <a:latin typeface="Arial"/>
                <a:ea typeface="Times New Roman"/>
              </a:rPr>
              <a:t>Problemática en el cobro de honorarios.</a:t>
            </a:r>
            <a:r>
              <a:rPr b="0" lang="es-ES" sz="2800" spc="-1" strike="noStrike">
                <a:solidFill>
                  <a:srgbClr val="99cc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ccff"/>
                </a:solidFill>
                <a:latin typeface="Arial"/>
                <a:ea typeface="Arial"/>
              </a:rPr>
              <a:t>Los jueces regulan los honorarios al momento de la sentencia o aún después cuando hay liquidación firme ya que de acuerdo al art 47 de la Ley 21839 se debe conocer el valor de los bienes a efectos de la regulación de honorarios .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POR HONORARIOS  COBRABLES</a:t>
            </a:r>
            <a:br>
              <a:rPr sz="3200"/>
            </a:b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Dra. C.P. Gladys Ad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ccff"/>
                </a:solidFill>
                <a:latin typeface="Arial"/>
                <a:ea typeface="Arial"/>
              </a:rPr>
              <a:t>E</a:t>
            </a:r>
            <a:r>
              <a:rPr b="0" lang="es-MX" sz="4400" spc="-1" strike="noStrike">
                <a:solidFill>
                  <a:srgbClr val="99ccff"/>
                </a:solidFill>
                <a:latin typeface="Arial"/>
                <a:ea typeface="Arial"/>
              </a:rPr>
              <a:t>n</a:t>
            </a:r>
            <a:r>
              <a:rPr b="0" lang="es-ES" sz="4400" spc="-1" strike="noStrike">
                <a:solidFill>
                  <a:srgbClr val="99ccff"/>
                </a:solidFill>
                <a:latin typeface="Arial"/>
                <a:ea typeface="Arial"/>
              </a:rPr>
              <a:t> ese momento comienza la gran hazaña de los peritos para cobrar sus honorarios.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POR HONORARIOS  COBRABLES</a:t>
            </a:r>
            <a:br>
              <a:rPr sz="3200"/>
            </a:br>
            <a:r>
              <a:rPr b="1" lang="es-AR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Dra. C.P. Gladys Ad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99ccff"/>
                </a:solidFill>
                <a:latin typeface="Verdana"/>
                <a:ea typeface="Times New Roman"/>
              </a:rPr>
              <a:t>Inconvenientes para cobrar con honorarios firmes:</a:t>
            </a: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20:13:48Z</dcterms:created>
  <dc:creator>Gladys</dc:creator>
  <dc:description/>
  <dc:language>en-US</dc:language>
  <cp:lastModifiedBy>C.P.C.E.C.A.B.A.</cp:lastModifiedBy>
  <dcterms:modified xsi:type="dcterms:W3CDTF">2005-11-28T13:57:04Z</dcterms:modified>
  <cp:revision>2</cp:revision>
  <dc:subject/>
  <dc:title>POR HONORARIOS COBRABLES </dc:title>
</cp:coreProperties>
</file>