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18A-B92F-4ADE-84CF-699D7820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056-AA00-4CCD-B8A6-B0FEADF8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906-ED93-49CE-B6C9-5E8324F3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781-05AC-458F-9E07-0A1F723A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9E42-C4B0-414C-A0AA-FF965D49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F9F1-CAA0-47F8-96AD-25D0A30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624C-7932-4DD2-A30E-F5D0DDD5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B8E2-ACA4-4723-9656-B7011AE8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50D3-0BFF-4C8C-997A-92C01B4D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1A7F-CA03-4C30-BB2A-14B4145B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7896-EEB6-49E5-938A-71C6623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D73-9F0A-47E2-89D9-8B5C6755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1E57-F695-4861-B641-5822A905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20C0-7F94-417D-B8C7-0734B7E8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C8AF-62AC-4A1A-91D8-7CE7ECC4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678D-FFCC-4EE4-ACF2-13325E9B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13BD-FCCB-4F67-860D-FCB7B0BA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3D4-01CA-4221-9138-D9763CE8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21C-32A8-4F55-8784-C1366AC2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8DD-879E-413B-96B6-807C1B44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99A-E7E7-4701-9B64-13A7D0B8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FA7-0504-47AB-9968-C25BE83E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62F-A93F-402F-8F58-621E4BF9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740-7BD5-4FBC-8E7E-5D19561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232D-A36E-4160-8A8B-6545B839CE79}" type="slidenum">
              <a:rPr b="0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1F3E-D747-4181-923D-894C55D72E75}" type="slidenum"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cc66"/>
                </a:solidFill>
                <a:uFillTx/>
                <a:latin typeface="Arial"/>
              </a:rPr>
              <a:t>CONGRESO METROPOLITANO DE CIENCIAS ECONOMICAS</a:t>
            </a:r>
            <a:br>
              <a:rPr sz="2000"/>
            </a:br>
            <a:r>
              <a:rPr b="1" i="1" lang="es-ES" sz="2000" spc="-1" strike="noStrike">
                <a:solidFill>
                  <a:srgbClr val="ffcc66"/>
                </a:solidFill>
                <a:latin typeface="Arial"/>
              </a:rPr>
              <a:t>                                 </a:t>
            </a:r>
            <a:r>
              <a:rPr b="1" i="1" lang="es-ES" sz="2000" spc="-1" strike="noStrike">
                <a:solidFill>
                  <a:srgbClr val="ffcc66"/>
                </a:solidFill>
                <a:latin typeface="Arial"/>
              </a:rPr>
              <a:t>60° ANIVERSARIO</a:t>
            </a:r>
            <a:br>
              <a:rPr sz="2000"/>
            </a:br>
            <a:br>
              <a:rPr sz="2000"/>
            </a:b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iudad Autónoma de Buenos Aires 16 al 18 de Noviembre de 2005</a:t>
            </a:r>
            <a:br>
              <a:rPr sz="2000"/>
            </a:br>
            <a:br>
              <a:rPr sz="2400"/>
            </a:br>
            <a:br>
              <a:rPr sz="2400"/>
            </a:br>
            <a:r>
              <a:rPr b="1" i="1" lang="es-ES" sz="1800" spc="-1" strike="noStrike" u="sng">
                <a:solidFill>
                  <a:srgbClr val="ffcc66"/>
                </a:solidFill>
                <a:uFillTx/>
                <a:latin typeface="Arial"/>
              </a:rPr>
              <a:t>ACOSO MORAL O “MOBBING”</a:t>
            </a:r>
            <a:br>
              <a:rPr sz="2000"/>
            </a:br>
            <a:br>
              <a:rPr sz="20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rea V – Recursos Humanos, Legislación Laboral, Previsional</a:t>
            </a:r>
            <a:br>
              <a:rPr sz="1800"/>
            </a:b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y Administración de la Salud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bárea 3) Administración de la salud</a:t>
            </a:r>
            <a:br>
              <a:rPr sz="1800"/>
            </a:b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c.Pablo F.Magni Mar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ngreso Metropolitano de Ciencias Económic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cc66"/>
                </a:solidFill>
                <a:uFillTx/>
                <a:latin typeface="Arial"/>
              </a:rPr>
              <a:t>CONCEPTOS DE MOBBING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Conjunto de acciones continuadas y sistemáticas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que llegan a destruir psicológicamente a una persona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Cualquier manifestación de una conducta abusiva y los comportamientos que atenten contra la dignidad  o integridad de una persona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Gestación de actitudes temerosas y defensivas en 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el acosado, y negación de toda comunicación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c.Pablo F.Magni Mar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ngreso Metropolitano de Ciencias Económic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ffcc66"/>
                </a:solidFill>
                <a:uFillTx/>
                <a:latin typeface="Arial"/>
              </a:rPr>
              <a:t>Maneras en que se manifiest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Garamond"/>
              </a:rPr>
              <a:t>Rechazo a toda comun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Garamond"/>
              </a:rPr>
              <a:t>Falta de consignas o consignas contradic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Garamond"/>
              </a:rPr>
              <a:t>Privación o saturación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Garamond"/>
              </a:rPr>
              <a:t>Tareas sin sentido o misiones por debajo de la compe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Garamond"/>
              </a:rPr>
              <a:t>Críticas constantes, humillaciones, declaraciones calumniosas, insultos, amenazas, etc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ic.Pablo F.Magni Mar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Congreso Metropolitano de Ciencias Económic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449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ffcc66"/>
                </a:solidFill>
                <a:uFillTx/>
                <a:latin typeface="Arial"/>
              </a:rPr>
              <a:t>FORMAS DE ACOS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3360" y="2057040"/>
            <a:ext cx="3429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Garamond"/>
              </a:rPr>
              <a:t>Perve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Garamond"/>
              </a:rPr>
              <a:t>Económ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Garamond"/>
              </a:rPr>
              <a:t>Estratég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ic.Pablo F.Magni Mar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Congreso Metropolitano de Ciencias Económic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cc66"/>
                </a:solidFill>
                <a:uFillTx/>
                <a:latin typeface="Arial"/>
              </a:rPr>
              <a:t>ANTECEDENTES INTERNACIONALES: QUÉBEC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Junio 2004: 1° antecedente de  regulación legal en América: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 define el acoso moral y establece el acoso psicológico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Aparecen acciones sindicales detallando procedimi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i="1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rgentina: fallo de la Cámara Nacional de Apelaciones d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ic.Pablo F.Magni Mar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Congreso Metropolitano de Ciencias Económic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cc66"/>
                </a:solidFill>
                <a:uFillTx/>
                <a:latin typeface="Arial"/>
              </a:rPr>
              <a:t>CONSECUENCIAS DEL ACOSO MORA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2057040"/>
            <a:ext cx="56390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Para el trabajador afectado      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Para la organización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Para el núcleo familiar y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Para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ic.Pablo F.Magni Mar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Congreso Metropolitano de Ciencias Económic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cc66"/>
                </a:solidFill>
                <a:uFillTx/>
                <a:latin typeface="Arial"/>
              </a:rPr>
              <a:t>FORMAS DE PREVENCIÓ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Mejorar las condiciones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Capacitar a superiores para reconocer conflictos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potenciales y manejarlos adecuadamente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Desarrollar desde arriba reglas claras de resolución de conflictos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Articular sistemas de recepción e incorporación de “nuevos” a las organizaciones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Servicios de contención y apoyo psicológico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ic.Pablo F.Magni Mar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Congreso Metropolitano de Ciencias Económic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 u="sng">
                <a:solidFill>
                  <a:srgbClr val="ffcc66"/>
                </a:solidFill>
                <a:uFillTx/>
                <a:latin typeface="Arial"/>
              </a:rPr>
              <a:t>Muchas Grac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c.Pablo F.Magni Mar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ngreso Metropolitano de Ciencias Económic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23:08:56Z</dcterms:created>
  <dc:creator>Carlos Alberto Gomez</dc:creator>
  <dc:description/>
  <dc:language>en-US</dc:language>
  <cp:lastModifiedBy>C.P.C.E.C.A.B.A.</cp:lastModifiedBy>
  <dcterms:modified xsi:type="dcterms:W3CDTF">2005-11-24T17:24:41Z</dcterms:modified>
  <cp:revision>55</cp:revision>
  <dc:subject/>
  <dc:title>Gestión del Conocimiento</dc:title>
</cp:coreProperties>
</file>