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C042-FBCA-4C39-B7BB-B0E8830D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1C51-540F-4C62-8274-25D9BBFD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4A63-809A-45BD-BC60-9BE83C39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3340-C88C-496B-B365-56BFB07AC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9619A-2E9D-4150-B377-64DF4EBF4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3B25-452B-4724-AF18-4F8471C1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59E6-E041-4AC1-9953-F1F7B9CE4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8AA0-065D-4E1F-A05A-F35E8A15C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7A6E2-841E-49DD-9F03-BAAF11E9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457A2-CF5C-4289-AFCA-CF162367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59D7-BCB5-4995-8E68-7CB72D8F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3F24-9CDF-4EDB-90D9-1792B312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104A-9384-4599-A994-562E6308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97B7C-73F9-451B-94EA-4622567DD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7CC99-E07C-43F0-A813-D11592FF1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4CFAE-ADE9-4B28-BD9F-AF5A1F05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14787-FC1A-4A6B-A918-FF7E20736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B179-ADFA-4F4C-8B6B-B2257BEE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1882-AF40-43E6-9699-18201404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AC77-8BDA-4A77-A8A8-B53592A64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4E25-9972-46ED-8415-A5A5561A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FF3-F849-4944-B23F-13DF866A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C156-910E-4D51-A5E4-7286E66F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C002-98B3-443E-AE4C-B8DFDAC84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2DDF-2C53-44CD-A76C-8C38F6754366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B10E-8DFB-4F64-8B58-B79985A7D457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99"/>
                </a:solidFill>
                <a:latin typeface="Tahoma"/>
              </a:rPr>
              <a:t>CONGRESO METROPOLITANO DE CIENCIAS ECONOMICAS – NOVIEMBRE 2005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OPORTUNIDADES DEL ALCA PARA LA PROVINCIA DE CORDOB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Autores: Lic. Adriana Vagnola,, Lic. Lorena Ricotto. Lic. Mariela Morichett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641760" y="-1414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Complejos oleaginoso y cerealero-Pcia.Cba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5800" y="2057400"/>
            <a:ext cx="80359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Complejos de origen bovino y equino y otros bienes alimenticios-Pcia. Cba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2017800"/>
            <a:ext cx="810072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Complejo automotriz- Pcia.Cba.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81928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Oportunidades para la provinci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Criterio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SE SELECCIONAN LAS PARTIDAS CON ICC MAYOR QU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- SE DETERMINAN LAS PARTIDAS CON ARANCELES      MAYORES Y MENORES AL 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- FUERTES: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ARTIDAS CON ESPECIALIDAD EXPORTADORA INDEPENDIENTEMENTE DE LAS PREFERENCIAS DE BRAS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- DEBILES: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 EL IIC ES MENOR QUE 1 CUANDO NO SE CONSIDERAN LAS EXPORTACIONES A BRASI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Oportunidades comercial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7848720" cy="45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Bienes que enfrentarían competencia de Brasil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784872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Consideraciones finale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yor participación en el MERCOSU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aprovechamiento de espacios en el NAF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NAFTA presentaría oportunidades si se reducen de forma considerable los arance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chas ventajas se vuelven débiles al considerar las exportaciones de Brasi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levar adelante acciones para lograr una integración ampliada “positiva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Cuadro 1: Participación de las exportaciones argentinas según destino (%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182600" y="1981080"/>
            <a:ext cx="75805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98440" y="617040"/>
            <a:ext cx="779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Indice de intensidad de Comercio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62120" y="2278080"/>
            <a:ext cx="693396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Cuadro 2: Evolución del IIC de la Argentina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2057400"/>
            <a:ext cx="81928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Tahoma"/>
              </a:rPr>
              <a:t>Arance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ivele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Arancel Nación Mas Favorecida (NMF) 16,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-Aranceles más bajos Canadá y EE.UU (4,5%promedi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persión arancela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icos arancelari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calonamie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ahoma"/>
              </a:rPr>
              <a:t>Cuadro 3: Córdoba. Aranceles a los principales productos exportado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75438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Tahoma"/>
              </a:rPr>
              <a:t>Cuadro 3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777240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ahoma"/>
              </a:rPr>
              <a:t>Oportunidades para los bienes exportados por Córdob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Análisis sectoria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Para determinar oportunida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- determinar bienes en los que coincida la especialidad exportadora de Argentina y la especialidad importadora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del NAFTA ( I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s-ES_tradnl" sz="2800" spc="-1" strike="noStrike">
                <a:solidFill>
                  <a:srgbClr val="000000"/>
                </a:solidFill>
                <a:latin typeface="Tahoma"/>
              </a:rPr>
              <a:t>- identificar bienes que enfrenten aranceles alt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Tahoma"/>
              </a:rPr>
              <a:t>Indice de complementariedad comercial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609480" y="1878120"/>
            <a:ext cx="792504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9:52:35Z</dcterms:created>
  <dc:creator>user</dc:creator>
  <dc:description/>
  <dc:language>en-US</dc:language>
  <cp:lastModifiedBy>C.P.C.E.C.A.B.A.</cp:lastModifiedBy>
  <dcterms:modified xsi:type="dcterms:W3CDTF">2005-11-24T17:44:56Z</dcterms:modified>
  <cp:revision>4</cp:revision>
  <dc:subject/>
  <dc:title>CONGRESO METROPOLITANO DE CIENCIAS ECONOMICAS – NOVIEMBRE 2005</dc:title>
</cp:coreProperties>
</file>