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A6FC-594C-4758-9F30-09EA62A786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9372-F92A-4799-B34D-3D4EDEEBCA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DFD1-3569-4620-ADA4-CD3A60F527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50E5-4F10-43F3-A713-0E88482014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E3EF-895D-4F55-BB7F-F2A00D5CBF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282-BE68-4983-9EE9-E38D1430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CB8-C5C4-42D4-9FC6-D510589D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C15-FD1F-4DAB-B5D9-C27A2D1F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E89-01F7-465C-BC97-01CBF12E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3B91-DCE7-4032-BF22-71E490DF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32D1-1C60-4255-AF08-B943AF65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1FF-F509-43CA-A8C5-A4A24CA8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C3E1-D29F-4E57-B672-A0F2B38C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FD3C-3D54-4633-A5CB-2A1400F3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0AE7-647C-4B92-AC28-94CC4098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1A31-3636-477A-B2F2-3F4AAC4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F76-55E5-4419-AD62-2DFA8247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5AFA-7DC3-4121-9E3E-62EC8397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3B7C-C25E-442A-8ED7-E795EA14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9A79-E644-4F5E-B597-570413A6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1DE7-EEA9-4B12-A415-70FE17E5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FE31-D846-4AA6-88F7-4C8DCDC0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CBD-FDD3-4C7A-BCCF-CDA059C6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80D-86B4-4A27-8CF2-01F03A6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E12-0C14-40BD-B1C5-D09C3032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0A3-7DB6-412A-8520-82D51823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481-9F79-46C9-A9CA-813ECC3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78B-2A50-404F-9B6F-632A91E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C0F-17CD-4EFC-B981-B2542AE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0B7B-BD94-4A9F-89EC-4AE40681D0E1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E5D7-C4A4-4BF8-AE19-66E41BD7AADF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66ff"/>
                </a:solidFill>
                <a:latin typeface="Times New Roman"/>
              </a:rPr>
              <a:t>CONGRESO METROPOLITANO DE CIENCIAS ECONÓMICAS</a:t>
            </a:r>
            <a:br>
              <a:rPr sz="3600"/>
            </a:br>
            <a:r>
              <a:rPr b="0" lang="es-AR" sz="3600" spc="-1" strike="noStrike">
                <a:solidFill>
                  <a:srgbClr val="0066ff"/>
                </a:solidFill>
                <a:latin typeface="Times New Roman"/>
              </a:rPr>
              <a:t> 60° ANIVERSARIO</a:t>
            </a:r>
            <a:br>
              <a:rPr sz="3600"/>
            </a:br>
            <a:r>
              <a:rPr b="0" lang="es-AR" sz="2000" spc="-1" strike="noStrike">
                <a:solidFill>
                  <a:srgbClr val="0066ff"/>
                </a:solidFill>
                <a:latin typeface="Times New Roman"/>
              </a:rPr>
              <a:t>16 al 18 de noviembre de 2005</a:t>
            </a:r>
            <a:br>
              <a:rPr sz="2000"/>
            </a:br>
            <a:r>
              <a:rPr b="0" lang="es-AR" sz="2000" spc="-1" strike="noStrike">
                <a:solidFill>
                  <a:srgbClr val="0066ff"/>
                </a:solidFill>
                <a:latin typeface="Times New Roman"/>
              </a:rPr>
              <a:t>CPCECABA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La detección de fraudes en la auditoría externa de estados contab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6699"/>
                </a:solidFill>
                <a:latin typeface="Arial"/>
              </a:rPr>
              <a:t>Dr. Leopoldo I. Gurovich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B91C-A3BF-4D0F-9541-1120BDE6A0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Normas Específic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NIA 240  A – Hasta 30/06/02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NIA 240 – Desde 30/06/02 – Hasta 15/12/04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NIA 240 Corregida – Desde 15/12/04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2A8-436A-43D4-9733-74767CE7D2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Evolución de la NIA 240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NIA 240 A «Fraude o error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NIA 240 «Responsabilidad del auditor en la consideración del fraude o error en la auditoría de estados contables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NIA 240 (Revisada) «La responsabilidad del auditor en la consideración del fraude en la auditoría de estados contables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2F3-AFB9-4480-B515-ABA151CB60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Definicion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eal Academia Española: «(</a:t>
            </a: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Lat. fraus, fraudis) Acción contraria a la verdad y a la rectitud que perjudica a la persona contra quién se comete. Acto tendiente a eludir una disposición legal en perjuicio del estado o terceros. Delito que comete el encargado de vigilar la ejecución de contratos público, e incluso algunos privados, confabulándose con la representación de los intereses opuestos.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915-314D-4300-98FE-ABA5E8A72F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raude o Err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La diferencia entre error e irregularidad, está dada por la intención o dolo que está presente en el caso que se perpetre un fraude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49F-E940-4328-B0F2-9FCDA8E530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rau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6699"/>
                </a:solidFill>
                <a:uFillTx/>
                <a:latin typeface="Arial"/>
              </a:rPr>
              <a:t>Condiciones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1. Una persona con conocimientos e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intención de perpetrarl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2. Que se lo ofrezca una oportuni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3B8-8109-477E-8824-B8B235CA7A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raude NIA 240 (Revisada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6699"/>
                </a:solidFill>
                <a:uFillTx/>
                <a:latin typeface="Arial"/>
              </a:rPr>
              <a:t>Condiciones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1. Incentivos/Presion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2. Oportunidad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3. Actitudes/Racionalizacion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F61-78D6-46CD-9948-1356D6EC6C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raude o Err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Estados Contables Irrea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Estados Contables Fals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342-C0D5-4BCD-8360-FC5DA7B5B2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Estados Contables Irrea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Ineficiencia del sistema de inform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Atrasos en registros contab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Error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CD2-A777-43FB-A7B4-A5D547E155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Afirmaciones Erróne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No detectadas por el sistema de control intern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Gerencia del 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E34-5E78-428A-B331-C582DA118D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Ejemplos de Error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Compensación de saldos deudores y acreedores de distintas cuentas bancari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Sobre o subvaluación de la previsión para incobrab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No registrar una compr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57F-5941-45DA-B271-6603D51249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Procedimientos de auditoría para la detección de fraud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Norma Internacional de Auditoría 240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Trabajo de investig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E52-1193-4895-AFA9-133D0E56B0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Estados Contables Fals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Suponen la adulteración deliberada de la información que contienen y esta es la principal diferencia con los estados contables irrea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Voluntad e intención de cometer el hech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3CB-EB0B-4BA4-81A2-538D97AA2E5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Estados Contables Falsos</a:t>
            </a: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Por la forma de perpetrar el frau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Por los efectos que producen las maniobras dolos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Según la persona que ha efectuado la defraud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4D9-26B5-4E7B-8E8D-4098020589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orma de Perpetrar el Frau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6699"/>
                </a:solidFill>
                <a:uFillTx/>
                <a:latin typeface="Arial"/>
              </a:rPr>
              <a:t>Por omisión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No depurar ni castigar las mercaderías obsoletas y que ya no tienen mercado, deteriorada o fuera de mod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No contabilizar gastos incurridos en un ejercicio, pero cancelarlos en el siguiente sin registrar el pag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9F7-3A02-4EE4-B7B3-1BCD545ABA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orma de Perpetrar el Frau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6699"/>
                </a:solidFill>
                <a:uFillTx/>
                <a:latin typeface="Arial"/>
              </a:rPr>
              <a:t>Registración asientos falsos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Elevar dolosamente la cuenta ventas con cargo a cuentas de deudores fictici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Contabilizar compras ficticias para cometer fraude con su cancel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4C0-35C8-4885-B4BE-2D14F9B069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orma de Perpetrar el Frau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6699"/>
                </a:solidFill>
                <a:uFillTx/>
                <a:latin typeface="Arial"/>
              </a:rPr>
              <a:t>Inadecuada aplicación de normas contables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Contabilizar anticipos de clientes como si se trataran de ventas perfecciona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egistrar importaciones de productos que están en viaje como integrando el stock del 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981-FCBD-4D42-AFEA-E34390B0B7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orma de Perpetrar el Frau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6699"/>
                </a:solidFill>
                <a:uFillTx/>
                <a:latin typeface="Arial"/>
              </a:rPr>
              <a:t>Equivocaciones Materiales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educir el monto de las ventas para evadir el pago de impuest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Modificar sumas en el libro de caja para sustraer fondos dolosam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CEA-31E7-4EDD-ABCB-87969474B0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66ff"/>
                </a:solidFill>
                <a:latin typeface="Times New Roman"/>
              </a:rPr>
              <a:t>Por los Efectos de las Maniobras Dolosa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Fraudes que elevan la responsabilidad neta de la empresa y los resultados de la explotación. Con estas maniobra aumenta el activo, disminuye el pasivo, se elevan los beneficios o se reducen la pérdi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318-B2CA-4464-B949-924751182C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66ff"/>
                </a:solidFill>
                <a:latin typeface="Times New Roman"/>
              </a:rPr>
              <a:t>Por los Efectos de las Maniobras Dolosa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Fraudes que reducen la responsabilidad neta de la empresa y sus resultados. Mediante estas  maniobras disminuye el activo, aumenta el pasivo, decrecen las ganancias o se elevan las pérdida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D37-0283-4C47-B09F-17F2972D69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raudes Cometidos por el Empresari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6699"/>
                </a:solidFill>
                <a:uFillTx/>
                <a:latin typeface="Arial"/>
              </a:rPr>
              <a:t>Objetivos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Obtener créditos bancari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Aumentar el capital de la empres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Interesar a terceros en determinadas operacion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efraudar al fis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efraudar a los socios que no intervienen en la administración de los negoci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D61-2C6C-458B-9E38-8A185D5D58C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raudes Cometidos por los Emplead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6699"/>
                </a:solidFill>
                <a:uFillTx/>
                <a:latin typeface="Arial"/>
              </a:rPr>
              <a:t>Formas</a:t>
            </a: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Falseando registraciones contab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Empleando comprobantes ya contabilizados a los que se les cambia la fech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Falsificando fir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Cometiendo errores de su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Cargando a la empresa compras o gastos realizados para sí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3F6-C8A7-4908-BDE5-DC111F3E48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Objetivo del trabaj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ifusión de las normas internacionales vinculadas con la problemática del frau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Propuesta de la necesidad de contar con normas específicas que guíen al audi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Capacitación continu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0B2-C0CC-4ED2-9382-585CFFA4A9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Objetivos de las Person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Apropiarse de dinero en efectivo, mercaderías y otros bienes de pequeñas dimension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0F1-CCA2-4D8F-AF07-A0F6BB9997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Fraude en Entes Pequeñ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Más susceptibles a la malversación de activos que a la información contable fraudulent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Fraude del emplead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FA7-E36E-40D6-8955-6B73010C53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Fraude en Entes Pequeñ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336699"/>
                </a:solidFill>
                <a:uFillTx/>
                <a:latin typeface="Arial"/>
              </a:rPr>
              <a:t>Evaluación del riesgo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Propietario Ger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Mejor supervisión compensa limitación segregación de funcion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Posibilidad de omitir contro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C0E-106C-4DEF-A5F8-15C357CB94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Responsabilidad del Audit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NIA 240 A: El auditor no es ni puede ser hecho responsable por la prevención del fraude y error. El hecho de que se lleve a cabo la auditoría anual, sin embargo actúa como un disuasivo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189-CE91-4E8B-B4F9-52E737FF65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Responsabilidad del Audit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NIA 240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Expresar una opinión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Auditoría según NIAs seguridad razonabl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Auditoría es disuasiva. No es responsable por la prevención de fraude y error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0D6-5F3F-449D-B08A-F5FB031F459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Responsabilidad del Audit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NIA 240 (Revisada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Auditoría según NIAs seguridad razonabl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Auditor no puede obtener seguridad absoluta que se detectarán las afirmación erróneas en los estados contables. Factores: uso del criterio profesional, muestras, limitaciones del control interno Evidencia convincente vs. concluy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30F-1A03-472A-921A-0FBCA51910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Responsabilidad del Audit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Seguridad razonable escepticismo profesion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Omisión de controles por parte de la Gerenci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Procedimientos cuando las circunstancias indican la probabilidad  de errores o frau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EFF-405D-45D4-9785-4AFD4663D2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Responsabilidad del Audit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Emitir una opinión sobre la información contenida en los estados contables en conjunt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Se adicionó la de evaluar ciertos hechos o circunstancias que pueden llegar producir en los estados contables afirmaciones erróneas derivadas de frau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7C6-05F5-4C93-9BDC-CB2537FAFE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Afirmaciones Erróne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erivadas de Fraude por Información Contable Fraudulent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erivadas de Fraude por Malversación de Activ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861-BE1E-4264-AE2A-5D020493EB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Frau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6699"/>
                </a:solidFill>
                <a:uFillTx/>
                <a:latin typeface="Arial"/>
              </a:rPr>
              <a:t>Personas vs. Normas Técnic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Adelantamiento de utilidad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Gastos del período que se activa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Activo fijo obsoleto en el activo sin deprecia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Prácticas no permitid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Engañ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4CA-C656-4A39-B175-3FFA2D55ED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Cas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Mc Kesson y Robbin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Enr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Worldcom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Ahol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Parmal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906-BBCF-48C9-8523-B7E26581F4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Normas Internacionales de Auditorí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NIA 240 (Revisada) «Responsabilidad del Auditor de Considerar el Fraude en la Auditoría de Estados Contables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Norma y Apéndic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C85-2A31-4BC9-9B70-977886F206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NIA 240 (Revisada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Vigencia a partir del 15/12/2004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Err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Frau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elimitación de responsabilidad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E86-C9C2-43D5-9222-CDDA5D7DDC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NIA 240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6699"/>
                </a:solidFill>
                <a:uFillTx/>
                <a:latin typeface="Arial"/>
              </a:rPr>
              <a:t>Error</a:t>
            </a: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: Una equivocación al reunir o procesar datos con los cuales preparan los estados contable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Una estimación contable incorrecta que se origina por inadecuada interpretación de los hechos o falta de cuidado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99"/>
                </a:solidFill>
                <a:latin typeface="Arial"/>
              </a:rPr>
              <a:t>Una equivocación en la aplicación de principios de contabilidad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4FF-1488-4CCF-974E-14FC763B03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NIA 240 (Revisada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6699"/>
                </a:solidFill>
                <a:uFillTx/>
                <a:latin typeface="Arial"/>
              </a:rPr>
              <a:t>Fraude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: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«Es un acto intencional por parte de uno o más individuos integrantes de la gerencia o de aquellos a cargo del gobierno, empleados o terceros, que supone el uso de falsedad o engaño con el objeto de obtener una ventaja injusta e ilegal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BB2-01FC-473D-AA0D-57141220364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NIA 240 (Revisada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336699"/>
                </a:solidFill>
                <a:uFillTx/>
                <a:latin typeface="Arial"/>
              </a:rPr>
              <a:t>Fraude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El auditor deberá abocarse al fraude que ocasione afirmaciones erróneas significativas en los estados contabl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Los auditores no pueden determinar legalmente si efectivamente se ha producido un fraude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A1E-FCF1-4BCA-8E5B-6872F7BAA2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Procedimien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eterminar  si los estados contables contienen errores o irregularidades significativ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252-E544-45F3-BC74-D6B388B583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66ff"/>
                </a:solidFill>
                <a:latin typeface="Times New Roman"/>
              </a:rPr>
              <a:t>Respuestas a los riesgos evaluado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336699"/>
                </a:solidFill>
                <a:uFillTx/>
                <a:latin typeface="Arial"/>
              </a:rPr>
              <a:t>Cambios en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Naturalez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Oportuni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Alcanc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17C-FF03-475C-B4CA-AE9DDA3298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66ff"/>
                </a:solidFill>
                <a:latin typeface="Times New Roman"/>
              </a:rPr>
              <a:t>Omisión de Controles por parte de la Gerenci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a) Verificar adecuación asientos libro diario con mayor y otros ajustes realizados en la confección de los estados contab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b) Revisar estimaciones contab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c) Obtener una comprensión de la motivación de la empresa para realizar operaciones significativas que están fuera del curso normal de los negoci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7DF-4A02-43FA-8462-7CFA4B0E37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66ff"/>
                </a:solidFill>
                <a:latin typeface="Times New Roman"/>
              </a:rPr>
              <a:t>Asientos del Libro Diario y otros ajus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Verificar la adecuación del libro diario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a) Obtiene una comprensión del proceso de generación de informes contab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b) Evalúa el diseño de los controles sobre los asientos del libro diario y otro ajustes y determina si los mismos han sido implementad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c) Indaga a las personas involucradas en el proceso de generación de informes contab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B4A-908E-4DE6-A53F-4636DE061B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66ff"/>
                </a:solidFill>
                <a:latin typeface="Times New Roman"/>
              </a:rPr>
              <a:t>Respuesta a los Riesgos Evaluados de Afirmación Errónea Significativ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6699"/>
                </a:solidFill>
                <a:latin typeface="Arial"/>
              </a:rPr>
              <a:t>a) Presenciar el inventario en los emplazamientos donde no se ha anunciad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6699"/>
                </a:solidFill>
                <a:latin typeface="Arial"/>
              </a:rPr>
              <a:t>b) Solicitar el recuento de las existencias al final del período informado o fecha cercan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6699"/>
                </a:solidFill>
                <a:latin typeface="Arial"/>
              </a:rPr>
              <a:t>c) Ponerse en contacto con los principales clientes y proveedores en forma verbal además de enviar una confirmación escrit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6699"/>
                </a:solidFill>
                <a:latin typeface="Arial"/>
              </a:rPr>
              <a:t>d) Revisión detallada de asientos de ajuste de fin de ejercicio e investigar cualquiera que parezca extraordinari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19D-5CCF-494D-A4A5-E81B136BC0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Impac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Credibilidad del informe del audi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Independencia del audi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98B-7B0E-440C-9A63-CE50A8386F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66ff"/>
                </a:solidFill>
                <a:latin typeface="Times New Roman"/>
              </a:rPr>
              <a:t>Informes Contables Fraudulento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a) Ingresos u operaciones extraordinarias, utilización de CAAT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b) Indagar al personal de ventas y marketing de la entidad o al asesor legal interno con respecto a las ventas o entregas cercanas al cierr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c) Examinar registros de la entidad para identificar emplazamientos o artículos que requieren una atención específ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215-4990-4C89-813E-D4B97DE219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Malversación de Activ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a) Arqueo de efectivo o los títulos valores al cierre del ejercicio o cerca de dicha fech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b) Revisar la autorización y el valor corriente de los préstamos a la alta gerencia y partes relacionada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c) Revisar el nivel y la corrección de los informes de gastos presentados por la alta gerencia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9A4-B73A-4581-8177-98E367BA9C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Evaluación de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Evaluar si la afirmación errónea puede ser indicio de frau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Consideración de sus efectos, en especial la confiabilidad de las manifestaciones de la direc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Implementar respuest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92D-1036-4F93-8AB1-748DD3EBC1B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66ff"/>
                </a:solidFill>
                <a:latin typeface="Times New Roman"/>
              </a:rPr>
              <a:t>Evaluación de la Evidencia de Auditorí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Indagaciones a la gerenci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Resume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Procedimientos modificad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336699"/>
                </a:solidFill>
                <a:uFillTx/>
                <a:latin typeface="Arial"/>
              </a:rPr>
              <a:t>Conclusión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Identificar los factores de riesg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Evaluar el riesg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Desarrollar una respuest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5A3-E52B-473F-B051-7FDC360E02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Afirmación erróne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Implicancia para la tarea de auditor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Posible impacto en el informe del audi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ocumentar los factores de riesgo y las respuest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192-4A4F-406E-8322-456576521E9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Riesgo de Auditorí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iesgo Inher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iesgo de Contro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iesgo de Detec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079-3988-481B-8D77-AEC5823638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NIA 240 (Revisada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Mayor énfasis en el escepticismo profesion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iscusiones con la gerenci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Pruebas sorpresivas de auditor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esponder a la omisión de controles por la gerenci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Énfasis en el reconocimiento de ingres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5F2-AE3B-403C-8D6F-909CE2412CB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Factor human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Normas técnic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Evaluación del riesg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01D-707B-4181-86CE-DD3A9158642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esponsabilidad primari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esponsabilidad del audi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Respuesta de la profes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Convergencia con Normas Internaciona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Difus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E7F-E198-4ED0-AB8C-0DB2EB5FBA9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Audit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Conducta Ét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Técnicamente Capacitado y Actualizad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Transparencia a la información contab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B50-E455-4980-A572-7D348D9286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Impac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336699"/>
                </a:solidFill>
                <a:uFillTx/>
                <a:latin typeface="Arial"/>
              </a:rPr>
              <a:t>Combinación de factores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Calidad de normas técnic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Conductas de los auditor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00A-DCE8-4F63-8779-9D9FDE1085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2549520"/>
            <a:ext cx="7772400" cy="746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¡Muchas  Gracias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1DE-8DDA-411B-82F8-1CF57D218CA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514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6ff"/>
                </a:solidFill>
                <a:latin typeface="Times New Roman"/>
              </a:rPr>
              <a:t>Proble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Frau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6699"/>
                </a:solidFill>
                <a:latin typeface="Arial"/>
              </a:rPr>
              <a:t>Err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C06-457B-4DA8-A674-E536D50720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Fraude o Erro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Vinculado directamente con la evaluación de riesgo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Probabilidad de que los estados contables en conjunto o que un componente puedan contener errores o irregularidades significativos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AR" sz="2800" spc="-1" strike="noStrike">
                <a:solidFill>
                  <a:srgbClr val="336699"/>
                </a:solidFill>
                <a:latin typeface="Arial"/>
              </a:rPr>
              <a:t>Determinar el alcance, naturaleza y oportunidad de los procedimientos a aplicar utilizando su criterio profesional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65F-D1D9-4C98-BB9D-40C35129E4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66ff"/>
                </a:solidFill>
                <a:latin typeface="Times New Roman"/>
              </a:rPr>
              <a:t>Evaluación del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"/>
              </a:rPr>
              <a:t>Es un proceso continuo y acumulativo que incluye la consideración de factores riesgo, individualmente y en conjunto, mediante el proceso de la auditoría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greso Metropolitano de Ciencias Económicas - 60° Aniversari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FBA-3589-45D2-B624-E72A5F9380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/11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3:02:18Z</dcterms:created>
  <dc:creator>DR. LEOPOLDO I. GUROVICH</dc:creator>
  <dc:description/>
  <dc:language>en-US</dc:language>
  <cp:lastModifiedBy>C.P.C.E.C.A.B.A.</cp:lastModifiedBy>
  <dcterms:modified xsi:type="dcterms:W3CDTF">2005-11-24T12:27:27Z</dcterms:modified>
  <cp:revision>14</cp:revision>
  <dc:subject/>
  <dc:title>CONGRESO METROPOLITANO 60 ANIVERSARIO CPCECABA</dc:title>
</cp:coreProperties>
</file>