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31FB-317C-4B5C-9DBA-E5B89287C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ACD5-6CEF-491B-B250-C081960D5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DF27-124A-4CAE-8BE0-8A959722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8519-45B0-42DF-BFCF-7A4A6C3F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F194-AC00-42F0-AD30-9AF763F0E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F881-2E0C-49B4-A6CC-24AB85CA0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EF66-D568-4BCA-B9C2-0FC35228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3106-21A0-47C3-BA88-036605016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2C8-E141-4F08-8CF3-9C796421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36A-9B1A-45BE-8D88-7192EF3A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991B-D80E-4064-BCFA-16024CFD2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BCFB-9F96-4736-BCFA-8CF82DBE4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8644E-54A3-44D0-8C02-7FFB3E4ECFB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FUENTES DE FINANCI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Y FOMENTO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PYMES  EXPORTADOR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99ff66"/>
                </a:solidFill>
                <a:latin typeface="Verdana"/>
              </a:rPr>
              <a:t>Programas de Asistencia y </a:t>
            </a:r>
            <a:r>
              <a:rPr b="0" lang="es-ES" sz="2800" spc="-1" strike="noStrike">
                <a:solidFill>
                  <a:srgbClr val="99ff66"/>
                </a:solidFill>
                <a:latin typeface="Verdana"/>
              </a:rPr>
              <a:t>F</a:t>
            </a:r>
            <a:r>
              <a:rPr b="0" lang="es-MX" sz="2800" spc="-1" strike="noStrike">
                <a:solidFill>
                  <a:srgbClr val="99ff66"/>
                </a:solidFill>
                <a:latin typeface="Verdana"/>
              </a:rPr>
              <a:t>ome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861084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spcBef>
                <a:spcPts val="825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Subsec. PyME y Desarrollo Regional -SEPyMEyD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poyo a la Primera Expor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Cadenas Empresaria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2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romoción de Grupos Exportad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sociacion de Bancos de la Argentina – AB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Confed. Argentina de la Mediana Empresa – C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964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rogramas de Cooperacion con la Unión Europ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SUBSIDIOS PARA PROYECTOS DE </a:t>
            </a:r>
            <a:br>
              <a:rPr sz="2400"/>
            </a:br>
            <a:r>
              <a:rPr b="1" lang="en-U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PYMES EXPORT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ahoma"/>
              </a:rPr>
              <a:t>Programa de Reestructuración Empresarial – 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ahoma"/>
              </a:rPr>
              <a:t>Aportes No Reembolsables por hasta 50% de la inversión (máximo  $75.000) en la contratación de servicios técnicos profesionales para mejorar su competitividad, estudios de mercado para exportación, Certificación de Normas de Calidad, etc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ahoma"/>
              </a:rPr>
              <a:t>Instituto Nacional de Tecnología Industrial – IN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ahoma"/>
              </a:rPr>
              <a:t>Diagnóstico técnico gratuito de proyectos de exportación, para pymes con facturación &gt; $500.000.-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SUBSIDIOS PARA PROYECTOS DE </a:t>
            </a:r>
            <a:br>
              <a:rPr sz="2400"/>
            </a:br>
            <a:r>
              <a:rPr b="1" lang="en-U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PYMES EXPORT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22824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ahoma"/>
              </a:rPr>
              <a:t>Secret. de Ciencia y Tecnología de la Nación–SECy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spcBef>
                <a:spcPts val="825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ahoma"/>
              </a:rPr>
              <a:t>Aportes No Reintegrables para innovación tecnológica, que aumente la competitividad de cadenas agrope-cuarias, agroindustriales y agroalimentaria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  <a:ea typeface="Tahoma"/>
              </a:rPr>
              <a:t>Gobierno de la Ciudad Autónoma de 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spcBef>
                <a:spcPts val="550"/>
              </a:spcBef>
              <a:spcAft>
                <a:spcPts val="8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ahoma"/>
              </a:rPr>
              <a:t>Subsidio por hasta el 50% del proyecto (máximo de $50.000) para incorporación de nuevas tecnologías, desarrollo de productos, promoción en el exterior, adecuación a normas de calidad internacional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66"/>
                </a:solidFill>
                <a:latin typeface="Tahoma"/>
                <a:ea typeface="Tahoma"/>
              </a:rPr>
              <a:t>FUENTES DE </a:t>
            </a:r>
            <a:r>
              <a:rPr b="1" lang="es-ES" sz="2800" spc="-1" strike="noStrike">
                <a:solidFill>
                  <a:srgbClr val="66ff66"/>
                </a:solidFill>
                <a:latin typeface="Tahoma"/>
                <a:ea typeface="Tahoma"/>
              </a:rPr>
              <a:t>FINANCIA</a:t>
            </a:r>
            <a:r>
              <a:rPr b="1" lang="es-MX" sz="2800" spc="-1" strike="noStrike">
                <a:solidFill>
                  <a:srgbClr val="66ff66"/>
                </a:solidFill>
                <a:latin typeface="Tahoma"/>
                <a:ea typeface="Tahoma"/>
              </a:rPr>
              <a:t>CIÓN </a:t>
            </a:r>
            <a:br>
              <a:rPr sz="2800"/>
            </a:br>
            <a:r>
              <a:rPr b="1" lang="es-ES" sz="2800" spc="-1" strike="noStrike">
                <a:solidFill>
                  <a:srgbClr val="66ff66"/>
                </a:solidFill>
                <a:latin typeface="Tahoma"/>
                <a:ea typeface="Tahoma"/>
              </a:rPr>
              <a:t>PARA PYMES E</a:t>
            </a:r>
            <a:r>
              <a:rPr b="1" lang="es-MX" sz="2800" spc="-1" strike="noStrike">
                <a:solidFill>
                  <a:srgbClr val="66ff66"/>
                </a:solidFill>
                <a:latin typeface="Tahoma"/>
                <a:ea typeface="Tahoma"/>
              </a:rPr>
              <a:t>XPORTADO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440" y="12189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Líneas de Pre y Post-Financiación de 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Líneas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para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asistir a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Ferias Intern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Líneas para Certificacion de C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Factoring Internacional - Forfai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Mercado de Capi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Sociedades de Garantía Recíproca - S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Banco de Inversión y Comercio Exterior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- BI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F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ONAPY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Tasas Bonificadas por la SEPyMEy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Consejo Federal de Inversiones (CF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Corporación Andina de Fo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Fideicomisos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 de Garantía y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Financie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LINEAS BANC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ahoma"/>
              </a:rPr>
              <a:t>Banco de Inversión y Comercio Exterior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ahoma"/>
              </a:rPr>
              <a:t> - B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Verdana"/>
                <a:ea typeface="Tahoma"/>
              </a:rPr>
              <a:t>Línea de pre financ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asa Fija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en u$s: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entre 3,25% y 3,75%, según proyect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Verdana"/>
                <a:ea typeface="Tahoma"/>
              </a:rPr>
              <a:t>Línea de p</a:t>
            </a:r>
            <a:r>
              <a:rPr b="0" i="1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ost</a:t>
            </a:r>
            <a:r>
              <a:rPr b="0" i="1" lang="es-ES" sz="2200" spc="-1" strike="noStrike">
                <a:solidFill>
                  <a:srgbClr val="ffffff"/>
                </a:solidFill>
                <a:latin typeface="Verdana"/>
                <a:ea typeface="Tahoma"/>
              </a:rPr>
              <a:t> financi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Tasa: 3 años de plazo: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d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esde Libor + 3,0 hasta Libor + 5,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3 a 5 años: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Libor + 4,0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hasta Libor + 6,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5 a 8 años: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Libor + 5,0  hasta Libor + 7,0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8 a 10 años: Libor + 6,0  hasta Libor + 8,0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120000"/>
              </a:lnSpc>
              <a:spcBef>
                <a:spcPts val="901"/>
              </a:spcBef>
              <a:spcAft>
                <a:spcPts val="150"/>
              </a:spcAft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ahoma"/>
              </a:rPr>
              <a:t>Banco de la Provincia de 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  <a:ea typeface="Tahoma"/>
              </a:rPr>
              <a:t>Buenos A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i="1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Linea Fuerza Pym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asas Fijas en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$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: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1 año: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5%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2 años: 6,5%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3 años: 7,5%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4 años: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8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457200"/>
            <a:ext cx="7950240" cy="38862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9480" y="4343400"/>
            <a:ext cx="792504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8360" indent="-198360" algn="just">
              <a:lnSpc>
                <a:spcPct val="100000"/>
              </a:lnSpc>
              <a:spcBef>
                <a:spcPts val="624"/>
              </a:spcBef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Compra de Activos Fijos, Pre y Post Financiación de Exportaciones, Capital de Trabajo.</a:t>
            </a:r>
            <a:r>
              <a:rPr b="0" lang="es-ES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98360" indent="-198360" algn="just">
              <a:lnSpc>
                <a:spcPct val="100000"/>
              </a:lnSpc>
              <a:spcBef>
                <a:spcPts val="624"/>
              </a:spcBef>
              <a:buClr>
                <a:srgbClr val="66ff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Bancos </a:t>
            </a:r>
            <a:r>
              <a:rPr b="0" lang="es-ES" sz="2000" spc="-1" strike="noStrike">
                <a:solidFill>
                  <a:srgbClr val="66ff66"/>
                </a:solidFill>
                <a:latin typeface="Verdana"/>
                <a:ea typeface="Times New Roman"/>
              </a:rPr>
              <a:t>Nación, Provincia de Buenos Aires, BICE, Credicoop, BankBoston, Galicia, Macro Bansud, BBVA, Francés, Nuevo Banco del Suquia, Patagonia, HSBC, Empresario del Tucumán, Bersa e Itaú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66ff66"/>
                </a:solidFill>
                <a:latin typeface="Verdana"/>
                <a:ea typeface="Times New Roman"/>
              </a:rPr>
              <a:t>LINEAS NO BANCARI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3520" y="8377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ahoma"/>
              </a:rPr>
              <a:t>Consejo Federal de Inversiones - CF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i="1" lang="es-ES" sz="2200" spc="-1" strike="noStrike">
                <a:solidFill>
                  <a:srgbClr val="ffffff"/>
                </a:solidFill>
                <a:latin typeface="Verdana"/>
                <a:ea typeface="Tahoma"/>
              </a:rPr>
              <a:t>Línea de </a:t>
            </a:r>
            <a:r>
              <a:rPr b="0" i="1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Crédito a la produccion regional export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) Prefinanciación de exportaciones; y b) Financiamiento de actividades vinculadas a la producción exportable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(C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ertificaciones de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alidad, 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omoción de productos en el exterior, Capital de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rabajo; etc.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Arial"/>
                <a:ea typeface="Arial"/>
              </a:rPr>
              <a:t>Tasa: Libor + 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Arial"/>
              </a:rPr>
              <a:t>2 punt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 algn="just">
              <a:lnSpc>
                <a:spcPct val="11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  <a:ea typeface="Tahoma"/>
              </a:rPr>
              <a:t>Gobierno de la Provincia de Santa F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spcAft>
                <a:spcPts val="27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ahoma"/>
              </a:rPr>
              <a:t>	</a:t>
            </a:r>
            <a:r>
              <a:rPr b="0" i="1" lang="es-MX" sz="2200" spc="-1" strike="noStrike">
                <a:solidFill>
                  <a:srgbClr val="ffffff"/>
                </a:solidFill>
                <a:latin typeface="Verdana"/>
                <a:ea typeface="Tahoma"/>
              </a:rPr>
              <a:t>Programa Ganadero de Crédit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refinanciación para crianza de novillos de export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Monto: hasta $ 40.000   -  Plazo: hasta 12 mes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Tasa Subsidiada: 5,25 % TNA Vencida Fij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66ff66"/>
                </a:solidFill>
                <a:latin typeface="Arial"/>
                <a:ea typeface="Times New Roman"/>
              </a:rPr>
              <a:t>Fondo Nacional de Desarrollo </a:t>
            </a:r>
            <a:br>
              <a:rPr sz="2800"/>
            </a:br>
            <a:r>
              <a:rPr b="1" lang="es-ES" sz="2800" spc="-1" strike="noStrike">
                <a:solidFill>
                  <a:srgbClr val="66ff66"/>
                </a:solidFill>
                <a:latin typeface="Arial"/>
                <a:ea typeface="Times New Roman"/>
              </a:rPr>
              <a:t>para la Mipyme</a:t>
            </a:r>
            <a:r>
              <a:rPr b="1" lang="es-MX" sz="2800" spc="-1" strike="noStrike">
                <a:solidFill>
                  <a:srgbClr val="66ff66"/>
                </a:solidFill>
                <a:latin typeface="Tahoma"/>
                <a:ea typeface="Tahoma"/>
              </a:rPr>
              <a:t> </a:t>
            </a:r>
            <a:r>
              <a:rPr b="0" lang="es-MX" sz="2800" spc="-1" strike="noStrike">
                <a:solidFill>
                  <a:srgbClr val="66ff66"/>
                </a:solidFill>
                <a:latin typeface="Tahoma"/>
                <a:ea typeface="Tahoma"/>
              </a:rPr>
              <a:t>(FONAPYM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533520" y="1523520"/>
            <a:ext cx="80769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Selección de proyectos: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Sustitución de importaciones - Atención de demanda de exportación, con antecedentes previos o con contratos en firme -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S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rvicios o productos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que originen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divisas (turismo y software) - 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M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ontos a financiar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según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l Llamado y el Sector.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lazos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según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l Llamado y el Sector.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T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sa de interés</a:t>
            </a:r>
            <a:r>
              <a:rPr b="1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: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50% de la Tasa de Cartera General del BNA.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onificación del 20% sobre los intereses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por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pagos en tiempo y form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ahoma"/>
                <a:ea typeface="Tahoma"/>
              </a:rPr>
              <a:t>SOCIEDADES DE GARANTÍA RECIP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685440" y="121896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Son sociedades constituidas de acuerdo a las Leyes 24.467 y 25.300, cuyo objeto es brindar avales a las pymes, para facilitar su acceso al crédit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Se conforman con: 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socios participes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 (pymes), que compran acciones por $1.000/$2.000, y </a:t>
            </a: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socios protectores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 (grandes empresas, bancos, etc.) que aportan el otro 50% del Capital Social de la SGR (total  no menor a $240.000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1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Arial"/>
              </a:rPr>
              <a:t>Los socios protectores aportan además, para constituir el Fondo de Riesgo, destinado a servir como aval de las pymes soci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ahoma"/>
                <a:ea typeface="Tahoma"/>
              </a:rPr>
              <a:t>SOCIEDADES DE GARANTÍA RECIPRO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85640" indent="0" algn="just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Garantías Financie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Créditos para pre y post financiación de exportaciones, mediante líneas bancarias tradicionales, factoring internacional, Oblig. Negociables, V.C.P., fideicomis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just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Garantía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A favor de grandes empresas u otras pymes, por financia-miento para compra de materias primas, insumos, et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just">
              <a:lnSpc>
                <a:spcPct val="105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Garantías </a:t>
            </a: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T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écn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- Ante el gobierno nacional, provincial o municipal,  grandes empresas u otras pymes, por cumplimiento de contratos de obras, servicios, buen funcionamient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just">
              <a:lnSpc>
                <a:spcPct val="10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- Ante la DGI y ante la Dirección General de Adu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Actualemente existen 21 Soc. de Garantía Recíproca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8564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   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Arial"/>
              </a:rPr>
              <a:t>la mitad fueron constituidas en los últimos 2 añ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09480" y="998640"/>
            <a:ext cx="7925040" cy="41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Tahoma"/>
                <a:ea typeface="Tahoma"/>
              </a:rPr>
              <a:t>FACTORING INTER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ntrato por el cual un banco o una sociedad de factoring, le anticipa a una empresa, el valor de los créditos -menos el interés correspondiente- que se originen de manera constante en su negocio, durante un plazo determinado; brindando además asesoramiento crediticio y ocupándose de la gestión de cobro. El financista, se reserva la facultad de seleccionar esos crédito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Sin recurso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l factor compra los créditos y asume el riesgo de incobrabilidad de los mism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Con recurso: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el cedente continúa como deudor solidario. 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i="1" lang="es-ES" sz="2000" spc="-1" strike="noStrike">
                <a:solidFill>
                  <a:srgbClr val="ffffff"/>
                </a:solidFill>
                <a:latin typeface="Verdana"/>
                <a:ea typeface="Times New Roman"/>
              </a:rPr>
              <a:t>-Factura de Exportación - Letra de Cambio - Carta de Crédito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52280" y="322200"/>
            <a:ext cx="8915400" cy="58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520" y="266400"/>
            <a:ext cx="8534520" cy="571320"/>
          </a:xfrm>
          <a:prstGeom prst="rect">
            <a:avLst/>
          </a:prstGeom>
          <a:noFill/>
          <a:ln w="0">
            <a:noFill/>
          </a:ln>
        </p:spPr>
        <p:txBody>
          <a:bodyPr lIns="18000" rIns="18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ff66"/>
                </a:solidFill>
                <a:latin typeface="Times New Roman"/>
              </a:rPr>
              <a:t>FIDEICOMISO PARA FINANCIACIÓN DE EXPORTACI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1616040" y="2362320"/>
            <a:ext cx="7142760" cy="2353680"/>
            <a:chOff x="1616040" y="2362320"/>
            <a:chExt cx="7142760" cy="2353680"/>
          </a:xfrm>
        </p:grpSpPr>
        <p:sp>
          <p:nvSpPr>
            <p:cNvPr id="121" name=""/>
            <p:cNvSpPr/>
            <p:nvPr/>
          </p:nvSpPr>
          <p:spPr>
            <a:xfrm>
              <a:off x="3634560" y="3178440"/>
              <a:ext cx="19764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0" rIns="4680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arta de Crédi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ra de Camb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81320" y="4434120"/>
              <a:ext cx="10774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Verdana"/>
                </a:rPr>
                <a:t>Abre CC/L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81280" y="3102120"/>
              <a:ext cx="2130480" cy="892080"/>
            </a:xfrm>
            <a:prstGeom prst="flowChartAlternateProcess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616040" y="2362320"/>
              <a:ext cx="168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80880" y="1066680"/>
            <a:ext cx="8534520" cy="4699080"/>
            <a:chOff x="380880" y="1066680"/>
            <a:chExt cx="8534520" cy="4699080"/>
          </a:xfrm>
        </p:grpSpPr>
        <p:sp>
          <p:nvSpPr>
            <p:cNvPr id="126" name=""/>
            <p:cNvSpPr/>
            <p:nvPr/>
          </p:nvSpPr>
          <p:spPr>
            <a:xfrm>
              <a:off x="1042560" y="5072040"/>
              <a:ext cx="1510560" cy="693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Export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cc"/>
                  </a:solidFill>
                  <a:latin typeface="Verdana"/>
                </a:rPr>
                <a:t>Argentin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6880" y="3225600"/>
              <a:ext cx="1510560" cy="693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  <a:effectLst>
              <a:outerShdw dist="107932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Banco 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</a:rPr>
                <a:t>Export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54480" y="5072040"/>
              <a:ext cx="1559160" cy="693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mport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Extranje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284960" y="3225600"/>
              <a:ext cx="1630440" cy="693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Banco d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Verdana"/>
                </a:rPr>
                <a:t>Import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3640" y="3232080"/>
              <a:ext cx="115992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Verdana"/>
                </a:rPr>
                <a:t>Emite CC/L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63240" y="5126040"/>
              <a:ext cx="253008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ffffff"/>
                  </a:solidFill>
                  <a:latin typeface="Verdana"/>
                </a:rPr>
                <a:t>Contrato de Venta con CC/L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79880" y="4427640"/>
              <a:ext cx="1167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400" spc="-1" strike="noStrike">
                  <a:solidFill>
                    <a:srgbClr val="b2b2b2"/>
                  </a:solidFill>
                  <a:latin typeface="Verdana"/>
                </a:rPr>
                <a:t>Cede CC/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43720" y="4424400"/>
              <a:ext cx="49536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800" spc="-1" strike="noStrike">
                  <a:solidFill>
                    <a:srgbClr val="00cc00"/>
                  </a:solidFill>
                  <a:latin typeface="Arial Narrow"/>
                </a:rPr>
                <a:t>u$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4" name=""/>
            <p:cNvCxnSpPr>
              <a:stCxn id="126" idx="3"/>
              <a:endCxn id="128" idx="1"/>
            </p:cNvCxnSpPr>
            <p:nvPr/>
          </p:nvCxnSpPr>
          <p:spPr>
            <a:xfrm>
              <a:off x="2589120" y="5422320"/>
              <a:ext cx="3432960" cy="1080"/>
            </a:xfrm>
            <a:prstGeom prst="straightConnector1">
              <a:avLst/>
            </a:prstGeom>
            <a:ln w="1908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35" name=""/>
            <p:cNvSpPr/>
            <p:nvPr/>
          </p:nvSpPr>
          <p:spPr>
            <a:xfrm>
              <a:off x="2228040" y="3232080"/>
              <a:ext cx="123012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ffff00"/>
                  </a:solidFill>
                  <a:latin typeface="Verdana"/>
                </a:rPr>
                <a:t>Recibe CC/LC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87960" y="2500200"/>
              <a:ext cx="122724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00ff00"/>
                  </a:solidFill>
                  <a:latin typeface="Verdana"/>
                </a:rPr>
                <a:t>u$s Paga la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00ff00"/>
                  </a:solidFill>
                  <a:latin typeface="Verdana"/>
                </a:rPr>
                <a:t>Importació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00400" y="1684440"/>
              <a:ext cx="2338560" cy="479880"/>
            </a:xfrm>
            <a:prstGeom prst="rect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0" lang="en-US" sz="2600" spc="-1" strike="noStrike">
                  <a:solidFill>
                    <a:srgbClr val="0099cc"/>
                  </a:solidFill>
                  <a:latin typeface="Tahoma"/>
                </a:rPr>
                <a:t>FIDEICOMISO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80880" y="4427640"/>
              <a:ext cx="685800" cy="35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520" rIns="8352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800" spc="-1" strike="noStrike">
                  <a:solidFill>
                    <a:srgbClr val="00ffff"/>
                  </a:solidFill>
                  <a:latin typeface="Arial Narrow"/>
                </a:rPr>
                <a:t> </a:t>
              </a:r>
              <a:r>
                <a:rPr b="1" lang="en-US" sz="1800" spc="-1" strike="noStrike">
                  <a:solidFill>
                    <a:srgbClr val="00ffff"/>
                  </a:solidFill>
                  <a:latin typeface="Arial Narrow"/>
                </a:rPr>
                <a:t>u$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28" idx="3"/>
            </p:cNvCxnSpPr>
            <p:nvPr/>
          </p:nvCxnSpPr>
          <p:spPr>
            <a:xfrm flipV="1">
              <a:off x="7647120" y="4768560"/>
              <a:ext cx="659520" cy="654480"/>
            </a:xfrm>
            <a:prstGeom prst="bentConnector3">
              <a:avLst>
                <a:gd name="adj1" fmla="val 101419"/>
              </a:avLst>
            </a:prstGeom>
            <a:ln w="28440">
              <a:solidFill>
                <a:srgbClr val="ff0000"/>
              </a:solidFill>
              <a:miter/>
            </a:ln>
          </p:spPr>
        </p:cxnSp>
        <p:sp>
          <p:nvSpPr>
            <p:cNvPr id="140" name=""/>
            <p:cNvSpPr/>
            <p:nvPr/>
          </p:nvSpPr>
          <p:spPr>
            <a:xfrm flipV="1">
              <a:off x="8305920" y="3970440"/>
              <a:ext cx="0" cy="457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1980720" y="3513240"/>
              <a:ext cx="16002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5715000" y="3513240"/>
              <a:ext cx="14796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762120" y="5418000"/>
              <a:ext cx="23328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62120" y="4767120"/>
              <a:ext cx="0" cy="65088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76920" y="2684520"/>
              <a:ext cx="1167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3520" rIns="83520" tIns="41760" bIns="41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400" spc="-1" strike="noStrike">
                  <a:solidFill>
                    <a:srgbClr val="b2b2b2"/>
                  </a:solidFill>
                  <a:latin typeface="Verdana"/>
                </a:rPr>
                <a:t>Cede CC/L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762120" y="3970080"/>
              <a:ext cx="0" cy="41724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1905120" y="4763520"/>
              <a:ext cx="0" cy="27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165760" y="3689280"/>
              <a:ext cx="126756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" rIns="1080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969696"/>
                  </a:solidFill>
                  <a:latin typeface="Verdana"/>
                </a:rPr>
                <a:t>Notifica Cesió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99320" y="3689280"/>
              <a:ext cx="126756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800" rIns="10800" tIns="41760" bIns="4176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300" spc="-1" strike="noStrike">
                  <a:solidFill>
                    <a:srgbClr val="969696"/>
                  </a:solidFill>
                  <a:latin typeface="Verdana"/>
                </a:rPr>
                <a:t>Notifica Cesió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4191120" y="2192400"/>
              <a:ext cx="0" cy="6508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1980720" y="3665520"/>
              <a:ext cx="155916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791320" y="3665520"/>
              <a:ext cx="1479600" cy="0"/>
            </a:xfrm>
            <a:prstGeom prst="line">
              <a:avLst/>
            </a:prstGeom>
            <a:ln w="28440">
              <a:solidFill>
                <a:srgbClr val="ffffff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429000" y="2827440"/>
              <a:ext cx="7621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4" name=""/>
            <p:cNvCxnSpPr/>
            <p:nvPr/>
          </p:nvCxnSpPr>
          <p:spPr>
            <a:xfrm flipV="1" rot="16200000">
              <a:off x="7470000" y="2577240"/>
              <a:ext cx="475560" cy="786600"/>
            </a:xfrm>
            <a:prstGeom prst="bentConnector2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</p:cxnSp>
        <p:sp>
          <p:nvSpPr>
            <p:cNvPr id="155" name=""/>
            <p:cNvSpPr/>
            <p:nvPr/>
          </p:nvSpPr>
          <p:spPr>
            <a:xfrm flipV="1">
              <a:off x="6781680" y="4731840"/>
              <a:ext cx="0" cy="30492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6781680" y="4275000"/>
              <a:ext cx="0" cy="15264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781680" y="4275000"/>
              <a:ext cx="990720" cy="0"/>
            </a:xfrm>
            <a:prstGeom prst="line">
              <a:avLst/>
            </a:prstGeom>
            <a:ln w="2844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7772400" y="3970440"/>
              <a:ext cx="0" cy="30456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723920" y="2751120"/>
              <a:ext cx="1295640" cy="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724280" y="2217600"/>
              <a:ext cx="0" cy="533520"/>
            </a:xfrm>
            <a:prstGeom prst="line">
              <a:avLst/>
            </a:prstGeom>
            <a:ln w="28440">
              <a:solidFill>
                <a:srgbClr val="00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1600" y="2827440"/>
              <a:ext cx="0" cy="3808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371600" y="2827440"/>
              <a:ext cx="7621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33920" y="2217600"/>
              <a:ext cx="0" cy="22860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2819520" y="2446200"/>
              <a:ext cx="91440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2446200"/>
              <a:ext cx="0" cy="76212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371600" y="2293920"/>
              <a:ext cx="14479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1760" bIns="41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835200"/>
                  <a:tab algn="l" pos="1670040"/>
                  <a:tab algn="l" pos="2505240"/>
                  <a:tab algn="l" pos="3340080"/>
                  <a:tab algn="l" pos="4175280"/>
                  <a:tab algn="l" pos="5010120"/>
                  <a:tab algn="l" pos="5845320"/>
                  <a:tab algn="l" pos="6680160"/>
                  <a:tab algn="l" pos="7515360"/>
                  <a:tab algn="l" pos="8350200"/>
                  <a:tab algn="l" pos="9185400"/>
                  <a:tab algn="l" pos="10020240"/>
                  <a:tab algn="l" pos="10855440"/>
                </a:tabLst>
              </a:pPr>
              <a:r>
                <a:rPr b="1" lang="en-US" sz="1400" spc="-1" strike="noStrike">
                  <a:solidFill>
                    <a:srgbClr val="00ffff"/>
                  </a:solidFill>
                  <a:latin typeface="Verdana"/>
                </a:rPr>
                <a:t>Adelanta u$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2446200"/>
              <a:ext cx="533520" cy="0"/>
            </a:xfrm>
            <a:prstGeom prst="line">
              <a:avLst/>
            </a:prstGeom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1905120" y="4275000"/>
              <a:ext cx="0" cy="152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371600" y="4275000"/>
              <a:ext cx="53352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371600" y="3894120"/>
              <a:ext cx="0" cy="3808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19640" y="1066680"/>
              <a:ext cx="191448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36000" bIns="360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000" spc="-1" strike="noStrike">
                  <a:solidFill>
                    <a:srgbClr val="0000ff"/>
                  </a:solidFill>
                  <a:latin typeface="Tahoma"/>
                </a:rPr>
                <a:t>Invers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343400" y="1428840"/>
              <a:ext cx="0" cy="230040"/>
            </a:xfrm>
            <a:prstGeom prst="line">
              <a:avLst/>
            </a:prstGeom>
            <a:ln w="349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762120" y="76320"/>
            <a:ext cx="7619400" cy="6781680"/>
            <a:chOff x="762120" y="76320"/>
            <a:chExt cx="7619400" cy="6781680"/>
          </a:xfrm>
        </p:grpSpPr>
        <p:grpSp>
          <p:nvGrpSpPr>
            <p:cNvPr id="176" name=""/>
            <p:cNvGrpSpPr/>
            <p:nvPr/>
          </p:nvGrpSpPr>
          <p:grpSpPr>
            <a:xfrm>
              <a:off x="767160" y="78840"/>
              <a:ext cx="7608240" cy="6775920"/>
              <a:chOff x="767160" y="78840"/>
              <a:chExt cx="7608240" cy="6775920"/>
            </a:xfrm>
          </p:grpSpPr>
          <p:grpSp>
            <p:nvGrpSpPr>
              <p:cNvPr id="177" name=""/>
              <p:cNvGrpSpPr/>
              <p:nvPr/>
            </p:nvGrpSpPr>
            <p:grpSpPr>
              <a:xfrm>
                <a:off x="767160" y="78840"/>
                <a:ext cx="7608240" cy="419760"/>
                <a:chOff x="767160" y="78840"/>
                <a:chExt cx="7608240" cy="4197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786960" y="88560"/>
                  <a:ext cx="7568280" cy="39996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500" spc="-1" strike="noStrike">
                      <a:solidFill>
                        <a:srgbClr val="33cccc"/>
                      </a:solidFill>
                      <a:latin typeface="Verdana"/>
                      <a:ea typeface="Arial"/>
                    </a:rPr>
                    <a:t>FIDEICOMISOS FINANCIEROS PYMES</a:t>
                  </a:r>
                  <a:endParaRPr b="0" lang="en-US" sz="15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33cccc"/>
                      </a:solidFill>
                      <a:latin typeface="Arial"/>
                      <a:ea typeface="Times New Roman"/>
                    </a:rPr>
                    <a:t>Junio 2002 – Mayo 2005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67160" y="78840"/>
                  <a:ext cx="7608240" cy="41976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767160" y="518400"/>
                <a:ext cx="1366560" cy="411840"/>
                <a:chOff x="767160" y="518400"/>
                <a:chExt cx="1366560" cy="411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786960" y="528120"/>
                  <a:ext cx="132660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ideicomis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767160" y="51840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2134080" y="518400"/>
                <a:ext cx="966600" cy="411840"/>
                <a:chOff x="2134080" y="518400"/>
                <a:chExt cx="966600" cy="41184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2153520" y="528120"/>
                  <a:ext cx="92700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Cantidad de Pym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2134080" y="518400"/>
                  <a:ext cx="96660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3101400" y="518400"/>
                <a:ext cx="2665080" cy="411840"/>
                <a:chOff x="3101400" y="518400"/>
                <a:chExt cx="2665080" cy="41184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3121200" y="528120"/>
                  <a:ext cx="262548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Destino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101400" y="51840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5767200" y="518400"/>
                <a:ext cx="1119960" cy="411840"/>
                <a:chOff x="5767200" y="518400"/>
                <a:chExt cx="1119960" cy="4118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787000" y="528120"/>
                  <a:ext cx="108036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ech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5767200" y="518400"/>
                  <a:ext cx="11199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6887880" y="518400"/>
                <a:ext cx="1487520" cy="411840"/>
                <a:chOff x="6887880" y="518400"/>
                <a:chExt cx="1487520" cy="4118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6907680" y="528120"/>
                  <a:ext cx="144756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Monto 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887880" y="518400"/>
                  <a:ext cx="148752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767160" y="950400"/>
                <a:ext cx="1366560" cy="325440"/>
                <a:chOff x="767160" y="950400"/>
                <a:chExt cx="1366560" cy="3254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86960" y="960120"/>
                  <a:ext cx="132660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 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67160" y="950400"/>
                  <a:ext cx="1366560" cy="3254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2134080" y="950400"/>
                <a:ext cx="966600" cy="345240"/>
                <a:chOff x="2134080" y="950400"/>
                <a:chExt cx="966600" cy="3452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2184120" y="950400"/>
                  <a:ext cx="8661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2134080" y="950400"/>
                  <a:ext cx="96660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01400" y="950400"/>
                <a:ext cx="2665080" cy="325440"/>
                <a:chOff x="3101400" y="950400"/>
                <a:chExt cx="2665080" cy="32544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21200" y="960120"/>
                  <a:ext cx="262548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. Exportaciones de Arro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01400" y="950400"/>
                  <a:ext cx="2665080" cy="3254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767200" y="950400"/>
                <a:ext cx="1119960" cy="345240"/>
                <a:chOff x="5767200" y="950400"/>
                <a:chExt cx="1119960" cy="34524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817600" y="950400"/>
                  <a:ext cx="10191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2-2002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767200" y="950400"/>
                  <a:ext cx="11199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887880" y="950400"/>
                <a:ext cx="1487520" cy="345240"/>
                <a:chOff x="6887880" y="950400"/>
                <a:chExt cx="1487520" cy="34524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938280" y="950400"/>
                  <a:ext cx="137592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</a:t>
                  </a:r>
                  <a:r>
                    <a:rPr b="0" lang="es-E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.350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887880" y="950400"/>
                  <a:ext cx="148752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767160" y="1296000"/>
                <a:ext cx="1366560" cy="325800"/>
                <a:chOff x="767160" y="1296000"/>
                <a:chExt cx="1366560" cy="3258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86960" y="1305720"/>
                  <a:ext cx="132660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67160" y="1296000"/>
                  <a:ext cx="1366560" cy="3258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134080" y="1296000"/>
                <a:ext cx="966600" cy="345600"/>
                <a:chOff x="2134080" y="1296000"/>
                <a:chExt cx="966600" cy="34560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184120" y="1296000"/>
                  <a:ext cx="86616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7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134080" y="1296000"/>
                  <a:ext cx="96660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101400" y="1296000"/>
                <a:ext cx="2665080" cy="325800"/>
                <a:chOff x="3101400" y="1296000"/>
                <a:chExt cx="2665080" cy="32580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121200" y="1305720"/>
                  <a:ext cx="262548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. Exportaciones de Poroto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101400" y="1296000"/>
                  <a:ext cx="2665080" cy="3258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767200" y="1296000"/>
                <a:ext cx="1119960" cy="345600"/>
                <a:chOff x="5767200" y="1296000"/>
                <a:chExt cx="1119960" cy="34560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817600" y="1296000"/>
                  <a:ext cx="101916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04-2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767200" y="1296000"/>
                  <a:ext cx="111996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887880" y="1296000"/>
                <a:ext cx="1487520" cy="345600"/>
                <a:chOff x="6887880" y="1296000"/>
                <a:chExt cx="1487520" cy="3456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938280" y="1296000"/>
                  <a:ext cx="137592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</a:t>
                  </a:r>
                  <a:r>
                    <a:rPr b="0" lang="es-E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.800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887880" y="1296000"/>
                  <a:ext cx="148752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767160" y="1641600"/>
                <a:ext cx="1366560" cy="411840"/>
                <a:chOff x="767160" y="1641600"/>
                <a:chExt cx="1366560" cy="41184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86960" y="1651320"/>
                  <a:ext cx="1326600" cy="3924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67160" y="164160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134080" y="1641600"/>
                <a:ext cx="966600" cy="431640"/>
                <a:chOff x="2134080" y="1641600"/>
                <a:chExt cx="966600" cy="43164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184120" y="164160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134080" y="164160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101400" y="1641600"/>
                <a:ext cx="2665080" cy="411840"/>
                <a:chOff x="3101400" y="1641600"/>
                <a:chExt cx="2665080" cy="411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121200" y="1651320"/>
                  <a:ext cx="2625480" cy="3924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. Exportaciones de Soja, Girasol y Maí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101400" y="164160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5767200" y="1641600"/>
                <a:ext cx="1119960" cy="431640"/>
                <a:chOff x="5767200" y="1641600"/>
                <a:chExt cx="1119960" cy="43164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5817600" y="1641600"/>
                  <a:ext cx="1019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0-2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767200" y="1641600"/>
                  <a:ext cx="11199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6887880" y="1641600"/>
                <a:ext cx="1487520" cy="431640"/>
                <a:chOff x="6887880" y="1641600"/>
                <a:chExt cx="1487520" cy="4316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6938280" y="1641600"/>
                  <a:ext cx="13759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</a:t>
                  </a:r>
                  <a:r>
                    <a:rPr b="0" lang="es-E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.885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6887880" y="1641600"/>
                  <a:ext cx="14875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767160" y="2073240"/>
                <a:ext cx="1366560" cy="325800"/>
                <a:chOff x="767160" y="2073240"/>
                <a:chExt cx="1366560" cy="3258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86960" y="2082960"/>
                  <a:ext cx="132660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I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767160" y="2073240"/>
                  <a:ext cx="1366560" cy="3258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2134080" y="2073240"/>
                <a:ext cx="966600" cy="345600"/>
                <a:chOff x="2134080" y="2073240"/>
                <a:chExt cx="966600" cy="34560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2184120" y="2073240"/>
                  <a:ext cx="86616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34080" y="2073240"/>
                  <a:ext cx="96660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3101400" y="2073240"/>
                <a:ext cx="2665080" cy="325800"/>
                <a:chOff x="3101400" y="2073240"/>
                <a:chExt cx="2665080" cy="3258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121200" y="2082960"/>
                  <a:ext cx="262548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. Exportaciones de Arroz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101400" y="2073240"/>
                  <a:ext cx="2665080" cy="3258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767200" y="2073240"/>
                <a:ext cx="1119960" cy="345600"/>
                <a:chOff x="5767200" y="2073240"/>
                <a:chExt cx="1119960" cy="34560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817600" y="2073240"/>
                  <a:ext cx="101916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1-200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767200" y="2073240"/>
                  <a:ext cx="111996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887880" y="2073240"/>
                <a:ext cx="1487520" cy="345600"/>
                <a:chOff x="6887880" y="2073240"/>
                <a:chExt cx="1487520" cy="3456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938280" y="2073240"/>
                  <a:ext cx="137592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</a:t>
                  </a:r>
                  <a:r>
                    <a:rPr b="0" lang="es-E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.012.5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887880" y="2073240"/>
                  <a:ext cx="1487520" cy="3456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767160" y="2418840"/>
                <a:ext cx="1366560" cy="411840"/>
                <a:chOff x="767160" y="2418840"/>
                <a:chExt cx="1366560" cy="4118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786960" y="2428560"/>
                  <a:ext cx="1326600" cy="3924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V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67160" y="241884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134080" y="2418840"/>
                <a:ext cx="966600" cy="431640"/>
                <a:chOff x="2134080" y="2418840"/>
                <a:chExt cx="966600" cy="4316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2184120" y="241884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134080" y="241884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101400" y="2418840"/>
                <a:ext cx="2665080" cy="411840"/>
                <a:chOff x="3101400" y="2418840"/>
                <a:chExt cx="2665080" cy="41184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121200" y="2428560"/>
                  <a:ext cx="2625480" cy="3924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. Exportaciones de Soja, Porotos, Maíz, Algodón y Aluvi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101400" y="241884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5767200" y="2418840"/>
                <a:ext cx="1119960" cy="431640"/>
                <a:chOff x="5767200" y="2418840"/>
                <a:chExt cx="1119960" cy="43164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5817600" y="2418840"/>
                  <a:ext cx="1019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02-2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5767200" y="2418840"/>
                  <a:ext cx="11199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6887880" y="2418840"/>
                <a:ext cx="1487520" cy="431640"/>
                <a:chOff x="6887880" y="2418840"/>
                <a:chExt cx="1487520" cy="4316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938280" y="2418840"/>
                  <a:ext cx="13759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2.671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887880" y="2418840"/>
                  <a:ext cx="14875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767160" y="2850480"/>
                <a:ext cx="1366560" cy="411840"/>
                <a:chOff x="767160" y="2850480"/>
                <a:chExt cx="1366560" cy="41184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786960" y="2860200"/>
                  <a:ext cx="132660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Prog. Arg. I OL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767160" y="285048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2134080" y="2850480"/>
                <a:ext cx="966600" cy="431640"/>
                <a:chOff x="2134080" y="2850480"/>
                <a:chExt cx="966600" cy="43164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2184120" y="285048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134080" y="285048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3101400" y="2850480"/>
                <a:ext cx="2665080" cy="411840"/>
                <a:chOff x="3101400" y="2850480"/>
                <a:chExt cx="2665080" cy="41184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3121200" y="2860200"/>
                  <a:ext cx="262548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. Exportaciones de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Aceite de Oliv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101400" y="285048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5767200" y="2850480"/>
                <a:ext cx="1119960" cy="431640"/>
                <a:chOff x="5767200" y="2850480"/>
                <a:chExt cx="1119960" cy="43164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5817600" y="2850480"/>
                  <a:ext cx="1019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06-2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5767200" y="2850480"/>
                  <a:ext cx="11199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887880" y="2850480"/>
                <a:ext cx="1487520" cy="431640"/>
                <a:chOff x="6887880" y="2850480"/>
                <a:chExt cx="1487520" cy="43164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938280" y="2850480"/>
                  <a:ext cx="13759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</a:t>
                  </a:r>
                  <a:r>
                    <a:rPr b="0" lang="es-E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3.000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887880" y="2850480"/>
                  <a:ext cx="14875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767160" y="3282480"/>
                <a:ext cx="1366560" cy="411840"/>
                <a:chOff x="767160" y="3282480"/>
                <a:chExt cx="1366560" cy="4118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86960" y="3292200"/>
                  <a:ext cx="1326600" cy="39168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V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767160" y="328248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134080" y="3282480"/>
                <a:ext cx="966600" cy="431640"/>
                <a:chOff x="2134080" y="3282480"/>
                <a:chExt cx="966600" cy="43164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184120" y="328248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2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134080" y="328248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101400" y="3282480"/>
                <a:ext cx="2665080" cy="411840"/>
                <a:chOff x="3101400" y="3282480"/>
                <a:chExt cx="2665080" cy="41184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121200" y="3292200"/>
                  <a:ext cx="2625480" cy="39168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iación Exportaciones de Soja, Maíz y Oleaginos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101400" y="328248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5767200" y="3282480"/>
                <a:ext cx="1119960" cy="431640"/>
                <a:chOff x="5767200" y="3282480"/>
                <a:chExt cx="1119960" cy="43164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5817600" y="3282480"/>
                  <a:ext cx="1019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05-2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767200" y="3282480"/>
                  <a:ext cx="11199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6887880" y="3282480"/>
                <a:ext cx="1487520" cy="431640"/>
                <a:chOff x="6887880" y="3282480"/>
                <a:chExt cx="1487520" cy="43164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6938280" y="3282480"/>
                  <a:ext cx="13759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1.435.2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887880" y="3282480"/>
                  <a:ext cx="14875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767160" y="3714480"/>
                <a:ext cx="1366560" cy="411840"/>
                <a:chOff x="767160" y="3714480"/>
                <a:chExt cx="1366560" cy="41184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786960" y="3724200"/>
                  <a:ext cx="1326600" cy="3924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V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767160" y="371448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2134080" y="3714480"/>
                <a:ext cx="966600" cy="431640"/>
                <a:chOff x="2134080" y="3714480"/>
                <a:chExt cx="966600" cy="43164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2184120" y="371448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2134080" y="371448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3101400" y="3714480"/>
                <a:ext cx="2665080" cy="411840"/>
                <a:chOff x="3101400" y="3714480"/>
                <a:chExt cx="2665080" cy="4118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3121200" y="3724200"/>
                  <a:ext cx="2625480" cy="3924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iación Exportaciones de Soja, Maíz y Oleaginos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01400" y="371448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5767200" y="3714480"/>
                <a:ext cx="1119960" cy="431640"/>
                <a:chOff x="5767200" y="3714480"/>
                <a:chExt cx="1119960" cy="43164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817600" y="3714480"/>
                  <a:ext cx="1019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0-2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5767200" y="3714480"/>
                  <a:ext cx="11199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6887880" y="3714480"/>
                <a:ext cx="1487520" cy="431640"/>
                <a:chOff x="6887880" y="3714480"/>
                <a:chExt cx="1487520" cy="43164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6938280" y="3714480"/>
                  <a:ext cx="13759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6.085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887880" y="3714480"/>
                  <a:ext cx="14875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767160" y="4146120"/>
                <a:ext cx="1366560" cy="411840"/>
                <a:chOff x="767160" y="4146120"/>
                <a:chExt cx="1366560" cy="41184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786960" y="4155840"/>
                  <a:ext cx="132660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VII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67160" y="414612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134080" y="4146120"/>
                <a:ext cx="966600" cy="431640"/>
                <a:chOff x="2134080" y="4146120"/>
                <a:chExt cx="966600" cy="4316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2184120" y="414612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76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2134080" y="414612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101400" y="4146120"/>
                <a:ext cx="2665080" cy="411840"/>
                <a:chOff x="3101400" y="4146120"/>
                <a:chExt cx="2665080" cy="41184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121200" y="4155840"/>
                  <a:ext cx="2625480" cy="392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Financiación Exportaciones de Soja y Arroz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101400" y="414612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5767200" y="4146120"/>
                <a:ext cx="1119960" cy="431640"/>
                <a:chOff x="5767200" y="4146120"/>
                <a:chExt cx="1119960" cy="43164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5817600" y="4146120"/>
                  <a:ext cx="1019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1-2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5767200" y="4146120"/>
                  <a:ext cx="11199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6887880" y="4146120"/>
                <a:ext cx="1487520" cy="431640"/>
                <a:chOff x="6887880" y="4146120"/>
                <a:chExt cx="1487520" cy="43164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6938280" y="4146120"/>
                  <a:ext cx="13759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3.512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6887880" y="4146120"/>
                  <a:ext cx="14875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767160" y="4578120"/>
                <a:ext cx="1366560" cy="411840"/>
                <a:chOff x="767160" y="4578120"/>
                <a:chExt cx="1366560" cy="41184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786960" y="4587840"/>
                  <a:ext cx="1326600" cy="39168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I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67160" y="4578120"/>
                  <a:ext cx="136656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2134080" y="4578120"/>
                <a:ext cx="966600" cy="431640"/>
                <a:chOff x="2134080" y="4578120"/>
                <a:chExt cx="966600" cy="43164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2184120" y="457812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134080" y="457812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3101400" y="4578120"/>
                <a:ext cx="2665080" cy="411840"/>
                <a:chOff x="3101400" y="4578120"/>
                <a:chExt cx="2665080" cy="41184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3121200" y="4587840"/>
                  <a:ext cx="2625480" cy="39168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Productores de Arroz - Consumo intern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3101400" y="4578120"/>
                  <a:ext cx="2665080" cy="411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767200" y="4578120"/>
                <a:ext cx="1119960" cy="431640"/>
                <a:chOff x="5767200" y="4578120"/>
                <a:chExt cx="1119960" cy="4316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817600" y="4578120"/>
                  <a:ext cx="1019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12-2004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767200" y="4578120"/>
                  <a:ext cx="11199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887880" y="4578120"/>
                <a:ext cx="1487520" cy="431640"/>
                <a:chOff x="6887880" y="4578120"/>
                <a:chExt cx="1487520" cy="43164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6938280" y="4578120"/>
                  <a:ext cx="13759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$  2.872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6887880" y="4578120"/>
                  <a:ext cx="14875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767160" y="5009760"/>
                <a:ext cx="1366560" cy="325440"/>
                <a:chOff x="767160" y="5009760"/>
                <a:chExt cx="1366560" cy="3254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786960" y="5019480"/>
                  <a:ext cx="1326600" cy="3060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X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67160" y="5009760"/>
                  <a:ext cx="1366560" cy="3254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134080" y="5009760"/>
                <a:ext cx="966600" cy="345240"/>
                <a:chOff x="2134080" y="5009760"/>
                <a:chExt cx="966600" cy="345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184120" y="5009760"/>
                  <a:ext cx="8661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5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134080" y="5009760"/>
                  <a:ext cx="96660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101400" y="5009760"/>
                <a:ext cx="2665080" cy="325440"/>
                <a:chOff x="3101400" y="5009760"/>
                <a:chExt cx="2665080" cy="3254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121200" y="5019480"/>
                  <a:ext cx="2625480" cy="30600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Productores de  Soja y Poroto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101400" y="5009760"/>
                  <a:ext cx="2665080" cy="3254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767200" y="5009760"/>
                <a:ext cx="1119960" cy="345240"/>
                <a:chOff x="5767200" y="5009760"/>
                <a:chExt cx="1119960" cy="345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817600" y="5009760"/>
                  <a:ext cx="10191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02-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767200" y="5009760"/>
                  <a:ext cx="11199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887880" y="5009760"/>
                <a:ext cx="1487520" cy="345240"/>
                <a:chOff x="6887880" y="5009760"/>
                <a:chExt cx="1487520" cy="34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6938280" y="5009760"/>
                  <a:ext cx="137592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5.194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6887880" y="5009760"/>
                  <a:ext cx="148752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767160" y="5355360"/>
                <a:ext cx="1366560" cy="325440"/>
                <a:chOff x="767160" y="5355360"/>
                <a:chExt cx="1366560" cy="3254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786960" y="5365080"/>
                  <a:ext cx="132660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Secupyme  X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67160" y="5355360"/>
                  <a:ext cx="1366560" cy="3254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2134080" y="5355360"/>
                <a:ext cx="966600" cy="345240"/>
                <a:chOff x="2134080" y="5355360"/>
                <a:chExt cx="966600" cy="34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2184120" y="5355360"/>
                  <a:ext cx="8661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8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134080" y="5355360"/>
                  <a:ext cx="96660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3101400" y="5355360"/>
                <a:ext cx="2665080" cy="325440"/>
                <a:chOff x="3101400" y="5355360"/>
                <a:chExt cx="2665080" cy="3254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121200" y="5365080"/>
                  <a:ext cx="2625480" cy="305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Verdana"/>
                      <a:ea typeface="Times New Roman"/>
                    </a:rPr>
                    <a:t>Productores Vitivinícola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3101400" y="5355360"/>
                  <a:ext cx="2665080" cy="3254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767200" y="5355360"/>
                <a:ext cx="1119960" cy="345240"/>
                <a:chOff x="5767200" y="5355360"/>
                <a:chExt cx="1119960" cy="3452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817600" y="5355360"/>
                  <a:ext cx="10191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04-2005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767200" y="5355360"/>
                  <a:ext cx="111996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6887880" y="5355360"/>
                <a:ext cx="1487520" cy="345240"/>
                <a:chOff x="6887880" y="5355360"/>
                <a:chExt cx="1487520" cy="34524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6938280" y="5355360"/>
                  <a:ext cx="137592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1.650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6887880" y="5355360"/>
                  <a:ext cx="1487520" cy="3452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767160" y="5700600"/>
                <a:ext cx="1366560" cy="431640"/>
                <a:chOff x="767160" y="5700600"/>
                <a:chExt cx="1366560" cy="43164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817200" y="5700600"/>
                  <a:ext cx="126612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767160" y="5700600"/>
                  <a:ext cx="13665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134080" y="5700600"/>
                <a:ext cx="966600" cy="431640"/>
                <a:chOff x="2134080" y="5700600"/>
                <a:chExt cx="966600" cy="43164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84120" y="5700600"/>
                  <a:ext cx="86616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414 Pym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134080" y="5700600"/>
                  <a:ext cx="96660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101400" y="5700600"/>
                <a:ext cx="2665080" cy="431640"/>
                <a:chOff x="3101400" y="5700600"/>
                <a:chExt cx="2665080" cy="43164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151440" y="5700600"/>
                  <a:ext cx="256464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101400" y="5700600"/>
                  <a:ext cx="2665080" cy="4316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67200" y="5700600"/>
                <a:ext cx="2608200" cy="419040"/>
                <a:chOff x="5767200" y="5700600"/>
                <a:chExt cx="2608200" cy="41904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87000" y="5706720"/>
                  <a:ext cx="2568240" cy="4064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otal emitido en  </a:t>
                  </a: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$     2.872.0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Total emitido en </a:t>
                  </a:r>
                  <a:r>
                    <a:rPr b="0" lang="en-US" sz="13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u$s 32.594.700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67200" y="5700600"/>
                  <a:ext cx="2608200" cy="419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767160" y="6132600"/>
                <a:ext cx="7608240" cy="393840"/>
                <a:chOff x="767160" y="6132600"/>
                <a:chExt cx="7608240" cy="3938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786960" y="6142320"/>
                  <a:ext cx="7568280" cy="3740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En todos los casos, actúa como Fiduciario el Banco de Valores S.A. - Los Fideicomisos Secupyme se emitieron con aval de Garantizar S.G.R. y el Prog. Arg. I OLIVA tuvo como aval un Fideicomiso de Garantía.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767160" y="6132600"/>
                  <a:ext cx="7608240" cy="39384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767160" y="6546240"/>
                <a:ext cx="7608240" cy="308520"/>
                <a:chOff x="767160" y="6546240"/>
                <a:chExt cx="7608240" cy="30852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786960" y="6555960"/>
                  <a:ext cx="7568280" cy="28872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9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  </a:t>
                  </a:r>
                  <a:r>
                    <a:rPr b="0" i="1" lang="en-US" sz="900" spc="-1" strike="noStrike">
                      <a:solidFill>
                        <a:srgbClr val="ffffff"/>
                      </a:solidFill>
                      <a:latin typeface="Arial"/>
                      <a:ea typeface="Times New Roman"/>
                    </a:rPr>
                    <a:t>Fuente: Banco de Valores S.A. -  Departamento Pyme BCBA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767160" y="6546240"/>
                  <a:ext cx="7608240" cy="308520"/>
                </a:xfrm>
                <a:prstGeom prst="rect">
                  <a:avLst/>
                </a:prstGeom>
                <a:noFill/>
                <a:ln w="3240">
                  <a:solidFill>
                    <a:srgbClr val="0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762120" y="76320"/>
              <a:ext cx="7619400" cy="6781680"/>
            </a:xfrm>
            <a:prstGeom prst="rect">
              <a:avLst/>
            </a:prstGeom>
            <a:noFill/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762120" y="10663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ff00"/>
                </a:solidFill>
                <a:latin typeface="Tahoma"/>
              </a:rPr>
              <a:t>FUENTES DE FINANCIACIÓN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ff00"/>
                </a:solidFill>
                <a:latin typeface="Tahoma"/>
              </a:rPr>
              <a:t>Y FOMENTO DE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00ff00"/>
                </a:solidFill>
                <a:latin typeface="Tahoma"/>
              </a:rPr>
              <a:t>PYMES  EXPORTADOR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ff00"/>
                </a:solidFill>
                <a:latin typeface="Tahoma"/>
              </a:rPr>
              <a:t>Muchas Gra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ff00"/>
                </a:solidFill>
                <a:latin typeface="Tahoma"/>
              </a:rPr>
              <a:t>Lic. José M. Port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" y="898560"/>
            <a:ext cx="800100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23880" y="990720"/>
            <a:ext cx="7910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85800" y="574560"/>
            <a:ext cx="784872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762120" y="762120"/>
            <a:ext cx="7467480" cy="46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CAPACITACIÓN GRATUITA </a:t>
            </a:r>
            <a:br>
              <a:rPr sz="2400"/>
            </a:br>
            <a:r>
              <a:rPr b="1" lang="en-U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EN COMERCIO INTERNAC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Programa Federal de Capacitación - SEPyMEy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E-Learning – Plataforma de Educación a Dista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Crédito Fiscal para Capacitación – SEPyMEy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Secretaría de Agricultura, Ganadería, Pesca y Alimentación – SAGPy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Servicio Nacional de Sanidad y Calidad Agropecuaria -SENA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Instituto Nacional de Tecnología Agropecuaria - I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Instituto Nacional de Tecnología Industrial – I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Programas de Cooperación con la Unión Europ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Tahoma"/>
              </a:rPr>
              <a:t>Fundaciones: Gas Natural Ban, Bank Boston, Pro-Mendoza, Procor (Córdoba)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P</a:t>
            </a:r>
            <a:r>
              <a:rPr b="1" lang="es-MX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ORTAL DE 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Py</a:t>
            </a:r>
            <a:r>
              <a:rPr b="1" lang="es-MX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MES</a:t>
            </a:r>
            <a:r>
              <a:rPr b="1" lang="es-ES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 E</a:t>
            </a:r>
            <a:r>
              <a:rPr b="1" lang="es-MX" sz="2400" spc="-1" strike="noStrike">
                <a:solidFill>
                  <a:srgbClr val="66ff66"/>
                </a:solidFill>
                <a:latin typeface="Verdana"/>
                <a:ea typeface="Times New Roman"/>
              </a:rPr>
              <a:t>XPORT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380880" y="121932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5000"/>
              </a:lnSpc>
              <a:spcBef>
                <a:spcPts val="68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ublicación gratuita en catálogos digitales de sus productos en todo el mund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68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ccede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r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a: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estudios de mercado en diferentes países para sus productos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;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 bases de datos de empresas o proveedores de servicios de exportación; a listados de importadores</a:t>
            </a: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internacional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68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Recibir pedidos de cotización de importad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5000"/>
              </a:lnSpc>
              <a:spcBef>
                <a:spcPts val="689"/>
              </a:spcBef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Tener su propia página web, mediante un software gratuito provisto por ProArgentina.gov.a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rgentinatradenet.gov.ar - Cancillería Argentin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proargentina.gov.ar. - SEPyMEyD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66"/>
                </a:solidFill>
                <a:latin typeface="Verdana"/>
              </a:rPr>
              <a:t>FUNDACIÓN EXPORT-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228600" y="91440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siste a las empresas argentinas en la búsqueda de mercados internacionales, estudio de negocios, consorcios de exportación, et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Tiene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Arial"/>
              </a:rPr>
              <a:t>120 Representaciones en todo el mundo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Arial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Arial"/>
              </a:rPr>
              <a:t>O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rganiza anualmente la participación, en cerca de 50 Ferias Internacionales dentro del Pabellón Argentino, con los siguientes beneficios para las empre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a) la Fundación contrata el espacio, realiza el montaje del Pabellón, que cuenta con azafatas bilingües/trilingües, teléfonos, computadoras, Internet, electricidad, limpieza, seguridad, etc.: los empresarios solo deben trasladarse con las muestras, de producción nacional, a presentar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ffffff"/>
                </a:solidFill>
                <a:latin typeface="Verdana"/>
                <a:ea typeface="Times New Roman"/>
              </a:rPr>
              <a:t>b) la Fundación absorbe entre el 30 y el 40% del cos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30T20:53:12Z</dcterms:created>
  <dc:creator>Jose Manuel Porto</dc:creator>
  <dc:description/>
  <dc:language>en-US</dc:language>
  <cp:lastModifiedBy>C.P.C.E.C.A.B.A.</cp:lastModifiedBy>
  <dcterms:modified xsi:type="dcterms:W3CDTF">2005-11-24T15:57:47Z</dcterms:modified>
  <cp:revision>46</cp:revision>
  <dc:subject/>
  <dc:title>Presentación de PowerPoint</dc:title>
</cp:coreProperties>
</file>