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B89F-4F97-4781-A194-F2BB1DD23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1796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349C-0ECA-435D-B4A6-489E2B9A4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796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1796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0132-33DD-4E50-A7D8-5BFB3BA04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1796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1796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1796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9FAA-636C-4087-8FA6-835C46D15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796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3655-5840-48C1-8BE1-51A663AFD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796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796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796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796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796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796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796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796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644A-A87B-4BE9-A050-AAD0768F3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B649-4220-4261-AA0C-FA59B92F7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0E42-3BCB-4FA5-9A21-F03C5D119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2A50-3376-4F2F-BD39-255E4DC3F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1796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58A6-D92C-4D9C-A55D-4DF039F77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1796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877A-7FAD-45CD-8C33-F30B82240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796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F7759-2462-4A23-9D24-381CA1E96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  <a:effectLst>
            <a:outerShdw dist="53966" dir="2700000" blurRad="0" rotWithShape="0">
              <a:srgbClr val="0000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432080" indent="-354240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901880" indent="-228600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309760" indent="-228600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309760" indent="-22860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309760" indent="-22860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471720"/>
            <a:ext cx="289548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285E-0CA2-42DB-8148-235E1DC21B1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ONGRESO METROPOLITANO DE CIENCIAS ECONO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60 ANIVERSARIO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50080"/>
            <a:ext cx="536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16 AL 18 de noviembre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iudad Autónoma de Buenos 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04000" y="595008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JORGE V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163440" algn="ctr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301680" algn="ctr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252360" algn="ctr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252360"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252360">
              <a:spcBef>
                <a:spcPts val="499"/>
              </a:spcBef>
              <a:buClr>
                <a:srgbClr val="0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LA UTILIZACIÓN DE VALORES DESCONTADOS O PRESENTES EN CONTABILIDAD SOLO ES APLICABLE EN EXCEPCIONALES CIRCUNSTANCIA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  <a:effectLst>
            <a:outerShdw dist="53966" dir="2700000" blurRad="0" rotWithShape="0">
              <a:srgbClr val="0000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Transacciones financieras</a:t>
            </a:r>
            <a:br>
              <a:rPr sz="2800"/>
            </a:b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y refinanciacion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Transacciones financiera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Simpl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ompuesta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Refinanciacion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onclusiones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Registrar una supuesta pérdida tomando como base una teórica tasa de interés existente en un mercado inaccesible, distorsiona la realidad económica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5 - JORGE V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5A85-B3CD-4C10-832B-F595C97B75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  <a:effectLst>
            <a:outerShdw dist="53966" dir="2700000" blurRad="0" rotWithShape="0">
              <a:srgbClr val="0000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Otros créditos y otros pasiv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réditos y deudas fiscales, activos y pasivos por impuestos diferidos,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eudas </a:t>
            </a: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previsionales,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anticipos</a:t>
            </a: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l personal,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anticipos</a:t>
            </a: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 de honorarios a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irectores</a:t>
            </a: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previsiones para juicios y otra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alvo excepciones, estas cuentas no generan intereses … … … aunque se cobren o paguen, si es posible, anticipadamente. No contienen interese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Estas cuentas, no son negociadas en ningún mercado financiero. No puede aplicarse a estas operaciones una tasa que refleje las evaluaciones del mercado sobre el valor tiempo del dinero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5 - JORGE V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7614-A307-4DB5-B66B-9D448CAD4B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  <a:effectLst>
            <a:outerShdw dist="53966" dir="2700000" blurRad="0" rotWithShape="0">
              <a:srgbClr val="0000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Conclusiones final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Medición inicia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Segregando los componentes financieros “explícitos”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Medición posterio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Devengando los componentes financieros “explícitos”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réditos o deudas que se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realizarán o cancelarán anticipadamente (créditos o deudas destinados a negociación) y, que cumplen con los requisitos establecidos en la norma, deben: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a) medirse a su valor actual aplicando la tasa de descuento correspondiente, y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b)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Verdana"/>
              </a:rPr>
              <a:t>exponerse en un rubro específico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3438360" y="237024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5 - JORGE V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A254-03A5-49EF-BB0D-D18419B992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Revelación de los plazos de cobros y pago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09720" y="979560"/>
          <a:ext cx="6121080" cy="1095480"/>
        </p:xfrm>
        <a:graphic>
          <a:graphicData uri="http://schemas.openxmlformats.org/drawingml/2006/table">
            <a:tbl>
              <a:tblPr/>
              <a:tblGrid>
                <a:gridCol w="2040840"/>
                <a:gridCol w="1021320"/>
                <a:gridCol w="1018080"/>
                <a:gridCol w="1019520"/>
                <a:gridCol w="102132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entas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b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 Cob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838080" y="2168640"/>
            <a:ext cx="75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(*) Venta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devengadas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en el ejercicio corriente (EC) y en el ejercicio anterior (E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76440" y="1506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3068640"/>
          <a:ext cx="8424720" cy="1735200"/>
        </p:xfrm>
        <a:graphic>
          <a:graphicData uri="http://schemas.openxmlformats.org/drawingml/2006/table">
            <a:tbl>
              <a:tblPr/>
              <a:tblGrid>
                <a:gridCol w="1683720"/>
                <a:gridCol w="854640"/>
                <a:gridCol w="851400"/>
                <a:gridCol w="854640"/>
                <a:gridCol w="851400"/>
                <a:gridCol w="849960"/>
                <a:gridCol w="853200"/>
                <a:gridCol w="813600"/>
                <a:gridCol w="81216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entas (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b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° Trim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° Trim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° Trim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° Trim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395280" y="4869000"/>
            <a:ext cx="83534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(*) Venta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devengadas y cobradas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en el ejercicio corriente (EC) y en el ejercicio anterior (E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573408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573408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Revelación de los plazos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en que se estima cobrar o pagar los créditos y pasivos en mone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5 - JORGE V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B719-6E01-4331-A0AD-FE481CC633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  <a:effectLst>
            <a:outerShdw dist="53966" dir="2700000" blurRad="0" rotWithShape="0">
              <a:srgbClr val="0000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Medición de créditos y deudas en moneda generados por operaciones comercial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Breve historia contabl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¿Por qué no segregar al inicio los CFI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Operaciones comercial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Transacciones financieras o refinanciacion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Medición de otros créditos y otros pasivos en moned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onclusiones final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5 - JORGE V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C10F-DFEC-49CB-B156-33EEDE04E6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  <a:effectLst>
            <a:outerShdw dist="53966" dir="2700000" blurRad="0" rotWithShape="0">
              <a:srgbClr val="0000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Breve historia contabl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RT 6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Optativa la segregación de los CFI al inicio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Obligatoria la segregación de los CFI al cierre –  Siempre que puedan estimarse razonablement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RT 10 + RT 12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Obligatoria la segregación de los CFI al inicio – Siempre que puedan estimarse razonablemente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Obligatoria la determinación del valor actual al cierre considerando la tasa vigente – Norma suspendida y, posteriormente, reemplazada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ff"/>
                </a:solidFill>
                <a:latin typeface="Verdana"/>
              </a:rPr>
              <a:t>Requiere la medición al valor actual, únicamente,  cuando los créditos o deudas serán cancelados anticipadamente (RT 12)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5 - JORGE V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7DD6-9376-40D8-9757-44DE8D5F13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RT 17 – Segregación de los CFI al inici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Obligatoria en un contexto de estabilidad – Siempre que sean significativo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Optativa en un contexto de inflació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RT 17 – Medición al cier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ff"/>
                </a:solidFill>
                <a:latin typeface="Verdana"/>
              </a:rPr>
              <a:t>Requiere la medición al valor actual, únicamente,  cuando los créditos o deudas serán cancelados anticipadamente (RT 12)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n los restantes casos, se deben segregar los CFI no devengados al cierre. – Siempre  que sean significativo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osteriormente, mediante las RNT 282/03 y 312/05, entre otras, se modifica la RT 17, generando la obligación de segregar, tanto al inicio como al cierre, los CFI. Al mismo tiempo, las RNT 282/03 y 305/04 suspenden dicha exigencia al inicio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5 - JORGE V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96BF-64B9-4BE4-A226-AA05CA03D9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  <a:effectLst>
            <a:outerShdw dist="53966" dir="2700000" blurRad="0" rotWithShape="0">
              <a:srgbClr val="0000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¿Por qué no segregar al inicio los CFI?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 segregación de los CFI al inicio, no admitida por las normas fiscales, obligaría a los entes a duplicar el sistema de información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s pequeñas empresas que deben preparar los estados contables por exigencias legales y, que no obtienen a cambio ningún beneficio – financiación o capital – delegan el problema del “balance” en el contador / asesor / auditor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 segregación de los CFI es una tarea que el empresario (propietario / presidente / gerente general) no tiene interés en realizar. Y, por su parte, el profesional no puede asumir los costos necesarios para llevarla a cabo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5 - JORGE V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50AF-5BFE-49D7-BEC7-8D511B4457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Las subsidiarias de empresas internacionales, privilegian la preparación de los estados contables que cumplen con las normas contables correspondientes a su casa matriz. Y, en la medida que es razonablemente posible, prefieren no generar diferencias entre dichos estados y los legale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Otras empresas prefieren ocultar las realidades que se pondrían en evidencia al segregar los CFI al inicio: menores ventas y mayores resultados financieros positivos, menores costos o gastos y mayores resultados financieros negativo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Fundamental . . 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Finalmente, la segregación de los CFI en la mayoría de los casos no es objetivamente posible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5 - JORGE V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2718-A843-4716-B149-0695058A4C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10240" y="0"/>
            <a:ext cx="3570120" cy="2487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5640" y="5229360"/>
            <a:ext cx="6913440" cy="129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ff"/>
                </a:solidFill>
                <a:latin typeface="Verdana"/>
              </a:rPr>
              <a:t>Si no cambiamos de dirección, probablemente terminaremos en el sitio hacia adonde nos encamina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ff"/>
                </a:solidFill>
                <a:latin typeface="Verdana"/>
              </a:rPr>
              <a:t>Proverbio Ch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44280"/>
            <a:ext cx="4572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ffff"/>
                </a:solidFill>
                <a:latin typeface="Verdana"/>
              </a:rPr>
              <a:t>IMPRACTIC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5 - JORGE VOS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EBB3-307C-4054-9698-323600DAC6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  <a:effectLst>
            <a:outerShdw dist="53966" dir="2700000" blurRad="0" rotWithShape="0">
              <a:srgbClr val="0000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Operaciones comercial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Si un ente vende cierto producto: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ontado en $1.000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Financiado (120 días) $1.060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a diferencia de $60 es un </a:t>
            </a:r>
            <a:r>
              <a:rPr b="1" lang="es-MX" sz="2000" spc="-1" strike="noStrike">
                <a:solidFill>
                  <a:srgbClr val="00ffff"/>
                </a:solidFill>
                <a:latin typeface="Verdana"/>
              </a:rPr>
              <a:t>CFE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y, si el cliente optó por pagar a los 120 días debe ser segregado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Si un ente le vende cierto producto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 determinados clientes en $1.000 – Grupo testigo 1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353880">
              <a:spcBef>
                <a:spcPts val="624"/>
              </a:spcBef>
              <a:spcAft>
                <a:spcPts val="624"/>
              </a:spcAft>
              <a:buClr>
                <a:srgbClr val="00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 otros clientes en $1.060 – Grupo testigo 2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as diferencias de precios pueden obedecer a múltiples causas. Para concluir que la diferencia obedece al valor tiempo del dinero, previamente deberían eliminarse las otras razones posibles. 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5 - JORGE V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8EDC5-33AD-41C9-B858-C118C336C9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or ejemplo, no existen diferencias relevantes entre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751"/>
              </a:spcBef>
              <a:spcAft>
                <a:spcPts val="751"/>
              </a:spcAft>
              <a:buClr>
                <a:srgbClr val="ff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as cantidades compradas y la frecuencia de las compras de los clientes que integran el GT 1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751"/>
              </a:spcBef>
              <a:spcAft>
                <a:spcPts val="751"/>
              </a:spcAft>
              <a:buClr>
                <a:srgbClr val="ff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as especificaciones de los productos comprado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751"/>
              </a:spcBef>
              <a:spcAft>
                <a:spcPts val="751"/>
              </a:spcAft>
              <a:buClr>
                <a:srgbClr val="ff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os canales de distribución empleados y los segmentos geográfico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751"/>
              </a:spcBef>
              <a:spcAft>
                <a:spcPts val="751"/>
              </a:spcAft>
              <a:buClr>
                <a:srgbClr val="ff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l interés comercial de la empresa por los cliente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751"/>
              </a:spcBef>
              <a:spcAft>
                <a:spcPts val="751"/>
              </a:spcAft>
              <a:buClr>
                <a:srgbClr val="ff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a solvencia económica y financiera de los cliente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751"/>
              </a:spcBef>
              <a:spcAft>
                <a:spcPts val="751"/>
              </a:spcAft>
              <a:buClr>
                <a:srgbClr val="ff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os clientes que componen el GT 2 cumplen (todas) las condiciones mencionadas previamente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504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as compras computadas fueron realizadas durante un período en el que los precios de venta y las tasas de interés se mantuvieron estable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5 - JORGE V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1D20-96ED-4219-82B6-421711D331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5:31:18Z</dcterms:created>
  <dc:creator>Jorge Voss</dc:creator>
  <dc:description/>
  <dc:language>en-US</dc:language>
  <cp:lastModifiedBy>C.P.C.E.C.A.B.A.</cp:lastModifiedBy>
  <dcterms:modified xsi:type="dcterms:W3CDTF">2005-11-14T16:08:05Z</dcterms:modified>
  <cp:revision>2</cp:revision>
  <dc:subject>CPCECABA - Noviembre de 2005</dc:subject>
  <dc:title>Valores actuales</dc:title>
</cp:coreProperties>
</file>