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544050"/>
  <p:custShowLst>
    <p:custShow name="Presentación personalizada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AA5-C199-4DE8-A7CB-03845320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BB4-E923-4344-8FFE-12AB3F2E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298-3E24-436A-B8AE-1D9AC080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9DD-9A21-40E6-8095-46DC8699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E248-5BB0-4451-8F7A-F1927C36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C4BE-9198-4BA2-9DDA-F59EC9D1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FD2C-F4D6-447A-B101-60724DFE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FEA8-A395-44F9-BEA3-7F1F3501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DCFE-2E46-4B11-814C-83E4F5BF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A321-0DB8-4203-B1A2-B28CA904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78E0-C9F8-4F4D-82CE-A7E698AA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318-52B4-44D2-AC04-B2A7D37A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DB34-02D3-4C2A-A085-B1C85039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3C82-67E2-44C4-916A-1E456B68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77B4-1B2D-4E96-AA47-81723242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C705-09C0-4924-B409-47F804EA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35E5-3915-4C7D-A93B-C8662400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63B-4FD3-4F49-A69B-2C0473E7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CE6-A042-4C62-AA99-A0C02637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E99-B27A-4B1D-BE77-49D2691B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577-9EB0-4779-B116-10DF0C63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3C3-2265-4022-933D-2759A4B9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76C-95E1-46D3-9A8B-F1BB539C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E86-9A9F-41D2-AB0E-6ABB56E3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5B67-804A-4EF1-A9E4-201E123A173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53D8-1313-43D7-94F5-0C810427614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50560" y="1699920"/>
            <a:ext cx="8496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6400" indent="-338040">
              <a:spcBef>
                <a:spcPts val="799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6400" indent="-33804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ntador Público Nacional, U.B.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6400" indent="-338040" algn="just">
              <a:spcBef>
                <a:spcPts val="799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6400" indent="-33804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.B.A. Doctor in Business Administration, Wittfield University, U.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ccecff"/>
                </a:solidFill>
                <a:uFillTx/>
                <a:latin typeface="Arial"/>
              </a:rPr>
              <a:t>JORGE A. RUMB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liminar la pobreza y cuidar la salu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Brindar igualdad de oportunidad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ducar y capacitar para el trabaj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Brindar oportunidades de trabajo y progres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ecff"/>
                </a:solidFill>
                <a:uFillTx/>
                <a:latin typeface="Arial"/>
              </a:rPr>
              <a:t>Objetivos so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La administración es requisito para el éxi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Impacto de la tecnolog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Aplanar las estructur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698480"/>
                <a:tab algn="l" pos="250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1698480"/>
                <a:tab algn="l" pos="250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Trabajos rutinarios aplicación de máquin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1698480"/>
                <a:tab algn="l" pos="250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1698480"/>
                <a:tab algn="l" pos="250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Trabajos no rutinarios: requerirán grandes conocimientos y habilidad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ccecff"/>
                </a:solidFill>
                <a:uFillTx/>
                <a:latin typeface="Arial"/>
              </a:rPr>
              <a:t>Trabaj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ncontrar formas de trabajo para las minorías étnicas y culturales, trabajadores no especializados y disminuidos en sus aptitudes físic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xpectativa de mayores conocimientos y experienci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ccecff"/>
                </a:solidFill>
                <a:uFillTx/>
                <a:latin typeface="Arial"/>
              </a:rPr>
              <a:t>Personal de las organizacio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Motivar al pers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Aprovechar la tecnolog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uenas relaciones intern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Llevarse bien con el Esta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ntinuar el proceso educativ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Lograr máxima flexibilidad en todas las áreas (Gerentes generalista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ccecff"/>
                </a:solidFill>
                <a:uFillTx/>
                <a:latin typeface="Arial"/>
              </a:rPr>
              <a:t>El gerente del futu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l gerente debe estar atento al entorno para anticipar los cambi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ccecff"/>
                </a:solidFill>
                <a:uFillTx/>
                <a:latin typeface="Arial"/>
              </a:rPr>
              <a:t>Estrateg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Atención a que se intensifique la globalización y los bloques de paí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Muchas compañías seguirán convirtiendo en redes globa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ecff"/>
                </a:solidFill>
                <a:uFillTx/>
                <a:latin typeface="Arial"/>
              </a:rPr>
              <a:t>Nuevas y antiguas tend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Organigramas flexib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La administración busca y buscará resul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Se extenderá el uso de la Administración (salud, educación, proyectos aero-espaciale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Organizaciones de creciente tamañ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Vigencias de las personas, las tareas y las estructur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structuras flexib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ntinuación del enfoque sistémico y de contingenci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reciente importancia de la Administració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Vigencia de la efectivida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ecff"/>
                </a:solidFill>
                <a:uFillTx/>
                <a:latin typeface="Arial"/>
              </a:rPr>
              <a:t>PARADIG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26920" y="3354480"/>
            <a:ext cx="7993080" cy="2114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39640" y="754200"/>
            <a:ext cx="8353440" cy="1587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ccecff"/>
                </a:solidFill>
                <a:uFillTx/>
                <a:latin typeface="Arial"/>
              </a:rPr>
              <a:t>JORGE A. RUMB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68000" y="232056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Profesor Titular de Introducción a la Administración y Cambio y Desarrollo Organizacional, UNS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Profesor Titular de Administración General y Planeamiento, U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Profesor Titular UNL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x Vice Decano UNL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Profesor invitado, Facultades Santanna, San Pablo, Brasil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ccecff"/>
                </a:solidFill>
                <a:uFillTx/>
                <a:latin typeface="Arial"/>
              </a:rPr>
              <a:t>JORGE A. RUMB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2211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xpositor en Congresos y jornad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 algn="just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Autor de libros y artículos sob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ccecff"/>
                </a:solidFill>
                <a:uFillTx/>
                <a:latin typeface="Arial"/>
              </a:rPr>
              <a:t>JORGE A. RUMB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ccecff"/>
                </a:solidFill>
                <a:uFillTx/>
                <a:latin typeface="Arial"/>
              </a:rPr>
              <a:t>JORGE ÁNGEL RUMB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700280"/>
            <a:ext cx="8496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1800" indent="-433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31800" indent="-43344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x Senior Loan Review Officer,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31800" indent="-4334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oston, Montevideo, Urugu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31800" indent="-43344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31800" indent="-4334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31800" indent="-4334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E-mail: eficacia@fibertel.com.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Arial"/>
              </a:rPr>
              <a:t>LAS CINCO VARIABLES BÁSICAS DE LA ORGANIZACIÓ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162864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Tare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Estructura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Person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Organizac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Ambiente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Tecnologí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4067280" y="1916280"/>
            <a:ext cx="1368360" cy="720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2708280"/>
            <a:ext cx="1584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4869000"/>
            <a:ext cx="1800360" cy="93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24000" y="5013360"/>
            <a:ext cx="1800360" cy="936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2708280"/>
            <a:ext cx="1584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124000" y="2276640"/>
            <a:ext cx="194328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5640" y="2276640"/>
            <a:ext cx="19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35280" y="3573360"/>
            <a:ext cx="1081080" cy="129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876720" y="3573360"/>
            <a:ext cx="86364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5300640"/>
            <a:ext cx="20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276720" y="2565360"/>
            <a:ext cx="1079280" cy="230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2565360"/>
            <a:ext cx="1368360" cy="230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708360" y="3357720"/>
            <a:ext cx="345600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3213000"/>
            <a:ext cx="352728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Fuerza de trabajo bimod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educción de tamaño organizaci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Trabajadores Eventua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ccecff"/>
                </a:solidFill>
                <a:uFillTx/>
                <a:latin typeface="Arial"/>
              </a:rPr>
              <a:t>ACTU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- Cambios en prioridades y valo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ducació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Disminución del individualism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Uso social de la Tierra y el capi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Influencia de las regulaciones del gobier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47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ccecff"/>
                </a:solidFill>
                <a:uFillTx/>
                <a:latin typeface="Arial"/>
              </a:rPr>
              <a:t>Tendencias Futu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just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alidad de vi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ra pos- industr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articipación del persona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l gerente del futur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3:35:57Z</dcterms:created>
  <dc:creator>a</dc:creator>
  <dc:description/>
  <dc:language>en-US</dc:language>
  <cp:lastModifiedBy>C.P.C.E.C.A.B.A.</cp:lastModifiedBy>
  <dcterms:modified xsi:type="dcterms:W3CDTF">2005-11-24T16:56:29Z</dcterms:modified>
  <cp:revision>15</cp:revision>
  <dc:subject/>
  <dc:title>JORGE A. RUMBO</dc:title>
</cp:coreProperties>
</file>