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21.jpeg" ContentType="image/jpeg"/>
  <Override PartName="/ppt/media/image20.jpeg" ContentType="image/jpeg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3.jpeg" ContentType="image/jpeg"/>
  <Override PartName="/ppt/media/image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501-C392-4BEC-8C67-CD1587ED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ABC-AE1E-4C5D-849A-FFAB61E4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41A-5066-41BD-BB76-6820D743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884-684A-40F3-96E5-988692E8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19E-90C3-437B-AC53-1975B7FC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C83-C00E-4C2A-9627-17857594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DD8-1910-4786-8678-AD521033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9C5-1CD3-4759-8815-9B6D91E2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DF8-CC7D-4862-91C7-A338B124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567-4124-4139-985A-9304CCDF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7A0-4F3A-441C-9643-3DD665A1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EAF-9025-48A4-8B40-69EB056E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C6F9-875D-4E47-94FB-E7A229285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aduceo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457200"/>
            <a:ext cx="49914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Hábitos de una vida  saludable, el impacto en las empre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Times New Roman"/>
              </a:rPr>
              <a:t>UN PROGRAMA DE ALIMENTACION SALUDABLE PARA PROTECCION DE LOS 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r. Jorge Alberto Bett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enfermedad" descr=""/>
          <p:cNvPicPr/>
          <p:nvPr/>
        </p:nvPicPr>
        <p:blipFill>
          <a:blip r:embed="rId1"/>
          <a:stretch/>
        </p:blipFill>
        <p:spPr>
          <a:xfrm>
            <a:off x="5257800" y="3429000"/>
            <a:ext cx="3581280" cy="2865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 una alimentación inadecuada o deficiente, el organismo sufre alteraciones metabólicas, bioquímicas y fisiológicas que pueden disminuir inicialmente el rendimiento de las personas, y l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 su progresión en el tiemp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la aparición de camb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tológ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mpresas Pymes Seleccion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tación 20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1 años en pl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 manual de control de ausent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tación 59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8 años en pl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 electrónico de control de ausent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Servicios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1752480" cy="1565280"/>
          </a:xfrm>
          <a:prstGeom prst="rect">
            <a:avLst/>
          </a:prstGeom>
          <a:ln w="0">
            <a:noFill/>
          </a:ln>
        </p:spPr>
      </p:pic>
      <p:pic>
        <p:nvPicPr>
          <p:cNvPr id="73" name="Industria" descr=""/>
          <p:cNvPicPr/>
          <p:nvPr/>
        </p:nvPicPr>
        <p:blipFill>
          <a:blip r:embed="rId2"/>
          <a:stretch/>
        </p:blipFill>
        <p:spPr>
          <a:xfrm>
            <a:off x="6324480" y="1600200"/>
            <a:ext cx="190512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Instrumento de recolección de da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planillas de control de ausentismo se centraron en los siguientes aspec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sencias po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66"/>
                </a:solidFill>
                <a:latin typeface="Times New Roman"/>
              </a:rPr>
              <a:t>Enfermedades gastrointest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66"/>
                </a:solidFill>
                <a:latin typeface="Times New Roman"/>
              </a:rPr>
              <a:t>Otras enfermedades (estados gripales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66"/>
                </a:solidFill>
                <a:latin typeface="Times New Roman"/>
              </a:rPr>
              <a:t>Otro tipo de aus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gregación de dat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ones y mujeres, grupos de 18 a 27 años 28 a 37 años; 38 a 47 años y 48 años y má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ríodo junio 2003 a mayo 2004</a:t>
            </a:r>
            <a:br>
              <a:rPr sz="3200"/>
            </a:b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sencias p/gastrointestinales (x día/s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s-ES_tradnl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  150 aus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Times New Roman"/>
              </a:rPr>
              <a:t>Lun: 31.33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: 16.66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e: 12.66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Jue:  16 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e: 23.66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 333  aus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Times New Roman"/>
              </a:rPr>
              <a:t>Lun:  36.03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:  17.42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e : 12.61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Jue :  15.91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e :  18.01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USENCIAS TOTALES POR CAUSAS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`Período de junio 2003 a mayo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A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f.gastrointest.: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fermedades Ot. </a:t>
            </a:r>
            <a:r>
              <a:rPr b="0" lang="es-ES_tradnl" sz="2800" spc="-1" strike="noStrike">
                <a:solidFill>
                  <a:srgbClr val="ff0066"/>
                </a:solidFill>
                <a:latin typeface="Times New Roman"/>
              </a:rPr>
              <a:t>1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as Causas......:   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242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f.gatrointest...: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3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fermedades Ot: </a:t>
            </a:r>
            <a:r>
              <a:rPr b="0" lang="es-ES_tradnl" sz="2800" spc="-1" strike="noStrike">
                <a:solidFill>
                  <a:srgbClr val="ff0066"/>
                </a:solidFill>
                <a:latin typeface="Times New Roman"/>
              </a:rPr>
              <a:t>2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as Causas......:   9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3200400"/>
          <a:ext cx="359100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00400"/>
                    <a:ext cx="359100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800600" y="3200400"/>
          <a:ext cx="3828960" cy="315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200400"/>
                    <a:ext cx="382896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Chequeos físicos, clínicos y encues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rol de presión ar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rol de peso y talla (IM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ectrocardi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x de tór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formación general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enfermedades, alergia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álisis  clí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cuestas de expec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caduceo" descr=""/>
          <p:cNvPicPr/>
          <p:nvPr/>
        </p:nvPicPr>
        <p:blipFill>
          <a:blip r:embed="rId1"/>
          <a:stretch/>
        </p:blipFill>
        <p:spPr>
          <a:xfrm>
            <a:off x="6416640" y="1905120"/>
            <a:ext cx="135576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grama Alimentario a partir del </a:t>
            </a:r>
            <a:br>
              <a:rPr sz="3600"/>
            </a:b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1º de junio del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iedad suficiente de ali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eta pobre en grasas, grasas saturadas y c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eta rica en verduras, frutas y cere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mpleo moderado de azúcares y so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umo moderado de bebidas alcohól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aduceo" descr=""/>
          <p:cNvPicPr/>
          <p:nvPr/>
        </p:nvPicPr>
        <p:blipFill>
          <a:blip r:embed="rId1"/>
          <a:stretch/>
        </p:blipFill>
        <p:spPr>
          <a:xfrm>
            <a:off x="7391520" y="1295280"/>
            <a:ext cx="914400" cy="1336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de la evolución del índice de ausentismo jun.03/may 04 con jun.04/may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Empresa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mpresa 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2209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320" y="2514600"/>
          <a:ext cx="43434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514600"/>
                    <a:ext cx="43434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74788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800600" y="2590920"/>
          <a:ext cx="4114800" cy="3276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590920"/>
                    <a:ext cx="411480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duccìón  enferm.Gastro en el total de ausencias jun.03/may.04 y jun 04/may.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Times New Roman"/>
              </a:rPr>
              <a:t>Empresa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mpres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19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920" y="2438280"/>
          <a:ext cx="428616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42861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67660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724280" y="2438280"/>
          <a:ext cx="4114800" cy="3505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438280"/>
                    <a:ext cx="4114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gración de las ausencias totales por causas</a:t>
            </a:r>
            <a:br>
              <a:rPr sz="3200"/>
            </a:b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junio 2004 a mayo del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Times New Roman"/>
              </a:rPr>
              <a:t>Empresa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mpres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2590920"/>
          <a:ext cx="43434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0920"/>
                    <a:ext cx="43434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72880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0" y="2590920"/>
          <a:ext cx="4343400" cy="3581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90920"/>
                    <a:ext cx="43434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actores determinantes de la sal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renden múltiples variables que interactúan, produciendo distintos grados de incidencia sobre la salud de la población.  Ello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66"/>
                </a:solidFill>
                <a:latin typeface="Times New Roman"/>
              </a:rPr>
              <a:t>Factores biológ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66"/>
                </a:solidFill>
                <a:latin typeface="Times New Roman"/>
              </a:rPr>
              <a:t>Factores ambientales o de entor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66"/>
                </a:solidFill>
                <a:latin typeface="Times New Roman"/>
              </a:rPr>
              <a:t>Estilos de v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66"/>
                </a:solidFill>
                <a:latin typeface="Times New Roman"/>
              </a:rPr>
              <a:t>Organización de la asistencia sani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ríodo junio 2004 a mayo 2005Ausencias p/gastrointestinales (x día/s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 150 a 108 aus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ucción 2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un:  &gt; </a:t>
            </a:r>
            <a:r>
              <a:rPr b="0" lang="es-ES_tradnl" sz="2800" spc="-1" strike="noStrike">
                <a:solidFill>
                  <a:srgbClr val="ff0066"/>
                </a:solidFill>
                <a:latin typeface="Times New Roman"/>
              </a:rPr>
              <a:t>9.6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:    56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e:   42.10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Jue:     62.50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e:    28.57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16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 333 a 257  aus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ucción 22.8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un:  15.83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:  39.66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e : 45.24 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Jue :  16.98 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e :  10.01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ducción del Índice de Ausentismo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66"/>
                </a:solidFill>
                <a:latin typeface="Times New Roman"/>
              </a:rPr>
              <a:t>Empresa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promedio en el período jun.03/may 04 era de: 5.65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ja al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 4.78 %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 del 20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rrespondencia clara con la disminución por enfermedades gas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mpresa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promedio en el período jun.03/may 04 era de: 4.43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ja al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3.95 %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 del 20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rrespondencia clara con la disminución por enfermedades gas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 resultado favorable en la baja del ausentismo por enfermedades gastrointestinales no solo está relacionado con un aspecto clínico que hace a la enfermedad en sí misma, sino como muchas veces ocurre, la ausencia es una exteriorización de una insatisfacción proveniente del propio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6576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caduceo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914400" cy="1336680"/>
          </a:xfrm>
          <a:prstGeom prst="rect">
            <a:avLst/>
          </a:prstGeom>
          <a:ln w="0">
            <a:noFill/>
          </a:ln>
        </p:spPr>
      </p:pic>
      <p:pic>
        <p:nvPicPr>
          <p:cNvPr id="128" name="images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857160" cy="1303560"/>
          </a:xfrm>
          <a:prstGeom prst="rect">
            <a:avLst/>
          </a:prstGeom>
          <a:ln w="0">
            <a:noFill/>
          </a:ln>
        </p:spPr>
      </p:pic>
      <p:pic>
        <p:nvPicPr>
          <p:cNvPr id="129" name="Iceberg" descr=""/>
          <p:cNvPicPr/>
          <p:nvPr/>
        </p:nvPicPr>
        <p:blipFill>
          <a:blip r:embed="rId3"/>
          <a:stretch/>
        </p:blipFill>
        <p:spPr>
          <a:xfrm>
            <a:off x="1066680" y="4270320"/>
            <a:ext cx="6934320" cy="2054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Ausentismo%20reloj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2514600" cy="1830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dward C.Kellogs,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alta qu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ausentismo es un problema indefinido, ya que es difícil afirmar hasta que punto es inevitable, o hasta que punto la organización puede combatirlo eficazme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 u="sng">
                <a:solidFill>
                  <a:srgbClr val="ff0066"/>
                </a:solidFill>
                <a:uFillTx/>
                <a:latin typeface="Times New Roman"/>
              </a:rPr>
              <a:t>El problema principal es identificar las variables y tratar de actuar de actuar de la mejor manera para lograr resultados válidos, confiables y sostenibles en el tiem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43000" y="129528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gran parte de la reducción del ausentismo por enfermedades gastrointestinales está ligada a la mejora de los hábitos de ali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si sumamos la conducta que parte del personal adopta en sintonía con los resultados positivos que se van produciendo, comprobamos que ello nos acerca cada vez más a los objetivos fij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medidas preventivas orientadas a las personas, ayudan a mejorar la calidad de vida de los trabajadores, en cuanto a vivir de manera más saludable, a la vez que tienden a lograr un adecuado equilibrio entre la carga de trabajo y la capacidad de respuesta ante la misma, con un favorable impacto sobre la economía de la empres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09120" y="11430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valor diferencial que pueden tener las organizaciones, frente a los permanentes cambios del medio externo, son las personas, un factor determinante, que permitirá aumentar la competitividad y mejorar su posición en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0066"/>
                </a:solidFill>
                <a:uFillTx/>
                <a:latin typeface="Times New Roman"/>
              </a:rPr>
              <a:t>Toda empresa tiene un objetivo ineludible que cumplir: proteger su patrimonio más importante  </a:t>
            </a:r>
            <a:r>
              <a:rPr b="1" lang="es-ES_tradnl" sz="3600" spc="-1" strike="noStrike" u="sng">
                <a:solidFill>
                  <a:srgbClr val="ff0066"/>
                </a:solidFill>
                <a:uFillTx/>
                <a:latin typeface="Times New Roman"/>
              </a:rPr>
              <a:t>su perso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cantilado%20y%20nubes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534520" cy="6399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Times New Roman"/>
              </a:rPr>
              <a:t>¡Muchas gracias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L  RECONOCIMIENTO  DE  LA MULTICAUSALIDAD   DE     LOS PROBLEMAS  DE SALUD, LLEVA A   DESPLAZAR  LA  ATENCIÒN DESDE  UN NIVEL MERAMENTE INDIVIDUAL HACIA UNO </a:t>
            </a:r>
            <a:r>
              <a:rPr b="0" lang="es-ES_tradnl" sz="4400" spc="-1" strike="noStrike">
                <a:solidFill>
                  <a:srgbClr val="ff0066"/>
                </a:solidFill>
                <a:latin typeface="Times New Roman"/>
              </a:rPr>
              <a:t>COLECTIVO </a:t>
            </a:r>
            <a:r>
              <a:rPr b="0" lang="es-ES_tradnl" sz="3200" spc="-1" strike="noStrike">
                <a:solidFill>
                  <a:srgbClr val="ff0066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lan G.E.De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el total de gastos de la salud un </a:t>
            </a:r>
            <a:r>
              <a:rPr b="0" lang="es-ES_tradnl" sz="3600" spc="-1" strike="noStrike">
                <a:solidFill>
                  <a:srgbClr val="ff0066"/>
                </a:solidFill>
                <a:latin typeface="Times New Roman"/>
              </a:rPr>
              <a:t>1,5%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invertido en Calidad de Vida logra 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s-ES_tradnl" sz="3600" spc="-1" strike="noStrike">
                <a:solidFill>
                  <a:srgbClr val="ff0066"/>
                </a:solidFill>
                <a:latin typeface="Times New Roman"/>
              </a:rPr>
              <a:t>43 % de la mortalidad prevalen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0066"/>
                </a:solidFill>
                <a:uFillTx/>
                <a:latin typeface="Times New Roman"/>
              </a:rPr>
              <a:t>Las enfermedades evitables representan el 70% de la morbilidad.</a:t>
            </a:r>
            <a:r>
              <a:rPr b="0" lang="es-ES_tradnl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*) Estadìsticas Nacionales de EE.UU. Department of Health and Huma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res.Michael  Mc Ginnis y W.Fo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s enfermedades evitables relacionadas con hábitos de vida ligados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eta inadecu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lta de ejerc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umo de taba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0066"/>
                </a:solidFill>
                <a:uFillTx/>
                <a:latin typeface="Times New Roman"/>
              </a:rPr>
              <a:t>Representan  8 de cada 10 causas de mue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Enfermedades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168768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Ausent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factor negativo que incide sobre la productividad y los costos internos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usas más frecuent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s-ES_tradnl" sz="3200" spc="-1" strike="noStrike">
                <a:solidFill>
                  <a:srgbClr val="ff0066"/>
                </a:solidFill>
                <a:latin typeface="Times New Roman"/>
              </a:rPr>
              <a:t>Enferme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66"/>
                </a:solidFill>
                <a:latin typeface="Times New Roman"/>
              </a:rPr>
              <a:t>                     </a:t>
            </a:r>
            <a:r>
              <a:rPr b="0" lang="es-ES_tradnl" sz="3200" spc="-1" strike="noStrike">
                <a:solidFill>
                  <a:srgbClr val="ff0066"/>
                </a:solidFill>
                <a:latin typeface="Times New Roman"/>
              </a:rPr>
              <a:t>Acci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66"/>
                </a:solidFill>
                <a:latin typeface="Times New Roman"/>
              </a:rPr>
              <a:t>                     </a:t>
            </a:r>
            <a:r>
              <a:rPr b="0" lang="es-ES_tradnl" sz="3200" spc="-1" strike="noStrike">
                <a:solidFill>
                  <a:srgbClr val="ff0066"/>
                </a:solidFill>
                <a:latin typeface="Times New Roman"/>
              </a:rPr>
              <a:t>Motiv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66"/>
                </a:solidFill>
                <a:latin typeface="Times New Roman"/>
              </a:rPr>
              <a:t>                     </a:t>
            </a:r>
            <a:r>
              <a:rPr b="0" lang="es-ES_tradnl" sz="3200" spc="-1" strike="noStrike">
                <a:solidFill>
                  <a:srgbClr val="ff0066"/>
                </a:solidFill>
                <a:latin typeface="Times New Roman"/>
              </a:rPr>
              <a:t>Otros mo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ecursos%20Humanos" descr=""/>
          <p:cNvPicPr/>
          <p:nvPr/>
        </p:nvPicPr>
        <p:blipFill>
          <a:blip r:embed="rId2"/>
          <a:stretch/>
        </p:blipFill>
        <p:spPr>
          <a:xfrm>
            <a:off x="6124680" y="2819520"/>
            <a:ext cx="267660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comendaciones OIT (Res.1708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eríodo en estudio debe ser al menos de un año calendario para poder evaluar el comportamiento del ausentismo, teniendo en cue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s est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acerbación de ciertas enferme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s de turno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OIT" descr=""/>
          <p:cNvPicPr/>
          <p:nvPr/>
        </p:nvPicPr>
        <p:blipFill>
          <a:blip r:embed="rId1"/>
          <a:stretch/>
        </p:blipFill>
        <p:spPr>
          <a:xfrm>
            <a:off x="7391520" y="762120"/>
            <a:ext cx="925560" cy="1085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Formularios" descr=""/>
          <p:cNvPicPr/>
          <p:nvPr/>
        </p:nvPicPr>
        <p:blipFill>
          <a:blip r:embed="rId1"/>
          <a:stretch/>
        </p:blipFill>
        <p:spPr>
          <a:xfrm>
            <a:off x="6497640" y="1828800"/>
            <a:ext cx="2176560" cy="2743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Observación de datos de ausentismo y Registr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ualización diaria y sistemática en fichas (manuales o electrónic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dicación clara de los motiv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álisis de los mo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úsqueda de una solución adecu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datos deben ser suficientes y significativos para servir de base para la determinación de índ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4876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Nutr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er es la cantidad  y calidad de alimentos que el ser humano consume, y que luego el cuerpo digiere y absor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buena nutrición implica consumir la cantidad justa de ali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Nutriciòn" descr=""/>
          <p:cNvPicPr/>
          <p:nvPr/>
        </p:nvPicPr>
        <p:blipFill>
          <a:blip r:embed="rId1"/>
          <a:stretch/>
        </p:blipFill>
        <p:spPr>
          <a:xfrm>
            <a:off x="5181480" y="14760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3:04:15Z</dcterms:created>
  <dc:creator>Jorge</dc:creator>
  <dc:description/>
  <dc:language>en-US</dc:language>
  <cp:lastModifiedBy>C.P.C.E.C.A.B.A.</cp:lastModifiedBy>
  <dcterms:modified xsi:type="dcterms:W3CDTF">2005-11-24T17:03:39Z</dcterms:modified>
  <cp:revision>30</cp:revision>
  <dc:subject/>
  <dc:title>Hábitos de una vida  saludable, el impacto en las empresas.</dc:title>
</cp:coreProperties>
</file>