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17A-A3F9-4A84-A70E-7485DB66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85B-F4A4-41EA-8BCB-FE1FA987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5BC-2214-46C5-8E55-217649D2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D14-23A2-48E6-8400-7C3532B3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CC56-F03B-47ED-858A-B5610453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933-BDD4-4766-8BAD-F81F7E9A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4A5-A640-4731-BA7D-467A7B7C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63C-3F9D-4810-B3CD-83ABC047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891-3002-4112-8B93-06D3EBA3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FC5-5BE8-4A64-8294-1572DBE3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B39-6E47-43A9-BEB5-9A5A0394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42BE-6298-4A39-95E9-338B9C2F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CB26-F9CA-4F17-BCF3-5C08A68E1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TRADEOFF PROACTIVO: LA SIMULACION COMO HERRAMIENTA DE DECISION FINANCI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UTOR: HUGO O. BERLINGE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TRADEOFF PRO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LA FIRMA DEBE DEFIN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TARGET DE ENDEUDAMIENTO: OPTIMIZAR TRADEOFF ENTRE BENEFICIOS Y COSTOS DE LA DEU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RANGO DE VARIA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LIMITE SUPERIOR (ALERTA): A FIN DE EVITAR CAER EN LA INSOLV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LIMITE INFERIOR: A FIN DE NO DESPERDICIAR AHORRO IMPOSI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AL ALCANZAR ALGUNO DE LOS LÍMITES, LA FIRMA DEBE INTENTAR EMITIR O RECOMPRAR CAPITAL A FIN DE VOLVER AL  TARG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61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S PROBABLE QUE LAS CONDICIONES DE MERCADO NO PERMITAN REALIZAR EL AJUSTE DEL ENDEUD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OR LO TANTO, LA DEFINICION DE LOS LÍMITES DEBE CONTEMPLAR ESA POSIBILIDA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DENTRO DEL RANG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LA FIRMA DEBE INTENTAR APROVECHAR LAS FLUCTUACIONES DE LOS COSTOS DE ASIMETRIA: SI ESTÁ SOBRE (SUB)VALUADA EMITIRA (RECOMPRARA)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ASO CONTRARIO, SE FINANCIARÁ CON FONDOS GENERADOS INTERNAMENTE Y CON DEUDA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NTAJAS DE T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COMBINA ASPECTOS VALIDOS DE TO Y PO DINAM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ONTEMP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ASPECTO ESTRUC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ASPECTO DINA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RESCRIBE NORMAS DE ACCIÓN CUYO OBJETIVO ES MAXIMIZAR EL VAL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S ADAPTABLE A LAS DECISIONES FINANCIERAS DE TODO TIPO DE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ERMITE FORMULAR UN MODELO APTO PARA LA 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ASPECTOS CENTRALES DEL MODELO DE SIMULACION BASADO EN TOP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OBJETIVO: DETERMINAR COMBINACIÓN OPTI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NIVEL TARGET DE ENDEUD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NIVEL MAXIMO DE ENDEUDAMIENTO (ALER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NIVEL MINIMO DE ENDEUDAMIENT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DIVERSOS PARÁMETROS  RESPONDEN A UNA DISTRIBUCIÓN DE PROBABILIDAD PREESTABLE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MODELIZACION ECONOMÉTRICA: BASADA EN DATOS DE LA ECONOMÍA ARGENTINA DESDE 1991 A LA FECH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80440"/>
            <a:ext cx="76197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L VALOR QUE ADOPTAN EN CADA PROYECCIÓN SURGE DE NÚMEROS ALEATORIOS QUE GENERA EL MODE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EL RESULTADO DE CADA PROYECCIÓN DEPENDE DE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OS VALORES QUE ADOPTEN LOS PARÁMETROS ALEATOR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L PROCESO DE PROYECCIÓN SE REPITE UNA CANTIDAD MUY GRANDE DE VE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SE OBTIENEN LAS DISTRIBUCIONES DE FRECUENCIA DE LOS RESULTADOS Y SE ELIGE LA COMBINACION OPTI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NPUTS CASO BASE: PERFIL PROMEDIO DE UNA CÍA. COTIZANTE EN ARGENTI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ROGRAMACION: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MATLAB 5.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ROGRAMACION, CALIBRACION Y MODELIZACION ECONOMETRICA ADAPTABLES A CASOS PARTICULARE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MODELO DE SIMULACION-PROCESO E INPUTS CAS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OMBINACION TARGET/ALERTA/MIN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ERIODOS A PROYECTAR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ANT. DE SIMUL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ROYEC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ITUACION MACROECONO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LAN DE INVERS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APACIDAD DE FINANCI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ESTADOS FINANCI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ESULTADOS DE CADA PROYECC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 REPITE PROCESO DE SIMULAC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DETERMINACION DE LOS RESULTADOS DE LA COMBINACION ANALIZ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Bookman Old Style"/>
              <a:ea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INICIO DE LA PROYE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SE INTRODUCE LA COMBINACIÓN NIVEL TARGET / NIVEL DE ALERTA / NIVEL MÍNIMO A EVALUAR (EXPRESADOS COMO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DEUDA/EBIT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SE INDICA LA CANTIDAD DE SIMULACIONES A REALIZAR (5000 VECES) Y DE PERÍODOS A PROYECTAR EN CADA SIMULACION (60 TRIMEST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SITUACION MACROECONOMICA DE CADA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RIESGO PAÍS: PROCESO AUTOREGRESIVO AFECTADO POR LA VARIACIÓN DE LA TASA DE INTERES INTERNACIONAL Y UN COMPONENTE ALEATOR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I RP SUPERA CIERTO NIVEL PREESTABLECIDO (1000pb), EL GOBIERNO LANZA MEDIDAS DESTINADAS A DISMINUIRLO (PROBAB. ‘BASE’ DE ÉXITO: 50%).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7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SHOCK EXTERNO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PROBABILIDAD DE SHOCK EXTERNO: 3.6% POR MES. VALOR ESPERADO: 0.35 SHOCKS POR AÑO (VALOR MEDIO 1991/2005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EL RIESGO PAÍS SE INCREMENTA EN 300 P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FRECUENCIA RESULTANTE DEL R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RP MENOR A 450 PB: 42% DE LOS TRIMEST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RP ENTRE 450 Y 650 PB: 32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RP ENTRE 650 Y 800 PB: 13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RP ENTRE 800 Y 1500 PB: 1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RP SUPERIOR A 1500 PB: 3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VARIACIÓN DEL PBI: VARIACIÓN PROMEDIO BASE (3.5% ANUAL), AJUSTADA POR LA VARIACIÓN DEL RP Y UN COMPONENTE ALEA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BJETIVO DEL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EXPONER LAS LIMITACIONES DE LAS PRINCIPALES TEORIAS DE FINANCI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PLANTEAR UN ENFOQUE TEORICO ALTERNATIVO: TRADEOFF PRO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DESARROLLAR UN MODELO DE SIMULACIÓN QUE RESPONDE AL MARCO TEÓRICO DE TO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RELACIÓN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RICE/EARNING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DE LA FIRMA: PROCESO AUTORREGRESIVO, AFECTADO POR LA VARIACIÓN DEL R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RICE/EARNING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INICIAL: 8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A PARTIR DE UN RP DE 650pb LAS FIRMAS NO PUEDEN EMITIR A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PROYECCIÓN DEL PLAN DE 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LA FIRMA CUENTA CON UN PLAN DE INVERSION BASICO Y UNA OPORTUNIDAD DE INVERSION ALEAT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LAN DE INVERSIÓN BÁSICO: MONTO TRIMESTRAL  QUE VARIA SEGÚN EL NIVEL DE RP DEL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SE AGOTA A RAZÓN DEL 5% TRIMESTR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OPORTUNIDAD DE INVERSIÓN ADICION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MONTO: 10% DEL ACTIVO INI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PROBABILIDAD DE CONCRECIÓN: 8.5% TRIMESTRAL (97% AL CABO DE 10 AÑ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I LA FIRMA ESTÁ EN CONDICIONES FINANCIERAS DE APROVECHARLA, LA FIRMA ENCARA LA INVERSIÓN ADI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I NO, LA OPORTUNIDAD SE PIER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LA TASA DE RETORNO DE LAS INVERSIONES SE AJUSTA DE ACUERDO CON LA EVOLUCION DEL R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RETORNO ‘BASE’ DESPUES DE IMPUESTOS: 16% AN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0"/>
            <a:ext cx="81536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PROYECCIÓN DE LA CAPACIDAD DE FINANCIAMIENTO E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SI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L ENDEUDAMIENTO RESULTANTE EN CASO DE REALIZAR TODAS LAS INVERSIONES NO ALCANZA EL NIVEL DE ALERTA,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 CONCRETAN EN SU TOTALI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SI EL ENDEUDAMIENTO ESTA POR DEBAJO DEL NIVEL MINIMO, SE RECOMPRAN ACCIONES A FIN DE VOLVER AL TARGE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RECIO DE RECOMPRA: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N BASE  A LA RELACIÓN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RICE/EARNING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DEL PERÍODO,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MAS PRIMA DE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13% (EVIDENCIA EMPÍRICA DE US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SI ENDEUDAMIENTO SUPERA NIVEL ALERTA LA FIRMA EMITE ACCIONES, SUJET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RP NO SUPERA 650p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LA FIRMA REUNE UNA SOLVENCIA FINANCIERA MÍNIMA (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COBERTURA DE INTERESES: 1.33x, PROMEDIO FIRMAS B+ EN U.S.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MONTO: EL MENOR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NECESARIO PARA VOLVER AL TAR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QUE LA PARTICIPACIÓN ACCIONARIA DE LOS ACCIONISTAS INICIALES NO SEA MENOR AL MÍNIMO CONSIDERADO ACEPTABLE (CONSIDERADO: 67%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RECIO DE EMISIÓN: EN BASE  A LA RELACIÓN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RICE/EARNING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DEL PERÍODO, MENOS COSTOS DE EMISIÓN (COSTOS DIRECTOS MAS DESCUENTO RESPECTO A  MERCADO: 15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SE RECALCULA LA PARTICIPACIÓN DE LOS ACCIONISTAS INI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SI CON ESTA EMISIÓN DE CAPITAL NO SE PUEDE ENCARAR TODAS LAS INVERSIONES, ÉSTAS SE REDUC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I NO SE PUEDE EMITIR AC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OR EL NIVEL DE RP&gt;650p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OR LA SITUACIÓN DE SOLV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OR EL NIVEL MÍNIMO DE PARTICIPACIÓN DE LOS ACCIONISTAS INI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E RECORTAN LAS INVERSIONES DE MODO DE NO SUPERAR EL NIVEL DE ALER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3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SI SE SUPERA UN NIVEL DEUDA/EBIT QUE IMPLICA RIESGO DE INSOLVENCIA, SE VE AFECTADA LA CONTRIB. MARGI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I EL ENDEUDAMIENTO SIGUE CRECIENDO Y SUPERA EL NIVEL DEUDA /EBIT DE BANCARROTA, LA FIRMA QUIEB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ARAMETROS CONSID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NIVEL DE RIESGO DE INSOLVENCIA: DEUDA/EBIT DE 6 AÑOS (B+ EN US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NIVEL DE BANCARROTA: DEUDA/EBIT DE 8.75 AÑOS (CCC EN US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EFECTO DE LA INSOLVENCIA EN LA CONTRIBUCIÓN MARGINAL: VARÍA ENTRE 2% Y 4%, SEGÚN EL NIVEL DE ENDEUDAMIENTO (ESTUDIOS SOBRE CÍAS. MADURAS DE 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PROYECCION EBIT  (ACT. INICIA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DATOS INICIALES: SE FIJARON COMO PORCENTAJE DEL ACTIVO INI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CONTRIB. MARG.: 15%/TRI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COSTOS FIJOS: 12 %/TRI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EBIT: 3%/TRI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CONTRIB. MARG. DEL PERIODO: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CONTRIB. MARG. DEL PERÍODO ANTERIOR AJUST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EL CASTIGO POR RIESGO DE INSOLVENCIA, SI CORRESPONDI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LA VARIACIÓN DEL PB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LASTICIDAD CONTRIB. MARG./PBI: 1,0 Y 1,25 PARA PERÍODOS DE CRECIMIENTO Y DISMINUCIÓN DEL PBI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PROYECCION EBIT (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NUEVAS INVERS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S UNA PROPORCION CRECIENTE DEL RETORNO ECONOMICO DE LA INVERS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ARAMETROS CONSIDER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RELACION INICIAL: 30% DE LA TASA DE RETOR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LEGA AL 100% EN 40 TRIMEST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LA DIFERENCIA ENTRE EL RETORNO ECONÓMICO Y EL EBIT SE ACUMULA EN EL VALOR TERMINAL DE LA PROYECC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VENTAJA RELATIVA DE LAS FIRMAS MENOS ENDEUDADAS EN PERÍODOS DE RECES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FIRMAS CUYO ENDEUDAMIENTO DUPLICA PROMEDIO INDUSTRIA: CONTRIB. MARG. CAE 1.6% ADICIONAL CUANDO CAE PB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EFECTO DE LA COMPETENCIA SOBRE  R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LA COMPETENCIA IMPIDE QUE EL ROA SUPERE CIERTO NIVEL PREESTABLECI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MÁXIMO ROA ADMISIBLE : 18% ANUA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TEORIAS DEL FINANCIAMIENTO CORPORATIV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PUNTO DE PARTIDA: IRRELEVANCIA DE LAS DECISIONES DE FINANCIAMIENTO EN MERCADOS PERFECTOS (MODIGLIANI Y MILL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A PARTIR DEL ANALISIS DE LAS “IMPERFECCIONES” SE HAN DESARROLLADO DOS TEORÍAS RIVA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TRADEOF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PECKING ORD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PROYECCION DE LOS COST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N BASE A RP, SE DETERMINA LA TASA ACTIVA DE 1ª LÍ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N BASE AL NIVEL DE ENDEUDAMIENTO, SE DETERMINA  SOBRETASA APLICABLE.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DETERMINACION DE IMPUESTOS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, RESULTADOS Y SALDO DE DEU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SE REPITE ESTE PROCESO DE MODO DE PROYECTAR 60 TRIM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53352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RESULTADO DE CADA PROYE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VALOR DEL CAPITAL AL FIN DE LA PROYEC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METODO DE MULTIPLOS (SE UTILIZO UN FV/EBIT=7.25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VALOR ACTUAL DEL QUEBRANTO IMPOSITIVO, SI HUBIE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SI LA FIRMA HUBIERA QUEBRADO, SE ASIGNA AL CAPITAL UN VALOR FINAL N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VALOR DE LA PARTICIPACIÓN DE LOS ACCIONISTAS INI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ASA DE RETORNO SOBRE PATRIMONIO INICIAL, INCLUIDO LOS MONTOS RECIBIDOS COMO RECOMPRAS DE CAPIT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685440"/>
            <a:ext cx="8077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SE REPITE EL PROCESO 5000 V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RESULTADOS DE LA COMBINACION TARGET/ALERTA/MINIMO AN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DISTRIBUCIÓN DE FRECUENCIA DE LA TASA DE RETORNO DE LOS ACCIONISTAS INICI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ROBABILIDAD DE QUIEBRA: CANT. DE SIMULACIONES EN QUE LA FIRMA QUEBRÓ VS. CANT. TOTAL DE SIMU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ISTRIBUCIÓN DE FRECUENCIA Y EVOLUCION DEL ENDEUDAMIENTO MEDIO, EL PAYOUT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Y EL ROA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0773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SE REPITE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PARA DISTINTAS COMBINACIONES DE ENDEUDAMIENTO TARGET / NIVEL DE ALERTA / NIVEL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ETERMINACION DE LA COMBINACIÓN ADECUADA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CRITERIO UTILIZADO: MAXIMIZACION DEL RETORNO ESPERADO DE LOS ACCIONISTAS INICIALES SUJETO A QUE LA PROBABILIDAD DE QUIEBRA NO SUPERE UN TOPE PREDETERMINADO (SAFETY-FIRST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PROB. DE QUIEBRA MAX. ADMISIBLE: 7.5%  EN 10 AÑOS (INCUMPLIMIENTO DE FIRMAS BBB EN U.S.A.)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VENTAJAS DEL CRITERIO SAFETY-FIR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NFATIZA EL RIESGO DE QUIEBRA POR ENCIMA DE OTRAS CONSID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S CONSISTENTE CON LA PRACTICA DE APUNTAR AL MANTENIMIENTO DE UN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RATIN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CREDIT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ES SUPERIOR AL CRITERIO DE LA UTILIDAD ESPERADA DESDE EL PUNTO DE VISTA NORMATIVO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S EL CRITERIO SUBYACENTE EN LA METODOLOGÍA V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RESULTADOS DEL CASO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51055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ALT. 4 vs ALT. 8: VALOR DE ESTRATEGIA PROA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ALT. 4 vs ALT. 9: VALOR DEL ENDEUD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DEUDA/EBIT TARGET: 3.5x (BBB EN 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EBITDA/INT TARGET 4.4x (NIVEL INTERM. BBB- Y BB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46784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RESULTADOS DEL CASO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2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31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RACION RESULTADOS CASO BASE CON DATOS HISTO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239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DEUDA/EB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ARGET: 3.5x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EDIANA CÍAS. ARG. CALIF. S&amp;P EN 1998: 2.2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MEDIANA MUESTRA DE PAÍSES EMERGENTES: 2.7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EBITDA/INTERE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TARGET 4.4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7086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CASO I: Aumento 33% en EBIT y retorno de las inversio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AUMENTA TARGET, ALERTA Y NIVEL MÍN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MAYOR RENTABILIDAD CONDUCE A ENDEUDAMIENTO OPTIMO MAY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62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CASO II: tasas de interés mayores (200/300pb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19320" y="51811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DISMINUYE TARGET Y ALERTA: MENOR NIVEL DE ENDEUDA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AUMENTA NIVEL MÍNIMO: MENOR RANGO DE VARI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91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TRADEOFF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LAS FIRMAS DEBEN AJUSTAR SU ESTRUCTURA DE CAPITAL DE MODO DE OPTIMIZAR EL BALANCE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NTRE LOS BENEFICIOS Y COSTOS DEL ENDEUD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VERSIÓN DINÁMICA DE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LAS FIRMAS TIENEN UNA ESTRUCTURA OBJETIVO DE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LOS AJUSTES NO SON FRECUENTES DADOS LOS COSTOS DE TRANSACCIÓN Y DE ASIMET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LA ESTRUCTURA DE CAPITAL OSCILA DENTRO DE UN RANGO ÓPTI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CASO III: mayor impacto riesgo de insolvencia sobre contrib. marg.(de 2%-4% a 4%-6%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66320" y="4723920"/>
            <a:ext cx="7239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FIRMAS ADECUADAMENTE ENDEUDADAS NO PRECISAN MODIFICAR SU ENDEUDAMIENTO ANTE CAMBIOS EN COSTOS DE INSOLV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4008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CASO IV: mayor elasticidad contrib.marg./PBI (de 1.0/1.25 a 1.50/1.75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66320" y="472392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FUERTE IMPACTO EN RIESGO DE QUIEB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DISMINUCION SIGNIFICATIVA DE TARGET Y ALER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ES ÓPTIMO INCREMENTAR  NIVEL MÍN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CUESTION MARGINAL EN PO Y 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93432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CASO V: oportunidad de inversión se dupl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4952520"/>
            <a:ext cx="7238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DISMINUYE NIVEL MÍNIMO, A FIN DE CONSERVAR CAPACIDAD DE ENDEUDAMIENTO PARA ATENDER LA MAYOR INVERSIÓN POTENC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391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CASO VI: Mejores condiciones macroeconómic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NIVEL DE RIESGO PAÍS QUE DISPARA PLAN DE ‘AJUSTE’: 600pb (CASO BASE: 1000p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ROBABILIDAD DE ÉXITO PLAN DE ‘AJUSTE’: 80% (CASO BASE: 5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FRECUENCIA PROMEDIO DEL R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RP MENOR A 450 PB: 59% DE LOS TRIM. (BASE: 42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RP ENTRE 450 Y 650 PB: 27% (BASE:32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RP ENTRE 650 Y 800 PB: 5% (BASE:13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RP ENTRE 800 Y 1500 PB: 5% (BASE: 1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RP SUPERIOR A 1500 PB: 4% (BASE: 3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CASO VI: Mejores condiciones macroeconómicas (cont.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2120" y="4648320"/>
            <a:ext cx="7619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IMPACTO MUY IMPORTANTE: NIVEL MÍNIMO SE DUPL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MENOR NECESIDAD DE CONSERVAR CAPACIDAD DE ENDEUDAMIENTO, POR MAYOR PROBABILIDAD DE ACCEDER AL FINANCIA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TRATAMIENTO MARGINAL EN PO Y 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ASO VII: cont. marg. de firmas cuyo endeudamiento duplica al promedio de la industria cae 5% adicional (Base: 1.6%) e</a:t>
            </a:r>
            <a:r>
              <a:rPr b="1" lang="es-E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n recesiones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51811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FUERTE IMPACTO EN RIESGO DE QUIEB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MENOR TARGET Y NIVEL DE ALER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OS ASPECTOS COMPETITIVOS SON IGNORADOS POR PO Y 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2257560"/>
            <a:ext cx="731520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CASO VIII: Los accionistas no están dispuestos a abrir el capi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80520" y="45716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IMPACTO SIGNIFICATIVO: CAEN TARGET Y NIVEL DE ALERTA Y ES ÓPTIMO INCREMENTAR EL NIVEL MÍNI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UNA CÍA. CERRADA DEBE TENER TARGET MENO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Y AJUSTARSE MÁS ESTRICTAMENTE AL MISM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ESTRUCTURA DE CONTROL: ASPECTO IGNORADO POR PO Y 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CONCLUSIO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L MODELO EXPUESTO CONTEMPLA CUESTIONES NO CONSIDERADAS POR LOS MODELOS EXIST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ASPECTOS MACROECONÓMICOS E INSTITU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VALOR DE LA FLEXIBI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VOLATILIDAD DE LOS COSTOS DE ASIMETRÍA Y DE LAS CONDICIONES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INTERACCION COMPET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ONE DE MANIFIESTO EL POTENCIAL DE LA SIMULACIÓN COMO HERRAMIENTA DE 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 LA FLEXIBILIDAD PARA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SER MEJORADO EN DIVERSAS ARE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CALIBRACIÓN ECONOMÉ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IMPACTO DE LA INF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REESTRUCTURACIÓN EN EL DEFAULT,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OPORTUNISMO AL EMITIR O RECOMPRAR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INTERACCIÓN COMPET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ADMINISTRACIÓN DE W/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DAPTACIÓN CASOS PARTICULARES (POR EJ. PYMES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APORTES TEOR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EL COSTO DE LA INSOLVENCIA TIENE POCO IMPACTO EN FIRMAS ADECUADAMENTE ENDEUD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LA VOLATILIDAD DE LOS INGRESOS, LAS CONDICIONES MACROECONÓMICAS, LA INTERACCIÓN COMPETITIVA Y LAS ESTRUCTURAS DE CONTROL TIENEN UN FUERTE IMPACTO EN LA ESTRUCTURA DE FINANCIA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EL BENEFICIO NETO DE UN ADECUADO ENDEUDAMIENTO ES MUY SIGNIFICATIV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EL BALANCEO ENTRE BENEFICIOS Y COSTOS DEL FINANCIAMIENTO DEBE SER UNA CONSIDERACIÓN DE PRIMER ORDE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O Y PO DEBEN SER CONSIDERADOS ENFOQUES COMPLEMENTARIOS Y NO EXCLUY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  <a:ea typeface="Arial"/>
              </a:rPr>
              <a:t>PECKING ORD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LAS FIRMAS BUSCAN MINIMIZAR LOS COSTOS DE ASIMET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ARA ELLO SIGUEN UN ORDEN EN SU FINANCIAMIEN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FONDOS INTERNAMENTE GENE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DEUDA DE BAJO RIESGO DE DEFAU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OTRAS FUENTES: ORDEN CRECIENTE DE ASIMETRÍA (NORMALMENTE, DEUDA, CONVERTIBLES, CAPITAL EXTERN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SI EL RIESGO DE INSOLVENCIA FUERA ALTO, LAS FIRMAS RECURRIRAN AL CAPITAL COMO ULTIMO RECU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VERSION DINAMICA DE PO: LAS FIRMAS BUSCARÁN APROVECHAR LAS FLUCTUACIONES DE LOS COSTOS DE ASIME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UNA FIRMA SOBREVALUADA EMITIRÁ CAPITAL A FIN DE AUMENTAR SU HOLGU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UNA FIRMA SUBVALUADA RECOMPRARÁ CAPITAL EN LA MEDIDA QUE LOS RIESGOS DE INSOLVENCIA NO AUMENTEN MÁS DE LO ACEPTA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MODELOS DE ESTRUCTURA DE CAPITA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DETERMINISTAS: CONSIDERAN VALORES ESTÁTICOS DE LAS VARIA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NFOQUE DE LOS DERECHOS CONTINGENTES: VALÚAN EL CAPITAL COMO UNA OPCIÓN SOBRE LOS ACTIV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DE SIMULACIÓN: CONSIDERAN QUE CIERTAS VARIABLES SE COMPORTAN DE MANERA ALEAT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DINÁMICO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EL RANGO ÓPTIMO DE VARIACIÓN DE LA ESTRUCTURA DE CAPI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LA EVOLUCION QUE DEBE SEGUIR EL ENDEUDAMI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LIMITACIONES DE TO Y 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NINGUNA PUEDE SER CONSIDERADA UNA TEORIA GEN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MPRESAS MADURAS EN USA: P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EMPRESAS PEQUEÑAS Y JÓVENES Y DE PAÍSES EN DESARROLLO: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PO PUEDE SER DESTRUCTORA DE V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LOS MODELOS DESARROLLADOS NO SON DE UTILIDAD EN LA GESTIÓN FINANCIERA. NO CONTEMPL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LAS CONDICIONES MACROECONÓM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VOLATILIDAD DE LOS COSTOS DE ASIMETRIA Y CONDICIONES DE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LA INTERACCION COMPETI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EL VALOR DE LA FLEXIBILIDAD FINANCI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¿QUÉ CONDICIONES DEBE REUNIR UNA TEORIA DEL FINANCIAMIE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OBJETIVO: PRESCRIBIR NORMAS APLICABLES A LA GESTIÓN FINANCIERA QUE MAXIMICEN EL VALOR PARA LOS ACCIONIS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APLICABLES A LAS DECISIONES DE CUALQUIER EMPRESA Y CONTEX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DEBEN CONTEMPLA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PECTO ESTRUCTURAL: ESTRUCTURA TARGET Y DISEÑO DE LOS INSTRUMENTOS FINANCI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ASPECTO DINAMICO: APARTAMIENTOS A LA ESTRUCTURA TAR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DEBEN FORMULAR UN MODELO APTO PARA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6:56:14Z</dcterms:created>
  <dc:creator>software</dc:creator>
  <dc:description/>
  <dc:language>en-US</dc:language>
  <cp:lastModifiedBy>C.P.C.E.C.A.B.A.</cp:lastModifiedBy>
  <dcterms:modified xsi:type="dcterms:W3CDTF">2005-11-24T16:00:33Z</dcterms:modified>
  <cp:revision>285</cp:revision>
  <dc:subject/>
  <dc:title>Presentación de PowerPoint</dc:title>
</cp:coreProperties>
</file>