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B988-1F02-466D-91B3-52B8C9F0C1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conocimiento se ha convertido en mercancia. Es más importante la semilla de soja , que la tierra , en términos de generación de valor agreg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er en el pizarrón las dos fecha y que los alumnos digan que les par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diferencia entre cada uno de ustedes y Maradona ( antes de la droga) , o Menem ó Carrio , etc es en el 0.001 % de los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diferencia entre cada uno de ustedes y Maradona ( antes de la droga) , o Menem ó Carrio , etc es en el 0.001 % de los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012-F542-4726-92A9-8659C87B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DB1-1C14-4932-8355-4A2B9B3A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810C-9E0B-4F64-9FFB-9E89AE72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424-49AF-4F94-811B-42930F25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7A0E9-740F-4B5E-A7FD-2372F34E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30D3A-0A76-4124-8845-51DAAA03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9534B-9B3B-41A0-BE8A-80C8DDF0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EA416-EFA8-4363-A56E-4BF66374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E4C57-273E-4754-A019-7065F3E8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6F14D-C446-4063-867F-3BAE7A0C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4DEBD-88D4-48B4-8B02-C9BF2A30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F09-8CD8-4923-82E6-72A21B08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6D209-D9AA-4B0F-A327-53B0C2EB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D1D49-11A1-4178-A59E-EA80E290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CAF34-C2B5-4E64-940F-CFDD4FAD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997C1-B571-422D-9A80-AC101C09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D113B-5B00-405E-8C52-5D3E3AC7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9AF-0AA8-4384-A11E-8648FEED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6ABF-A2F1-4BE4-9806-1CA64D2F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7137-4DB8-4545-80EF-3248DDB4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550-DB53-440B-8DFB-BA801DB1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C0E-0EC3-491D-852A-BFEB359D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A4F-27DF-4D97-A3E0-80FDFF83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494-AE0D-4AD8-95AA-15BF7ABE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42B7-86A4-4B3D-9616-00B04AD0CF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5665-5FDB-44D8-A48C-4C1C03EFF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ciedad del Conocimient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menazas y Oportunidad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Guillermo A. Tricoc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16/11/200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greso Metropolitano de Ciencias Econ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ó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Área VI : Sistemas y Tecnología de la Inform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-mail: Gatricoci@yahoo.com.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An</a:t>
            </a: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álisis del proceso económico </a:t>
            </a:r>
            <a:br>
              <a:rPr sz="4000"/>
            </a:br>
            <a:r>
              <a:rPr b="0" lang="es-MX" sz="1200" spc="-1" strike="noStrike">
                <a:solidFill>
                  <a:srgbClr val="ffffff"/>
                </a:solidFill>
                <a:latin typeface="Tahoma"/>
              </a:rPr>
              <a:t>Shapiro y Varian ( 1999) </a:t>
            </a:r>
            <a:r>
              <a:rPr b="0" i="1" lang="es-ES" sz="1200" spc="-1" strike="noStrike">
                <a:solidFill>
                  <a:srgbClr val="ffffff"/>
                </a:solidFill>
                <a:latin typeface="Tahoma"/>
              </a:rPr>
              <a:t>El dominio de la información.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Barcelona: AntoniBosch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ienes de información aquellos de fácil reproducción. Asimilables a conocimiento explíc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acilidad de Reproducción: Altos costos de producción, pero costos marginales casi nulos de reprodu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Bienes de experiencia: La utilidad se determina luego que es consumido e internalizado por el recept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Utilidad marginal decreciente en el acceso: Herbert Simon dijo ¨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riqueza de información genera una pobreza de atención¨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xternalidades de R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¿Qué pasa con el conocimiento Tácito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producción: Dificultad de procesamiento, almacenamiento y transmis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Bienes de experiencia: Idem conocimiento explíci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Utilidad marginal en el acceso. Su saturación es muy inferior al explíci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xternalidad de R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Información y Conoci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unque los conceptos de </a:t>
            </a:r>
            <a:r>
              <a:rPr b="0" i="1" lang="es-ES" sz="2000" spc="-1" strike="noStrike">
                <a:solidFill>
                  <a:srgbClr val="ffffff"/>
                </a:solidFill>
                <a:latin typeface="Tahoma"/>
              </a:rPr>
              <a:t>información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i="1" lang="es-ES" sz="2000" spc="-1" strike="noStrike">
                <a:solidFill>
                  <a:srgbClr val="ffffff"/>
                </a:solidFill>
                <a:latin typeface="Tahoma"/>
              </a:rPr>
              <a:t>conocimiento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utilizan indistintamente, existe una clara diferencia entre amb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La información es un flujo de mensajes, mientras que el conocimiento se crea precisamente mediante este flujo de información, anclado a las convicciones y el compromiso del sujet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información proporciona un nuevo punto de vista para interpretar acontecimientos u objetos; por tanto, la información es un medio o un material necesario para obtener y construir el conocimiento. La información influye en el conocimiento, añadiéndole algo o reestructurándolo". [Ikujiro, N.; Philippe, B. (2000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Industria de la información</a:t>
            </a: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Economía del conocimiento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Sociedad del conoci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-36360" y="0"/>
            <a:ext cx="9180360" cy="2708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2133720"/>
            <a:ext cx="496908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dustria del Informaci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1980000" y="1411920"/>
            <a:ext cx="576360" cy="721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99ff">
              <a:alpha val="1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6299640" y="148500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99ff">
              <a:alpha val="1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981000"/>
            <a:ext cx="4465440" cy="5205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981000"/>
            <a:ext cx="2808360" cy="5205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36360" y="2708280"/>
            <a:ext cx="9180360" cy="19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80000" y="0"/>
            <a:ext cx="2160360" cy="5205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leC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0"/>
            <a:ext cx="1655640" cy="5205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1332000" cy="52056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360360" y="367920"/>
            <a:ext cx="35856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99ff">
              <a:alpha val="1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2305080" y="367920"/>
            <a:ext cx="35856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99ff">
              <a:alpha val="1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4392360" y="439560"/>
            <a:ext cx="35892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99ff">
              <a:alpha val="1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2924280"/>
            <a:ext cx="2682720" cy="642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MBIOS EN LA DEM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924280"/>
            <a:ext cx="2683080" cy="642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MBIOS EN LA OFER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4149720"/>
            <a:ext cx="496908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ía del 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95640" y="2708280"/>
            <a:ext cx="505080" cy="1441440"/>
          </a:xfrm>
          <a:prstGeom prst="downArrow">
            <a:avLst>
              <a:gd name="adj1" fmla="val 50000"/>
              <a:gd name="adj2" fmla="val 7134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36360" y="4653000"/>
            <a:ext cx="9180360" cy="22050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53000"/>
            <a:ext cx="2682720" cy="368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ectos 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6329520"/>
            <a:ext cx="496872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edad del 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157720"/>
            <a:ext cx="2682720" cy="368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ectos Polí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5300640"/>
            <a:ext cx="2683080" cy="368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ectos Cultur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00720" y="4797360"/>
            <a:ext cx="2683080" cy="368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ectos Institu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971640" y="5634000"/>
            <a:ext cx="1152360" cy="1224000"/>
          </a:xfrm>
          <a:custGeom>
            <a:avLst/>
            <a:gdLst>
              <a:gd name="textAreaLeft" fmla="*/ 0 w 1152360"/>
              <a:gd name="textAreaRight" fmla="*/ 1152360 w 1152360"/>
              <a:gd name="textAreaTop" fmla="*/ 360 h 1224000"/>
              <a:gd name="textAreaBottom" fmla="*/ 12247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67280" y="4653000"/>
            <a:ext cx="504720" cy="1584360"/>
          </a:xfrm>
          <a:prstGeom prst="downArrow">
            <a:avLst>
              <a:gd name="adj1" fmla="val 50000"/>
              <a:gd name="adj2" fmla="val 7847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7451640" y="5734080"/>
            <a:ext cx="1152720" cy="112392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84360" y="3644280"/>
            <a:ext cx="1366560" cy="863640"/>
          </a:xfrm>
          <a:custGeom>
            <a:avLst/>
            <a:gdLst>
              <a:gd name="textAreaLeft" fmla="*/ 0 w 1366560"/>
              <a:gd name="textAreaRight" fmla="*/ 1366920 w 1366560"/>
              <a:gd name="textAreaTop" fmla="*/ -360 h 863640"/>
              <a:gd name="textAreaBottom" fmla="*/ 8636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7164360" y="3573360"/>
            <a:ext cx="1152720" cy="112392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Aplicación del conocimiento en distintos momento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7400" indent="-321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voluci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ón Industr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5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os conocimientos fueron aplicados a los procesos, instrumento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7400" indent="-321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volución de la Productiv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5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os conocimientos fueron aplicados a los trabajad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7400" indent="-321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volución del Manage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5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conocimiento esta siendo aplicado al conocimiento mismo constituyéndose en un factor de produc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Nuevo Paradigma Tecnoeconómico que aparece con las TIC´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e concepto, desarrollado a finales de los ochenta por un conjunto de economistas de la Universidad de Sussex,  coexisten  tres element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Un nuevo esquema en la producción, con la incorporación de un nuevo factor productivo como elemento determinante de los crecimientos de productivida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Un nuevo esquema en la producción de conocimiento, con nuevos patrones en el desarrollo de la innovación tecnológic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uevas pautas en la demanda que impulsen la producción de las nuevas ramas de activid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Función de produc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8920" y="198900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Q= f (K, 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Q = f (K, L, 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 = Cot + Co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 = f (Lc, K, 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4920" y="184464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Función Tradicional de Produ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ueva función de produ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tock total de conocimiento  accesible a la socie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roducción de  conoci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pacto de la era digit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eleración del proceso de conversión de conocimiento tácito en explíci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l conocimiento observ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arrollo de nuevos requerimientos y habil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conocimiento se ha convertido en merca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sión de contenidos tradicionales a digit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La brecha digit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La empleabilidad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“infopobreza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ra digital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y la mayoría de los cosas de nuestra vida forman parte del mundo digit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ubo muchos cambios de alfabetos dominantes  en la historia, hasta llegar al “ alfabeto digital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y mediante  un cambio de ceros y unos podemo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viar un correo electrón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mbiar la fórmula de una bomba nucle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tivar un misi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entificar petr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ó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o o contaminación en un mapa producido con una imagen satelit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echa digital: El problema del acces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so Men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so Mate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so de habil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so en el u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pital Humano 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ercado de trabajo dual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Conectados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lta especialización tecnológ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tual escasez de ofert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lta deman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uenos salari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Desconectados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aja calificació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cariedad de empleo y bajos salario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ucha ofert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¨Infopobreza¨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os problemas de analfabetismo digital y de acceso en general, provocan un nueva forma de exclusión soc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ayor brecha, mayor posibilidad de ser pob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Educación</a:t>
            </a: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o basta con modernizar la metodología mediante la introducción e integración de TIC en los sistemas educativos actu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deben combinar nuevas herramientas donde los alumnos desarrollen funciones cognitivas más avanz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Rol del Estad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obierno Digi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onomía Digi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ciones para eliminar la Brecha Digi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iorizar, jerarquizar y fomentar las actividades de investigación y desarrollo a nivel de los individuos, empresas y 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Fuga de Cerebr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demanda creciente de trabajadores extranjeros con habilidades específicas en los países desarrollados permite suponer que éstos habrán de implementar políticas para atraerlos. En consecuencia, estos países han ofrecido, t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minos y condiciones con los que no pueden competir las naciones latinoamericanas.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4784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784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784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76320" y="3049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tentes e Ingresos por Regalías.</a:t>
            </a: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00000" y="1676520"/>
          <a:ext cx="7704360" cy="4333680"/>
        </p:xfrm>
        <a:graphic>
          <a:graphicData uri="http://schemas.openxmlformats.org/drawingml/2006/table">
            <a:tbl>
              <a:tblPr/>
              <a:tblGrid>
                <a:gridCol w="1541520"/>
                <a:gridCol w="1540080"/>
                <a:gridCol w="1541160"/>
                <a:gridCol w="1540080"/>
                <a:gridCol w="1541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tados Unid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ec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ap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genti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tentes concedidas a residentes (por 1.000.000 de habitantes)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1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resos por regalías y licencias (por 1.000 habitantes)</a:t>
                      </a: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19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0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6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1066680" y="6229440"/>
            <a:ext cx="76676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Tahoma"/>
              </a:rPr>
              <a:t>Fuente</a:t>
            </a:r>
            <a:r>
              <a:rPr b="0" lang="es-AR" sz="1400" spc="-1" strike="noStrike">
                <a:solidFill>
                  <a:srgbClr val="ffffff"/>
                </a:solidFill>
                <a:latin typeface="Tahoma"/>
              </a:rPr>
              <a:t>: Programa de las Naciones Unidas para el Desarrollo (PNUD-2001); Indicador sobre Desarrollo Humano 2001: Poner el Adelanto Tecnológico al Servicio del Desarrollo Huma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íses Exportadores de Alta Tecnolog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ía </a:t>
            </a:r>
            <a:br>
              <a:rPr sz="1800"/>
            </a:br>
            <a:r>
              <a:rPr b="0" lang="es-MX" sz="1000" spc="-1" strike="noStrike">
                <a:solidFill>
                  <a:srgbClr val="ffffff"/>
                </a:solidFill>
                <a:latin typeface="Tahoma"/>
              </a:rPr>
              <a:t>Fuente PNUD 200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403280" y="981000"/>
          <a:ext cx="6121440" cy="5672160"/>
        </p:xfrm>
        <a:graphic>
          <a:graphicData uri="http://schemas.openxmlformats.org/drawingml/2006/table">
            <a:tbl>
              <a:tblPr/>
              <a:tblGrid>
                <a:gridCol w="998640"/>
                <a:gridCol w="1803240"/>
                <a:gridCol w="1386000"/>
                <a:gridCol w="1933560"/>
              </a:tblGrid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k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ís o zo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les de mill. U$S 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ice 100= 19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ados Uni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ap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e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ino Uni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apu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anc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re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ses Baj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la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4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8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rl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nada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al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ec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íses Exportadores de Alta Tecnolog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ía (II) </a:t>
            </a:r>
            <a:br>
              <a:rPr sz="1800"/>
            </a:b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Fuente PNUD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547640" y="836640"/>
          <a:ext cx="6048720" cy="5848200"/>
        </p:xfrm>
        <a:graphic>
          <a:graphicData uri="http://schemas.openxmlformats.org/drawingml/2006/table">
            <a:tbl>
              <a:tblPr/>
              <a:tblGrid>
                <a:gridCol w="1597320"/>
                <a:gridCol w="1709640"/>
                <a:gridCol w="1144440"/>
                <a:gridCol w="159732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k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ís o zo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les de mill. U$S 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ice 100= 19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iz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élg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iland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pañ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nland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namar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lipi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sra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st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ungrí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ng Ko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8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. Che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3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Informe sobre uso de TIC del Foro Económico Mundia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 una valiosa y única herramienta de Benchmarking para determinar las fortalezas y debilidades de las TICs de las naciones y evaluar su progre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l informe de 2004/2005 incluyó a 104 paí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usó el NRI (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Networked Readiness Index)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ra medir el grado de preparación de una comunidad para ser parte y beneficiarse con el desarrollo de las TI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cubrimient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12 de octubre de 149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12 de febrero de 200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Informe sobre uso de TIC del Foro Económico Mundial I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te índice esta compuesto de tres componentes y cada uno de ellos en un conjuntos de sub índi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ambiente (environment) para las TI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preparación (readiness) de los individuos , las empresas y el gobie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uso (usage) entre los , individuos , las empresas y el gobie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Esquema para el NR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79280" y="1600200"/>
            <a:ext cx="8640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osicionamiento de Argentina en el Ranking del Foro Ecónomico Interna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905120"/>
          <a:ext cx="8229600" cy="4209840"/>
        </p:xfrm>
        <a:graphic>
          <a:graphicData uri="http://schemas.openxmlformats.org/drawingml/2006/table">
            <a:tbl>
              <a:tblPr/>
              <a:tblGrid>
                <a:gridCol w="2847960"/>
                <a:gridCol w="1344600"/>
                <a:gridCol w="1346400"/>
                <a:gridCol w="1344600"/>
                <a:gridCol w="1346040"/>
              </a:tblGrid>
              <a:tr h="810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/2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/20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k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k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RI 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viro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4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di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s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8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,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osicionamiento de Singapur en el Ranking del Foro Ecónomico Internac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3191040"/>
                <a:gridCol w="1260360"/>
                <a:gridCol w="1258920"/>
                <a:gridCol w="1260360"/>
                <a:gridCol w="1258920"/>
              </a:tblGrid>
              <a:tr h="63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/20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/20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k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k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RI 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viro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di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s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anking NRI  2004/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340000" y="907920"/>
          <a:ext cx="4478400" cy="5778720"/>
        </p:xfrm>
        <a:graphic>
          <a:graphicData uri="http://schemas.openxmlformats.org/drawingml/2006/table">
            <a:tbl>
              <a:tblPr/>
              <a:tblGrid>
                <a:gridCol w="2003400"/>
                <a:gridCol w="247500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king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apor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celan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nlan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nmark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ited State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wede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ng Kong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apa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witzerlan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relan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lays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a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azi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lgunas comparaciones sobre evolución del Ingreso por habi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197000"/>
          <a:ext cx="8229600" cy="5121360"/>
        </p:xfrm>
        <a:graphic>
          <a:graphicData uri="http://schemas.openxmlformats.org/drawingml/2006/table">
            <a:tbl>
              <a:tblPr/>
              <a:tblGrid>
                <a:gridCol w="1165320"/>
                <a:gridCol w="1163520"/>
                <a:gridCol w="1243080"/>
                <a:gridCol w="1163520"/>
                <a:gridCol w="1165320"/>
                <a:gridCol w="1163520"/>
                <a:gridCol w="1165320"/>
              </a:tblGrid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nland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rl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re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apu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.E.U.U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8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en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nn World Table del Centro de Comparaciones Mundiales de la Unversidad de Pensilvani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Frase fi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"T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dos los imperios del futuro van a ser imperios del conocimiento, y solamente los pueblos que entie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 cómo generar conocimientos y cómo protegerlos, cómo buscar a los jóvenes que tengan la capacidad para hacerlo y asegurarse que se queden en el país, serán los países exitoso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 algn="just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bert  Einste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uchas Gracias!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apositivas de resguar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8600" y="457200"/>
            <a:ext cx="1371600" cy="1600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784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1541520"/>
            <a:ext cx="9144000" cy="4192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04920" y="380880"/>
            <a:ext cx="1295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-316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El problema de la brecha digit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6019920"/>
            <a:ext cx="76676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Tahoma"/>
              </a:rPr>
              <a:t>Fuente</a:t>
            </a:r>
            <a:r>
              <a:rPr b="0" lang="es-AR" sz="1400" spc="-1" strike="noStrike">
                <a:solidFill>
                  <a:srgbClr val="ffffff"/>
                </a:solidFill>
                <a:latin typeface="Tahoma"/>
              </a:rPr>
              <a:t>: Programa de las Naciones Unidas para el Desarrollo (PNUD-2001); Indicador sobre Desarrollo Humano 2001: Poner el Adelanto Tecnológico al Servicio del Desarrollo Huma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nétic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ego del 12 de febrero de 2001 la vida , sea humana o de un ratón o un árbol se codifica  y es reproducible digital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hora podemos tomar un código y reproducirlo o modificarl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lación entre NRI 2002/2003 e Ingreso per cápit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84360" y="1600200"/>
            <a:ext cx="8135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lación entre NRI 2003/2004 e Ingreso per cáp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280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osicionamiento de Argentina en el Ranking del Foro Ecónomico Internacional ( 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8360" y="1557360"/>
          <a:ext cx="8229600" cy="5156280"/>
        </p:xfrm>
        <a:graphic>
          <a:graphicData uri="http://schemas.openxmlformats.org/drawingml/2006/table">
            <a:tbl>
              <a:tblPr/>
              <a:tblGrid>
                <a:gridCol w="3230640"/>
                <a:gridCol w="1249200"/>
                <a:gridCol w="1251000"/>
                <a:gridCol w="1249200"/>
                <a:gridCol w="12495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/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/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Envirome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k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litical /  Reg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raestru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9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Readines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dividu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usi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ver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Usag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dividu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usines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ver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anking NRI  2004/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258920" y="907920"/>
          <a:ext cx="6481800" cy="5778360"/>
        </p:xfrm>
        <a:graphic>
          <a:graphicData uri="http://schemas.openxmlformats.org/drawingml/2006/table">
            <a:tbl>
              <a:tblPr/>
              <a:tblGrid>
                <a:gridCol w="2003400"/>
                <a:gridCol w="2475000"/>
                <a:gridCol w="200340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nking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i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ntaj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apor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7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celan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6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nlan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6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nmark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6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nited State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5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wede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5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ng Kong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apa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witzerlan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2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relan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8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lays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6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a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2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2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azi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3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6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ferencia entre los seres viv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seres vivos (humanos y animales) somos muy pareci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seres humanos tenemos 30.000 genes y la diferencia entre nosotros es de 0.001 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o también la diferencia con un ratón es similar magnitu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pregunta es ¿ qué es lo que nos hace diferentes de los perros , gatos, ratones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¿ Por qué estamos escuchando esta exposición y no comiendo una banana arriba de un  árbol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Diferencia entre los seres vivos 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" Nuestra Habilidad para usar y transmitir conocimientos "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Una definición de Conoci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El proceso humano y din</a:t>
            </a:r>
            <a:r>
              <a:rPr b="0" lang="es-MX" sz="36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ico que consiste en justificar una creencia personal hacia la certez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Tipos de Conocimiento </a:t>
            </a:r>
            <a:br>
              <a:rPr sz="4400"/>
            </a:br>
            <a:r>
              <a:rPr b="0" lang="es-MX" sz="1200" spc="-1" strike="noStrike">
                <a:solidFill>
                  <a:srgbClr val="ffffff"/>
                </a:solidFill>
                <a:latin typeface="Tahoma"/>
              </a:rPr>
              <a:t>según M.Polany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-BoldMT"/>
              </a:rPr>
              <a:t>Conocimiento táci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-BoldMT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-BoldMT"/>
              </a:rPr>
              <a:t>E</a:t>
            </a:r>
            <a:r>
              <a:rPr b="0" lang="es-ES" sz="2800" spc="-1" strike="noStrike">
                <a:solidFill>
                  <a:srgbClr val="ffffff"/>
                </a:solidFill>
                <a:latin typeface="ArialMT"/>
              </a:rPr>
              <a:t>s </a:t>
            </a:r>
            <a:r>
              <a:rPr b="0" lang="es-ES_tradnl" sz="2800" spc="-1" strike="noStrike">
                <a:solidFill>
                  <a:srgbClr val="ffffff"/>
                </a:solidFill>
                <a:latin typeface="ArialMT"/>
              </a:rPr>
              <a:t>el</a:t>
            </a:r>
            <a:r>
              <a:rPr b="0" lang="es-ES" sz="2800" spc="-1" strike="noStrike">
                <a:solidFill>
                  <a:srgbClr val="ffffff"/>
                </a:solidFill>
                <a:latin typeface="ArialMT"/>
              </a:rPr>
              <a:t> que la persona</a:t>
            </a:r>
            <a:r>
              <a:rPr b="0" lang="es-ES_tradnl" sz="2800" spc="-1" strike="noStrike">
                <a:solidFill>
                  <a:srgbClr val="ffffff"/>
                </a:solidFill>
                <a:latin typeface="ArialMT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MT"/>
              </a:rPr>
              <a:t>tiene </a:t>
            </a:r>
            <a:r>
              <a:rPr b="0" lang="es-ES_tradnl" sz="2800" spc="-1" strike="noStrike">
                <a:solidFill>
                  <a:srgbClr val="ffffff"/>
                </a:solidFill>
                <a:latin typeface="ArialMT"/>
              </a:rPr>
              <a:t>incorporado</a:t>
            </a:r>
            <a:r>
              <a:rPr b="0" lang="es-ES" sz="2800" spc="-1" strike="noStrike">
                <a:solidFill>
                  <a:srgbClr val="ffffff"/>
                </a:solidFill>
                <a:latin typeface="ArialMT"/>
              </a:rPr>
              <a:t> sin tenerlo permanentemente accesible a la conciencia pero</a:t>
            </a:r>
            <a:r>
              <a:rPr b="0" lang="es-ES_tradnl" sz="2800" spc="-1" strike="noStrike">
                <a:solidFill>
                  <a:srgbClr val="ffffff"/>
                </a:solidFill>
                <a:latin typeface="ArialMT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MT"/>
              </a:rPr>
              <a:t>del cual hace uso cuando las circunstancias lo requieren y que es</a:t>
            </a:r>
            <a:r>
              <a:rPr b="0" lang="es-ES_tradnl" sz="2800" spc="-1" strike="noStrike">
                <a:solidFill>
                  <a:srgbClr val="ffffff"/>
                </a:solidFill>
                <a:latin typeface="ArialMT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MT"/>
              </a:rPr>
              <a:t>utilizado como instrumento para manipular el fenómeno que se está</a:t>
            </a:r>
            <a:r>
              <a:rPr b="0" lang="es-ES_tradnl" sz="2800" spc="-1" strike="noStrike">
                <a:solidFill>
                  <a:srgbClr val="ffffff"/>
                </a:solidFill>
                <a:latin typeface="ArialMT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MT"/>
              </a:rPr>
              <a:t>analizan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-Bold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-BoldMT"/>
              </a:rPr>
              <a:t>Conocimiento explícit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MT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MT"/>
              </a:rPr>
              <a:t>Este es </a:t>
            </a:r>
            <a:r>
              <a:rPr b="0" lang="es-ES_tradnl" sz="2800" spc="-1" strike="noStrike">
                <a:solidFill>
                  <a:srgbClr val="ffffff"/>
                </a:solidFill>
                <a:latin typeface="ArialMT"/>
              </a:rPr>
              <a:t>aqu</a:t>
            </a:r>
            <a:r>
              <a:rPr b="0" lang="es-ES" sz="2800" spc="-1" strike="noStrike">
                <a:solidFill>
                  <a:srgbClr val="ffffff"/>
                </a:solidFill>
                <a:latin typeface="ArialMT"/>
              </a:rPr>
              <a:t>el conocimiento objetivo y racional que</a:t>
            </a:r>
            <a:r>
              <a:rPr b="0" lang="es-ES_tradnl" sz="2800" spc="-1" strike="noStrike">
                <a:solidFill>
                  <a:srgbClr val="ffffff"/>
                </a:solidFill>
                <a:latin typeface="ArialMT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MT"/>
              </a:rPr>
              <a:t>puede ser expresado en palabras, oraciones, números o fórmulas, en general</a:t>
            </a:r>
            <a:r>
              <a:rPr b="0" lang="es-ES_tradnl" sz="2800" spc="-1" strike="noStrike">
                <a:solidFill>
                  <a:srgbClr val="ffffff"/>
                </a:solidFill>
                <a:latin typeface="ArialMT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MT"/>
              </a:rPr>
              <a:t>independientes de contexto algu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Transmisi</a:t>
            </a: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ón de Conoci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olanyi define tres mecanism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mi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dentific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earning by do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5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receptor reconstruye su propia versión de lo recibi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5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Nonaka y Takeuchi define un mecanismo de varios pas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ocialización del conocimiento tácito por medio de la  externaliz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ernalización de lo recibi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versión en conocimiento tácito propi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6:55:57Z</dcterms:created>
  <dc:creator>ff</dc:creator>
  <dc:description/>
  <dc:language>en-US</dc:language>
  <cp:lastModifiedBy>C.P.C.E.C.A.B.A.</cp:lastModifiedBy>
  <dcterms:modified xsi:type="dcterms:W3CDTF">2005-11-15T16:10:21Z</dcterms:modified>
  <cp:revision>47</cp:revision>
  <dc:subject/>
  <dc:title>Sociedad del Conocimiento Amenazas y Oportunidades</dc:title>
</cp:coreProperties>
</file>