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5B4-B8A0-4B49-9509-0D35AB6A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B53-BF54-4A67-8540-CDB20E5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A1C-2567-4861-B2AA-6C042A8A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E81-4AD1-47E3-AE0E-7B647D25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6548-BD81-4E4D-8025-8EC51CC1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F5A0-F55F-4324-96CE-D1B1FF0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BE8E-1385-4246-A4BC-CA8C9BDF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D95D-B00D-46A1-8ABE-1F78AD53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1255-E41C-472B-8366-5C78FEA4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9E21-BC10-4612-8DEF-5F3F1E66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5E47-ADC3-483A-9041-E63E98BE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F3E-E42D-4CE8-9992-5CE7ABE6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41AD-AEA3-41FB-91A4-F5CC11E6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90E4-7EFE-495D-9F90-5936228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C913-529B-46CA-BDA3-93BF4DCE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B5E-2AA1-4226-B6E6-123FE98C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A1CF-384B-4934-9CA9-A8D219D1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885-66B5-4278-804D-266DBFD5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382-A44E-4593-A6DE-A75E1F3B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A565-BEE2-4CAA-AAE0-F10CEB63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E9C-4017-42FE-B0A4-9A457866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3AA-40BE-4374-85FF-06CCA53F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E94-FC1D-43FE-B9A8-DC2CE5F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BEA-DA3D-4EF5-989A-DE72056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D3F-9C79-4A69-A1A7-C384058EB928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904F-44DE-4AD4-BBF8-C3FE3EB939F1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0680" y="2418840"/>
            <a:ext cx="81626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Verdana"/>
              </a:rPr>
              <a:t>Régimen de facturación, registración, almacenamiento e información de operacione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greso Metropolitano de Ciencias Económ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iudad Autónoma de Buenos A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6 de noviembre de 200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Dr. Eduardo A.Vázque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7246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ituación 3. Responsable Inscripto (cont.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istració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 (subdiarios Compras y Ventas, Anexo V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259 (informe Z, cinta testigo, memoria, LU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 (subdiarios electrónicos Compras y Ventas, Anexo II, originales y duplicados Anexo II apartado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macenamient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: documentación y subdi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 259: informe Z, cinta testigo, y L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: documentación y soporte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art. 17, 18, y 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44360"/>
            <a:ext cx="876312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415. Aspectos a tener en cuenta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omento de emisión de la factura (práctica comercial 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istración de operaciones (Título II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jetos que lleven libros: libros L.S.C.y C.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jetos que no lleven libros: compras y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dio de registración: manual o computarizado (art.36 LPT, 2 años a partir de la fecha de cierre del perio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415. Aspectos a tener en cuenta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lazos de registració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ponsables Inscriptos: día hábil inmediato anterior al vencimiento de la DD.JJ de IV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to: 15 días corridos del mes sigu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lazos de almacenamiento: prescripción + 5 años (art. 48 DR, medios electrónicos 2 años a partir de la fecha de cierre del periodo, art. 36 LP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ugar de conservación: domicilio fiscal (art.2 LP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80640" y="91296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00. Aspectos a tener en cuenta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lidez de comprobantes recibidos (art.4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pellido y nombre o razón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micilio comer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tegoría frente al I.V.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.U.I.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meración 12 dígi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echa de ven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1065240"/>
            <a:ext cx="8162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00. Aspectos a tener en cuenta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alidez de comprobantes recibidos en el Impuesto a las Ganancias y Al Valor Agreg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pellido y nombre o razón social, domicilio, condición frente al I.V.A. Y C.U.I.T. del adquirente o prestat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cepto e importe de la operación (IVA discrimina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ódigo de comprobante (vigente desde el 01-09-05 para autoimpres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575. Aspectos a tener en cuenta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enciones por importes netos iguales o mayores a $ 1.000 se rigen por régimen especial de reten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mporalidad de la presentación del CITI Ventas. (art. 2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ctura 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6 me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ctura A c/Leyend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 me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ctura 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asta que sea “A” + 12 me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259. Aspectos a tener en cuenta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ciones masivas y no masi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ciones masivas (más operaciones con CF que con otros sujetos en el año calendar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ligado a utilizar Controlador Fiscal por todas sus operacio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cepto aquellas realizadas fuera del “local” mientras que no sean efectuadas a C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9976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259. Aspectos a tener en cuent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ciones no masi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realiza menos de 240 operaciones a CF y el total de éstas no superan el 5% del total de ventas no está obligado a utilizar Controlador Fis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realiza más de 240 operaciones o supera el 5% hasta el 20%: solo está obligado a utilizar Controlador Fiscal por sus operaciones con C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supera el 20% debe utilizarlo por todas sus op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0680" y="1065240"/>
            <a:ext cx="8162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259. Aspectos a tener en cuent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ciones no masiv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19040" y="2819520"/>
            <a:ext cx="83059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0680" y="989280"/>
            <a:ext cx="8162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dice de la exposició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terrelación de las Resoluciones Generales de la AFIP: su aplicación en el caso de un Monotributista, un Sujeto Exento, y un Responsable Inscrip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spectos relevantes a recordar en cada R.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tros aspectos a tener en cuent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-    La consulta de constancias y comprob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obligación de utilizar ciertos medios de cancel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sanciones por incumplimientos en la mat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Breve reseña de Jurisprud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-4532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so prác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3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259. Aspectos a tener en cuenta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alle de actividades Anexo IV: relación con el nomenclador de actividades F. 4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guentas Frecuentes (AF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nexo IV se basa en el nomenc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base al mismo a cada actividad le corresponde un códi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están obligados los que estén inscriptos con ese códi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ir en el Anexo IV además de la descripción de la actividad los códigos de activ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361(TI).  Aspectos a tener en cuent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 opción obliga a efectuar registración electróni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sponer de una conexión a Internet para que la AFIP pueda acceder en forma remota a los soportes que genere el contribuyente de los últimos 3 meses y tener a disposición los últimos 9 meses anteriores a los 3 que se mantienen en línea.(vigencia 01-01-0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goritmo de seguridad (CS, AFIP-Sistema Resumen Electrónico de Datos SIRED Versión 1.0). Los RI lo informan en la DD.JJ de IVA, los Exentos mediante Inter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ben utilizar el mismo soporte para almacenar la registración electrónica (art. 3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1065240"/>
            <a:ext cx="8162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361(TII). Aspectos a tener en cuent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lazo de registración: 15 días corridos del mes sigu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bros en papel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transforman en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ligaciones con los fiscos provinc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almacenan el duplicado deben utilizar el mismo tipo de soporte para almacener sus libros compras y ventas (art. 3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istración del CAI de las compras: 01/01/2005 (R.G. 1579, fecha a partir de la cual aparace el código de barras). Vigencia inicial del régimen: 01/01/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956. Aspectos a tener en cuent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 opción requiere la incoporación previa al Título I de la R.G. 1361 (duplicado electrónico) y por lo tanto se adquiere la obligación de llevar registración electrón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receptor del comprobante electrónico original podrá almacenarlo en un soporte independiente -en las formas y condiciones establecidos por la R.G. (AFIP) 1361- o imprimir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receptor se encuentra incorporado al régimen establecido por los Títulos I y/o II de la R.G. 1361 deberá almacenarla en un soporte del mismo tipo que el utilizado para el resguardo de sus duplicados y/o registracio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Consulta de constancia y comprobant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52280" y="2208240"/>
            <a:ext cx="89154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Medios de cancelación. Incumplimiento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547. Medios de cancelació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30592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06524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.G. 1547. Medios de cancelació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7925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Emisión y registración. Incumplimientos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69880" y="2055960"/>
            <a:ext cx="819324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Emisión y registración. Incumplimiento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96880" y="1905120"/>
            <a:ext cx="7950240" cy="130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Resoluciones generales AFI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.G. (AFIP) 1415: Dispone el régimen general de emisión, registración, e información de comproba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.G. (AFIP) 1575: Dispone la creación de la factura “M”, “A con CBU”, un régimen de información y un régimen particular de retención de Ganancias e I.V.A, para determinados contribuy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.G. (AFIP) 259: Dispone el uso obligatorio de Controladores Fiscales para determinados contribuy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.G. (AFIP) 100: Dispone la creación de un Registro Fiscal de Imprentas, Autoimpresores, e Importadores para determinados contribuy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.G. (AFIP) 1361: Crea el régimen optativo de almacenamiento electrónico del duplicado y el régimen obligatorio de registración electrónica para determinados contribuy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.G. (AFIP) 1956: Crea la “factura electrónica” para determinados contribuy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Jurisprudenci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Judi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ickey S.A., CSJN 05-11-19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Wortman, Jorge Alberto, CSJN 08-06-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alorenz S.A., TFN “A” 20-07-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lbas S.A., CNCAF III 31-05-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boratorios Baher SRL, TFN “A” 25-02-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óvolo, Luis Dino, CSJN 11-10-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rfin S.A., CSJN 15-05-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on D’Or S.A., CNPE 25-09-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dministra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ctámen (DAT) 55/2003, 08-08-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ctámen (DAT) 63/2004, 30-09-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rrelación Resoluciones generales AFI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18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rrelación Resoluciones generales AFI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04920" y="2139840"/>
            <a:ext cx="8642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rrelación Resoluciones generales AFI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28600" y="2224080"/>
            <a:ext cx="871848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Fin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greso Metropolitano de Ciencias Econ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iudad Autónoma de Buenos 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6 de noviembre de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rrelación Resoluciones generales AFI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89080" y="2590920"/>
            <a:ext cx="8565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rrelación Resoluciones generales AFI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3200" y="17524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cumplimiento obligato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  Marco gen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575 nuevos requisitos desde oct-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00    CAI, Ven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259    Controladores Fisc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  Título II Registración Electr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cumplimiento opt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00    Autoimpres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  Título I Duplicado electró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956   Factura electr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Interrelación Resoluciones generales AFIP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e norma debo aplicar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marco general siempre estará dado por la R.G. 1415 que se aplica al universo de contribuye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se verifiquen las situaciones previstas en las normas particulares se aplicarán éstas última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R.G. 1415 resultará de aplicac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tanto no se oponga a la norma partic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los aspectos no previstos por la norma particul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ituación 1. Monotributista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sió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 (talonario preimpr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259 (tick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opta por emitir tickets por sus ventas a C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renueva su registradora instalad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anterioridad al 12-02-99.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to.13 Anexo IV R.G. 141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istración: exceptuados de registrar (art. 7 R.G. 141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macenamient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: documentación de sus compras y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259: informe zeta, cinta testigo, memoria fiscal y el Libro Único de Registro.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untos 11 y 12 art.4 R.G. 25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ituación 2. IVA Exento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sió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 (talonario preimpr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 (duplicado electrónico optativ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259  (art. 20 solicitud de uso de controlad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gistració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 (subdiarios Compras y Ventas, Anexo V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 (subdiarios electrónicos Compras y Ventas, Anexo II, duplicados electrónicos Anexo II apartado 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macenamient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: documentación y subdi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: documentación y soportes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art. 17, 18, y 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ituación 3. Responsable Inscripto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3200" y="16761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sió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415 (talonario preimpr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575 (nuevos requisitos desde oct-0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 100 (autoimpresor optativ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361 (duplicado electrónico optativ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1956 (factura electrónica optati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.G. 259 (si integra el Anexo IV y vende a CF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1:18Z</dcterms:created>
  <dc:creator>.</dc:creator>
  <dc:description/>
  <dc:language>en-US</dc:language>
  <cp:lastModifiedBy>C.P.C.E.C.A.B.A.</cp:lastModifiedBy>
  <dcterms:modified xsi:type="dcterms:W3CDTF">2005-11-24T15:28:19Z</dcterms:modified>
  <cp:revision>91</cp:revision>
  <dc:subject/>
  <dc:title>Régimen de facturación, registración, e información de operaciones</dc:title>
</cp:coreProperties>
</file>