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547-A46B-4E0A-9667-C6274304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27C-8954-425C-BF75-9C6460F9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233-7C22-4A0F-9B9D-027BC877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349-73D8-457E-9F0E-1C90D9CE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F6D-6FCB-4717-9CB8-1A29E3B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147-911F-4689-ACB0-BBA46A2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6E3-C5DF-478F-B4F2-B9E82580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4DE-4F98-4AE6-8B85-D0EDCAEE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32A-27DF-423E-BBA3-43480028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3BF-A97A-492C-A719-312F4E0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A3C-ADB2-4D52-B795-50E8053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319-DB97-4E13-9C46-FA95A48B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4D7-4797-4AAD-AE7B-86C335899BD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42640"/>
            <a:ext cx="8291520" cy="480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99"/>
                </a:solidFill>
                <a:latin typeface="Arial"/>
              </a:rPr>
              <a:t>CONSIDERACIONES ACERCA DEL ANÁLISIS COSTO – BENEFICIO </a:t>
            </a:r>
            <a:br>
              <a:rPr sz="3600"/>
            </a:br>
            <a:r>
              <a:rPr b="1" i="1" lang="es-ES_tradnl" sz="3600" spc="-1" strike="noStrike">
                <a:solidFill>
                  <a:srgbClr val="333399"/>
                </a:solidFill>
                <a:latin typeface="Arial"/>
              </a:rPr>
              <a:t>DE PROYECTOS DE </a:t>
            </a:r>
            <a:br>
              <a:rPr sz="3600"/>
            </a:br>
            <a:r>
              <a:rPr b="1" i="1" lang="es-ES_tradnl" sz="3600" spc="-1" strike="noStrike">
                <a:solidFill>
                  <a:srgbClr val="333399"/>
                </a:solidFill>
                <a:latin typeface="Arial"/>
              </a:rPr>
              <a:t>TECNOLOGÍA INFORMÁTICA</a:t>
            </a:r>
            <a:br>
              <a:rPr sz="3600"/>
            </a:br>
            <a:br>
              <a:rPr sz="3600"/>
            </a:b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Adriana Echeverría   </a:t>
            </a:r>
            <a:r>
              <a:rPr b="1" i="1" lang="es-ES_tradnl" sz="1800" spc="-1" strike="noStrike">
                <a:solidFill>
                  <a:srgbClr val="0099ff"/>
                </a:solidFill>
                <a:latin typeface="Arial"/>
              </a:rPr>
              <a:t>aechevi@fi.uba.ar</a:t>
            </a:r>
            <a:br>
              <a:rPr sz="1800"/>
            </a:b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Gustavo López </a:t>
            </a:r>
            <a:r>
              <a:rPr b="1" i="1" lang="es-ES_tradnl" sz="1800" spc="-1" strike="noStrike">
                <a:solidFill>
                  <a:srgbClr val="0099ff"/>
                </a:solidFill>
                <a:latin typeface="Arial"/>
              </a:rPr>
              <a:t>glopez@fi.uba.ar </a:t>
            </a:r>
            <a:br>
              <a:rPr sz="2800"/>
            </a:b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Ismael Jeder </a:t>
            </a:r>
            <a:r>
              <a:rPr b="1" i="1" lang="es-ES_tradnl" sz="1800" spc="-1" strike="noStrike">
                <a:solidFill>
                  <a:srgbClr val="0099ff"/>
                </a:solidFill>
                <a:latin typeface="Arial"/>
              </a:rPr>
              <a:t>jeder@fi.uba.ar</a:t>
            </a:r>
            <a:br>
              <a:rPr sz="1800"/>
            </a:b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Variables asociadas al costo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ftware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imación de costo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ar diversos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y recur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person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irectos e indir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reci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an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 son los servicios, capacidades y cualidades de cada altern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stimación de beneficio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eneficios son los servicios, capacidades y cualidades de cada altern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verse como el retorno de la inversión. Para estimar benefic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r los beneficios tanto para los clientes como para la organización que provee esos servicios a los cl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no sea posible asignarle un valor monetario, serán valuados utilizando medidas subjetivas de manera de asignarle una tasa cualitati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ir todos los beneficios concernientes a todo el ciclo de vida de cada altern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roceso de análisis costo – benefici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gerido por la NASA (National Aeronautics and Space Adminis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terminar / definir los objetivos del proye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umentar el proceso actu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r los requerimientos futur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nir los datos sobre co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gir al menos tres alternativ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umentar todos los supuestos del AC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r los co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imar los benefic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 el valor actual de costos y benefic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aluar alternativ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r análisis de sensi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roceso de análisis costo – beneficio 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(cont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mentos a tener en cuen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amiento: comprado o alquil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ftware: comprado o alquil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comerciales tales como teleprocesamiento, programas de diagnóstico, programas de aplicación, software comerci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de soporte: servicios para dar soporte al equipamiento, el software, mantenimiento,  ingreso de datos, entrenamiento, planeamiento, desarrollos, análisis y diseño de sistemas, evaluación del rendimiento de cómputo y administr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eedores: todo ítem designado específicamente para el uso del equipamiento, softwar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s intra – empresa: tecnología informática entre la empresa y otras empresas (vgr. los bancos que operan con la empre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roceso de análisis costo – beneficio 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(cont 1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requerimientos de los usuarios futuros determinarán la arquitectura del futur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claves en la estimación de requerimientos futu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 de vid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icos de demanda en su ciclo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 pueden estudiar tendencias a fin de ser aplicadas para la esti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99"/>
                </a:solidFill>
                <a:latin typeface="Arial"/>
              </a:rPr>
              <a:t>Proceso de análisis costo – beneficio 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(cont 2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aso cuarto se reconocen seis fuentes de datos para 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del sistema actu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stigación de merca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blica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aluaciones de los analist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Factores determinant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74640" y="1824120"/>
          <a:ext cx="78328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1824120"/>
                    <a:ext cx="783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Factores determinantes </a:t>
            </a: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(cont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50880" y="1704960"/>
          <a:ext cx="7880400" cy="43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1704960"/>
                    <a:ext cx="788040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Clasificación de costo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1343160"/>
          <a:ext cx="837252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43160"/>
                    <a:ext cx="8372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Temario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sto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mación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mación de 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ceso de análisis costo –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"/>
              </a:rPr>
              <a:t>Clasificación de costos</a:t>
            </a: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(cont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4720" y="1238400"/>
          <a:ext cx="837252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38400"/>
                    <a:ext cx="837252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nálisis costo – beneficio será adecuado al tamaño, complejidad y costo del proyecto pro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ivel de análisis necesario para cada proyecto en Tecnología Informática deberá ser una decisión de la alta g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efectivo ACB puede ser utilizado para demostrar que es necesario modificar el presupuesto elaborado para la empresa, contemplando la mejor alternativa en lo que se refiere a aumentar y mejorar la TI aplicable en la organización, posibilitando soportar en forma óptima la estrategia de finanzas, como parte de la estrategia global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82947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¡MUCHAS GRACIAS!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Adriana Echeverría   </a:t>
            </a:r>
            <a:r>
              <a:rPr b="1" i="1" lang="es-ES_tradnl" sz="2400" spc="-1" strike="noStrike">
                <a:solidFill>
                  <a:srgbClr val="0099ff"/>
                </a:solidFill>
                <a:latin typeface="Arial"/>
              </a:rPr>
              <a:t>aechevi@fi.uba.ar</a:t>
            </a:r>
            <a:br>
              <a:rPr sz="2400"/>
            </a:b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Gustavo López </a:t>
            </a:r>
            <a:r>
              <a:rPr b="1" i="1" lang="es-ES_tradnl" sz="2400" spc="-1" strike="noStrike">
                <a:solidFill>
                  <a:srgbClr val="0099ff"/>
                </a:solidFill>
                <a:latin typeface="Arial"/>
              </a:rPr>
              <a:t>glopez@fi.uba.ar </a:t>
            </a:r>
            <a:br>
              <a:rPr sz="2400"/>
            </a:b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Ismael Jeder </a:t>
            </a:r>
            <a:r>
              <a:rPr b="1" i="1" lang="es-ES_tradnl" sz="2400" spc="-1" strike="noStrike">
                <a:solidFill>
                  <a:srgbClr val="0099ff"/>
                </a:solidFill>
                <a:latin typeface="Arial"/>
              </a:rPr>
              <a:t>jeder@fi.uba.a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 del análisis costo – beneficio: soportar mejor la toma de decisiones de manera de asegurar que los recursos sean efectivamente utilizados para sostener la misión de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emplar el ciclo de vid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ernativas ante la adquisición de un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El costo de la informació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nto cuesta la información que se obtiene a partir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ncipios acerca del valor de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alor desde el punto de vista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bles asociadas a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¿Cuánto cuesta la información que se obtiene a partir del sistema?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urso para la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gros: mayores ganancias, crecimiento, imagen, influencia política, cantidad de afiliados, excelencia educativ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s de información ópt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Valor de la información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o de valor esperado causado por l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formación es económicamente conveniente siempre que el aumento de valor de una mejor decisión exceda el costo de la m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formación es conveniente sólo si modifica el conocimiento a priori que adquieren los directivos, del mundo en el cual la empresa está inm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más fácil estimar su valor en los casos de decis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Principios acerca del valor de la informació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alor de la información es directamente proporcional a la dimensión económica de los problemas de decisión en los que se uti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alor de la información crece cuanto mejor la utiliza el destinatario de l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ierta información de contenido y costo dados, puede ser económicamente conveniente para una empresa y antieconómica para otra empresa de menor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 información no mejora el conocimiento de la realidad, o no mejora el valor esperado de las decisiones, o si las decisiones no se llevan a la práctica, entonces la información es anti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Principios acerca del valor de la información</a:t>
            </a: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(cont)</a:t>
            </a: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alor de la información es proporcional a la calidad de la estructura de la información (información que se acerca más a la información perfecta donde cada mensaje determina unívocamente un estado de la naturaleza). La información perfecta produce certidumbre acerca del estado de la naturaleza y tiene valor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alor de la información es tanto mayor cuanto mayor es la incertidumbre a priori acerca del verdadero estado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alor de la información adicional acerca del estado de la naturaleza existente disminuye a medida que la naturaleza es más predecible. En el caso extremo de certeza a priori, el valor de la información adicional es n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alor de la información es tanto mayor cuanto mayor es el riesgo económico en caso de que, elegida la alternativa óptima según la información a priori, se dé un estado de la naturaleza poco esp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Arial"/>
              </a:rPr>
              <a:t>El valor desde el punto de vista financiero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alor se mide de acuerdo con el rendimiento del capital inver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opuesta es utilizar presupuestación d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se trata de un desarrollo, se propone un análisis económico de tipo ganancia sobre inversión, abarcando todos los costos en los que se incurra así como los beneficios esp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21:32:39Z</dcterms:created>
  <dc:creator>Adriana</dc:creator>
  <dc:description/>
  <dc:language>en-US</dc:language>
  <cp:lastModifiedBy>C.P.C.E.C.A.B.A.</cp:lastModifiedBy>
  <dcterms:modified xsi:type="dcterms:W3CDTF">2005-11-15T16:04:44Z</dcterms:modified>
  <cp:revision>51</cp:revision>
  <dc:subject/>
  <dc:title>Slide 1</dc:title>
</cp:coreProperties>
</file>