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15C-808F-4E92-BFDE-FFC9FCDF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CEC2-A113-4861-9967-E5245ED3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BF5F-B465-4764-AC88-074436C5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F1FD-6C4F-47A9-96BA-0E86B6ED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5CA1-7396-450E-AEC8-54F2A091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ED2A-803A-492C-AA74-65BD2A3E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4285-4D35-407F-88C0-E6B823EF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8199-FBEC-4353-A9D9-4D6E6841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143A-8917-4894-BDFF-651757B5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5D2E-7FE3-49ED-8C3A-9BA18AFF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FF05-9505-47E3-9A7F-FA54D18E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668A-24FA-4B4C-A95A-76A41124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A4BA-9697-4642-995F-F3421A1F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B3EA-5CA4-42D8-9BBC-4E0F01D4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6400-8957-42A8-B68F-2C207511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9427-DE97-4F7A-A917-E89FC69A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FD8B-5D0B-4B81-8C6D-DB199B82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1BF9-F049-402E-98E6-8A7CB092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415A-C4DE-4581-9EF2-3691257A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3D7-E539-4A3B-B9AB-AC6331A8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2BFE-2BA8-45D2-8A77-1D5C0EBE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350F-64BF-4F52-A194-9056091E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42BE-1152-438E-90DB-5C3BB2C3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A2D9-0ED6-47B0-A53C-4C2B2E93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B14B-1B2F-4811-8969-E5AB0D24FD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2EDB-506D-46E4-9014-02C8D2A1A70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4200" y="347400"/>
            <a:ext cx="756108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Arial"/>
              </a:rPr>
              <a:t>CONGRESO METROPOLITANO DE CIENCIAS ECONÓMICAS</a:t>
            </a:r>
            <a:endParaRPr b="0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5280" y="2420640"/>
            <a:ext cx="75502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7464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MX" sz="3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s-MX" sz="3400" spc="-1" strike="noStrike">
                <a:solidFill>
                  <a:srgbClr val="000000"/>
                </a:solidFill>
                <a:latin typeface="Garamond"/>
              </a:rPr>
              <a:t>Enumeración de Conceptos y        Propuestas de Diagnóstico Organizacional para Pym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674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74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74640" indent="0" algn="ctr">
              <a:lnSpc>
                <a:spcPct val="10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r. Raúl M. Di Sa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74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Lic. Manuel H. Kosoy</a:t>
            </a:r>
            <a:r>
              <a:rPr b="0" lang="es-MX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182520" y="6093000"/>
            <a:ext cx="8894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Noviembre d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COMUNICACIÓ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1925640"/>
            <a:ext cx="8209080" cy="41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ento de modificar comportamiento, actitud, o conocimient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Herramienta social" que facilita la interacción humana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apertura al entorno, se corresponde con aptitud para establecer y  mantener intercambios de información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CARACTERÍSTICAS DE ORGANIZACIÓN ORIENTADA A RESULTADOS</a:t>
            </a:r>
            <a:r>
              <a:rPr b="0" lang="es-ES_tradnl" sz="2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2031840"/>
            <a:ext cx="8137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unciación de fuerza impuls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tructura acorde a resultados buscado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rensión de resultados y efica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egración del concepto de resultados en los sistemas cl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foque personal de result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REVENCIÓN DE LA CRISI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5640" y="2391840"/>
            <a:ext cx="72723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25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Gestión debe s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denad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ificad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enta a relaciones entre organización y entorn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RISIS ORGANIZACIONAL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6920" y="1926720"/>
            <a:ext cx="80661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tener focalizado el eje visión - mis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ición de quién es, qué es lo que hace y cuál es su punto de desti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capsular la problemátic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ar causas endógenas, exógenas y elementos constitutivo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rea metódica para iniciar tratamient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TÁCTICAS DURANTE LA GESTIÓN DE CRISI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0280" y="1998360"/>
            <a:ext cx="800244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bjetivos princip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dentificación de problemas de interés real para sectores cla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trol de cambios en las actitud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sarrollo en áreas problemáticas a medida que la crisis se desarrolla y gestion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MANUAL DE CRISI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22400" y="1771200"/>
            <a:ext cx="7797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be contemp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ioridades corporativ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texto de la gestión de cri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signación de responsabilida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dimientos a invoca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istados de preparación, control de responsabilidades y equipamien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enarios y posiciones preparada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920" y="301320"/>
            <a:ext cx="720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6666"/>
                </a:solidFill>
                <a:latin typeface="Verdana"/>
              </a:rPr>
              <a:t>LA CREATIVIDAD . . 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2474640"/>
            <a:ext cx="7313400" cy="23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. . en situaciones de crisis, reafirma a ésta como oportunidad de crecimien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49440" y="476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DIAGNÓSTICO - ETA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040" y="2557440"/>
            <a:ext cx="8177040" cy="30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levamiento de l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análisis de l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diagnóstico o conclusiones diagnó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17000" y="5979960"/>
            <a:ext cx="17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8080" y="380880"/>
            <a:ext cx="7467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GUÍA  TE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1773360"/>
            <a:ext cx="806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Historia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ercializació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rganización y Recursos Humano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dministración y sistemas de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tuación económica-financier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bjetivos y planeamiento estratégic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yecto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ANÁLISIS F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30400" y="1981080"/>
            <a:ext cx="3657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ortalez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bi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2205000"/>
            <a:ext cx="3341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 la 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44920" y="2492280"/>
            <a:ext cx="76212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27640" y="4365720"/>
            <a:ext cx="76176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01680" y="3789360"/>
            <a:ext cx="365760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ortun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menaz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81720" y="4073400"/>
            <a:ext cx="3122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l  ento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282320" indent="-3769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5f5f5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ación como sistema abier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82320" indent="-3769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5f5f5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ente de tare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82320" indent="-3769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5f5f5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rategia competiti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82320" indent="-3769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5f5f5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ltu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82320" indent="-3769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5f5f5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ión - mis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82320" indent="-3769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5f5f5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al de cri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82320" indent="-3769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5f5f5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un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82320" indent="-3769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5f5f5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mb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31640" y="549000"/>
            <a:ext cx="7313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6666"/>
                </a:solidFill>
                <a:latin typeface="Arial"/>
              </a:rPr>
              <a:t>ENUMERACIÓN DE CONCEPTO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76240" y="404640"/>
            <a:ext cx="739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FORTALEZAS Y DEBILIDADES</a:t>
            </a:r>
            <a:br>
              <a:rPr sz="3200"/>
            </a:b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Gerenci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82800" y="1844640"/>
            <a:ext cx="79102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periencia en el sector y en el nego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imientos y habilidades de los dire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anticipación y plan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ontrol de la gestió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tilo de conducció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tilo de direc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85680" y="380880"/>
            <a:ext cx="723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FORTALEZAS Y DEBILIDADES</a:t>
            </a:r>
            <a:br>
              <a:rPr sz="3200"/>
            </a:b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9080" y="2058840"/>
            <a:ext cx="7846920" cy="40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ncia de estrategia explíc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trategia de diferenciación de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rientación al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rientación a la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trategia focaliz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lanificación comercial y de v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12880" y="380880"/>
            <a:ext cx="77706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FORTALEZAS Y DEBILIDADES</a:t>
            </a:r>
            <a:br>
              <a:rPr sz="3200"/>
            </a:b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Comerci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2680" y="2060640"/>
            <a:ext cx="4113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magen de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ezcla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imientos del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mentación del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060640"/>
            <a:ext cx="46483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nales de distrib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ealtad de lo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uerza de v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iones promo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sarrollo de nuevos productos -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17560" y="40464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FORTALEZAS Y DEBILIDADES</a:t>
            </a:r>
            <a:br>
              <a:rPr sz="3200"/>
            </a:b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Organización y Recursos Human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2133720"/>
            <a:ext cx="770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tructura organizacion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signación de responsabilidades y funcion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tación y experiencia del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ticipación y motivación del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ntigüedad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 de remuneraciones y premio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93880" y="333360"/>
            <a:ext cx="7467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FORTALEZAS Y DEBILIDADES</a:t>
            </a:r>
            <a:br>
              <a:rPr sz="3200"/>
            </a:b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52480" y="1630440"/>
            <a:ext cx="79675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imiento de procesos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producción y grado de utilizació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ecnología y Maquinaria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ercerización de proceso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ductividad de fábric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y out de plant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seguramiento de la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Gestión de stock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76320" y="304920"/>
            <a:ext cx="746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FORTALEZAS Y DEBILIDADES</a:t>
            </a:r>
            <a:br>
              <a:rPr sz="3200"/>
            </a:b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Adminis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44800" y="2565360"/>
            <a:ext cx="66769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225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información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225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225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planificació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225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ductividad administ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76320" y="380880"/>
            <a:ext cx="74674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FORTALEZAS Y DEBILIDADES</a:t>
            </a:r>
            <a:br>
              <a:rPr sz="3200"/>
            </a:b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Desempeño Económico-Financi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47800" y="2060640"/>
            <a:ext cx="59929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argen bruto de contrib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Gastos fijos de 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ivel de endeud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lanificación financi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 al créd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17560" y="40464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OPORTUNIDADES Y AMENAZAS</a:t>
            </a:r>
            <a:br>
              <a:rPr sz="3200"/>
            </a:b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Mercad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1668600"/>
            <a:ext cx="85327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endencia de la deman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iclo de vida del produc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der negociador de lo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ortamiento de los competi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Barreras de entrada a nuevos competi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ductos sustit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mbios en canales de comerci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14400" y="260280"/>
            <a:ext cx="73152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OPORTUNIDADES Y AMENAZAS</a:t>
            </a:r>
            <a:br>
              <a:rPr sz="3200"/>
            </a:b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Marco político y lega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12720" y="1816200"/>
            <a:ext cx="664848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egislación comer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egislación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egislación medio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glamentaciones especí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lítica fi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lítica adua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embolsos a las export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93600" y="304920"/>
            <a:ext cx="7239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OPORTUNIDADES  Y AMENAZAS</a:t>
            </a:r>
            <a:br>
              <a:rPr sz="3200"/>
            </a:b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Ámbito Financi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6120" y="2376360"/>
            <a:ext cx="7115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225"/>
              </a:spcBef>
              <a:spcAft>
                <a:spcPts val="1225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 al créd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25"/>
              </a:spcBef>
              <a:spcAft>
                <a:spcPts val="1225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sto financi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25"/>
              </a:spcBef>
              <a:spcAft>
                <a:spcPts val="1225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po de camb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25"/>
              </a:spcBef>
              <a:spcAft>
                <a:spcPts val="1225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lazos de pago a provee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25"/>
              </a:spcBef>
              <a:spcAft>
                <a:spcPts val="1225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lazos de cobranza de competi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2080" y="30132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ORGANIZACIÓN COMO SISTEMA ABIERTO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99640" y="2391840"/>
            <a:ext cx="799308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 un entorno con el que mantiene la interacción apropiada para sobreviv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 de información, de comunicación y de toma de decision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luciones en busca de problem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14400" y="40464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OPORTUNIDADES Y AMENAZAS</a:t>
            </a:r>
            <a:br>
              <a:rPr sz="3200"/>
            </a:b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Contexto Socioeconó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11560" y="2563920"/>
            <a:ext cx="50767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225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uevas tecnolog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225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egración mund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225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egración reg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58920" y="744480"/>
            <a:ext cx="728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EL INFORME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4480" y="1835280"/>
            <a:ext cx="5181840" cy="45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ren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Br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ocaliz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he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ác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li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MBIENTE DE TAREA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veedor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etido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Grupos regulad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TEORÍA DE LA CONTING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0000" y="2071440"/>
            <a:ext cx="806472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76"/>
              </a:spcBef>
              <a:spcAft>
                <a:spcPts val="1176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Organización        conjunto de subsistemas </a:t>
            </a: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independientes e interactivo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76"/>
              </a:spcBef>
              <a:spcAft>
                <a:spcPts val="1176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Análisis                 incluye factores </a:t>
            </a: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situacionales y ambientales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61"/>
              </a:spcBef>
              <a:spcAft>
                <a:spcPts val="1261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Gestión                 interacción fluida y </a:t>
            </a: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equilibrada entre la </a:t>
            </a: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organización y su ambiente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205000"/>
            <a:ext cx="647640" cy="216000"/>
          </a:xfrm>
          <a:prstGeom prst="rightArrow">
            <a:avLst>
              <a:gd name="adj1" fmla="val 50000"/>
              <a:gd name="adj2" fmla="val 7495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0000" y="3357720"/>
            <a:ext cx="647640" cy="215640"/>
          </a:xfrm>
          <a:prstGeom prst="rightArrow">
            <a:avLst>
              <a:gd name="adj1" fmla="val 50000"/>
              <a:gd name="adj2" fmla="val 7508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4437000"/>
            <a:ext cx="647640" cy="216000"/>
          </a:xfrm>
          <a:prstGeom prst="rightArrow">
            <a:avLst>
              <a:gd name="adj1" fmla="val 50000"/>
              <a:gd name="adj2" fmla="val 7495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ESTRATEGIA COMPETITIVA</a:t>
            </a: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2274480"/>
            <a:ext cx="80661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nimizan poder de otros elementos sobre ellas manteniendo alternativa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iten por apoyo y buscan prestigi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 la capacidad de apoyo se concentra en pocos elementos, buscan poder relativo a aquellos de quienes depen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301320"/>
            <a:ext cx="641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ULTURA . . 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8200" y="1699920"/>
            <a:ext cx="7561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quello vinculado con la organización que sin definirla, la distingue de las demás y es responsable en gran parte de su éxito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just">
              <a:lnSpc>
                <a:spcPct val="135000"/>
              </a:lnSpc>
              <a:spcBef>
                <a:spcPts val="601"/>
              </a:spcBef>
              <a:buClr>
                <a:srgbClr val="5f5f5f"/>
              </a:buClr>
              <a:buSzPct val="6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Val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just">
              <a:lnSpc>
                <a:spcPct val="135000"/>
              </a:lnSpc>
              <a:spcBef>
                <a:spcPts val="601"/>
              </a:spcBef>
              <a:buClr>
                <a:srgbClr val="5f5f5f"/>
              </a:buClr>
              <a:buSzPct val="6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Red cultu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just">
              <a:lnSpc>
                <a:spcPct val="135000"/>
              </a:lnSpc>
              <a:spcBef>
                <a:spcPts val="601"/>
              </a:spcBef>
              <a:buClr>
                <a:srgbClr val="5f5f5f"/>
              </a:buClr>
              <a:buSzPct val="6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Héro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 algn="just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60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6666"/>
                </a:solidFill>
                <a:latin typeface="Arial"/>
              </a:rPr>
              <a:t>ÉXITO DE LA GESTIÓ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79480" y="224748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ende en gran parte 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pretación de la cultura corporativa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 capacidad para pulirla y darle for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225"/>
              </a:spcBef>
              <a:spcAft>
                <a:spcPts val="1225"/>
              </a:spcAft>
              <a:buClr>
                <a:srgbClr val="5f5f5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ecuación a necesidades cambiantes del merc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IVELES DE FORMACIÓN PARA LA COMUNICACIÓ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2114640"/>
            <a:ext cx="799920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spcBef>
                <a:spcPts val="700"/>
              </a:spcBef>
              <a:spcAft>
                <a:spcPts val="1749"/>
              </a:spcAft>
              <a:buClr>
                <a:srgbClr val="5f5f5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ber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ocimiento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1225"/>
              </a:spcBef>
              <a:spcAft>
                <a:spcPts val="1749"/>
              </a:spcAft>
              <a:buClr>
                <a:srgbClr val="5f5f5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ber hacer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licación de lo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ocimien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ber estar en comunicació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alida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cesaria para l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4211640" y="2276640"/>
            <a:ext cx="936720" cy="215640"/>
          </a:xfrm>
          <a:prstGeom prst="rightArrow">
            <a:avLst>
              <a:gd name="adj1" fmla="val 50000"/>
              <a:gd name="adj2" fmla="val 10859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4653000"/>
            <a:ext cx="936720" cy="216000"/>
          </a:xfrm>
          <a:prstGeom prst="rightArrow">
            <a:avLst>
              <a:gd name="adj1" fmla="val 50000"/>
              <a:gd name="adj2" fmla="val 10841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3068640"/>
            <a:ext cx="936720" cy="216000"/>
          </a:xfrm>
          <a:prstGeom prst="rightArrow">
            <a:avLst>
              <a:gd name="adj1" fmla="val 50000"/>
              <a:gd name="adj2" fmla="val 10841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5:29:14Z</dcterms:created>
  <dc:creator> </dc:creator>
  <dc:description/>
  <dc:language>en-US</dc:language>
  <cp:lastModifiedBy>C.P.C.E.C.A.B.A.</cp:lastModifiedBy>
  <dcterms:modified xsi:type="dcterms:W3CDTF">2005-11-28T13:19:48Z</dcterms:modified>
  <cp:revision>20</cp:revision>
  <dc:subject/>
  <dc:title>prevención de la crisis</dc:title>
</cp:coreProperties>
</file>