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Bookman Old Style"/>
              </a:rPr>
              <a:t>Click to move the slide</a:t>
            </a: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779640" y="9431280"/>
            <a:ext cx="28890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47DFE2-052D-4CFE-BE08-3B60050780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reguladores pueden exceptuar a los préstamos a pequeñas empresas con ventas y activos inferiores a 500 millones de euros, a los que se aplicará M = 2,5 años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vento de default es una variable Bernoulli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= 1 si deudor i default, o 0 en los restantes ca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</a:t>
            </a:r>
            <a:r>
              <a:rPr b="1" lang="es-ES" sz="16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esperanza de la variable aleatoria. La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dia de la variable aleatoria Bernoulli es igual a la probabilidad del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%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es un componente del costo de los préstam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 previsión por incobrabilidad (o reserva) no puede ser inferior a la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</a:t>
            </a:r>
            <a:r>
              <a:rPr b="1" lang="es-ES" sz="1600" spc="-1" strike="noStrike" baseline="-8000">
                <a:solidFill>
                  <a:srgbClr val="000000"/>
                </a:solidFill>
                <a:latin typeface="Times New Roman"/>
                <a:ea typeface="Arial Unicode MS"/>
              </a:rPr>
              <a:t>Mont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asilea II = 99,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Quiebras de bancos: 1%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rrelación activo del deudor con el factor sistem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 = Ventas &lt; 50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b  Ajuste del plazo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oducto intermedio entre el seguro de crédito tradicional y los derivados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curitizaciones tradicional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 (Asset Backed Securit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izaciones sintéticas: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ados de crédito o garant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gencia capital activos securitizado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p.IV Pilar 1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ir de exigencia exposiciones securitizadas si se ha transferido riesgo a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er capital que corresponde a exposiciones reten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B: se aplica a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mos sin rating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órmula de supervisió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rgo de exposiciones subyacentes se apropia a cada tramo en forma inversa a prioridad en el cob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se eleva exponencialmente con baja del ra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corte o venta de présta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planamiento curva IRB: </a:t>
            </a:r>
            <a:r>
              <a:rPr b="1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baja cuando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D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lección activos por contribución a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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 carter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n cartera eficiente, riesgo idiosincrático se divers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pe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John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tne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orporan activo libre de riesgo. Precio de activo acorde a contribución a riesg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e riesgo sistemático y  factor entre corchetes es prima por riesgo por cada unidad de riesgo b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le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puest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* Mercados de capitales perf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* Distribución lognormal de los precios de los tít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ut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 en función del leverage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im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 pérdida esperada en caso de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ccionistas: call europeo = S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aridad put-call de opciones europ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-P =A – B e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ecio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creciente en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Merton: volatilidad fij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ecio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reciente en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los ’60: equipo formado por Sharpe, Black, Scholes y Mer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ón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interviene </a:t>
            </a:r>
            <a:r>
              <a:rPr b="1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asa esperada rendimi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 derivado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ependiente de preferencias individuales: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rsores neutrales al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imiento esperad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asa interés libre de riesgo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frecuencia de default empírica o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F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Única por deu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Estructura de capital de la fi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e obtiene: valor presente A y su  volatilidad (Mert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Permite obtener una estructura temporal de E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presente de flujos futuros: enfoque martingal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actual en base a pr. neutrales en lugar de pr.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por riesgo default se obtiene de bonos que emite el deu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erhart y Keena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Modelos híbridos instrumentos con poca liquidez o mer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s actuariales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áciles de calibrar: préstamos a valores histó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o capturan todo el riesgo de préstamos a largo plazo y  alta calificación (coef.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rdida MTM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CreditMetr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. Transición: datos histó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preads: determiní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Valor activos y </a:t>
            </a:r>
            <a:r>
              <a:rPr b="1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a partir de precio y </a:t>
            </a:r>
            <a:r>
              <a:rPr b="1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de la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nálisis multivalor (países e industrias más significa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mulación Monte Car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a de pérdid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 diferencia entre valor esperado en el horizonte y el realizado, descontada a la tasa libre de riesgo y dividida por valor 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g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valor en horizonte condicional a migrar a g y cashflow descontado a spread de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ólo considera default y no downgrad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s default y recupero exóge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 en base a datos histór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. número de defaults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de Pois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° defaults en promedio anual de cada deu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daptar PD a ciclo económico, se supone 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ocástic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 media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desvío estándar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económicos: variables de intensidad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/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. 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cial: calibración riesgo sectores económicos y su ponderación para cada deu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ción deudores vía sectores económ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dores no independientes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° de defaults en c/sector sigue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. mixta gamma-Poisson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tr. incondicional defaults de c/sector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. binomial negativ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/parámetros 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(1+</a:t>
            </a: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tener descripción analítica de defaults de una cart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alabra empleada en 1959 por Sk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Herrami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struir distr. multivari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vestigar estructuras depen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° Congreso Internacional de Actuarios (París 28 Mayo/2 Junio) auspiciado por International Actuarial Associ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ópico sobre Dependencia estocástica (correlación y dependencia no lineal): Para tratar la aplicación de las cópulas en el seguro de vida y el seguro general  y los modelos estocásticos de los procesos que se emplean en seguros, banca y finanzas y los desarrollos relacionados con la medición de la dependencia entre los riesgos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que “juntan” f. distribución unidimensionales para formar funciones de distribución multivariad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increasing no implica ni es implicada por H es no decreciente en c/arg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x,y)=(2x-1)(2y-1) es 2-increasing, pero decreciente para x,y (0,1/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de Sklar se puede generalizar para n dim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sen “An introduction to Copul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stribución logística bivariada de Gum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ueden establecerse cópulas de supervi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metría radial H(a+x,b+y)=Ĥ(a-x,b-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untos (a+x,b+y) y (a-x,b-y) en radios opuestos que parten de (a,b) y superficies que determinan =volumen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str.normal bivariada  radialm. simétr. respecto (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 H es radialmente simétrica: C(u,v)=Ĉ(u,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enerac. v.a.: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simulación Monte Carlo. Método inversa de la f.distrib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étodos para construir cópul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 mayoría por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inversión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st.bivariada (normal) o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orma direct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cópulas arquimidianas, cópula logística y cópula de Frank, única c/simetría radi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mbrechts, McNeil y Strauman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“Correlation and Dependency in Risk Management” (200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entral en teoría financiera (CAPM y teoría arbitraj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dep. 2 variab. implica no correlación, pero no correlac. no implica indepen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variante en tran.afines positivas (tran.lineales estrict. crecienes):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ist.esféric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densidad constante s/esferas) (normal multivariada indep., t multivariada c/v grados libertad y distr. logística: no correlac. pero no independ) y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ist.elíptic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dens. constante s/elipsoides) (normal con matriz de covarinaz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edida dependencia deseable da 1 va comonótonas y –1 va contramonótonas. Dos va son comonótonas si tienen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y contramonótonas si tienen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VaR no subaditivo: En ciertas distribuciones, el inversor está mejor si duplica un riesgo que si toma 2 riesgos independ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89096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 en T el valor de B excede a A: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v.a. c/distr.normal, media 0 y varianza 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or aplicación del lema de Ito, el log. de A también sigue proceso de Wi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(lnA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/2) dt +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dx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, con media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/2 y varianza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con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distr. log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umbral de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y,z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= v.normales estándares independ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y = estado de la econom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y = exposición deudor a factor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z = riesgo específ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= prob. default no condicional o prom. pr. condic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dicional a y, las variables L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son independie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uando n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, la pérdida de la cartera condicional a y converge por LGN a su esperanza p(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= pérdida porcentual condicional de la cart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= pérdida porcentual má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 = prob.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= correlación de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orma analítica para modelos de factor únic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vita extensos cómputos simulac. Monte Car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one en evidencia estructura depen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str. pérdida cond. a y converge a p(y) aunque los prést. tengan distinta ponder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converge si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uma  valor mínimo(1/n) cuando cartera es homogé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arte requisito capital se cubre con prev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rgo = 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L) – E[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métrica H(x,y)=Ĥ(-x,-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Modo, para 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&lt;1/2 la densidad es unimo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rrelación entre deu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2"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vencia y estabilidad del sistema banc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jor administración del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ia de la reg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B o método basado en las calificaciones inter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4890960" cy="446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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 distrib. puntual concentrada en L =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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 distrib. 0-1, con prob. p y 1-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 distrib. se concentra en L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 distrib. se concentra en L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Portfolio invariant: el capital necesario a partir de incorporación de nuevo préstamo depende sólo de propiedades del préstamo y es independiente de características de cartera y de otros deu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ichel Gordy: (capital asintótico) contribución c/exposición a VaR es invariante frente a cartera s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actor riesgo sistemático unidimens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da exposición es proporción pequeña de cartera cuando n tiende a infinito (riesgo idiosincrático tiende a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ndicional a Y=y, distr. de pérdida porcentual condicional tiende a su esperanza condicional p(y) casi con cert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ndicional a y, var. L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son independientes, E[Var[L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Y]] </a:t>
            </a:r>
            <a:r>
              <a:rPr b="0" i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Var(L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=Var(p(y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a varianza y cuantil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de distr. Incondicional pérdida se aproximan a varianza y cuantil de distribución de esperanza condi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str. pérdidas real P[L%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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] se emplea para estructurar tramos CDO y calcular pérdida esperada de c/tr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*[L%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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] se emplea para valuar tra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(L): pago de CDO depende de pérdida de la cart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 valúa en función esperanza de C(L) respecto de P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rob. de estar debajo de L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habiendo alcanzado p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Gordy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ajuste empí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apital asintótic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 capital calculado mediante fórmula analítica para carteras infinitas y diversific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ferencia VaR cartera homogénea finita (prést. mismo tamaño) y aproxim. asintótica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porcional a 1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juste por granularidad es función lineal de 1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asa convergencia 1/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(hay que duplicar n para que la diferencia de reduzca a mit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arteras no homogénea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 se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apea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cartera homog. comparable (n=inversa índice Herfindahl = 1/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 haciendo coincidir momentos distribución pér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Tratamiento correlación: pasó del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ilar 1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 control concent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 la cartera es homogénea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de-DE" sz="16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1/n para todo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so contrario, (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de-DE" sz="16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de-DE" sz="16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de-DE" sz="16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-1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o inversa de índice Herfindahl), es el tamaño necesario para construir una cartera homogénea  equival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n caso de la cartera asintótica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de-DE" sz="16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de-DE" sz="16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iende a 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rteras riesgo idiosincrático (aprox.derivadas parciales)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invaria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respecto composición cart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 función homogénea positiva orden 1 respecto w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 T. Euler: representar requisito individual en carteras con r.  idiosincrático mediante suma q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ma req.individuales </a:t>
            </a: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signación completa 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VaR deficiente como medida riesg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ncentración expos. en evento c/baja prob. puede reducir exig. capital. Si se divide cartera se puede manipular 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o da inform. s/distribuc. más allá de cuantil obje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pected excess los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s-ES" sz="1600" spc="-1" strike="noStrike" baseline="-16000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tal que pérdida esperada en exceso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objetiv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= tasa pérdida esperada que agencia seguro depósitos puede esperar en caso fal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Sensible a la cola de la distribució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de la pér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No invaria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frente a la composición de la carte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rteras homogéneas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 b,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c/EEL c</a:t>
            </a:r>
            <a:r>
              <a:rPr b="0" lang="es-ES" sz="1600" spc="-1" strike="noStrike" baseline="-16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y c</a:t>
            </a:r>
            <a:r>
              <a:rPr b="0" lang="es-ES" sz="1600" spc="-1" strike="noStrike" baseline="-16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y objetivo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16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= (c</a:t>
            </a:r>
            <a:r>
              <a:rPr b="0" lang="es-ES" sz="1600" spc="-1" strike="noStrike" baseline="-16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s-ES" sz="1600" spc="-1" strike="noStrike" baseline="-16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 EEL fuera invariante, no se produciría desigual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omo en general umbral de Y al que E[L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y]= c no es igual para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" sz="1600" spc="-1" strike="noStrike" baseline="-16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a inecuación es estri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914400" y="7467480"/>
                <a:ext cx="53341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|</m:t>
                                    </m:r>
                                    <m:r>
                                      <m:t xml:space="preserve">y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E</m:t>
                                    </m:r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y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E</m:t>
                                    </m:r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r>
                                          <m:t xml:space="preserve">y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babilidad condicional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probabilidad de default que se atribuiría al deudor si se supiera cuáles serán los valores de los factores de riesgo sistemáticos dentro del horizonte tempor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babilidad incondicional o PD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abilidad de default dentro de un horizonte temporal, dada toda la información actualmente disponible. Es el promedio de las probabilidades condicionales de default a través de todas las realizaciones posibles de los factores de riesgo sistemát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 idiosincrático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dicional a la realización de los factores sistemáticos, el remanente del riesgo de crédito es idiosincrático de cada deudor individual y se anula en las carteras diversific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Estimación de la PD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 del mercado (spread/capitalización de merc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ngs crediticios (propios o agencias calificador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quisitos para aplicar el método IRB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ción cuantitativa razonablemente prec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s compatibles con el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intern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er utilizado el sistema de calificación durante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años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es de ser admitido en el método I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bancos que apliquen el método IRB deben hacer su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as estimaciones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iesgo únic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salvo por garantías admisibles, riesgo país, moneda nacional o extranj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scenarios de tensió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: vulnerabilidad del deudor a circunstancias económicas adver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Jon Fry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“Collateral damage” “Depressing Recoveri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rye, Pykhtin y Dev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: ciclo económico incide en el n° de defaults y en valor de las garantías. Además de la v.a. que describe solvencia, hay v.a. que representa el valor nominal que se pierde en caso de default: es la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GD potencial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que captura “collateral damag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D condicional,  LGD condicional  y pérdida asintótica son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nciones decrecientes de Y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 Percentil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de distribución de pérdida determinado por percentil (1-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) de econom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GD v.a.independiente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en los modelos comerciales y Basilea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89E-51B7-4894-B751-475F7392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0B51-11E1-470D-BC64-27309D64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FD8-B6A4-4D74-9E58-3B341C56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F8E-5532-405D-9FFA-155F1798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946-7192-4696-AF2B-FDF9BB61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D37-040D-4925-A426-43B77793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EAE-718F-4AF6-922E-D3BAE49A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180-E34C-409A-865C-A42258A1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22B-C858-491B-BAC4-080DE88B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D57-27BA-46A1-A492-2FC17DCF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BF9-478A-400C-A20E-32579B7D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949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809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6E2-F51A-494F-9166-8BDF453D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809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949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809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87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solidFill>
            <a:srgbClr val="598b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78c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78c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78c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78c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78c0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solidFill>
            <a:srgbClr val="598b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solidFill>
            <a:srgbClr val="598bb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Bookman Old Style"/>
              </a:rPr>
              <a:t>Click to edit the title text format</a:t>
            </a:r>
            <a:endParaRPr b="1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9B4C-94BA-4998-9434-139186742593}" type="slidenum"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INSTITUTO ACTUARIAL ARGENTINO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LAN DE BECAS 2004</a:t>
            </a:r>
            <a:r>
              <a:rPr b="0" lang="en-GB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541160"/>
            <a:ext cx="8001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eterminación de requerimientos mínimos de capital conforme criterios de valor a riesgo en entidades financieras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 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Autor: Act. Delia Novello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Tutor: Act. Daniel Sarto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6676-3EBB-4BB7-BED3-739F677E8A70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LGD </a:t>
            </a:r>
            <a:r>
              <a:rPr b="0" lang="es-ES" sz="2000" spc="-1" strike="noStrike">
                <a:solidFill>
                  <a:srgbClr val="333333"/>
                </a:solidFill>
                <a:latin typeface="Bookman Old Style"/>
              </a:rPr>
              <a:t>(cont.)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Variantes del enfoque IRB: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47640" indent="-2818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étodo básico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537560" indent="-21924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réstamos senior sin garantías: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45%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537560" indent="-21924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réstamos subordinados: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75%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537560" indent="-21924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Reducción s/garantía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47640" indent="-28188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étodo avanzado</a:t>
            </a:r>
            <a:r>
              <a:rPr b="0" lang="es-ES" sz="2400" spc="-1" strike="noStrike">
                <a:solidFill>
                  <a:srgbClr val="800080"/>
                </a:solidFill>
                <a:latin typeface="Bookman Old Style"/>
                <a:ea typeface="Arial"/>
              </a:rPr>
              <a:t> - 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Requisitos: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537560" indent="-21924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LGD no inferior a tasa pérdida de largo plazo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537560" indent="-21924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osibilidad: mayor que valor medio durante períodos de depresión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537560" indent="-21924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ependencia entre riesgo del deudor y riesgo del garante o la garantí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47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   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Observación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537560" indent="-21924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réditos minoristas: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5 año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537560" indent="-21924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Resto: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7 año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2B0B-D959-4610-AFD0-CB7DDC793966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Exposición a la fecha de default (</a:t>
            </a:r>
            <a:r>
              <a:rPr b="0" lang="es-ES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EAD)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ashflows a riesgo más allá del horizonte temporal de: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lnSpc>
                <a:spcPct val="90000"/>
              </a:lnSpc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réstamos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lnSpc>
                <a:spcPct val="90000"/>
              </a:lnSpc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réditos (acuerdos para girar y líneas de crédito)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lnSpc>
                <a:spcPct val="90000"/>
              </a:lnSpc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erivados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alor en función de curva de tasas de interés futuras correspondiente a calidad crediticia del deudor 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97E1-5DC3-4110-802B-18B2E743E9C0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EAD</a:t>
            </a:r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Bookman Old Style"/>
              </a:rPr>
              <a:t>(cont.)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étodo avanzado</a:t>
            </a:r>
            <a:r>
              <a:rPr b="0" lang="es-ES" sz="2800" spc="-1" strike="noStrike">
                <a:solidFill>
                  <a:srgbClr val="800080"/>
                </a:solidFill>
                <a:latin typeface="Bookman Old Style"/>
                <a:ea typeface="Arial"/>
              </a:rPr>
              <a:t>: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cálculo de los banco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8576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Observación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60164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réditos minoristas: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5 año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60164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Resto: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7 año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étodo básico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saldos de balance + cuentas de orden (factores de conversión):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8576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ompromisos cancelables unilateralmente CCF=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0%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8576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ompromisos plazo inicial hasta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un año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CCF= 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20%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8576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ompromisos con plazo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ás de un año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CCF =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50%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C788-34F6-4A5F-BB2B-EB2A37B5BD96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Vencimiento efectivo (M)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Horizonte temporal cálculo PD: 1 año. 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oeficiente M: mayor riesgo plazo superior 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étodo básico: M = 2,5 años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étodo avanzado (CF:</a:t>
            </a:r>
            <a:r>
              <a:rPr b="0" i="1" lang="en-U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flujos de fondos)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048120" y="4846680"/>
                <a:ext cx="251460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D7B2-5EBD-4E10-90EC-524F16793663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P</a:t>
            </a:r>
            <a:r>
              <a:rPr b="0" lang="es-ES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érdida esperada</a:t>
            </a:r>
            <a:r>
              <a:rPr b="0" lang="en-GB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 (EL)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943600" cy="1517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7925040" cy="110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80880" y="5029200"/>
                <a:ext cx="50292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nt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AD</m:t>
                    </m:r>
                    <m:r>
                      <m:t xml:space="preserve"> </m:t>
                    </m:r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ED96-292C-450F-8119-CED0B8607F7E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P</a:t>
            </a:r>
            <a:r>
              <a:rPr b="0" lang="es-ES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érdida inesperada</a:t>
            </a:r>
            <a:r>
              <a:rPr b="0" lang="en-GB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 (</a:t>
            </a:r>
            <a:r>
              <a:rPr b="0" lang="es-ES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U</a:t>
            </a:r>
            <a:r>
              <a:rPr b="0" lang="en-GB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L)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04920" y="1371600"/>
          <a:ext cx="838188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371600"/>
                    <a:ext cx="8381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BBAD-06A1-4EE2-80E1-5C879FB19D99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Requisito de capital según Basilea II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1137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7467480" cy="1244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80880" y="5029200"/>
            <a:ext cx="3810240" cy="696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9F4A-C02D-4111-A6A4-5C884AF43A1B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Correlación de activos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85640" indent="-2952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Empresas, deuda soberana y banco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952560" indent="-27612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A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</a:rPr>
              <a:t>mayor PD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,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</a:rPr>
              <a:t>menor </a:t>
            </a:r>
            <a:r>
              <a:rPr b="1" i="1" lang="es-ES" sz="2400" spc="-1" strike="noStrike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330200" indent="-1872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PD 100% </a:t>
            </a:r>
            <a:r>
              <a:rPr b="0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i="1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=12%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330200" indent="-1872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PD     0% </a:t>
            </a:r>
            <a:r>
              <a:rPr b="0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i="1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=24%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952560" indent="-27612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A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</a:rPr>
              <a:t>mayor tamaño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 de firma, 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</a:rPr>
              <a:t>mayor </a:t>
            </a:r>
            <a:r>
              <a:rPr b="1" i="1" lang="es-ES" sz="2400" spc="-1" strike="noStrike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330200" indent="-1872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Ventas anuales (S) menores a 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€ 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50 mill. </a:t>
            </a:r>
            <a:r>
              <a:rPr b="0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Se deduce el ajuste por tamaño de la firma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330200" indent="-1872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El ajuste por tamaño no se aplica a bancos y soberanos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1" marL="485640" indent="-2952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Cartera minorista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330200" indent="-1872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Hipotecas </a:t>
            </a:r>
            <a:r>
              <a:rPr b="0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i="1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=15%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330200" indent="-1872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Revolving </a:t>
            </a:r>
            <a:r>
              <a:rPr b="0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i="1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r>
              <a:rPr b="0" i="1" lang="es-ES" sz="20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=  4%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330200" indent="-18720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Otros </a:t>
            </a:r>
            <a:r>
              <a:rPr b="0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i="1" lang="es-ES" sz="2000" spc="-1" strike="noStrike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= entre 3% y 16%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48CA-BD7B-4DC1-A13A-AF466D291EBA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Requisito de capital </a:t>
            </a:r>
            <a:r>
              <a:rPr b="0" lang="es-ES" sz="2000" spc="-1" strike="noStrike">
                <a:solidFill>
                  <a:srgbClr val="333333"/>
                </a:solidFill>
                <a:latin typeface="Bookman Old Style"/>
              </a:rPr>
              <a:t>(cont.)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Ajuste por vencimiento efectivo</a:t>
            </a:r>
            <a:r>
              <a:rPr b="0" lang="en-U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485640" indent="-2952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Bookman Old Style"/>
              </a:rPr>
              <a:t>Empresas, deuda soberana y banco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239840" indent="-29520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Bookman Old Style"/>
              </a:rPr>
              <a:t>Créditos a largo plazo aportan más riesg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239840" indent="-29520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Bookman Old Style"/>
              </a:rPr>
              <a:t>Se ajustan por el vencimiento efectivo (M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239840" indent="-29520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Bookman Old Style"/>
              </a:rPr>
              <a:t>A </a:t>
            </a:r>
            <a:r>
              <a:rPr b="1" lang="en-US" sz="2800" spc="-1" strike="noStrike">
                <a:solidFill>
                  <a:srgbClr val="00264c"/>
                </a:solidFill>
                <a:latin typeface="Bookman Old Style"/>
              </a:rPr>
              <a:t>mayor PD</a:t>
            </a:r>
            <a:r>
              <a:rPr b="0" lang="en-US" sz="2800" spc="-1" strike="noStrike">
                <a:solidFill>
                  <a:srgbClr val="00264c"/>
                </a:solidFill>
                <a:latin typeface="Bookman Old Style"/>
              </a:rPr>
              <a:t>, </a:t>
            </a:r>
            <a:r>
              <a:rPr b="1" lang="en-US" sz="2800" spc="-1" strike="noStrike">
                <a:solidFill>
                  <a:srgbClr val="00264c"/>
                </a:solidFill>
                <a:latin typeface="Bookman Old Style"/>
              </a:rPr>
              <a:t>menor</a:t>
            </a:r>
            <a:r>
              <a:rPr b="0" lang="en-US" sz="2800" spc="-1" strike="noStrike">
                <a:solidFill>
                  <a:srgbClr val="00264c"/>
                </a:solidFill>
                <a:latin typeface="Bookman Old Style"/>
              </a:rPr>
              <a:t> coeficiente </a:t>
            </a:r>
            <a:r>
              <a:rPr b="1" i="1" lang="en-US" sz="2800" spc="-1" strike="noStrike">
                <a:solidFill>
                  <a:srgbClr val="00264c"/>
                </a:solidFill>
                <a:latin typeface="Bookman Old Style"/>
              </a:rPr>
              <a:t>b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485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485640" indent="-29520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Bookman Old Style"/>
              </a:rPr>
              <a:t>Cartera minorista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239840" indent="-29520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Bookman Old Style"/>
              </a:rPr>
              <a:t>No se ajusta por vencimiento efectivo (M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66AE-47FB-4264-9111-3DEC2B56683F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Securitización de activos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Tramos de una securitización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981080"/>
          <a:ext cx="86868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8686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Bookman Old Style"/>
              </a:rPr>
              <a:t>ÍNDICE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I - EL RIESGO DE CRÉDITO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Componentes y prociclicidad de la exigencia s/Basilea II.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II - LA MEDICIÓN DEL RIESGO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Valuación a mercado y neutral al riesgo, modelos de riesgo.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III – CÓPULAS Y ESTRUCTURAS DE DEPENDENCIA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Definiciones y medidas de riesgo coherentes.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IV – RIESGO SISTEMÁTICO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Modelos de Merton y de Vasicek para la probabilidad de pérdida de la carter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 – RIESGO NO SISTEMÁTICO en el VaR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Ajuste por granularidad, expected shortfall, expected excess loss.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A3FD-B566-4EA0-A20D-59423FF01978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Prociclicidad de la exigencia de capital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78000" indent="-187560"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Bookman Old Style"/>
              </a:rPr>
              <a:t>Mayor sensibilidad al riesgo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Bookman Old Style"/>
              </a:rPr>
              <a:t>Sensible a ciclos de crédito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n-US" sz="3600" spc="-1" strike="noStrike">
                <a:solidFill>
                  <a:srgbClr val="00264c"/>
                </a:solidFill>
                <a:latin typeface="Bookman Old Style"/>
              </a:rPr>
              <a:t>Administración activa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Bookman Old Style"/>
              </a:rPr>
              <a:t>Soluciones: 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3" marL="952560" indent="-18756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Bookman Old Style"/>
              </a:rPr>
              <a:t>PD reflejo de riesgo a largo plazo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3" marL="952560" indent="-18756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Bookman Old Style"/>
              </a:rPr>
              <a:t>Aplanamiento curva IRB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Determinación de requerimientos mínimos de capital conforme criterios de valor a riesgo en entidades financieras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541160"/>
            <a:ext cx="8001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La medición del riesgo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 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1E19-C140-4650-BCEC-B68820D09F17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Evolución de los modelos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74560" indent="-19368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1952 Markowitz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rincipios selección de carter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9368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1958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odigliani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y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iller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Estructura de capital de la firma no tiene incidencia en su valor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9368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’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60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Sharpe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y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Lintner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Activo libre de riesgo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438280" y="3962520"/>
                <a:ext cx="40388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 rot="10800000">
                <a:off x="1143000" y="5466600"/>
                <a:ext cx="754380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4A47-3812-4620-BF0B-5EE1C50CC683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Evolución de los modelos </a:t>
            </a:r>
            <a:r>
              <a:rPr b="0" lang="es-ES" sz="2000" spc="-1" strike="noStrike">
                <a:solidFill>
                  <a:srgbClr val="333333"/>
                </a:solidFill>
                <a:latin typeface="Bookman Old Style"/>
              </a:rPr>
              <a:t>(cont.)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74560" indent="-19368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1973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Black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y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Scholes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/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erton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valuación opcione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9368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Riesgo crédito = put europeo s/valor activo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42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42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42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42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42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42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42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42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42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9368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’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80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modelo riesgo carteras de crédito de O.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asicek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3200400"/>
                <a:ext cx="7619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9480" y="3809880"/>
                <a:ext cx="388620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90720" y="243828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876920" y="3809880"/>
                <a:ext cx="38098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14400" y="5334120"/>
                <a:ext cx="57150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S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32AB-7EF2-442A-99AE-31D68A1D0A01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Valuación neutral al riesgo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74560" indent="-19368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n ecuación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BS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no interviene </a:t>
            </a:r>
            <a:r>
              <a:rPr b="1" i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9368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Inversores neutrales al riesgo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 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Rendimiento esperado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tasa interés libre de riesgo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9368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No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arbitraje sin riesgos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cartera (activo + opción que asegura  su valor)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rendimiento </a:t>
            </a:r>
            <a:r>
              <a:rPr b="0" i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r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9368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Si se remueve el supuesto de neutralidad al riesgo: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90720" y="5867280"/>
                <a:ext cx="16761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733920" y="5257800"/>
                <a:ext cx="449568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49CD-BACC-4DF1-B3E1-D9ACB977C025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Valuación neutral al riesgo/KMV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D neutral 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al riesgo como función</a:t>
            </a: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PD REAL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odelo KMV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9368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DF (expected default frequency) es PD neutral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9368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alor presente en base a probabilidades neutrale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914400" y="1676520"/>
                <a:ext cx="2286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62520" y="1676520"/>
                <a:ext cx="335268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762120" y="4038480"/>
                <a:ext cx="76197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G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GD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5029200"/>
                <a:ext cx="411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LG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CF1A-85CA-403B-9F32-458E1B7DBC5A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Valuación a mercado/CreditMetrics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odelos actuariale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érdida MTM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(mark-to-market)(CreditMetrics):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Capturan migración en el rating creditici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Más difícil de definir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0" y="3733920"/>
                <a:ext cx="9144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T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G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D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0" y="5105520"/>
                <a:ext cx="65530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T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7B5F-3B79-4C0B-B0EC-2F3BF4CF524E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CreditRisk+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568800" indent="-19152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efault y recupero exógenos. PD s/datos históricos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-19152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N° defaults c/deudor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istribución de Poisson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-19152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romedio n° defaults estocástico </a:t>
            </a:r>
            <a:r>
              <a:rPr b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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con media </a:t>
            </a:r>
            <a:r>
              <a:rPr b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=PD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. </a:t>
            </a:r>
            <a:r>
              <a:rPr b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</a:t>
            </a:r>
            <a:r>
              <a:rPr b="1" lang="es-ES_tradnl" sz="2400" spc="-1" strike="noStrike" baseline="30000">
                <a:solidFill>
                  <a:srgbClr val="00264c"/>
                </a:solidFill>
                <a:latin typeface="Bookman Old Style"/>
                <a:ea typeface="Times New Roman"/>
              </a:rPr>
              <a:t>s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.a. independiente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ist. Gamma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, </a:t>
            </a:r>
            <a:r>
              <a:rPr b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 baseline="-25000">
                <a:solidFill>
                  <a:srgbClr val="00264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=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</a:t>
            </a:r>
            <a:r>
              <a:rPr b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imes New Roman"/>
                <a:ea typeface="Times New Roman"/>
              </a:rPr>
              <a:t>s</a:t>
            </a:r>
            <a:r>
              <a:rPr b="1" lang="es-ES_tradnl" sz="2400" spc="-1" strike="noStrike" baseline="30000">
                <a:solidFill>
                  <a:srgbClr val="00264c"/>
                </a:solidFill>
                <a:latin typeface="Bookman Old Style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=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264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 baseline="30000">
                <a:solidFill>
                  <a:srgbClr val="00264c"/>
                </a:solidFill>
                <a:latin typeface="Bookman Old Style"/>
                <a:ea typeface="Times New Roman"/>
              </a:rPr>
              <a:t>2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-19152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N° defaults c/sector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ist. mixta Gamma-Poisson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    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-19152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istrib. incondicional de defaults de c/sector  </a:t>
            </a:r>
            <a:r>
              <a:rPr b="0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istrib.binomial negativa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, parámetros </a:t>
            </a:r>
            <a:r>
              <a:rPr b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 baseline="-25000">
                <a:solidFill>
                  <a:srgbClr val="00264c"/>
                </a:solidFill>
                <a:latin typeface="Bookman Old Style"/>
                <a:ea typeface="Times New Roman"/>
              </a:rPr>
              <a:t>S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y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1/(1+</a:t>
            </a:r>
            <a:r>
              <a:rPr b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 baseline="-25000">
                <a:solidFill>
                  <a:srgbClr val="00264c"/>
                </a:solidFill>
                <a:latin typeface="Bookman Old Style"/>
                <a:ea typeface="Times New Roman"/>
              </a:rPr>
              <a:t>S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)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-19152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istrib. defaults cartera: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onvolución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de distrib. de los sectores (s/supuesto de independencia de </a:t>
            </a:r>
            <a:r>
              <a:rPr b="1" lang="es-ES_tradnl" sz="2400" spc="-1" strike="noStrike">
                <a:solidFill>
                  <a:srgbClr val="00264c"/>
                </a:solidFill>
                <a:latin typeface="Symbol"/>
                <a:ea typeface="Symbol"/>
              </a:rPr>
              <a:t></a:t>
            </a:r>
            <a:r>
              <a:rPr b="1" lang="es-ES_tradnl" sz="2400" spc="-1" strike="noStrike" baseline="30000">
                <a:solidFill>
                  <a:srgbClr val="00264c"/>
                </a:solidFill>
                <a:latin typeface="Bookman Old Style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)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838080" y="2209680"/>
                <a:ext cx="62071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Determinación de requerimientos mínimos de capital conforme criterios de valor a riesgo en entidades financieras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41160"/>
            <a:ext cx="8001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ópulas y estructuras de dependencia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 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89E5-A4C0-4DBF-AFBE-2F60C281B6C8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Cópulas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Una función </a:t>
            </a:r>
            <a:r>
              <a:rPr b="1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</a:t>
            </a: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s una cópula si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942840" indent="-18540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Es creciente s/2 argumento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942840" indent="-18540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Para todo </a:t>
            </a:r>
            <a:r>
              <a:rPr b="0" i="1" lang="es-ES" sz="2800" spc="-1" strike="noStrike">
                <a:solidFill>
                  <a:srgbClr val="00264c"/>
                </a:solidFill>
                <a:latin typeface="Bookman Old Style"/>
              </a:rPr>
              <a:t>u,v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ε [0,1]    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94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  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(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,1)=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  C(1,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)=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 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   C(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,0)=0=C(0,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94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Teorema de Sklar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Sea 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una f. distr. conjunta con márgenes 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F 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y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G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. Entonces existe una cópula 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tal que para todo 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x,y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-19152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Si </a:t>
            </a:r>
            <a:r>
              <a:rPr b="0" i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F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y</a:t>
            </a:r>
            <a:r>
              <a:rPr b="0" i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G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son continuas, </a:t>
            </a:r>
            <a:r>
              <a:rPr b="0" i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es únic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-19152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Si no son continuas, </a:t>
            </a:r>
            <a:r>
              <a:rPr b="0" i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 es una cópula posible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68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438280" y="4876920"/>
                <a:ext cx="37339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Determinación de requerimientos mínimos de capital conforme criterios de valor a riesgo en entidades financieras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41160"/>
            <a:ext cx="8001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l riesgo de crédito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 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766E-07F5-4943-BD8A-20192986309A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Ejemplos de cópulas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088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Función normal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F. logística con marginales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ópulas de supervivenci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5716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Función de supervivencia 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3" marL="5716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Función de supervivencia conjunta   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3" marL="571680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000" spc="-1" strike="noStrike">
                <a:solidFill>
                  <a:srgbClr val="00264c"/>
                </a:solidFill>
                <a:latin typeface="Bookman Old Style"/>
              </a:rPr>
              <a:t>Cópula de supervivencia</a:t>
            </a: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3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09480" y="1752480"/>
                <a:ext cx="4191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1432080"/>
                <a:ext cx="3581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</m:e>
                                </m: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85800" y="3505320"/>
                <a:ext cx="36576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/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/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952880" y="2819520"/>
                <a:ext cx="2057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/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238880" y="2819520"/>
                <a:ext cx="1905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p>
                                  <m:e/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y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52880" y="3429000"/>
                <a:ext cx="28958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562720" y="4876920"/>
                <a:ext cx="25905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F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486400" y="5334120"/>
                <a:ext cx="25909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&gt;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14400" y="5945040"/>
                <a:ext cx="60199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limUpp>
                      <m:e>
                        <m:r>
                          <m:t xml:space="preserve">C</m:t>
                        </m:r>
                      </m:e>
                      <m:lim/>
                    </m:limUp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G</m:t>
                            </m:r>
                          </m:e>
                        </m:ba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7F64-42C2-4EFD-A56C-837849EC0343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Dependencia y medidas de riesgo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orrelación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819720" indent="-27072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Sólo una de las medidas de dependenci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819720" indent="-27072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A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licable a las distribuciones esféricas y elíptica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81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esventajas de la correlación lineal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819720" indent="-27072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orrelación 0 no implica independenci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819720" indent="-270720">
              <a:lnSpc>
                <a:spcPct val="90000"/>
              </a:lnSpc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No invariante bajo transformaciones estrictamente crecientes no lineales. En general, para vectores normalmente distribuido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81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81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</a:rPr>
              <a:t>VaR no es una medida de riesgo subaditiv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64c"/>
                </a:solidFill>
                <a:latin typeface="Bookman Old Style"/>
              </a:rPr>
              <a:t>VaR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</a:rPr>
              <a:t>es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</a:rPr>
              <a:t>medida de riesgo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</a:rPr>
              <a:t>coherente 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</a:rPr>
              <a:t>en f. elíptica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743200" y="4724280"/>
                <a:ext cx="3429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ρ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T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ρ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F2A6-E0BC-4B20-B41D-C2EBA256973F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Medidas de riesgo coherentes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74640" indent="-29376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F.elípticas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: otras medidas riesgo coherentes 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150920" indent="-28584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264c"/>
                </a:solidFill>
                <a:latin typeface="Bookman Old Style"/>
              </a:rPr>
              <a:t>VaR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y </a:t>
            </a:r>
            <a:r>
              <a:rPr b="0" i="1" lang="es-ES" sz="2800" spc="-1" strike="noStrike">
                <a:solidFill>
                  <a:srgbClr val="00264c"/>
                </a:solidFill>
                <a:latin typeface="Bookman Old Style"/>
              </a:rPr>
              <a:t>expected shortfall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producen valores numéricos diferentes, per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150920" indent="-28584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ambos se minimizan si se minimiza la varianza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150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74640" indent="-29376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Propiedades medidas de riesgo coherente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150920" indent="-28584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Positividad: X 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0: g(X) 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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0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150920" indent="-28584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Subaditividad: g(X+Y) 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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g(X)+g(Y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150920" indent="-28584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Homogeneidad positiva: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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0: g(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X)= 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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g(X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150920" indent="-28584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Invarianza de la traslación:g(X+a) = g(X)+a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Determinación de requerimientos mínimos de capital conforme criterios de valor a riesgo en entidades financieras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41160"/>
            <a:ext cx="8001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l riesgo sistemático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 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AEEC-14E7-4303-AD5A-3F5C97BBA924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El default en el modelo de Merton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Valor activos 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movimiento brownian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x es un proceso de Wiener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X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Bookman Old Style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 variable c/distribución normal estándar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</a:t>
            </a: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</a:rPr>
              <a:t>,</a:t>
            </a:r>
            <a:r>
              <a:rPr b="1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 tasa instantánea retorno activos (dA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Bookman Old Style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/A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Bookman Old Style"/>
              </a:rPr>
              <a:t>i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666880" y="1158840"/>
                <a:ext cx="3581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438280" y="2590920"/>
                <a:ext cx="3657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80880" y="3886200"/>
                <a:ext cx="2286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276720" y="3886200"/>
                <a:ext cx="1828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638680" y="3962520"/>
                <a:ext cx="259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4B1A-67BC-474B-84C6-78CFAF599408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Probabilidad de default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57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-19332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Si eventos de default independientes, distrib. pérdida  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distr. normal por TCL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-19332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No son independientes. Vasicek demostró que converge a una forma límite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133720" y="1143000"/>
                <a:ext cx="487656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σ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0" y="2438280"/>
                <a:ext cx="9144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05120" y="3276720"/>
                <a:ext cx="51051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61E2-0C8B-4B76-A9FA-C2F69A370BEC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Pérdida de la cartera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76360" indent="0"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499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-195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Probabilidad condicional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700"/>
              </a:spcBef>
              <a:buNone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601"/>
              </a:spcBef>
              <a:buNone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-195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Condicional a Y, variables Li independientes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700"/>
              </a:spcBef>
              <a:buNone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 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601"/>
              </a:spcBef>
              <a:buNone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-195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Probabilidad de que L</a:t>
            </a:r>
            <a:r>
              <a:rPr b="0" lang="es-ES" sz="2800" spc="-1" strike="noStrike" baseline="-16000">
                <a:solidFill>
                  <a:srgbClr val="00264c"/>
                </a:solidFill>
                <a:latin typeface="Bookman Old Style"/>
              </a:rPr>
              <a:t>%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no exceda de 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590920" y="1219320"/>
                <a:ext cx="3504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Y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43000" y="2514600"/>
                <a:ext cx="69343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Y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+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e>
                    </m:rad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ρ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3962520"/>
                <a:ext cx="9144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ρ</m:t>
                                            </m:r>
                                          </m:e>
                                        </m:rad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d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 </m:t>
                                        </m:r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rad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Y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ρ</m:t>
                                        </m:r>
                                      </m:e>
                                    </m:rad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rad>
                                    <m:r>
                                      <m:t xml:space="preserve"> </m:t>
                                    </m:r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200400" y="5862600"/>
                <a:ext cx="25909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</m:e>
                        </m:d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E5F5-1976-4614-BE4E-5C1C490F356B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Pérdida de la cartera </a:t>
            </a:r>
            <a:r>
              <a:rPr b="0" lang="es-ES" sz="2000" spc="-1" strike="noStrike">
                <a:solidFill>
                  <a:srgbClr val="333333"/>
                </a:solidFill>
                <a:latin typeface="Bookman Old Style"/>
              </a:rPr>
              <a:t>(cont.)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76360" indent="-195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Si n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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, L</a:t>
            </a:r>
            <a:r>
              <a:rPr b="0" lang="es-ES" sz="2800" spc="-1" strike="noStrike" baseline="-16000">
                <a:solidFill>
                  <a:srgbClr val="00264c"/>
                </a:solidFill>
                <a:latin typeface="Bookman Old Style"/>
              </a:rPr>
              <a:t>%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condicional a Y </a:t>
            </a:r>
            <a:r>
              <a:rPr b="0" lang="es-ES" sz="3200" spc="-1" strike="noStrike">
                <a:solidFill>
                  <a:srgbClr val="00264c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esperanza p(</a:t>
            </a:r>
            <a:r>
              <a:rPr b="0" i="1" lang="es-ES" sz="2800" spc="-1" strike="noStrike">
                <a:solidFill>
                  <a:srgbClr val="00264c"/>
                </a:solidFill>
                <a:latin typeface="Bookman Old Style"/>
              </a:rPr>
              <a:t>Y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-195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Entonces, f.d. pérdida de cartera grande e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-195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Inversa (cuantil 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L</a:t>
            </a:r>
            <a:r>
              <a:rPr b="0" lang="es-ES" sz="2800" spc="-1" strike="noStrike" baseline="-25000">
                <a:solidFill>
                  <a:srgbClr val="00264c"/>
                </a:solidFill>
                <a:latin typeface="Bookman Old Style"/>
              </a:rPr>
              <a:t>%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) es exigencia capital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00400" y="1981080"/>
                <a:ext cx="23623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523880" y="5257800"/>
                <a:ext cx="594360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ρ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57200" y="3505320"/>
                <a:ext cx="8077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ρ</m:t>
                                    </m:r>
                                  </m:e>
                                </m:ra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≤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ρ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998D-79B4-40EF-BABC-84069E7D0BE9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Propiedades de la distribución de pérdidas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088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Distribución continua en el intervalo 0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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Con media y varianza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Densidad (unimodal cuando </a:t>
            </a:r>
            <a:r>
              <a:rPr b="0" i="1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&lt; ½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2120" y="1676520"/>
                <a:ext cx="69339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;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ρ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0880" y="4419720"/>
                <a:ext cx="87631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;</m:t>
                        </m:r>
                        <m:r>
                          <m:t xml:space="preserve">p</m:t>
                        </m:r>
                        <m:r>
                          <m:t xml:space="preserve">;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θ</m:t>
                        </m:r>
                      </m:den>
                    </m:f>
                    <m:r>
                      <m:t xml:space="preserve">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ρ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ρ</m:t>
                                        </m:r>
                                      </m:e>
                                    </m:rad>
                                    <m:r>
                                      <m:t xml:space="preserve"> </m:t>
                                    </m:r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d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d>
                                    <m:r>
                                      <m:t xml:space="preserve"> 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38080" y="3200400"/>
                <a:ext cx="1295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505320" y="3200400"/>
                <a:ext cx="51051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,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590920" y="5570640"/>
                <a:ext cx="373356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ra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356F-633D-4C49-BB0A-E0774F4D791F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Propiedades </a:t>
            </a:r>
            <a:r>
              <a:rPr b="0" lang="es-ES" sz="2000" spc="-1" strike="noStrike">
                <a:solidFill>
                  <a:srgbClr val="333333"/>
                </a:solidFill>
                <a:latin typeface="Bookman Old Style"/>
              </a:rPr>
              <a:t>(cont.)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088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Asimétrica y leptocúrtica: mayor exigencia de capital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04920" y="838080"/>
          <a:ext cx="8610480" cy="601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838080"/>
                    <a:ext cx="86104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5FB1-97AA-429A-A060-F6A6FD2A5DC3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- Riesgo de crédito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Bookman Old Style"/>
              </a:rPr>
              <a:t>Regulación internacional: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1" marL="76356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Acuerdo BIS 1988 (8% activos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763560" indent="-28584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Convergencia internacional de medidas y normas de capital–Marco revisado;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2004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étodo estándar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(Standarised Approach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nfoque IRB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(Internal Ratings-Based Approach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64c"/>
                </a:solidFill>
                <a:latin typeface="Bookman Old Style"/>
              </a:rPr>
              <a:t>Pérdida: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default del deudor (KMV, CreditRisk+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deterioro valor de mercado (CreditMetrics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AC37-F337-4529-BE98-14E6776A4B00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Distribución según valores de </a:t>
            </a:r>
            <a:r>
              <a:rPr b="0" i="1" lang="es-ES_tradnl" sz="2800" spc="-1" strike="noStrike">
                <a:solidFill>
                  <a:srgbClr val="333333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 (p=2%)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04920" y="1066680"/>
          <a:ext cx="8610480" cy="5791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66680"/>
                    <a:ext cx="86104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3350-4001-4026-9E51-ABEBDAF7C9F4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Distribución según valores de p (</a:t>
            </a:r>
            <a:r>
              <a:rPr b="0" i="1" lang="es-ES_tradnl" sz="2800" spc="-1" strike="noStrike">
                <a:solidFill>
                  <a:srgbClr val="333333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 =10%)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04920" y="1066680"/>
          <a:ext cx="8458200" cy="556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66680"/>
                    <a:ext cx="84582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F749-284A-46F1-966B-8A0BB73656AA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Riesgo sistemático de la cartera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558720" indent="-18936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L</a:t>
            </a:r>
            <a:r>
              <a:rPr b="0" lang="es-ES" sz="2800" spc="-1" strike="noStrike" baseline="-25000">
                <a:solidFill>
                  <a:srgbClr val="00264c"/>
                </a:solidFill>
                <a:latin typeface="Bookman Old Style"/>
              </a:rPr>
              <a:t>%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comp.sistemático E(L</a:t>
            </a:r>
            <a:r>
              <a:rPr b="0" lang="es-ES" sz="2800" spc="-1" strike="noStrike" baseline="-25000">
                <a:solidFill>
                  <a:srgbClr val="00264c"/>
                </a:solidFill>
                <a:latin typeface="Bookman Old Style"/>
              </a:rPr>
              <a:t>%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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Y) e idiosincrátic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58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58720" indent="-18936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                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se aproxima por E(L</a:t>
            </a:r>
            <a:r>
              <a:rPr b="0" lang="es-ES" sz="2800" spc="-1" strike="noStrike" baseline="-25000">
                <a:solidFill>
                  <a:srgbClr val="00264c"/>
                </a:solidFill>
                <a:latin typeface="Bookman Old Style"/>
              </a:rPr>
              <a:t>%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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Y) si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58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58720" indent="-18936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Varianza: comp.sistemático e idiosincrátic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58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58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58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58720" indent="-18936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Para c/estadístico cartera hay estadístico sistemático equivalente, evaluado en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E(L</a:t>
            </a:r>
            <a:r>
              <a:rPr b="0" lang="es-ES" sz="2800" spc="-1" strike="noStrike" baseline="-25000">
                <a:solidFill>
                  <a:srgbClr val="00264c"/>
                </a:solidFill>
                <a:latin typeface="Bookman Old Style"/>
              </a:rPr>
              <a:t>%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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Y)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5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58720" indent="-18936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El requisito de capital es el percentil 99,9% de E(L</a:t>
            </a:r>
            <a:r>
              <a:rPr b="0" lang="es-ES" sz="2800" spc="-1" strike="noStrike" baseline="-25000">
                <a:solidFill>
                  <a:srgbClr val="00264c"/>
                </a:solidFill>
                <a:latin typeface="Bookman Old Style"/>
              </a:rPr>
              <a:t>%</a:t>
            </a:r>
            <a:r>
              <a:rPr b="0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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Y)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85800" y="3276720"/>
                <a:ext cx="7696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%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%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%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1828800"/>
                <a:ext cx="16765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7391520" y="1752480"/>
                <a:ext cx="13716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8107-AAB3-4652-8176-AF550C7E7ABB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Distribución neutral al riesgo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576360" indent="-195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Distribución de la pérdida neutral al riesg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-195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CDO que paga monto C(</a:t>
            </a:r>
            <a:r>
              <a:rPr b="0" i="1" lang="es-ES_tradnl" sz="2800" spc="-1" strike="noStrike">
                <a:solidFill>
                  <a:srgbClr val="00264c"/>
                </a:solidFill>
                <a:latin typeface="Bookman Old Style"/>
              </a:rPr>
              <a:t>L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) y distr.de P*[L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Bookman Old Style"/>
              </a:rPr>
              <a:t>%</a:t>
            </a:r>
            <a:r>
              <a:rPr b="0" lang="es-ES_tradnl" sz="2800" spc="-1" strike="noStrike">
                <a:solidFill>
                  <a:srgbClr val="00264c"/>
                </a:solidFill>
                <a:latin typeface="Symbol"/>
                <a:ea typeface="Symbol"/>
              </a:rPr>
              <a:t>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]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-195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</a:rPr>
              <a:t>Protección frente a pérdidas mayores a L</a:t>
            </a:r>
            <a:r>
              <a:rPr b="0" lang="es-ES_tradnl" sz="2800" spc="-1" strike="noStrike" baseline="-25000">
                <a:solidFill>
                  <a:srgbClr val="00264c"/>
                </a:solidFill>
                <a:latin typeface="Bookman Old Style"/>
              </a:rPr>
              <a:t>0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6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838080" y="1828800"/>
                <a:ext cx="54104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ρ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62120" y="3733920"/>
                <a:ext cx="35049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04920" y="5638680"/>
                <a:ext cx="86104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Q</m:t>
                        </m:r>
                      </m:sup>
                    </m:sSup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ra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Determinación de requerimientos mínimos de capital conforme criterios de valor a riesgo en entidades financieras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541160"/>
            <a:ext cx="8001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l riesgo no sistemático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 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B1DA-7BC6-45F7-97C3-B5879FA8D3C7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Riesgo no sistemático remanente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78000" indent="-187560">
              <a:lnSpc>
                <a:spcPct val="90000"/>
              </a:lnSpc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R. Martin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y</a:t>
            </a: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 T. Wilde: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Ajuste p/granularidad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766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>
              <a:lnSpc>
                <a:spcPct val="90000"/>
              </a:lnSpc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Cambio cuantiles incorporación nuevo riesg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>
              <a:lnSpc>
                <a:spcPct val="90000"/>
              </a:lnSpc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Ajuste p/granularidad riesgo=concentración.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766800" indent="10008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Riesgo sistemático o cap. asintótic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766800" indent="100080">
              <a:lnSpc>
                <a:spcPct val="90000"/>
              </a:lnSpc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Adicionar riesgo por concentración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>
              <a:lnSpc>
                <a:spcPct val="90000"/>
              </a:lnSpc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Impacto puede evaluarse en forma analítica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 algn="just">
              <a:lnSpc>
                <a:spcPct val="90000"/>
              </a:lnSpc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A partir trabajo de </a:t>
            </a: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Gourieroux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,</a:t>
            </a: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 Laurent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y</a:t>
            </a: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 Scaillet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: derivadas primera y segunda del VaR para el riesgo de mercad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2145-EA41-4224-83BF-462D4F1D3C4B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Ajuste por granularidad para  variables estándares con distribución normal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78000" indent="-1875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Emmer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y</a:t>
            </a: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 Tasche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: el ajuste es expansión de Taylor de segundo orden de la función cuantil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 algn="just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64c"/>
                </a:solidFill>
                <a:latin typeface="Bookman Old Style"/>
                <a:ea typeface="Arial Unicode MS"/>
              </a:rPr>
              <a:t>Derivada primera q</a:t>
            </a:r>
            <a:r>
              <a:rPr b="0" lang="de-DE" sz="2800" spc="-1" strike="noStrike" baseline="-30000">
                <a:solidFill>
                  <a:srgbClr val="00264c"/>
                </a:solidFill>
                <a:latin typeface="Symbol"/>
                <a:ea typeface="Symbol"/>
              </a:rPr>
              <a:t></a:t>
            </a:r>
            <a:r>
              <a:rPr b="0" lang="de-DE" sz="2800" spc="-1" strike="noStrike">
                <a:solidFill>
                  <a:srgbClr val="00264c"/>
                </a:solidFill>
                <a:latin typeface="Bookman Old Style"/>
                <a:ea typeface="Arial Unicode MS"/>
              </a:rPr>
              <a:t> se anula y la segunda es el ajuste</a:t>
            </a: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 algn="just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Si c y </a:t>
            </a:r>
            <a:r>
              <a:rPr b="0" i="1" lang="es-ES" sz="2800" spc="-1" strike="noStrike">
                <a:solidFill>
                  <a:srgbClr val="00264c"/>
                </a:solidFill>
                <a:latin typeface="Symbol"/>
                <a:ea typeface="Symbol"/>
              </a:rPr>
              <a:t>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son único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0" y="2209680"/>
                <a:ext cx="91440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</m:e>
                    </m:d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d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|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d>
                      </m:e>
                    </m:d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4920" y="4952880"/>
                <a:ext cx="7238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r>
                      <m:t xml:space="preserve"> 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ρ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den>
                                </m:f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φ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c</m:t>
                                    </m:r>
                                    <m:r>
                                      <m:t xml:space="preserve">−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rad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α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d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ρ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0" y="5867280"/>
                <a:ext cx="9144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den>
                                </m:f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φ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c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α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d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rad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ρ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α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d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ρ</m:t>
                                            </m:r>
                                          </m:e>
                                        </m:rad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den>
                                </m:f>
                              </m:e>
                            </m:rad>
                            <m:f>
                              <m:num>
                                <m:r>
                                  <m:t xml:space="preserve">c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ρ</m:t>
                                    </m:r>
                                  </m:e>
                                </m:ra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ρ</m:t>
                                    </m:r>
                                  </m:e>
                                </m:rad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ρ</m:t>
                                    </m:r>
                                  </m:e>
                                </m:rad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CE3C-A259-4AC6-8C13-5A6A232D01CB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Requisito de capital de cada préstamo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Cartera infinitamente granularizada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1904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C/riesgo idiosincrático (</a:t>
            </a: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no invariante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1" marL="1904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264c"/>
                </a:solidFill>
                <a:latin typeface="Bookman Old Style"/>
                <a:ea typeface="Arial Unicode MS"/>
              </a:rPr>
              <a:t> </a:t>
            </a:r>
            <a:r>
              <a:rPr b="0" lang="de-DE" sz="2800" spc="-1" strike="noStrike">
                <a:solidFill>
                  <a:srgbClr val="00264c"/>
                </a:solidFill>
                <a:latin typeface="Bookman Old Style"/>
                <a:ea typeface="Arial Unicode MS"/>
              </a:rPr>
              <a:t>Rendimiento del capital ajustado por riesgo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209680" y="1752480"/>
                <a:ext cx="426744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rad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743200" y="3733920"/>
                <a:ext cx="26668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43200" y="5486400"/>
                <a:ext cx="26668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RA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852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59C9-A8F3-46C4-BF8B-E3894AF5A363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Expected shortfall y </a:t>
            </a:r>
            <a:r>
              <a:rPr b="0" lang="es-ES_tradnl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Expected excess loss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64c"/>
                </a:solidFill>
                <a:latin typeface="Bookman Old Style"/>
              </a:rPr>
              <a:t>Expected shortfall </a:t>
            </a:r>
            <a:r>
              <a:rPr b="0" lang="es-ES" sz="3200" spc="-1" strike="noStrike">
                <a:solidFill>
                  <a:srgbClr val="00264c"/>
                </a:solidFill>
                <a:latin typeface="Bookman Old Style"/>
              </a:rPr>
              <a:t>(</a:t>
            </a:r>
            <a:r>
              <a:rPr b="1" lang="es-ES" sz="3200" spc="-1" strike="noStrike">
                <a:solidFill>
                  <a:srgbClr val="00264c"/>
                </a:solidFill>
                <a:latin typeface="Bookman Old Style"/>
              </a:rPr>
              <a:t>invariante</a:t>
            </a:r>
            <a:r>
              <a:rPr b="0" lang="es-ES" sz="3200" spc="-1" strike="noStrike">
                <a:solidFill>
                  <a:srgbClr val="00264c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64c"/>
                </a:solidFill>
                <a:latin typeface="Bookman Old Style"/>
              </a:rPr>
              <a:t>Expected excess loss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Sensible a cola distribución de la pérdida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-187560"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64c"/>
                </a:solidFill>
                <a:latin typeface="Bookman Old Style"/>
              </a:rPr>
              <a:t>No invariante</a:t>
            </a: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1"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544760" y="4114800"/>
                <a:ext cx="6283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EL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inf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≤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1371600" y="1905120"/>
                <a:ext cx="6705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aR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  <m:r>
                          <m:t xml:space="preserve">|</m:t>
                        </m:r>
                        <m:r>
                          <m:t xml:space="preserve">Z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A755-8BD9-4705-9053-1E1D23E1FFA8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Default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Default: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Improbable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que deudor cancele obligaciones sin deducciones y sin ejecutar garantía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Mora</a:t>
            </a: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: más de 90 días (180 días para minoristas)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64c"/>
                </a:solidFill>
                <a:latin typeface="Bookman Old Style"/>
              </a:rPr>
              <a:t>Cobro improbable: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Suspensión del devengamiento de intereses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enta del préstamo con pérdida significativ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revisionamiento del préstamo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Quit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iferimiento del pago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Solicitud de la propia quiebra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ecreto de quiebra a pedido de otro acreedor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4B59-F719-4D87-A924-8BECE7837D14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Probabilidad de default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264c"/>
                </a:solidFill>
                <a:latin typeface="Bookman Old Style"/>
              </a:rPr>
              <a:t>Probabilidad condicional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Factores sistemático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264c"/>
                </a:solidFill>
                <a:latin typeface="Bookman Old Style"/>
              </a:rPr>
              <a:t>Probabilidad incondicional o PD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Riesgo idiosincrático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Se anula en carteras diverisificada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7704-24D3-4B08-9ABA-2EA51F8C5F3F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Probabilidad de default </a:t>
            </a:r>
            <a:r>
              <a:rPr b="0" lang="es-ES" sz="2000" spc="-1" strike="noStrike">
                <a:solidFill>
                  <a:srgbClr val="333333"/>
                </a:solidFill>
                <a:latin typeface="Bookman Old Style"/>
              </a:rPr>
              <a:t>(cont.)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64c"/>
                </a:solidFill>
                <a:latin typeface="Bookman Old Style"/>
              </a:rPr>
              <a:t>Estimación de la PD</a:t>
            </a:r>
            <a:r>
              <a:rPr b="0" lang="es-ES" sz="3200" spc="-1" strike="noStrike">
                <a:solidFill>
                  <a:srgbClr val="00264c"/>
                </a:solidFill>
                <a:latin typeface="Bookman Old Style"/>
              </a:rPr>
              <a:t>: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Información de mercado 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Ratings crediticios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 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64c"/>
                </a:solidFill>
                <a:latin typeface="Bookman Old Style"/>
              </a:rPr>
              <a:t>Requisitos método IRB</a:t>
            </a:r>
            <a:r>
              <a:rPr b="0" lang="es-ES" sz="3200" spc="-1" strike="noStrike">
                <a:solidFill>
                  <a:srgbClr val="00264c"/>
                </a:solidFill>
                <a:latin typeface="Bookman Old Style"/>
              </a:rPr>
              <a:t>: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Uso interno 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Utilización: </a:t>
            </a:r>
            <a:r>
              <a:rPr b="1" lang="es-ES_tradnl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3 años</a:t>
            </a:r>
            <a:r>
              <a:rPr b="0" lang="es-ES_tradnl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antes admisión 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  <a:p>
            <a:pPr lvl="2" marL="11826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stimaciones propias</a:t>
            </a:r>
            <a:r>
              <a:rPr b="0" lang="es-ES_tradnl" sz="32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de la PD</a:t>
            </a:r>
            <a:endParaRPr b="0" lang="en-US" sz="32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8E3B-47E5-4344-AEBE-D71F6A7EFD9E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Probabilidad de default </a:t>
            </a:r>
            <a:r>
              <a:rPr b="0" lang="es-ES" sz="2000" spc="-1" strike="noStrike">
                <a:solidFill>
                  <a:srgbClr val="333333"/>
                </a:solidFill>
                <a:latin typeface="Bookman Old Style"/>
              </a:rPr>
              <a:t>(cont.)</a:t>
            </a:r>
            <a:endParaRPr b="1" lang="en-US" sz="20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</a:rPr>
              <a:t>Requisitos del “sistema de calificaciones”: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65280" indent="-276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Riesgo único para cada deudor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65280" indent="-276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7 grados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+ </a:t>
            </a: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1 grado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(deudores en default)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65280" indent="-276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istribución sin concentracione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65280" indent="-276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n base a </a:t>
            </a: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scenarios de tensión</a:t>
            </a:r>
            <a:r>
              <a:rPr b="0" lang="es-ES_tradnl" sz="2800" spc="-1" strike="noStrike" u="sng">
                <a:solidFill>
                  <a:srgbClr val="80008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65280" indent="-276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A lo largo del ciclo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65280" indent="-276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Observación:  </a:t>
            </a: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5 año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665280" indent="-27648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D anual mínima</a:t>
            </a: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52640" indent="-19692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Empresas, bancos y clientes minoristas: 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0,03%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  <a:p>
            <a:pPr lvl="3" marL="1052640" indent="-196920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574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eudores en default:</a:t>
            </a:r>
            <a:r>
              <a:rPr b="1" lang="es-ES_tradnl" sz="24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100%</a:t>
            </a:r>
            <a:endParaRPr b="0" lang="en-US" sz="24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84852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F7F4-A0E4-49FD-B573-4906CFCFB15D}" type="slidenum"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&lt;number&gt;</a:t>
            </a:fld>
            <a:r>
              <a:rPr b="0" lang="es-ES" sz="2800" spc="-1" strike="noStrike">
                <a:solidFill>
                  <a:srgbClr val="333333"/>
                </a:solidFill>
                <a:latin typeface="Bookman Old Style"/>
              </a:rPr>
              <a:t> – P</a:t>
            </a:r>
            <a:r>
              <a:rPr b="0" lang="es-ES" sz="2800" spc="-1" strike="noStrike">
                <a:solidFill>
                  <a:srgbClr val="333333"/>
                </a:solidFill>
                <a:latin typeface="Bookman Old Style"/>
                <a:ea typeface="Times New Roman"/>
              </a:rPr>
              <a:t>érdida en caso de incumplimiento (LGD)</a:t>
            </a:r>
            <a:endParaRPr b="1" lang="en-US" sz="2800" spc="-1" strike="noStrike">
              <a:solidFill>
                <a:srgbClr val="33333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s-ES" sz="36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Depende de: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8576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s-ES" sz="36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" sz="36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Garantías recibidas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85760">
              <a:spcBef>
                <a:spcPts val="9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s-ES_tradnl" sz="36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Seniority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0">
              <a:spcBef>
                <a:spcPts val="901"/>
              </a:spcBef>
              <a:buNone/>
              <a:tabLst>
                <a:tab algn="l" pos="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s-ES" sz="36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Puede tratarse como:</a:t>
            </a:r>
            <a:endParaRPr b="0" lang="en-US" sz="36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8576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.a. correlacionada con el ciclo 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8576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Bookman Old Style"/>
                <a:ea typeface="Times New Roman"/>
              </a:rPr>
              <a:t>Valor fijo o esperanza v.a. independiente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  <a:p>
            <a:pPr lvl="2" marL="574560" indent="-185760">
              <a:spcBef>
                <a:spcPts val="700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  <a:tab algn="l" pos="7934400"/>
              </a:tabLst>
            </a:pPr>
            <a:r>
              <a:rPr b="0" lang="es-ES" sz="2800" spc="-1" strike="noStrike">
                <a:solidFill>
                  <a:srgbClr val="00264c"/>
                </a:solidFill>
                <a:latin typeface="Bookman Old Style"/>
                <a:ea typeface="Arial Unicode MS"/>
              </a:rPr>
              <a:t>En Basilea II: default y LGD independientes</a:t>
            </a:r>
            <a:endParaRPr b="0" lang="en-US" sz="2800" spc="-1" strike="noStrike">
              <a:solidFill>
                <a:srgbClr val="00264c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7:08:18Z</dcterms:created>
  <dc:creator>DN</dc:creator>
  <dc:description/>
  <dc:language>en-US</dc:language>
  <cp:lastModifiedBy>C.P.C.E.C.A.B.A.</cp:lastModifiedBy>
  <cp:lastPrinted>2001-04-15T05:04:20Z</cp:lastPrinted>
  <dcterms:modified xsi:type="dcterms:W3CDTF">2005-11-24T16:02:21Z</dcterms:modified>
  <cp:revision>1556</cp:revision>
  <dc:subject/>
  <dc:title>Riesgo de Crédito</dc:title>
</cp:coreProperties>
</file>