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C317F-756D-4E8F-9C94-60CC71C53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0440" y="274320"/>
            <a:ext cx="822312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200" spc="-1" strike="noStrike">
              <a:solidFill>
                <a:srgbClr val="000000"/>
              </a:solidFill>
              <a:latin typeface="Arial"/>
            </a:endParaRPr>
          </a:p>
        </p:txBody>
      </p:sp>
      <p:sp>
        <p:nvSpPr>
          <p:cNvPr id="27" name="PlaceHolder 2"/>
          <p:cNvSpPr>
            <a:spLocks noGrp="1"/>
          </p:cNvSpPr>
          <p:nvPr>
            <p:ph/>
          </p:nvPr>
        </p:nvSpPr>
        <p:spPr>
          <a:xfrm>
            <a:off x="460440" y="1595160"/>
            <a:ext cx="8223120" cy="216396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28" name="PlaceHolder 3"/>
          <p:cNvSpPr>
            <a:spLocks noGrp="1"/>
          </p:cNvSpPr>
          <p:nvPr>
            <p:ph/>
          </p:nvPr>
        </p:nvSpPr>
        <p:spPr>
          <a:xfrm>
            <a:off x="460440" y="3965040"/>
            <a:ext cx="8223120" cy="216396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A5454-F960-4ADD-AF24-A157CE792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0440" y="274320"/>
            <a:ext cx="822312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200" spc="-1" strike="noStrike">
              <a:solidFill>
                <a:srgbClr val="000000"/>
              </a:solidFill>
              <a:latin typeface="Arial"/>
            </a:endParaRPr>
          </a:p>
        </p:txBody>
      </p:sp>
      <p:sp>
        <p:nvSpPr>
          <p:cNvPr id="30" name="PlaceHolder 2"/>
          <p:cNvSpPr>
            <a:spLocks noGrp="1"/>
          </p:cNvSpPr>
          <p:nvPr>
            <p:ph/>
          </p:nvPr>
        </p:nvSpPr>
        <p:spPr>
          <a:xfrm>
            <a:off x="460440" y="1595160"/>
            <a:ext cx="4012560" cy="216396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31" name="PlaceHolder 3"/>
          <p:cNvSpPr>
            <a:spLocks noGrp="1"/>
          </p:cNvSpPr>
          <p:nvPr>
            <p:ph/>
          </p:nvPr>
        </p:nvSpPr>
        <p:spPr>
          <a:xfrm>
            <a:off x="4673880" y="1595160"/>
            <a:ext cx="4012560" cy="216396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32" name="PlaceHolder 4"/>
          <p:cNvSpPr>
            <a:spLocks noGrp="1"/>
          </p:cNvSpPr>
          <p:nvPr>
            <p:ph/>
          </p:nvPr>
        </p:nvSpPr>
        <p:spPr>
          <a:xfrm>
            <a:off x="460440" y="3965040"/>
            <a:ext cx="4012560" cy="216396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33" name="PlaceHolder 5"/>
          <p:cNvSpPr>
            <a:spLocks noGrp="1"/>
          </p:cNvSpPr>
          <p:nvPr>
            <p:ph/>
          </p:nvPr>
        </p:nvSpPr>
        <p:spPr>
          <a:xfrm>
            <a:off x="4673880" y="3965040"/>
            <a:ext cx="4012560" cy="216396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21669-4819-4367-AC0A-7C806824C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0440" y="274320"/>
            <a:ext cx="822312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200" spc="-1" strike="noStrike">
              <a:solidFill>
                <a:srgbClr val="000000"/>
              </a:solidFill>
              <a:latin typeface="Arial"/>
            </a:endParaRPr>
          </a:p>
        </p:txBody>
      </p:sp>
      <p:sp>
        <p:nvSpPr>
          <p:cNvPr id="35" name="PlaceHolder 2"/>
          <p:cNvSpPr>
            <a:spLocks noGrp="1"/>
          </p:cNvSpPr>
          <p:nvPr>
            <p:ph/>
          </p:nvPr>
        </p:nvSpPr>
        <p:spPr>
          <a:xfrm>
            <a:off x="460440" y="1595160"/>
            <a:ext cx="2647440" cy="216396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36" name="PlaceHolder 3"/>
          <p:cNvSpPr>
            <a:spLocks noGrp="1"/>
          </p:cNvSpPr>
          <p:nvPr>
            <p:ph/>
          </p:nvPr>
        </p:nvSpPr>
        <p:spPr>
          <a:xfrm>
            <a:off x="3240720" y="1595160"/>
            <a:ext cx="2647440" cy="216396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37" name="PlaceHolder 4"/>
          <p:cNvSpPr>
            <a:spLocks noGrp="1"/>
          </p:cNvSpPr>
          <p:nvPr>
            <p:ph/>
          </p:nvPr>
        </p:nvSpPr>
        <p:spPr>
          <a:xfrm>
            <a:off x="6021000" y="1595160"/>
            <a:ext cx="2647440" cy="216396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38" name="PlaceHolder 5"/>
          <p:cNvSpPr>
            <a:spLocks noGrp="1"/>
          </p:cNvSpPr>
          <p:nvPr>
            <p:ph/>
          </p:nvPr>
        </p:nvSpPr>
        <p:spPr>
          <a:xfrm>
            <a:off x="460440" y="3965040"/>
            <a:ext cx="2647440" cy="216396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39" name="PlaceHolder 6"/>
          <p:cNvSpPr>
            <a:spLocks noGrp="1"/>
          </p:cNvSpPr>
          <p:nvPr>
            <p:ph/>
          </p:nvPr>
        </p:nvSpPr>
        <p:spPr>
          <a:xfrm>
            <a:off x="3240720" y="3965040"/>
            <a:ext cx="2647440" cy="216396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40" name="PlaceHolder 7"/>
          <p:cNvSpPr>
            <a:spLocks noGrp="1"/>
          </p:cNvSpPr>
          <p:nvPr>
            <p:ph/>
          </p:nvPr>
        </p:nvSpPr>
        <p:spPr>
          <a:xfrm>
            <a:off x="6021000" y="3965040"/>
            <a:ext cx="2647440" cy="216396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A363A-2328-4D22-B8CF-A80909AFD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0440" y="274320"/>
            <a:ext cx="822312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200" spc="-1" strike="noStrike">
              <a:solidFill>
                <a:srgbClr val="000000"/>
              </a:solidFill>
              <a:latin typeface="Arial"/>
            </a:endParaRPr>
          </a:p>
        </p:txBody>
      </p:sp>
      <p:sp>
        <p:nvSpPr>
          <p:cNvPr id="6" name="PlaceHolder 2"/>
          <p:cNvSpPr>
            <a:spLocks noGrp="1"/>
          </p:cNvSpPr>
          <p:nvPr>
            <p:ph type="subTitle"/>
          </p:nvPr>
        </p:nvSpPr>
        <p:spPr>
          <a:xfrm>
            <a:off x="460440" y="1595160"/>
            <a:ext cx="8223120" cy="4537080"/>
          </a:xfrm>
          <a:prstGeom prst="rect">
            <a:avLst/>
          </a:prstGeom>
          <a:noFill/>
          <a:ln w="0">
            <a:noFill/>
          </a:ln>
        </p:spPr>
        <p:txBody>
          <a:bodyPr lIns="0" rIns="0" tIns="0" bIns="0" anchor="ctr">
            <a:noAutofit/>
          </a:bodyPr>
          <a:p>
            <a:pPr indent="0" algn="ctr">
              <a:spcBef>
                <a:spcPts val="8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E4B4A-562E-4F4A-BD08-06C83C4F3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0440" y="274320"/>
            <a:ext cx="822312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200" spc="-1" strike="noStrike">
              <a:solidFill>
                <a:srgbClr val="000000"/>
              </a:solidFill>
              <a:latin typeface="Arial"/>
            </a:endParaRPr>
          </a:p>
        </p:txBody>
      </p:sp>
      <p:sp>
        <p:nvSpPr>
          <p:cNvPr id="8" name="PlaceHolder 2"/>
          <p:cNvSpPr>
            <a:spLocks noGrp="1"/>
          </p:cNvSpPr>
          <p:nvPr>
            <p:ph/>
          </p:nvPr>
        </p:nvSpPr>
        <p:spPr>
          <a:xfrm>
            <a:off x="460440" y="1595160"/>
            <a:ext cx="8223120" cy="453708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A1B8A-649F-44B4-B610-CA451538A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0440" y="274320"/>
            <a:ext cx="822312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200" spc="-1" strike="noStrike">
              <a:solidFill>
                <a:srgbClr val="000000"/>
              </a:solidFill>
              <a:latin typeface="Arial"/>
            </a:endParaRPr>
          </a:p>
        </p:txBody>
      </p:sp>
      <p:sp>
        <p:nvSpPr>
          <p:cNvPr id="10" name="PlaceHolder 2"/>
          <p:cNvSpPr>
            <a:spLocks noGrp="1"/>
          </p:cNvSpPr>
          <p:nvPr>
            <p:ph/>
          </p:nvPr>
        </p:nvSpPr>
        <p:spPr>
          <a:xfrm>
            <a:off x="460440" y="1595160"/>
            <a:ext cx="4012560" cy="453708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11" name="PlaceHolder 3"/>
          <p:cNvSpPr>
            <a:spLocks noGrp="1"/>
          </p:cNvSpPr>
          <p:nvPr>
            <p:ph/>
          </p:nvPr>
        </p:nvSpPr>
        <p:spPr>
          <a:xfrm>
            <a:off x="4673880" y="1595160"/>
            <a:ext cx="4012560" cy="453708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A3EBC-3802-4730-BE03-D949AE2A5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0440" y="274320"/>
            <a:ext cx="822312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12005-41A7-46EA-A725-BB0AA7ABA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0440" y="274320"/>
            <a:ext cx="8223120" cy="5299560"/>
          </a:xfrm>
          <a:prstGeom prst="rect">
            <a:avLst/>
          </a:prstGeom>
          <a:noFill/>
          <a:ln w="0">
            <a:noFill/>
          </a:ln>
        </p:spPr>
        <p:txBody>
          <a:bodyPr lIns="0" rIns="0" tIns="0" bIns="0" anchor="ctr">
            <a:noAutofit/>
          </a:bodyPr>
          <a:p>
            <a:pPr algn="ctr">
              <a:spcBef>
                <a:spcPts val="8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B18BE-39C7-4702-9AF8-9C1503D29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0440" y="274320"/>
            <a:ext cx="822312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200" spc="-1" strike="noStrike">
              <a:solidFill>
                <a:srgbClr val="000000"/>
              </a:solidFill>
              <a:latin typeface="Arial"/>
            </a:endParaRPr>
          </a:p>
        </p:txBody>
      </p:sp>
      <p:sp>
        <p:nvSpPr>
          <p:cNvPr id="15" name="PlaceHolder 2"/>
          <p:cNvSpPr>
            <a:spLocks noGrp="1"/>
          </p:cNvSpPr>
          <p:nvPr>
            <p:ph/>
          </p:nvPr>
        </p:nvSpPr>
        <p:spPr>
          <a:xfrm>
            <a:off x="460440" y="1595160"/>
            <a:ext cx="4012560" cy="216396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16" name="PlaceHolder 3"/>
          <p:cNvSpPr>
            <a:spLocks noGrp="1"/>
          </p:cNvSpPr>
          <p:nvPr>
            <p:ph/>
          </p:nvPr>
        </p:nvSpPr>
        <p:spPr>
          <a:xfrm>
            <a:off x="4673880" y="1595160"/>
            <a:ext cx="4012560" cy="453708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17" name="PlaceHolder 4"/>
          <p:cNvSpPr>
            <a:spLocks noGrp="1"/>
          </p:cNvSpPr>
          <p:nvPr>
            <p:ph/>
          </p:nvPr>
        </p:nvSpPr>
        <p:spPr>
          <a:xfrm>
            <a:off x="460440" y="3965040"/>
            <a:ext cx="4012560" cy="216396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858F7-AD57-4EEC-9111-AF3FC92AE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0440" y="274320"/>
            <a:ext cx="822312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200" spc="-1" strike="noStrike">
              <a:solidFill>
                <a:srgbClr val="000000"/>
              </a:solidFill>
              <a:latin typeface="Arial"/>
            </a:endParaRPr>
          </a:p>
        </p:txBody>
      </p:sp>
      <p:sp>
        <p:nvSpPr>
          <p:cNvPr id="19" name="PlaceHolder 2"/>
          <p:cNvSpPr>
            <a:spLocks noGrp="1"/>
          </p:cNvSpPr>
          <p:nvPr>
            <p:ph/>
          </p:nvPr>
        </p:nvSpPr>
        <p:spPr>
          <a:xfrm>
            <a:off x="460440" y="1595160"/>
            <a:ext cx="4012560" cy="453708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20" name="PlaceHolder 3"/>
          <p:cNvSpPr>
            <a:spLocks noGrp="1"/>
          </p:cNvSpPr>
          <p:nvPr>
            <p:ph/>
          </p:nvPr>
        </p:nvSpPr>
        <p:spPr>
          <a:xfrm>
            <a:off x="4673880" y="1595160"/>
            <a:ext cx="4012560" cy="216396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21" name="PlaceHolder 4"/>
          <p:cNvSpPr>
            <a:spLocks noGrp="1"/>
          </p:cNvSpPr>
          <p:nvPr>
            <p:ph/>
          </p:nvPr>
        </p:nvSpPr>
        <p:spPr>
          <a:xfrm>
            <a:off x="4673880" y="3965040"/>
            <a:ext cx="4012560" cy="216396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2B402-F974-48B2-BFAF-3002BD229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0440" y="274320"/>
            <a:ext cx="822312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200" spc="-1" strike="noStrike">
              <a:solidFill>
                <a:srgbClr val="000000"/>
              </a:solidFill>
              <a:latin typeface="Arial"/>
            </a:endParaRPr>
          </a:p>
        </p:txBody>
      </p:sp>
      <p:sp>
        <p:nvSpPr>
          <p:cNvPr id="23" name="PlaceHolder 2"/>
          <p:cNvSpPr>
            <a:spLocks noGrp="1"/>
          </p:cNvSpPr>
          <p:nvPr>
            <p:ph/>
          </p:nvPr>
        </p:nvSpPr>
        <p:spPr>
          <a:xfrm>
            <a:off x="460440" y="1595160"/>
            <a:ext cx="4012560" cy="216396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24" name="PlaceHolder 3"/>
          <p:cNvSpPr>
            <a:spLocks noGrp="1"/>
          </p:cNvSpPr>
          <p:nvPr>
            <p:ph/>
          </p:nvPr>
        </p:nvSpPr>
        <p:spPr>
          <a:xfrm>
            <a:off x="4673880" y="1595160"/>
            <a:ext cx="4012560" cy="216396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25" name="PlaceHolder 4"/>
          <p:cNvSpPr>
            <a:spLocks noGrp="1"/>
          </p:cNvSpPr>
          <p:nvPr>
            <p:ph/>
          </p:nvPr>
        </p:nvSpPr>
        <p:spPr>
          <a:xfrm>
            <a:off x="460440" y="3965040"/>
            <a:ext cx="8223120" cy="2163960"/>
          </a:xfrm>
          <a:prstGeom prst="rect">
            <a:avLst/>
          </a:prstGeom>
          <a:noFill/>
          <a:ln w="0">
            <a:noFill/>
          </a:ln>
        </p:spPr>
        <p:txBody>
          <a:bodyPr anchor="t">
            <a:normAutofit/>
          </a:bodyPr>
          <a:p>
            <a:pPr indent="0">
              <a:spcBef>
                <a:spcPts val="8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B58F3-1266-4217-B331-EDE9D7E39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0440" y="274320"/>
            <a:ext cx="822312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460440" y="1595160"/>
            <a:ext cx="8223120" cy="4537080"/>
          </a:xfrm>
          <a:prstGeom prst="rect">
            <a:avLst/>
          </a:prstGeom>
          <a:noFill/>
          <a:ln w="0">
            <a:noFill/>
          </a:ln>
        </p:spPr>
        <p:txBody>
          <a:bodyPr anchor="t">
            <a:normAutofit/>
          </a:bodyPr>
          <a:p>
            <a:pPr marL="349200" indent="-349200">
              <a:spcBef>
                <a:spcPts val="8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738360" indent="-282600">
              <a:spcBef>
                <a:spcPts val="8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000000"/>
                </a:solidFill>
                <a:latin typeface="Arial"/>
              </a:rPr>
              <a:t>Second Outline Level</a:t>
            </a:r>
            <a:endParaRPr b="0" lang="en-US" sz="3400" spc="-1" strike="noStrike">
              <a:solidFill>
                <a:srgbClr val="000000"/>
              </a:solidFill>
              <a:latin typeface="Arial"/>
            </a:endParaRPr>
          </a:p>
          <a:p>
            <a:pPr lvl="2" marL="1141560" indent="-228600">
              <a:spcBef>
                <a:spcPts val="8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000000"/>
                </a:solidFill>
                <a:latin typeface="Arial"/>
              </a:rPr>
              <a:t>Third Outline Level</a:t>
            </a:r>
            <a:endParaRPr b="0" lang="en-US" sz="3400" spc="-1" strike="noStrike">
              <a:solidFill>
                <a:srgbClr val="000000"/>
              </a:solidFill>
              <a:latin typeface="Arial"/>
            </a:endParaRPr>
          </a:p>
          <a:p>
            <a:pPr lvl="3" marL="1596960" indent="-228600">
              <a:spcBef>
                <a:spcPts val="8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000000"/>
                </a:solidFill>
                <a:latin typeface="Arial"/>
              </a:rPr>
              <a:t>Fourth Outline Level</a:t>
            </a:r>
            <a:endParaRPr b="0" lang="en-US" sz="3400" spc="-1" strike="noStrike">
              <a:solidFill>
                <a:srgbClr val="000000"/>
              </a:solidFill>
              <a:latin typeface="Arial"/>
            </a:endParaRPr>
          </a:p>
          <a:p>
            <a:pPr lvl="4" marL="2054160" indent="-228600">
              <a:spcBef>
                <a:spcPts val="8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000000"/>
                </a:solidFill>
                <a:latin typeface="Arial"/>
              </a:rPr>
              <a:t>Fifth Outline Level</a:t>
            </a:r>
            <a:endParaRPr b="0" lang="en-US" sz="3400" spc="-1" strike="noStrike">
              <a:solidFill>
                <a:srgbClr val="000000"/>
              </a:solidFill>
              <a:latin typeface="Arial"/>
            </a:endParaRPr>
          </a:p>
          <a:p>
            <a:pPr lvl="5" marL="2054160" indent="-228600">
              <a:spcBef>
                <a:spcPts val="8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000000"/>
                </a:solidFill>
                <a:latin typeface="Arial"/>
              </a:rPr>
              <a:t>Sixth Outline Level</a:t>
            </a:r>
            <a:endParaRPr b="0" lang="en-US" sz="3400" spc="-1" strike="noStrike">
              <a:solidFill>
                <a:srgbClr val="000000"/>
              </a:solidFill>
              <a:latin typeface="Arial"/>
            </a:endParaRPr>
          </a:p>
          <a:p>
            <a:pPr lvl="6" marL="2054160" indent="-228600">
              <a:spcBef>
                <a:spcPts val="8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000000"/>
                </a:solidFill>
                <a:latin typeface="Arial"/>
              </a:rPr>
              <a:t>Seventh Outline Level</a:t>
            </a:r>
            <a:endParaRPr b="0" lang="en-US" sz="3400" spc="-1" strike="noStrike">
              <a:solidFill>
                <a:srgbClr val="000000"/>
              </a:solidFill>
              <a:latin typeface="Arial"/>
            </a:endParaRPr>
          </a:p>
        </p:txBody>
      </p:sp>
      <p:sp>
        <p:nvSpPr>
          <p:cNvPr id="2" name="PlaceHolder 3"/>
          <p:cNvSpPr>
            <a:spLocks noGrp="1"/>
          </p:cNvSpPr>
          <p:nvPr>
            <p:ph type="dt" idx="1"/>
          </p:nvPr>
        </p:nvSpPr>
        <p:spPr>
          <a:xfrm>
            <a:off x="460080" y="6251040"/>
            <a:ext cx="2127240" cy="476280"/>
          </a:xfrm>
          <a:prstGeom prst="rect">
            <a:avLst/>
          </a:prstGeom>
          <a:noFill/>
          <a:ln w="0">
            <a:noFill/>
          </a:ln>
        </p:spPr>
        <p:txBody>
          <a:bodyPr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700" spc="-1" strike="noStrike">
                <a:solidFill>
                  <a:srgbClr val="000000"/>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t;date/time&gt;</a:t>
            </a:r>
            <a:endParaRPr b="0" lang="en-US" sz="1700" spc="-1" strike="noStrike">
              <a:solidFill>
                <a:srgbClr val="000000"/>
              </a:solidFill>
              <a:latin typeface="Arial"/>
            </a:endParaRPr>
          </a:p>
        </p:txBody>
      </p:sp>
      <p:sp>
        <p:nvSpPr>
          <p:cNvPr id="3" name="PlaceHolder 4"/>
          <p:cNvSpPr>
            <a:spLocks noGrp="1"/>
          </p:cNvSpPr>
          <p:nvPr>
            <p:ph type="ftr" idx="2"/>
          </p:nvPr>
        </p:nvSpPr>
        <p:spPr>
          <a:xfrm>
            <a:off x="3127320" y="6251040"/>
            <a:ext cx="2889360" cy="476280"/>
          </a:xfrm>
          <a:prstGeom prst="rect">
            <a:avLst/>
          </a:prstGeom>
          <a:noFill/>
          <a:ln w="0">
            <a:noFill/>
          </a:ln>
        </p:spPr>
        <p:txBody>
          <a:bodyPr anchor="t">
            <a:noAutofit/>
          </a:bodyPr>
          <a:lstStyle>
            <a:lvl1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700" spc="-1" strike="noStrike">
                <a:solidFill>
                  <a:srgbClr val="000000"/>
                </a:solidFill>
                <a:latin typeface="Arial"/>
              </a:defRPr>
            </a:lvl1pPr>
          </a:lstStyle>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t;footer&gt;</a:t>
            </a:r>
            <a:endParaRPr b="0" lang="en-US" sz="1700" spc="-1" strike="noStrike">
              <a:solidFill>
                <a:srgbClr val="000000"/>
              </a:solidFill>
              <a:latin typeface="Arial"/>
            </a:endParaRPr>
          </a:p>
        </p:txBody>
      </p:sp>
      <p:sp>
        <p:nvSpPr>
          <p:cNvPr id="4" name="PlaceHolder 5"/>
          <p:cNvSpPr>
            <a:spLocks noGrp="1"/>
          </p:cNvSpPr>
          <p:nvPr>
            <p:ph type="sldNum" idx="3"/>
          </p:nvPr>
        </p:nvSpPr>
        <p:spPr>
          <a:xfrm>
            <a:off x="6555960" y="6251040"/>
            <a:ext cx="2127240" cy="47628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700" spc="-1" strike="noStrike">
                <a:solidFill>
                  <a:srgbClr val="000000"/>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BE9BE5-FA99-4C00-993B-630195B30711}" type="slidenum">
              <a:rPr b="0" lang="en-US" sz="1700" spc="-1" strike="noStrike">
                <a:solidFill>
                  <a:srgbClr val="000000"/>
                </a:solidFill>
                <a:latin typeface="Arial"/>
              </a:rPr>
              <a:t>&lt;number&gt;</a:t>
            </a:fld>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260280"/>
            <a:ext cx="8209080" cy="61214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AR" sz="4200" spc="-1" strike="noStrike" u="sng">
                <a:solidFill>
                  <a:srgbClr val="000000"/>
                </a:solidFill>
                <a:uFillTx/>
                <a:latin typeface="Arial"/>
              </a:rPr>
              <a:t>INSTRUMENTOS DERIVADOS Y OPERACIONES DE COBERTURA. TRATAMIENTO DE LAS DIFERENCIAS DE MEDICIÓN</a:t>
            </a:r>
            <a:endParaRPr b="0" lang="en-US" sz="4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41"/>
                                        </p:tgtEl>
                                      </p:cBhvr>
                                    </p:animEffect>
                                    <p:animScale>
                                      <p:cBhvr>
                                        <p:cTn id="7" dur="250" autoRev="1" fill="hold"/>
                                        <p:tgtEl>
                                          <p:spTgt spid="4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d9"/>
        </a:solidFill>
      </p:bgPr>
    </p:bg>
    <p:spTree>
      <p:nvGrpSpPr>
        <p:cNvPr id="1" name=""/>
        <p:cNvGrpSpPr/>
        <p:nvPr/>
      </p:nvGrpSpPr>
      <p:grpSpPr>
        <a:xfrm>
          <a:off x="0" y="0"/>
          <a:ext cx="0" cy="0"/>
          <a:chOff x="0" y="0"/>
          <a:chExt cx="0" cy="0"/>
        </a:xfrm>
      </p:grpSpPr>
      <p:sp>
        <p:nvSpPr>
          <p:cNvPr id="50" name=""/>
          <p:cNvSpPr/>
          <p:nvPr/>
        </p:nvSpPr>
        <p:spPr>
          <a:xfrm>
            <a:off x="468360" y="609840"/>
            <a:ext cx="8424720" cy="5639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Además, la RT indica para cuáles instrumentos no aplica lo preceptuado en la misma, por ejemplo: Instrumentos de capital que corresponda clasificar dentro del patrimonio neto, contratos que exijan pagos en función a variables de tipo climáticas, geológicas y otras magnitudes físicas, contratos de garantía financiera, contratos de seguros que cubran riesgos distintos a cambios en las variables financieras, contratos de compras o ventas de bienes de cambio que se planificó su compra o venta en el giro normal del negocio, y contratos que establecen contrapartidas de carácter contingentes en una combinación de negocios.</a:t>
            </a:r>
            <a:endParaRPr b="0" lang="en-US" sz="2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
          <p:cNvSpPr/>
          <p:nvPr/>
        </p:nvSpPr>
        <p:spPr>
          <a:xfrm>
            <a:off x="250920" y="2103840"/>
            <a:ext cx="871380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6 Reconocimiento</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e deben reconocer como un activo o un pasivo si del contrato se desprende -en el momento que se está realizando la medición- que existe un derecho a cobrar o una obligación pagar sumas de dinero, respectivament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d9"/>
        </a:solidFill>
      </p:bgPr>
    </p:bg>
    <p:spTree>
      <p:nvGrpSpPr>
        <p:cNvPr id="1" name=""/>
        <p:cNvGrpSpPr/>
        <p:nvPr/>
      </p:nvGrpSpPr>
      <p:grpSpPr>
        <a:xfrm>
          <a:off x="0" y="0"/>
          <a:ext cx="0" cy="0"/>
          <a:chOff x="0" y="0"/>
          <a:chExt cx="0" cy="0"/>
        </a:xfrm>
      </p:grpSpPr>
      <p:sp>
        <p:nvSpPr>
          <p:cNvPr id="52" name=""/>
          <p:cNvSpPr/>
          <p:nvPr/>
        </p:nvSpPr>
        <p:spPr>
          <a:xfrm>
            <a:off x="250920" y="1677240"/>
            <a:ext cx="8569080" cy="35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7 Operación de cobertur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e puede definir como aquellos instrumentos financieros que se designan para cubrir un riesgo identificado que, en caso de ocurrencia, puede tener impacto en resultados.  Para que una operación de estas características califique como tal debe cumplir con determinados requisitos, entre los cuales podemos nombrar:</a:t>
            </a:r>
            <a:endParaRPr b="0" lang="en-US" sz="2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d9"/>
        </a:solidFill>
      </p:bgPr>
    </p:bg>
    <p:spTree>
      <p:nvGrpSpPr>
        <p:cNvPr id="1" name=""/>
        <p:cNvGrpSpPr/>
        <p:nvPr/>
      </p:nvGrpSpPr>
      <p:grpSpPr>
        <a:xfrm>
          <a:off x="0" y="0"/>
          <a:ext cx="0" cy="0"/>
          <a:chOff x="0" y="0"/>
          <a:chExt cx="0" cy="0"/>
        </a:xfrm>
      </p:grpSpPr>
      <p:sp>
        <p:nvSpPr>
          <p:cNvPr id="53" name=""/>
          <p:cNvSpPr/>
          <p:nvPr/>
        </p:nvSpPr>
        <p:spPr>
          <a:xfrm>
            <a:off x="250920" y="1464480"/>
            <a:ext cx="8497800" cy="3933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Que exista documentación formal  que especifique las estrategias y objetivos de la empresa y la identificación del instrumento de cobertura relacionado con la partida a cubrir (activo o pasivo) y la naturaleza del riesgo a cubrir, además de medir la eficacia prospectiva de la misma, que la misma pueda ser medida sobre bases confiables, y que se llegue  a la conclusión posterior de que la eficacia fue alta durante toda la vida de la operación.</a:t>
            </a:r>
            <a:endParaRPr b="0" lang="en-US" sz="28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
          <p:cNvSpPr/>
          <p:nvPr/>
        </p:nvSpPr>
        <p:spPr>
          <a:xfrm>
            <a:off x="468360" y="824040"/>
            <a:ext cx="8351640" cy="5213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l hecho de que un instrumento financiero sea considerado como de cobertura implica que tanto éste como el elemento cubierto se contabilizarán aplicando criterios distintos a los que se aplicarían si no fueran considerados como tal.</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on carácter general se establece que un derivado puede ser categorizado como tal si su valor neto de realización (VNR) o sus flujos de efectivo futuros compensen las variaciones en el VNR o en los flujos de efectivo de activos o pasivos que cumplan los requisitos de ser designados como activos o pasivos cubiertos.</a:t>
            </a:r>
            <a:endParaRPr b="0" lang="en-US" sz="2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
          <p:cNvSpPr/>
          <p:nvPr/>
        </p:nvSpPr>
        <p:spPr>
          <a:xfrm>
            <a:off x="324000" y="822240"/>
            <a:ext cx="8640720" cy="5213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8 Eficacia de la cobertur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Una cobertura se considerará altamente eficaz si, al inicio y durante su vida se puede esperar, en el futuro, que los cambios en el VNR o en los flujos de efectivo de la partida cubierta atribuibles al riesgo cubierto sean compensados en gran medida por los cambios en el VNR o en los flujos de efectivo del instrumento de cobertura, y que, hacia atrás, los resultados de la cobertura hayan oscilado dentro de un rango de variación del ochenta al ciento veinticinco por ciento respecto del resultado de la partida cubierta.</a:t>
            </a:r>
            <a:endParaRPr b="0" lang="en-US" sz="2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
          <p:cNvSpPr/>
          <p:nvPr/>
        </p:nvSpPr>
        <p:spPr>
          <a:xfrm>
            <a:off x="0" y="2781000"/>
            <a:ext cx="91440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9 Medición inicial de los instrumentos derivado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s la suma de dinero u otra contraprestación entregada o recibida.</a:t>
            </a:r>
            <a:endParaRPr b="0" lang="en-US" sz="2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7" name=""/>
          <p:cNvSpPr/>
          <p:nvPr/>
        </p:nvSpPr>
        <p:spPr>
          <a:xfrm>
            <a:off x="0" y="1252080"/>
            <a:ext cx="8964720" cy="4359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10 Medición posterior de los instrumentos derivado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10.1 Activos originado en instrumentos derivado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i existe cotización a su VNR.</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i no existe cotización la medición contable se realizará a través de modelos  matemáticos que resulten adecuados a las características del instrumento y con datos verificables.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10.2 Pasivos originados en instrumentos derivado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e computará a su costo de cancelación.</a:t>
            </a:r>
            <a:endParaRPr b="0" lang="en-US" sz="2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8" name=""/>
          <p:cNvSpPr/>
          <p:nvPr/>
        </p:nvSpPr>
        <p:spPr>
          <a:xfrm>
            <a:off x="0" y="2103840"/>
            <a:ext cx="896472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11 Instrumentos derivados no designados como instrumentos de cobertura efectivos o que no califiquen como tal</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La diferencia originada por la comparación entre activos y pasivos originados en instrumentos derivados se contabilizará a resultados.</a:t>
            </a:r>
            <a:endParaRPr b="0" lang="en-US" sz="28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
          <p:cNvSpPr/>
          <p:nvPr/>
        </p:nvSpPr>
        <p:spPr>
          <a:xfrm>
            <a:off x="250920" y="1854720"/>
            <a:ext cx="835344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a:rPr>
              <a:t> </a:t>
            </a:r>
            <a:r>
              <a:rPr b="1" lang="es-AR" sz="2800" spc="-1" strike="noStrike" u="sng">
                <a:solidFill>
                  <a:srgbClr val="000000"/>
                </a:solidFill>
                <a:uFillTx/>
                <a:latin typeface="Arial"/>
              </a:rPr>
              <a:t>12 Instrumentos derivados designados como instrumentos de cobertura efectivos y que califican como tal:</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a diferencia originada por la comparación entre activos y pasivos originados en instrumentos derivados se contabilizará, de acuerdo a los riesgos que cubra, de la siguiente manera:</a:t>
            </a:r>
            <a:endParaRPr b="0" lang="en-US" sz="2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d9"/>
        </a:solidFill>
      </p:bgPr>
    </p:bg>
    <p:spTree>
      <p:nvGrpSpPr>
        <p:cNvPr id="1" name=""/>
        <p:cNvGrpSpPr/>
        <p:nvPr/>
      </p:nvGrpSpPr>
      <p:grpSpPr>
        <a:xfrm>
          <a:off x="0" y="0"/>
          <a:ext cx="0" cy="0"/>
          <a:chOff x="0" y="0"/>
          <a:chExt cx="0" cy="0"/>
        </a:xfrm>
      </p:grpSpPr>
      <p:sp>
        <p:nvSpPr>
          <p:cNvPr id="42" name=""/>
          <p:cNvSpPr/>
          <p:nvPr/>
        </p:nvSpPr>
        <p:spPr>
          <a:xfrm>
            <a:off x="755640" y="832680"/>
            <a:ext cx="7993080" cy="4846680"/>
          </a:xfrm>
          <a:prstGeom prst="rect">
            <a:avLst/>
          </a:prstGeom>
          <a:noFill/>
          <a:ln w="0">
            <a:noFill/>
          </a:ln>
        </p:spPr>
        <p:style>
          <a:lnRef idx="0"/>
          <a:fillRef idx="0"/>
          <a:effectRef idx="0"/>
          <a:fontRef idx="minor"/>
        </p:style>
        <p:txBody>
          <a:bodyPr anchor="ctr">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AR" sz="2400" spc="-1" strike="noStrike">
                <a:solidFill>
                  <a:srgbClr val="000000"/>
                </a:solidFill>
                <a:latin typeface="Arial"/>
              </a:rPr>
              <a:t>1 </a:t>
            </a:r>
            <a:r>
              <a:rPr b="1" lang="es-AR" sz="2400" spc="-1" strike="noStrike" u="sng">
                <a:solidFill>
                  <a:srgbClr val="000000"/>
                </a:solidFill>
                <a:uFillTx/>
                <a:latin typeface="Arial"/>
              </a:rPr>
              <a:t>Objetivo del trabajo</a:t>
            </a:r>
            <a:endParaRPr b="0" lang="en-US" sz="24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AR" sz="2400" spc="-1" strike="noStrike">
                <a:solidFill>
                  <a:srgbClr val="000000"/>
                </a:solidFill>
                <a:latin typeface="Arial"/>
              </a:rPr>
              <a:t>Este trabajo tiene como objetivo realizar un estudio y análisis de las implicancias contables que indican las normas contables profesionales, específicamente la RT 20, relativo a la contabilización de los instrumentos derivados y operaciones de cobertura, haciendo hincapié en el tratamiento contable de las diferencias de medición.</a:t>
            </a:r>
            <a:endParaRPr b="0" lang="en-US" sz="24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AR" sz="2400" spc="-1" strike="noStrike">
                <a:solidFill>
                  <a:srgbClr val="000000"/>
                </a:solidFill>
                <a:latin typeface="Arial"/>
              </a:rPr>
              <a:t>A tal fin se procederá, en cada caso que se plantea, a realizar un breve comentario de las características operativas de cada instrumento derivado, teniendo en cuenta sus distintas operatorias y peculiaridad de los mismos.</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
          <p:cNvSpPr/>
          <p:nvPr/>
        </p:nvSpPr>
        <p:spPr>
          <a:xfrm>
            <a:off x="250920" y="1464480"/>
            <a:ext cx="8713800" cy="3933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a:rPr>
              <a:t>12.1 Las coberturas de valores corrientes: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ubren la exposición a la variación en el valor corriente de activos y pasivos o de compromisos en firme, aún no reconocidos. Los cambios en la valuación contable del instrumento derivado se contabilizará a resultado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os cambios en el valor corriente del item cubierto, por causa del riesgo objeto de cobertura, se registrará a resultados.</a:t>
            </a:r>
            <a:endParaRPr b="0" lang="en-US" sz="28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
          <p:cNvSpPr/>
          <p:nvPr/>
        </p:nvSpPr>
        <p:spPr>
          <a:xfrm>
            <a:off x="179280" y="1250280"/>
            <a:ext cx="8785440" cy="4359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a:rPr>
              <a:t>12.2 Las coberturas de los flujos de efectivo: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ubren la exposición a la variación de los flujos de efectivo que se atribuye a un riesgo particular asociado con un activo o pasivo o a una transacción prevista altamente probable.  La ganancia o pérdida atribuible a la parte del instrumento de cobertura calificado como cobertura eficaz se reconocerá transitoriamente en el patrimonio neto. La parte ineficaz se registrará inmediatamente en la cuenta de pérdidas y ganancias.</a:t>
            </a:r>
            <a:endParaRPr b="0" lang="en-US" sz="28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2" name=""/>
          <p:cNvSpPr/>
          <p:nvPr/>
        </p:nvSpPr>
        <p:spPr>
          <a:xfrm>
            <a:off x="250920" y="822240"/>
            <a:ext cx="8642160" cy="5213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as ganancias o pérdidas acumuladas de los instrumentos de cobertura reconocidos en el patrimonio neto permanecerán en dicha partida hasta que se registren en la cuenta de pérdidas y ganancias en los períodos en los que las partidas designadas como cubiertas afecten los resultados, salvo que el flujo de fondos previsto termine en un reconocimiento de un activo o pasivo, en cuyo caso los importes registrados en el patrimonio neto se incluirán en el costo del activo o pasivo asumido, reclasificando en resultados del ejercicio por los períodos en los que se afecten dichos resultados. </a:t>
            </a:r>
            <a:endParaRPr b="0" lang="en-US" sz="2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3" name=""/>
          <p:cNvSpPr/>
          <p:nvPr/>
        </p:nvSpPr>
        <p:spPr>
          <a:xfrm>
            <a:off x="0" y="476280"/>
            <a:ext cx="9144000" cy="606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a RT20 en su título Fundamentos , punto 3 define la justificación del porqué la diferencia de medición de un instrumento derivado se imputa en el patrimonio neto para los casos de operaciones de cobertura de flujos de efectivo.</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Y esto se debe a los diferentes momentos (diferentes temporalidades) en que se reconocen los resultados involucrados de toda la operación de cobertura. Los resultados del instrumento derivado podrían afectar ejercicios diferentes  a los resultados con signo inverso de los flujos de efectivo. Los resultados del derivado se mantendrán en el patrimonio neto hasta que se devenguen los resultados del riesgo que se cubre. Se busca neutralizar los resultados.</a:t>
            </a:r>
            <a:endParaRPr b="0" lang="en-US" sz="28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
          <p:cNvSpPr/>
          <p:nvPr/>
        </p:nvSpPr>
        <p:spPr>
          <a:xfrm>
            <a:off x="179280" y="1038240"/>
            <a:ext cx="8785440" cy="478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a:rPr>
              <a:t>12.3 Las coberturas de la inversión neta en negocios en el extranjero:</a:t>
            </a:r>
            <a:r>
              <a:rPr b="0" lang="es-AR"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ubren el riesgo de cambio en las inversiones en entidades dependientes, asociadas, negocios conjuntos y sucursales de la empresa que informa, cuyas actividades se llevan a cabo en un país diferente o en una moneda funcional distintas a la de la empresa que informa. La ganancia o pérdida atribuible a la parte del instrumento de cobertura calificada como cobertura eficaz se reconocerá en una partida del patrimonio neto. </a:t>
            </a:r>
            <a:endParaRPr b="0" lang="en-US" sz="2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5" name=""/>
          <p:cNvSpPr/>
          <p:nvPr/>
        </p:nvSpPr>
        <p:spPr>
          <a:xfrm>
            <a:off x="250920" y="1678680"/>
            <a:ext cx="864216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l resto de la ganancia o pérdida del instrumento se reconocerá en pérdidas y ganancias. Los importe de las ganancias y pérdidas de los instrumentos de cobertura reconocidos directamente en la partida del patrimonio neto permanecerán en dicha partida hasta que se enajenen o causen baja del balance, momento en el que se registrarán en la cuenta de pérdidas y ganancias. </a:t>
            </a:r>
            <a:endParaRPr b="0" lang="en-US" sz="2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6" name=""/>
          <p:cNvSpPr/>
          <p:nvPr/>
        </p:nvSpPr>
        <p:spPr>
          <a:xfrm>
            <a:off x="0" y="1268280"/>
            <a:ext cx="9144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También la RT20 en su título Fundamentos, punto 3</a:t>
            </a:r>
            <a:r>
              <a:rPr b="0" lang="es-AR" sz="1700" spc="-1" strike="noStrike">
                <a:solidFill>
                  <a:srgbClr val="000000"/>
                </a:solidFill>
                <a:latin typeface="Arial"/>
              </a:rPr>
              <a:t>, </a:t>
            </a:r>
            <a:r>
              <a:rPr b="0" lang="es-AR" sz="2800" spc="-1" strike="noStrike">
                <a:solidFill>
                  <a:srgbClr val="000000"/>
                </a:solidFill>
                <a:latin typeface="Arial"/>
              </a:rPr>
              <a:t>define que los cambios en la medición contable del instrumento de cobertura, que califiquen como cobertura de riesgo en la inversión neta en una entidad extranjera (no integrada), que se hayan determinado como cobertura eficaz, se reconocerán en los rubros previstos para las diferencias puestas en evidencia por la conversión de estados contables (resultados financieros o patrimonio neto según la alternativa de conversión utilizado)</a:t>
            </a:r>
            <a:endParaRPr b="0" lang="en-US" sz="28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d9"/>
        </a:solidFill>
      </p:bgPr>
    </p:bg>
    <p:spTree>
      <p:nvGrpSpPr>
        <p:cNvPr id="1" name=""/>
        <p:cNvGrpSpPr/>
        <p:nvPr/>
      </p:nvGrpSpPr>
      <p:grpSpPr>
        <a:xfrm>
          <a:off x="0" y="0"/>
          <a:ext cx="0" cy="0"/>
          <a:chOff x="0" y="0"/>
          <a:chExt cx="0" cy="0"/>
        </a:xfrm>
      </p:grpSpPr>
      <p:sp>
        <p:nvSpPr>
          <p:cNvPr id="67" name=""/>
          <p:cNvSpPr/>
          <p:nvPr/>
        </p:nvSpPr>
        <p:spPr>
          <a:xfrm>
            <a:off x="250920" y="184680"/>
            <a:ext cx="8713800" cy="6492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a:rPr>
              <a:t> </a:t>
            </a:r>
            <a:r>
              <a:rPr b="1" lang="es-AR" sz="2800" spc="-1" strike="noStrike" u="sng">
                <a:solidFill>
                  <a:srgbClr val="000000"/>
                </a:solidFill>
                <a:uFillTx/>
                <a:latin typeface="Arial"/>
              </a:rPr>
              <a:t>13 La contabilidad de la cobertura se interrumpirá cuando:</a:t>
            </a:r>
            <a:r>
              <a:rPr b="0" lang="es-AR" sz="2800" spc="-1" strike="noStrike" u="sng">
                <a:solidFill>
                  <a:srgbClr val="000000"/>
                </a:solidFill>
                <a:uFillTx/>
                <a:latin typeface="Arial"/>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l instrumento de cobertura venza, sea vendido o se ejercite, deje de  cumplir los requisitos establecidos para la contabilidad de coberturas, se revoque su designación como tal y, para riesgos de flujos de efectivo, cuando la transacción esperada no tenga alta probabilidad de ocurrenci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uando se produzca la interrupción de la cobertura de valores corrientes, el ajuste que se hubiera registrado en un rubro cubierto que produzca intereses, debe imputarse totalmente a ganancias y pérdidas desde que el rubro cubierto deje de ajustarse por los cambios en su valor corriente, hasta el vencimiento del instrumento financiero.</a:t>
            </a:r>
            <a:endParaRPr b="0" lang="en-US" sz="28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d9"/>
        </a:solidFill>
      </p:bgPr>
    </p:bg>
    <p:spTree>
      <p:nvGrpSpPr>
        <p:cNvPr id="1" name=""/>
        <p:cNvGrpSpPr/>
        <p:nvPr/>
      </p:nvGrpSpPr>
      <p:grpSpPr>
        <a:xfrm>
          <a:off x="0" y="0"/>
          <a:ext cx="0" cy="0"/>
          <a:chOff x="0" y="0"/>
          <a:chExt cx="0" cy="0"/>
        </a:xfrm>
      </p:grpSpPr>
      <p:sp>
        <p:nvSpPr>
          <p:cNvPr id="68" name=""/>
          <p:cNvSpPr/>
          <p:nvPr/>
        </p:nvSpPr>
        <p:spPr>
          <a:xfrm>
            <a:off x="179280" y="2122920"/>
            <a:ext cx="871380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uando cese la cobertura del flujo de efectivo, el resultado acumulado reconocido en el patrimonio neto  debe quedar individualizado allí hasta que se produzca  la transacción comprometida, salvo que la transacción proyectada no tenga alta probabilidad de ocurrencia, en cuyo caso se reclasificará inmediatamente en pérdidas y ganancias.</a:t>
            </a:r>
            <a:endParaRPr b="0" lang="en-US" sz="28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9"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70"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71" name=""/>
          <p:cNvSpPr/>
          <p:nvPr/>
        </p:nvSpPr>
        <p:spPr>
          <a:xfrm>
            <a:off x="250920" y="422280"/>
            <a:ext cx="8353440" cy="603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14 Ejemplos de cobertu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14.1 Ejemplos de cobertura de valor corriente con un swap</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14.1.1 </a:t>
            </a:r>
            <a:r>
              <a:rPr b="0" lang="es-AR" sz="1800" spc="-1" strike="noStrike">
                <a:solidFill>
                  <a:srgbClr val="ffffff"/>
                </a:solidFill>
                <a:latin typeface="Arial"/>
              </a:rPr>
              <a:t>Ejemplo con un activo cubier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La empresa posee activos que ajustan por el coeficiente de estabilización de referencia (CER) y tiene como estrategia cubrir la variación del CER por una tasa fija del orden del 12 % nominal anual vencida, para lo cual contrata un swap por un año de plazo en donde, ante un valor nocional  o valor de referencia de  $ 10.000.000.-, va a pagar CER y va a cobrar 12 % fijo. El vencimiento del swap es a los 365 días de aceptado el contra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En el momento cero no se contabiliza nada ya que el valor del swap y del activo cubierto no comenzaron a generar resultado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A los treinta días se produce el primer cierre contable mensual y el swap tiene un VNR de $ 2.000.- a cobrar, importe que surge de la diferencia entre el importe a cobrar igual a $ 1.152.554.- y el importe a pagar igual a $ 1.150.554.-El asiento contable será:</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D) Montos a cobrar por operaciones de swap</a:t>
            </a:r>
            <a:r>
              <a:rPr b="0" lang="es-AR" sz="1700" spc="-1" strike="noStrike">
                <a:solidFill>
                  <a:srgbClr val="ffffff"/>
                </a:solidFill>
                <a:latin typeface="Arial"/>
              </a:rPr>
              <a:t>	</a:t>
            </a:r>
            <a:r>
              <a:rPr b="0" lang="es-AR" sz="1700" spc="-1" strike="noStrike">
                <a:solidFill>
                  <a:srgbClr val="ffffff"/>
                </a:solidFill>
                <a:latin typeface="Arial"/>
              </a:rPr>
              <a:t>                           2.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 Resultados por operaciones de swap</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2.000.-</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d9"/>
        </a:solidFill>
      </p:bgPr>
    </p:bg>
    <p:spTree>
      <p:nvGrpSpPr>
        <p:cNvPr id="1" name=""/>
        <p:cNvGrpSpPr/>
        <p:nvPr/>
      </p:nvGrpSpPr>
      <p:grpSpPr>
        <a:xfrm>
          <a:off x="0" y="0"/>
          <a:ext cx="0" cy="0"/>
          <a:chOff x="0" y="0"/>
          <a:chExt cx="0" cy="0"/>
        </a:xfrm>
      </p:grpSpPr>
      <p:sp>
        <p:nvSpPr>
          <p:cNvPr id="43" name=""/>
          <p:cNvSpPr/>
          <p:nvPr/>
        </p:nvSpPr>
        <p:spPr>
          <a:xfrm>
            <a:off x="250920" y="1101240"/>
            <a:ext cx="8642160" cy="3933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2 Resolución técnica N° 2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sta resolución, modificatoria de la RT 18 define cómo se contabilizarán la operaciones de derivados y operaciones de cobertura, definiendo los vocablos y expresiones utilizados en esta sección, el reconocimiento contable de las operaciones, definición de operaciones de cobertura, medición inicial y posterior de los instrumentos de cobertura, información a presentar y normas de transición</a:t>
            </a:r>
            <a:r>
              <a:rPr b="1" lang="es-AR" sz="1800" spc="-1" strike="noStrike">
                <a:solidFill>
                  <a:srgbClr val="000000"/>
                </a:solidFill>
                <a:latin typeface="Arial"/>
              </a:rPr>
              <a:t>.</a:t>
            </a:r>
            <a:endParaRPr b="0" lang="en-US" sz="1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2"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73"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74" name=""/>
          <p:cNvSpPr/>
          <p:nvPr/>
        </p:nvSpPr>
        <p:spPr>
          <a:xfrm>
            <a:off x="179280" y="846360"/>
            <a:ext cx="8640720" cy="516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El </a:t>
            </a:r>
            <a:r>
              <a:rPr b="0" lang="es-AR" sz="1800" spc="-1" strike="noStrike">
                <a:solidFill>
                  <a:srgbClr val="ffffff"/>
                </a:solidFill>
                <a:latin typeface="Arial"/>
              </a:rPr>
              <a:t>valor corriente del activo cubierto tendrá un ajuste contable que estará determinado por causa del riesgo objeto de la cobertura y coincidirá con el importe de la parte variable del swa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El asiento contable ser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Activo cubierto con operación de swap</a:t>
            </a:r>
            <a:r>
              <a:rPr b="0" lang="es-AR" sz="1800" spc="-1" strike="noStrike">
                <a:solidFill>
                  <a:srgbClr val="ffffff"/>
                </a:solidFill>
                <a:latin typeface="Arial"/>
              </a:rPr>
              <a:t>	</a:t>
            </a:r>
            <a:r>
              <a:rPr b="0" lang="es-AR" sz="1800" spc="-1" strike="noStrike">
                <a:solidFill>
                  <a:srgbClr val="ffffff"/>
                </a:solidFill>
                <a:latin typeface="Arial"/>
              </a:rPr>
              <a:t>                  1.150.5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Resultados activo cubierto operación de swap</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1.150.5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e esta forma la empresa la empresa cambió el devengado del activo cubierto sujeto a ajuste CER por un activo que devenga una tasa fija del 12 % cuyo valor final es $ 1.152.554.- que corresponde a la suma de los dos resultados registrados: 2.000.- más 1.150.5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Si los resultados hubiesen dado al revés, que el importe a del swap hubiese dado un ajuste negativo a su VNR de $ -2.000.- a pagar, importe que surge de la diferencia entre el importe a cobrar igual a $ 1.150.554.- y el importe a pagar igual a $ 1.152.554.- las registraciones contables sería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D) Resultados por operaciones de swap </a:t>
            </a:r>
            <a:r>
              <a:rPr b="0" lang="es-AR" sz="1700" spc="-1" strike="noStrike">
                <a:solidFill>
                  <a:srgbClr val="ffffff"/>
                </a:solidFill>
                <a:latin typeface="Arial"/>
              </a:rPr>
              <a:t>	</a:t>
            </a:r>
            <a:r>
              <a:rPr b="0" lang="es-AR" sz="1700" spc="-1" strike="noStrike">
                <a:solidFill>
                  <a:srgbClr val="ffffff"/>
                </a:solidFill>
                <a:latin typeface="Arial"/>
              </a:rPr>
              <a:t>                          2.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 Montos a pagar por operaciones de swap</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2.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5"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76"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77" name=""/>
          <p:cNvSpPr/>
          <p:nvPr/>
        </p:nvSpPr>
        <p:spPr>
          <a:xfrm>
            <a:off x="250920" y="2424240"/>
            <a:ext cx="87138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Y el ajuste al activo cubierto serí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Activo cubierto con operación de swap</a:t>
            </a:r>
            <a:r>
              <a:rPr b="0" lang="es-AR" sz="1800" spc="-1" strike="noStrike">
                <a:solidFill>
                  <a:srgbClr val="ffffff"/>
                </a:solidFill>
                <a:latin typeface="Arial"/>
              </a:rPr>
              <a:t>	</a:t>
            </a:r>
            <a:r>
              <a:rPr b="0" lang="es-AR" sz="1800" spc="-1" strike="noStrike">
                <a:solidFill>
                  <a:srgbClr val="ffffff"/>
                </a:solidFill>
                <a:latin typeface="Arial"/>
              </a:rPr>
              <a:t>                       1.152.5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Resultados activo cubierto operación de swap</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1.152.5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Se cambió el devengado del activo cubierto sujeto a ajuste CER por un activo que devenga una tasa fija del 12 % cuyo valor final es $ 1.150.554.- que corresponde a la suma de los dos resultados registrados: 1.152.554.- menos 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8"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79"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80" name=""/>
          <p:cNvSpPr/>
          <p:nvPr/>
        </p:nvSpPr>
        <p:spPr>
          <a:xfrm>
            <a:off x="250920" y="908280"/>
            <a:ext cx="8713800" cy="504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14.1.2 Ejemplo con un pasivo cubier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La empresa emitió una obligación negociable por la cual tiene que pagar una tasa variable y tiene como estrategia cubrirse de la misma pagando una tasa fija del orden del 12 % nominal anual vencida, para lo cual contrata un swap por el plazo que dure la O.N. que es un año. El valor nominal es de $ 10.000.000.-. El vencimiento de swap es a los 365 días de aceptado el contr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En el momento cero, como en el caso anterior,  no se contabiliza nada ya que el valor del swap y del pasivo cubierto no comenzaron a generar result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A los treinta días se produce el primer cierre contable mensual y el swap tiene un VNR de $ 2.000.- a pagar, importe que surge de la diferencia entre el importe a pagar igual a $ 1.152.554.- y el importe a cobrar igual a $ 1.150.554.-El asiento contable será:</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D) Resultados por operaciones de swap</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2.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 Montos a pagar por operaciones de swap</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2.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El valor corriente del pasivo cubierto tendrá un ajuste contable que estará determinado por causa del riesgo objeto de la cobertura y coincidirá con el importe de la parte variable del swap.</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1"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82"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83" name=""/>
          <p:cNvSpPr/>
          <p:nvPr/>
        </p:nvSpPr>
        <p:spPr>
          <a:xfrm>
            <a:off x="179280" y="3115080"/>
            <a:ext cx="8785440" cy="35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 </a:t>
            </a:r>
            <a:endParaRPr b="0" lang="en-US" sz="1700" spc="-1" strike="noStrike">
              <a:solidFill>
                <a:srgbClr val="000000"/>
              </a:solidFill>
              <a:latin typeface="Arial"/>
            </a:endParaRPr>
          </a:p>
        </p:txBody>
      </p:sp>
      <p:sp>
        <p:nvSpPr>
          <p:cNvPr id="84" name=""/>
          <p:cNvSpPr/>
          <p:nvPr/>
        </p:nvSpPr>
        <p:spPr>
          <a:xfrm>
            <a:off x="0" y="191880"/>
            <a:ext cx="9144000" cy="590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El asiento contable ser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Resultados O.N. cubierta c/operación de swap</a:t>
            </a:r>
            <a:r>
              <a:rPr b="0" lang="es-AR" sz="1800" spc="-1" strike="noStrike">
                <a:solidFill>
                  <a:srgbClr val="ffffff"/>
                </a:solidFill>
                <a:latin typeface="Arial"/>
              </a:rPr>
              <a:t>	</a:t>
            </a:r>
            <a:r>
              <a:rPr b="0" lang="es-AR" sz="1800" spc="-1" strike="noStrike">
                <a:solidFill>
                  <a:srgbClr val="ffffff"/>
                </a:solidFill>
                <a:latin typeface="Arial"/>
              </a:rPr>
              <a:t>              1.150.5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Obligación Negociable cubierta con operación de swap</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1.150.5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e esta forma la empresa  cambió el devengado del pasivo  cubierto sujeto a tasa variable por un pasivo que devenga una tasa fija del 12 % cuyo valor final es $ 1.152.554.- que corresponde a la suma de los dos resultados negativos registrados: 2.000.- más 1.150.5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Si los resultados hubiesen dado al revés, que el importe del swap hubiese dado un VNR de  $ 2.000.- a cobrar, importe que surge de la diferencia entre el importe a pagar igual a $ 1.150.554.- y el importe a cobrar igual a $ 1.152.554.- las registraciones contables sería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D) Montos a cobrar por operaciones de swap</a:t>
            </a:r>
            <a:r>
              <a:rPr b="0" lang="es-AR" sz="1700" spc="-1" strike="noStrike">
                <a:solidFill>
                  <a:srgbClr val="ffffff"/>
                </a:solidFill>
                <a:latin typeface="Arial"/>
              </a:rPr>
              <a:t>	</a:t>
            </a:r>
            <a:r>
              <a:rPr b="0" lang="es-AR" sz="1700" spc="-1" strike="noStrike">
                <a:solidFill>
                  <a:srgbClr val="ffffff"/>
                </a:solidFill>
                <a:latin typeface="Arial"/>
              </a:rPr>
              <a:t>                                     2.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 Resultados por operaciones de swap</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2.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El ajuste al pasivo cubierto serí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D) Resultados O.N. cubierta c/operación de swap</a:t>
            </a:r>
            <a:r>
              <a:rPr b="0" lang="es-AR" sz="1700" spc="-1" strike="noStrike">
                <a:solidFill>
                  <a:srgbClr val="ffffff"/>
                </a:solidFill>
                <a:latin typeface="Arial"/>
              </a:rPr>
              <a:t>	</a:t>
            </a:r>
            <a:r>
              <a:rPr b="0" lang="es-AR" sz="1700" spc="-1" strike="noStrike">
                <a:solidFill>
                  <a:srgbClr val="ffffff"/>
                </a:solidFill>
                <a:latin typeface="Arial"/>
              </a:rPr>
              <a:t>               1.152.554.-</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 Obligación Negociable cubierta con operación de swap</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1.152.554.-</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De esta forma la empresa cambió el devengado del pasivo cubierto sujeto a tasa variable por un pasivo que devenga una tasa fija del 12 % cuyo valor final es $ 1.150.554.- que corresponde a la suma de los dos resultados registrados: la pérdida de 1.152.554.- menos  la ganancia de 2.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5"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86"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87" name=""/>
          <p:cNvSpPr/>
          <p:nvPr/>
        </p:nvSpPr>
        <p:spPr>
          <a:xfrm>
            <a:off x="179280" y="222480"/>
            <a:ext cx="8713800" cy="6419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14.2 Ejemplos de coberturas de flujos de efectivo con un swap</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14.2.1</a:t>
            </a:r>
            <a:r>
              <a:rPr b="0" lang="es-AR" sz="1800" spc="-1" strike="noStrike">
                <a:solidFill>
                  <a:srgbClr val="ffffff"/>
                </a:solidFill>
                <a:latin typeface="Arial"/>
              </a:rPr>
              <a:t> Ejemplo con un flujo de efectivo a cobrar en el fut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La empresa tiene alta probabilidad de recibir un pago ajustable por CER  generado por bonos públicos que devengan anualmente por este índ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El valor sobre el cual se aplicará el CER es sobre $ 10.0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Se quiere cambiar esta probable variación por un tasa fija del 12 % nominal anual. A tal fin se contrata una operación de swap por seis años en donde sobre un nocional de $ 10.000.000.- la empresa pagará anualmente CER y se cobrará la tasa fija del 1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A los 30 días de pactarse la operación se produce el primer cierre mensual.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La pata variable del swap tiene un valor de mercado de 1.600.000.- y la pata fija un valor de 1.650.000.-, con lo cual se le genera un activo en la contabilidad por la diferencia de $ 50.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El asiento de registración del VNR del swap será:</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D) Activo generado p/flujo de fondos operación de swap                50.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D) Ajuste de valuación-Patrimonio Neto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1.600.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 Resultado por operación de swap – flujo de fdos</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1.650.000.-Por el lado del activo no se generó ningún devengamiento, por los probables flujos de fondos. En este caso queda la contabilidad como está.</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8"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89"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90" name=""/>
          <p:cNvSpPr/>
          <p:nvPr/>
        </p:nvSpPr>
        <p:spPr>
          <a:xfrm>
            <a:off x="250920" y="322200"/>
            <a:ext cx="8713800" cy="622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Suponiendo que se haya generado un activo a cobrar con contrapartida a resultados por un valor de $ 1.000.000.-, las registraciones complementarias será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Activo a cobrar por bonos ajustables por CER</a:t>
            </a:r>
            <a:r>
              <a:rPr b="0" lang="es-AR" sz="1800" spc="-1" strike="noStrike">
                <a:solidFill>
                  <a:srgbClr val="ffffff"/>
                </a:solidFill>
                <a:latin typeface="Arial"/>
              </a:rPr>
              <a:t>	</a:t>
            </a:r>
            <a:r>
              <a:rPr b="0" lang="es-AR" sz="1800" spc="-1" strike="noStrike">
                <a:solidFill>
                  <a:srgbClr val="ffffff"/>
                </a:solidFill>
                <a:latin typeface="Arial"/>
              </a:rPr>
              <a:t> 1.0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Resultados por bonos ajustables por CER</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1.0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Luego habrá que reclasificar de Patrimonio Neto el resultado que está a la espera de que el flujo se produzca. Como ya se generó un activo, el resultado que este hubiere generado se cancelará con contrapartida a la cuenta Ajuste de valuación – Patrimonio Ne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Resultados por bonos ajustables por CER</a:t>
            </a:r>
            <a:r>
              <a:rPr b="0" lang="es-AR" sz="1800" spc="-1" strike="noStrike">
                <a:solidFill>
                  <a:srgbClr val="ffffff"/>
                </a:solidFill>
                <a:latin typeface="Arial"/>
              </a:rPr>
              <a:t>	</a:t>
            </a:r>
            <a:r>
              <a:rPr b="0" lang="es-AR" sz="1800" spc="-1" strike="noStrike">
                <a:solidFill>
                  <a:srgbClr val="ffffff"/>
                </a:solidFill>
                <a:latin typeface="Arial"/>
              </a:rPr>
              <a:t>               1.0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 </a:t>
            </a:r>
            <a:r>
              <a:rPr b="0" lang="es-AR" sz="1800" spc="-1" strike="noStrike">
                <a:solidFill>
                  <a:srgbClr val="ffffff"/>
                </a:solidFill>
                <a:latin typeface="Arial"/>
              </a:rPr>
              <a:t>H) Ajuste de valuación-Patrimonio Neto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1.0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Por lo tanto, se utilizó $ 1.000.000.- para compensar la ganancia que generó el flujo de fondos que generó el activo ajustable por CER.</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Supongamos a continuación que a los doce meses se produce el flujo de fondos por $ 1.600.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Los asientos será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D) Caja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1.600.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 Activo a cobrar por bonos ajustables por CER</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1.000.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  Resultados por bonos ajustables por CER</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600.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Se reclasifican los resultado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D) Resultados por bonos ajustables por CER</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600.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 Ajuste de valuación-Patrimonio Neto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600.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1"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92"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93" name=""/>
          <p:cNvSpPr/>
          <p:nvPr/>
        </p:nvSpPr>
        <p:spPr>
          <a:xfrm>
            <a:off x="179280" y="986040"/>
            <a:ext cx="8785440" cy="4895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Se cobra el swap por difere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Caja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5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Activo generado p/flujo de fondos operación de swap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5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Finalmente se transformó el posible flujo de fondos que tuvo incidencia en resultados del monto de 1.600.000.- a 1.650.000.- representado por el saldo de la cuenta: “Resultado por operación de swap – flujo de fdos” ya que las otras cuentas de Patrimonio Neto y Resultados por CER originado por el bono, quedan en ce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Si la parte variable del swap tiene un valor de mercado de 1.650.000.- y la parte fija un valor de 1.600.000.-, con lo cual se le genera un pasivo en la contabilidad por la diferencia de $ 50.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El asiento de registración del VNR del swap será:</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D) Ajuste de valuación-Patrimonio Neto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1.650.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 Pasivo generado p/flujo de fondos operación de swap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50.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 Resultado por operación de swap – flujo de fdos</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1.600.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Por el lado del pasivo no se generó ningún devengamiento, por los probables flujos de fondos. En este caso queda la contabilidad como está.</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4"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95"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96" name=""/>
          <p:cNvSpPr/>
          <p:nvPr/>
        </p:nvSpPr>
        <p:spPr>
          <a:xfrm>
            <a:off x="0" y="1737720"/>
            <a:ext cx="89647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Suponiendo que se haya generado un activo a cobrar con contrapartida a resultados por un valor de $ 1.000.000.-, las registraciones complementarias será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Activo a cobrar por bonos ajustables por CER</a:t>
            </a:r>
            <a:r>
              <a:rPr b="0" lang="es-AR" sz="1800" spc="-1" strike="noStrike">
                <a:solidFill>
                  <a:srgbClr val="ffffff"/>
                </a:solidFill>
                <a:latin typeface="Arial"/>
              </a:rPr>
              <a:t>	</a:t>
            </a:r>
            <a:r>
              <a:rPr b="0" lang="es-AR" sz="1800" spc="-1" strike="noStrike">
                <a:solidFill>
                  <a:srgbClr val="ffffff"/>
                </a:solidFill>
                <a:latin typeface="Arial"/>
              </a:rPr>
              <a:t>1.0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Resultados por bonos ajustables por CER</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1.0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Luego habrá que reclasificar de Patrimonio Neto el resultado que está a la espera de que el flujo se produzca. Como ya se generó un activo, el resultado que este hubiere generado se cancelará con contrapartida a la cuenta Ajuste de valuación – Patrimonio Ne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Resultados por bonos ajustables por CER</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1.0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 </a:t>
            </a:r>
            <a:r>
              <a:rPr b="0" lang="es-AR" sz="1800" spc="-1" strike="noStrike">
                <a:solidFill>
                  <a:srgbClr val="ffffff"/>
                </a:solidFill>
                <a:latin typeface="Arial"/>
              </a:rPr>
              <a:t>H) Ajuste de valuación-Patrimonio Neto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1.0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Por lo tanto, se utilizó $ 1.000.000.- para compensar la ganancia que generó el flujo de fondos que generó el activo ajustable por CER.</a:t>
            </a:r>
            <a:endParaRPr b="0" lang="en-US" sz="18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7"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98"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99" name=""/>
          <p:cNvSpPr/>
          <p:nvPr/>
        </p:nvSpPr>
        <p:spPr>
          <a:xfrm>
            <a:off x="0" y="1187280"/>
            <a:ext cx="8964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Supongamos a continuación que a los doce meses se produce el flujo de fondos por $ 1.65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Los asientos será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Caja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1.65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Activo a cobrar por bonos ajustables por CER</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1.0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Resultados por bonos ajustables por CER</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65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Se reclasifican los result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Resultados por bonos ajustables por CER</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65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Ajuste de valuación-Patrimonio Neto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65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Se paga el swap por difere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Pasivo generado p/flujo de fondos operación de swap        5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Caja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5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Finalmente se transformó el posible flujo de fondos que tuvo incidencia en resultados del monto de 1.650.000.- a 1.600.000.- representado por el saldo de la cuenta: “Resultado por operación de swap – flujo de fdos” ya que las otras cuentas de Patrimonio Neto y Resultados por CER originado por el bono, quedan en cero.</a:t>
            </a:r>
            <a:endParaRPr b="0" lang="en-US" sz="18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0"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101"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102" name=""/>
          <p:cNvSpPr/>
          <p:nvPr/>
        </p:nvSpPr>
        <p:spPr>
          <a:xfrm>
            <a:off x="0" y="1449000"/>
            <a:ext cx="8964720" cy="396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14.2.2 Ejemplo con un flujo de efectivo a pagar en el futur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La empresa tiene alta probabilidad de tener que pagar insumos necesarios para su línea de producción a un precio mayor que el actual, estimando que la inflación afectaría, a partir de los próximos 365 días, en un 20 % el valor de los mismos. Es por esto que contrata un swap sobre un valor nocional de 10.000.000.- de pesos en donde se compromete a pagar una tasa fija de un 6% y tiene derecho a percibir el ajuste por inflación que genere el nocional. Ambas cifras se intercambiarán al final del contrato. Esto coincide con el desembolso que realizará la empresa para comprar insumos, que a valores actuales está en el orden de los 10. 000.000.- de pe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A los 30 días de pactarse la operación se produce el primer cierre mensual. La parte variable del swap tiene un VNR de $ 900.000.- y la parte fija de pesos  400.000.-, con lo cual a la empresa se le genera un activo neto por pesos 500.000.-.</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4" name=""/>
          <p:cNvSpPr/>
          <p:nvPr/>
        </p:nvSpPr>
        <p:spPr>
          <a:xfrm>
            <a:off x="539640" y="1252080"/>
            <a:ext cx="8353440" cy="435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3 </a:t>
            </a:r>
            <a:r>
              <a:rPr b="1" lang="es-AR" sz="2800" spc="-1" strike="noStrike" u="sng">
                <a:solidFill>
                  <a:srgbClr val="000000"/>
                </a:solidFill>
                <a:uFillTx/>
                <a:latin typeface="Arial"/>
              </a:rPr>
              <a:t>Definición de derivad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on aquellos contratos cuyo valor económico está relacionado al valor de una variable que se aplica sobre un principal o subyacente denominado nocion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l uso que tienen los contratos derivados es que suelen ser utilizados para cubrir riesgos, aprovechar futuros movimientos del mercado y para cambiar la naturaleza de un activo o un pasivo.</a:t>
            </a:r>
            <a:endParaRPr b="0" lang="en-US" sz="28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3"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104"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105" name=""/>
          <p:cNvSpPr/>
          <p:nvPr/>
        </p:nvSpPr>
        <p:spPr>
          <a:xfrm>
            <a:off x="0" y="1049400"/>
            <a:ext cx="89647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El asiento de registración del VNR del swap ser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Activo generado p/flujo de fondos a pagar op de swap        5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Resultado por operación de swap-flujo de fdos</a:t>
            </a:r>
            <a:r>
              <a:rPr b="0" lang="es-AR" sz="1800" spc="-1" strike="noStrike">
                <a:solidFill>
                  <a:srgbClr val="ffffff"/>
                </a:solidFill>
                <a:latin typeface="Arial"/>
              </a:rPr>
              <a:t>	</a:t>
            </a:r>
            <a:r>
              <a:rPr b="0" lang="es-AR" sz="1800" spc="-1" strike="noStrike">
                <a:solidFill>
                  <a:srgbClr val="ffffff"/>
                </a:solidFill>
                <a:latin typeface="Arial"/>
              </a:rPr>
              <a:t>            4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Ajuste de valuación – Patrimonio Neto</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900.00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Por el lado del pasivo no se generó ningún devengamiento por los probables flujos de fondos a pagar. En este caso queda la contabilidad como est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Suponiendo que se haya hecho una previsión del pasivo con contrapartida  a resultados para hacer frente a este desembolso por un valor de $ 200.000.-, las registraciones complementarias será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Resultados previsión mayor valor insumos                        2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Previsión por desembolso de fondos</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2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Luego hay que reclasificar del Patrimonio Neto el resultado que está a la espera de que el flujo de fondos se produzca. Como ya se generó un pasivo, el resultado que este hubiere generado se cancelará con contrapartida a la cuenta de Ajuste de Valuación-Patrimonio Ne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Ajuste de valuación – Patrimonio Neto</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2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Resultados previsión mayor valor insumos</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200.000.-</a:t>
            </a:r>
            <a:endParaRPr b="0" lang="en-US" sz="18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6"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107"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108" name=""/>
          <p:cNvSpPr/>
          <p:nvPr/>
        </p:nvSpPr>
        <p:spPr>
          <a:xfrm>
            <a:off x="0" y="1323720"/>
            <a:ext cx="896472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Por lo tanto se utilizó $ 200.000.- para compensar la pérdida que generó el flujo de fondos probable por infl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Suponiendo que a los doce meses se produce el flujo de fondos por $ 1.000.000.-  los asientos será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Previsión por desembolso de fondos</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2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Resultados previsión mayor valor insumos</a:t>
            </a:r>
            <a:r>
              <a:rPr b="0" lang="es-AR" sz="1800" spc="-1" strike="noStrike">
                <a:solidFill>
                  <a:srgbClr val="ffffff"/>
                </a:solidFill>
                <a:latin typeface="Arial"/>
              </a:rPr>
              <a:t>	</a:t>
            </a:r>
            <a:r>
              <a:rPr b="0" lang="es-AR" sz="1800" spc="-1" strike="noStrike">
                <a:solidFill>
                  <a:srgbClr val="ffffff"/>
                </a:solidFill>
                <a:latin typeface="Arial"/>
              </a:rPr>
              <a:t>      8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Caja</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1.0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Se reclasifican los result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Ajuste de valuación – Patrimonio Neto</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7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Resultados previsión mayor valor insumos</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7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Se cobra el swap por diferencia: parte fija 600.000.- y parte variable 1.000.000.- Neto a cobrar $ 4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Caja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4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Resultado por operación de swap-flujo de fdos</a:t>
            </a:r>
            <a:r>
              <a:rPr b="0" lang="es-AR" sz="1800" spc="-1" strike="noStrike">
                <a:solidFill>
                  <a:srgbClr val="ffffff"/>
                </a:solidFill>
                <a:latin typeface="Arial"/>
              </a:rPr>
              <a:t>	</a:t>
            </a:r>
            <a:r>
              <a:rPr b="0" lang="es-AR" sz="1800" spc="-1" strike="noStrike">
                <a:solidFill>
                  <a:srgbClr val="ffffff"/>
                </a:solidFill>
                <a:latin typeface="Arial"/>
              </a:rPr>
              <a:t>      1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Activo generado p/flujo de fondos a pagar op de swap        </a:t>
            </a:r>
            <a:r>
              <a:rPr b="0" lang="es-AR" sz="1800" spc="-1" strike="noStrike">
                <a:solidFill>
                  <a:srgbClr val="ffffff"/>
                </a:solidFill>
                <a:latin typeface="Arial"/>
              </a:rPr>
              <a:t>	</a:t>
            </a:r>
            <a:r>
              <a:rPr b="0" lang="es-AR" sz="1800" spc="-1" strike="noStrike">
                <a:solidFill>
                  <a:srgbClr val="ffffff"/>
                </a:solidFill>
                <a:latin typeface="Arial"/>
              </a:rPr>
              <a:t>               500.000.-</a:t>
            </a:r>
            <a:endParaRPr b="0" lang="en-US" sz="18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9"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110"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111" name=""/>
          <p:cNvSpPr/>
          <p:nvPr/>
        </p:nvSpPr>
        <p:spPr>
          <a:xfrm>
            <a:off x="0" y="1737720"/>
            <a:ext cx="89647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Finalmente se transformó un posible pago de $ 1.000.000.- en uno de $ 600.000.-, teniendo referencia en los resultados de las siguientes cuentas: Resultado por operación de swap-flujo de fdos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5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Resultados previsión mayor valor insumos          1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Total de resultado</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6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La cuenta Ajuste de valuación – Patrimonio Neto queda con saldo ce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Si la parte variable del swap tiene un valor de mercado de $ 400.000.- y la parte fija de $ 600.000.-, se genera un pasivo por diferencia de $ 2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El asiento de registración del VNR del swap ser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Resultado por operación de swap-flujo de fdos</a:t>
            </a:r>
            <a:r>
              <a:rPr b="0" lang="es-AR" sz="1800" spc="-1" strike="noStrike">
                <a:solidFill>
                  <a:srgbClr val="ffffff"/>
                </a:solidFill>
                <a:latin typeface="Arial"/>
              </a:rPr>
              <a:t>	</a:t>
            </a:r>
            <a:r>
              <a:rPr b="0" lang="es-AR" sz="1800" spc="-1" strike="noStrike">
                <a:solidFill>
                  <a:srgbClr val="ffffff"/>
                </a:solidFill>
                <a:latin typeface="Arial"/>
              </a:rPr>
              <a:t>6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Pasivo generado p/flujo de fondos a pagar op de swap</a:t>
            </a:r>
            <a:r>
              <a:rPr b="0" lang="es-AR" sz="1800" spc="-1" strike="noStrike">
                <a:solidFill>
                  <a:srgbClr val="ffffff"/>
                </a:solidFill>
                <a:latin typeface="Arial"/>
              </a:rPr>
              <a:t>	</a:t>
            </a:r>
            <a:r>
              <a:rPr b="0" lang="es-AR" sz="1800" spc="-1" strike="noStrike">
                <a:solidFill>
                  <a:srgbClr val="ffffff"/>
                </a:solidFill>
                <a:latin typeface="Arial"/>
              </a:rPr>
              <a:t>2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Ajuste de valuación – Patrimonio Neto</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400.000.-</a:t>
            </a:r>
            <a:endParaRPr b="0" lang="en-US" sz="18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2"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113"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114" name=""/>
          <p:cNvSpPr/>
          <p:nvPr/>
        </p:nvSpPr>
        <p:spPr>
          <a:xfrm>
            <a:off x="179280" y="1325520"/>
            <a:ext cx="878544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Por el lado del pasivo no se generó ningún devengamiento por lo probables flujos de fondos a pagar. En este caso queda la contabilidad como est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Suponiendo que se haya hecho una previsión del pasivo con contrapartida a resultados para hacer frente a este desembolso por un valor de $ 200.000.-, las registraciones complementarias será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Resultados previsión mayor valor insumos</a:t>
            </a:r>
            <a:r>
              <a:rPr b="0" lang="es-AR" sz="1800" spc="-1" strike="noStrike">
                <a:solidFill>
                  <a:srgbClr val="ffffff"/>
                </a:solidFill>
                <a:latin typeface="Arial"/>
              </a:rPr>
              <a:t>	</a:t>
            </a:r>
            <a:r>
              <a:rPr b="0" lang="es-AR" sz="1800" spc="-1" strike="noStrike">
                <a:solidFill>
                  <a:srgbClr val="ffffff"/>
                </a:solidFill>
                <a:latin typeface="Arial"/>
              </a:rPr>
              <a:t>2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Previsión por desembolso de fondos</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2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Luego hay que reclasificar del Patrimonio Neto el resultado que está a la espera de que el flujo de fondos se produzca. Como ya se generó un pasivo, el resultado que este hubiere generado se cancelará con contrapartida a la cuenta de Ajuste de Valuación – Patrimonio Ne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Ajuste de valuación – Patrimonio Neto</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2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Resultados previsión mayor valor insumos</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2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Por lo tanto se utilizó $ 200.000.- para compensar la pérdida que generó el flujo de fondos probable por inflación.</a:t>
            </a:r>
            <a:endParaRPr b="0" lang="en-US" sz="18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5"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116"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117" name=""/>
          <p:cNvSpPr/>
          <p:nvPr/>
        </p:nvSpPr>
        <p:spPr>
          <a:xfrm>
            <a:off x="0" y="776520"/>
            <a:ext cx="914400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Suponiendo que a los doce meses se produce el flujo de fondos por $ 400.000.-, los asientos será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Previsión por desembolso de fondos</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2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Resultados previsión mayor valor insumos</a:t>
            </a:r>
            <a:r>
              <a:rPr b="0" lang="es-AR" sz="1800" spc="-1" strike="noStrike">
                <a:solidFill>
                  <a:srgbClr val="ffffff"/>
                </a:solidFill>
                <a:latin typeface="Arial"/>
              </a:rPr>
              <a:t>	</a:t>
            </a:r>
            <a:r>
              <a:rPr b="0" lang="es-AR" sz="1800" spc="-1" strike="noStrike">
                <a:solidFill>
                  <a:srgbClr val="ffffff"/>
                </a:solidFill>
                <a:latin typeface="Arial"/>
              </a:rPr>
              <a:t>              3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Caja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5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Se reclasifican los result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Ajuste de valuación – Patrimonio Neto</a:t>
            </a:r>
            <a:r>
              <a:rPr b="0" lang="es-AR" sz="1800" spc="-1" strike="noStrike">
                <a:solidFill>
                  <a:srgbClr val="ffffff"/>
                </a:solidFill>
                <a:latin typeface="Arial"/>
              </a:rPr>
              <a:t>	</a:t>
            </a:r>
            <a:r>
              <a:rPr b="0" lang="es-AR" sz="1800" spc="-1" strike="noStrike">
                <a:solidFill>
                  <a:srgbClr val="ffffff"/>
                </a:solidFill>
                <a:latin typeface="Arial"/>
              </a:rPr>
              <a:t>                            2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Resultados previsión mayor valor insumos</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2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Se cobra el swap por diferencia: parte fija $ 600.000.- y parte variable $ 500.000.-. Neto a pagar $ 1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Pasivo generado p/flujo de fondos a pagar op de swap</a:t>
            </a:r>
            <a:r>
              <a:rPr b="0" lang="es-AR" sz="1800" spc="-1" strike="noStrike">
                <a:solidFill>
                  <a:srgbClr val="ffffff"/>
                </a:solidFill>
                <a:latin typeface="Arial"/>
              </a:rPr>
              <a:t>	</a:t>
            </a:r>
            <a:r>
              <a:rPr b="0" lang="es-AR" sz="1800" spc="-1" strike="noStrike">
                <a:solidFill>
                  <a:srgbClr val="ffffff"/>
                </a:solidFill>
                <a:latin typeface="Arial"/>
              </a:rPr>
              <a:t>2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Resultado por operación de swap-flujo de fdos</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1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Caja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1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Finalmente se transformó un posible pago de $ 500.000.- en uno de $ 600.000.-, teniendo referencia en los resultados de las siguientes cuen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Resultados por operaciones de swap-flujo de fondos</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5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Resultados previsión mayor valor insumos</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1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Total del resultado</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6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La cuenta Ajuste de valuación-Patrimonio Neto queda con saldo cero.</a:t>
            </a:r>
            <a:endParaRPr b="0" lang="en-US" sz="18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119"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120" name=""/>
          <p:cNvSpPr/>
          <p:nvPr/>
        </p:nvSpPr>
        <p:spPr>
          <a:xfrm>
            <a:off x="0" y="-74160"/>
            <a:ext cx="9144000" cy="70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14.3 Ejemplos de coberturas de riesgo de cambio en una inversión neta en negocios en el extranjer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Una empresa Argentina tiene una inversión neta en una empresa en Brasil por 500.000 Reales. Al momento cero decide como estrategia cubrir las posibles variaciones que se produzcan en la variación del tipo de cambio de la inversión contratando un swap a un año de plazo en donde a su finalización la empresa pagará 400.000.- reales y cobrará USD 320.000.-. Los fondos se convertirán a pesos al tipo de cambio de momento de finalización del contrato y se cancelarán por diferencia. Al momento de la firma del contrato el Real está a 2,40 pesos y el dólar a 3,00 pe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En el momento cero no se contabiliza nada ya que el valor del swap y del activo cubierto no comenzaron a generar resultado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A los 30 días se produce el primer cierre contable mensual y el swap tiene un VNR de $ 10.000.- a pagar que surge de la diferencia entre el importe a pagar igual a $ 980.000.- y el importe a cobrar igual a $ 970.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El asiento contable será: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D) Ajuste de valuación – Patrimonio Neto</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20.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 A pagar swap cobertura inversiones en el exterior</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10.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 Resultados operaciones de swap</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10.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El valor corriente del activo Inversiones en el Exterior se incrementa por el importe de $ 25.000.- producto de que la cotización a valores actuales del Real pasa de 2.40 a 2.45 pesos por cada real. Por lo tanto 500.000 reales por 0.05 es igual a 25.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El asiento contable será:</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D) Inversiones en el Exterior</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25.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H) Ajuste de valuación  - Patrimonio Neto</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	</a:t>
            </a:r>
            <a:r>
              <a:rPr b="0" lang="es-AR" sz="1700" spc="-1" strike="noStrike">
                <a:solidFill>
                  <a:srgbClr val="ffffff"/>
                </a:solidFill>
                <a:latin typeface="Arial"/>
              </a:rPr>
              <a:t>25.0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122"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123" name=""/>
          <p:cNvSpPr/>
          <p:nvPr/>
        </p:nvSpPr>
        <p:spPr>
          <a:xfrm>
            <a:off x="0" y="1325520"/>
            <a:ext cx="91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Suponiendo que no hubo ninguna otra variación del tipo de cambio y llegamos a la finalización del contrato con las cotizaciones del real en 2.50 pesos por cada real y el dólar en 3.10 pesos por cada dólar, quedando a pagar $ 1.000.000.- y a cobrar $ 992.000.-. con un importe neto  a pagar  de $ 8.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A pagar swap cobertura inversiones en el exterior</a:t>
            </a:r>
            <a:r>
              <a:rPr b="0" lang="es-AR" sz="1800" spc="-1" strike="noStrike">
                <a:solidFill>
                  <a:srgbClr val="ffffff"/>
                </a:solidFill>
                <a:latin typeface="Arial"/>
              </a:rPr>
              <a:t>	</a:t>
            </a:r>
            <a:r>
              <a:rPr b="0" lang="es-AR" sz="1800" spc="-1" strike="noStrike">
                <a:solidFill>
                  <a:srgbClr val="ffffff"/>
                </a:solidFill>
                <a:latin typeface="Arial"/>
              </a:rPr>
              <a:t>1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Ajuste de valuación  - Patrimonio Neto</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20.000.-</a:t>
            </a:r>
            <a:r>
              <a:rPr b="0" lang="es-AR" sz="1800" spc="-1" strike="noStrike">
                <a:solidFill>
                  <a:srgbClr val="ffffff"/>
                </a:solidFill>
                <a:latin typeface="Arial"/>
              </a:rPr>
              <a:t>	</a:t>
            </a:r>
            <a:r>
              <a:rPr b="0" lang="es-AR"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Caja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8.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Resultados operaciones de swap</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2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La registración por diferencia de cambio de la inversión extranjera es igual a 500.000 reales a 2.50 pesos, igual a 1.250.000.- pesos. Habría que contabilizar la diferencia de cambio entre el último devengado y el nuevo que fue 0.05 pesos por cada real. Esto da 500.000 reales por 0.05 igual a $ 25.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La contabilización ser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 Inversiones en el Exterior</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25.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H) Ajuste de valuación  - Patrimonio Neto</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25.000</a:t>
            </a:r>
            <a:endParaRPr b="0" lang="en-US" sz="18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125"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126" name=""/>
          <p:cNvSpPr/>
          <p:nvPr/>
        </p:nvSpPr>
        <p:spPr>
          <a:xfrm>
            <a:off x="0" y="954720"/>
            <a:ext cx="9144000" cy="5185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Finalmente se transformó la variación total de una parte de la inversión de 400.000 reales que al final de los 365 días da una valuación de $ 992.000.- cuando en realidad debería tener 1.000.000.-. La variación del dólar fue en pesos 32.000.- y la del real fue en pesos 40.000.-, lo que nos da una diferencia de $ 8.000.-, en este caso pérdi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La empresa perdió con la elección pero logró su objetivo que era mantener su inversión a valor dó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La pérdida de pesos 8.000.- se ve reflejado en los saldos de las siguientes cuentas con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Resultados por operaciones de swap</a:t>
            </a:r>
            <a:r>
              <a:rPr b="0" lang="es-AR" sz="1800" spc="-1" strike="noStrike">
                <a:solidFill>
                  <a:srgbClr val="ffffff"/>
                </a:solidFill>
                <a:latin typeface="Arial"/>
              </a:rPr>
              <a:t>	</a:t>
            </a:r>
            <a:r>
              <a:rPr b="0" lang="es-AR" sz="1800" spc="-1" strike="noStrike">
                <a:solidFill>
                  <a:srgbClr val="ffffff"/>
                </a:solidFill>
                <a:latin typeface="Arial"/>
              </a:rPr>
              <a:t>+ 3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Ajuste de valuación – Patrimonio Neto </a:t>
            </a:r>
            <a:r>
              <a:rPr b="0" lang="es-AR" sz="1800" spc="-1" strike="noStrike">
                <a:solidFill>
                  <a:srgbClr val="ffffff"/>
                </a:solidFill>
                <a:latin typeface="Arial"/>
              </a:rPr>
              <a:t>	</a:t>
            </a:r>
            <a:r>
              <a:rPr b="0" lang="es-AR" sz="1800" spc="-1" strike="noStrike">
                <a:solidFill>
                  <a:srgbClr val="ffffff"/>
                </a:solidFill>
                <a:latin typeface="Arial"/>
              </a:rPr>
              <a:t>-  4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Pérdida total</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a:t>
            </a:r>
            <a:r>
              <a:rPr b="0" lang="es-AR" sz="1800" spc="-1" strike="noStrike">
                <a:solidFill>
                  <a:srgbClr val="ffffff"/>
                </a:solidFill>
                <a:latin typeface="Arial"/>
              </a:rPr>
              <a:t>     -8.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Deberá desafectarse el saldo de la cuenta Ajuste de valuación – Patrimonio Neto en el momento de enajenación o baja del balanc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El saldo total de la cuenta Ajuste de valuación – Patrimonio Neto es de $ 10.000 positivo, formado por los 40.000.- de pérdida por valuación del swap y 50.000.- de ganancia por la valuación de la inversión. Si la cobertura hubiera sido exacta, es decir, cubierto los 500.000 reales, la cuenta hubiera quedado con saldo cero.</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27"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128"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129" name=""/>
          <p:cNvSpPr/>
          <p:nvPr/>
        </p:nvSpPr>
        <p:spPr>
          <a:xfrm>
            <a:off x="0" y="1926360"/>
            <a:ext cx="9144000" cy="298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15 </a:t>
            </a:r>
            <a:r>
              <a:rPr b="1" lang="es-AR" sz="2800" spc="-1" strike="noStrike" u="sng">
                <a:solidFill>
                  <a:srgbClr val="ffffff"/>
                </a:solidFill>
                <a:uFillTx/>
                <a:latin typeface="Arial"/>
              </a:rPr>
              <a:t>Conclus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Las coberturas son herramientas que utilizan las empresas para cubrirse de riesgos que puedan tener incidencia en resultados. Le permite planificar las variaciones de sus activos y pasivos y prever  las futuras erogaciones o cobros de flujos de fondos dándole certeza a sus posibles variaciones, como así también, mantener las inversiones en el exterior ante variaciones en la cotización de la moneda del país en donde se realizó la inversión. Desde el punto de vista contable se hace necesario la correlación de resultados generados por el elemento cubierto y el instrumento de cobertura. Con ese fin han nacido estas normas que tienen el objetivo de imputar correctamente los resultados en los ejercicios que correspondan. </a:t>
            </a:r>
            <a:endParaRPr b="0" lang="en-US" sz="18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30" name=""/>
          <p:cNvSpPr txBox="1"/>
          <p:nvPr/>
        </p:nvSpPr>
        <p:spPr>
          <a:xfrm>
            <a:off x="3127320" y="6251040"/>
            <a:ext cx="2889360" cy="476280"/>
          </a:xfrm>
          <a:prstGeom prst="rect">
            <a:avLst/>
          </a:prstGeom>
          <a:noFill/>
          <a:ln w="0">
            <a:noFill/>
          </a:ln>
        </p:spPr>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footer&gt;</a:t>
            </a:r>
            <a:endParaRPr b="0" lang="en-US" sz="1700" spc="-1" strike="noStrike">
              <a:solidFill>
                <a:srgbClr val="000000"/>
              </a:solidFill>
              <a:latin typeface="Arial"/>
            </a:endParaRPr>
          </a:p>
        </p:txBody>
      </p:sp>
      <p:sp>
        <p:nvSpPr>
          <p:cNvPr id="131" name=""/>
          <p:cNvSpPr txBox="1"/>
          <p:nvPr/>
        </p:nvSpPr>
        <p:spPr>
          <a:xfrm>
            <a:off x="460080" y="6251040"/>
            <a:ext cx="2127240" cy="476280"/>
          </a:xfrm>
          <a:prstGeom prst="rect">
            <a:avLst/>
          </a:prstGeom>
          <a:noFill/>
          <a:ln w="0">
            <a:noFill/>
          </a:ln>
        </p:spPr>
        <p: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lt;date/time&gt;</a:t>
            </a:r>
            <a:endParaRPr b="0" lang="en-US" sz="1700" spc="-1" strike="noStrike">
              <a:solidFill>
                <a:srgbClr val="000000"/>
              </a:solidFill>
              <a:latin typeface="Arial"/>
            </a:endParaRPr>
          </a:p>
        </p:txBody>
      </p:sp>
      <p:sp>
        <p:nvSpPr>
          <p:cNvPr id="132" name=""/>
          <p:cNvSpPr/>
          <p:nvPr/>
        </p:nvSpPr>
        <p:spPr>
          <a:xfrm>
            <a:off x="900000" y="2560680"/>
            <a:ext cx="7848720" cy="1617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16 Notas bibliográfic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Se utilizó la siguiente bibliografí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Resoluciones técnicas 16, 17, 18, y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Internacional Accounting Standard Comité (IASC, Comité de Normas Contables Internacionales)</a:t>
            </a: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
          <p:cNvSpPr/>
          <p:nvPr/>
        </p:nvSpPr>
        <p:spPr>
          <a:xfrm>
            <a:off x="395280" y="2103840"/>
            <a:ext cx="842472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4 Algunos tipos de deriva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4.1 Futuros: </a:t>
            </a:r>
            <a:r>
              <a:rPr b="0" lang="es-AR" sz="2800" spc="-1" strike="noStrike">
                <a:solidFill>
                  <a:srgbClr val="000000"/>
                </a:solidFill>
                <a:latin typeface="Arial"/>
              </a:rPr>
              <a:t>Son operaciones similares a los forwards con la diferencia que se negocian en mercados regulados, los contratos son estandarizados, no poseen riesgo de crédito y están sustentados sobre garantías autoliquidables</a:t>
            </a:r>
            <a:r>
              <a:rPr b="1" lang="es-AR" sz="2800" spc="-1" strike="noStrike">
                <a:solidFill>
                  <a:srgbClr val="000000"/>
                </a:solidFill>
                <a:latin typeface="Arial"/>
              </a:rPr>
              <a:t>.</a:t>
            </a:r>
            <a:endParaRPr b="0" lang="en-US" sz="2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6" name=""/>
          <p:cNvSpPr/>
          <p:nvPr/>
        </p:nvSpPr>
        <p:spPr>
          <a:xfrm>
            <a:off x="250920" y="609840"/>
            <a:ext cx="8642160" cy="5639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4.2</a:t>
            </a:r>
            <a:r>
              <a:rPr b="0" lang="es-AR" sz="2800" spc="-1" strike="noStrike">
                <a:solidFill>
                  <a:srgbClr val="000000"/>
                </a:solidFill>
                <a:latin typeface="Arial"/>
              </a:rPr>
              <a:t> </a:t>
            </a:r>
            <a:r>
              <a:rPr b="1" lang="es-AR" sz="2800" spc="-1" strike="noStrike">
                <a:solidFill>
                  <a:srgbClr val="000000"/>
                </a:solidFill>
                <a:latin typeface="Arial"/>
              </a:rPr>
              <a:t>Forwards:</a:t>
            </a:r>
            <a:r>
              <a:rPr b="0" lang="es-AR" sz="2800" spc="-1" strike="noStrike">
                <a:solidFill>
                  <a:srgbClr val="000000"/>
                </a:solidFill>
                <a:latin typeface="Arial"/>
              </a:rPr>
              <a:t> Es un acuerdo entre partes para comprar o vender un activo, en una fecha determinada en el futuro a un precio determinado. No se realizan pagos al inicio y esto se debe a que el precio determinado se fija de tal forma que el valor inicial del contrato sea cero. Al vencimiento las partes tienen que cumplir lo pactado y se dan resultados inversos, lo que gana una parte lo pierde la otra. Al contrario del futuro, son contratos hechos a medida, directamente se negocia directamente con la contraparte, no se negocian en mercados regulados y tienen riesgo de crédito si no poseen garantías autoliquidables.</a:t>
            </a:r>
            <a:endParaRPr b="0" lang="en-US" sz="2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
          <p:cNvSpPr/>
          <p:nvPr/>
        </p:nvSpPr>
        <p:spPr>
          <a:xfrm>
            <a:off x="468360" y="1678680"/>
            <a:ext cx="842472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4.3 Opciones:</a:t>
            </a:r>
            <a:r>
              <a:rPr b="0" lang="es-AR" sz="2800" spc="-1" strike="noStrike">
                <a:solidFill>
                  <a:srgbClr val="000000"/>
                </a:solidFill>
                <a:latin typeface="Arial"/>
              </a:rPr>
              <a:t> Estas operaciones le dan el comprador el derecho (no la obligación) de comprar o vender un activo subyacente en una fecha de ejercicio y a un precio determinado, denominado precio de ejercicio, pagando por ese derecho una prima. Los contratos de opciones pueden ser  de dos tipos: el que da el derecho a comprar (call) y el que da el derecho a vender (put).</a:t>
            </a:r>
            <a:endParaRPr b="0" lang="en-US" sz="2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8" name=""/>
          <p:cNvSpPr/>
          <p:nvPr/>
        </p:nvSpPr>
        <p:spPr>
          <a:xfrm>
            <a:off x="250920" y="1038240"/>
            <a:ext cx="8642160" cy="4786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4.4 Swaps:</a:t>
            </a:r>
            <a:r>
              <a:rPr b="0" lang="es-AR" sz="2800" spc="-1" strike="noStrike">
                <a:solidFill>
                  <a:srgbClr val="000000"/>
                </a:solidFill>
                <a:latin typeface="Arial"/>
              </a:rPr>
              <a:t> Acuerdo entre dos partes en virtud del cual intercambian pagos o cobros calculados sobre diferentes reglas, durante un período de tiempo determinado. Los montos de dinero que se intercambian se calculan con fórmulas predeterminadas y sobre un valor nocional. Este valor nocional no representa un importe real a ser intercambiado. En el swap los resultados no son simétricos y por lo tanto las partes pueden convenir en compensar sus resultados futuros con un pago único por diferencia</a:t>
            </a:r>
            <a:r>
              <a:rPr b="0" lang="es-AR" sz="1700" spc="-1" strike="noStrike">
                <a:solidFill>
                  <a:srgbClr val="000000"/>
                </a:solidFill>
                <a:latin typeface="Arial"/>
              </a:rPr>
              <a:t>.</a:t>
            </a:r>
            <a:endParaRPr b="0" lang="en-US" sz="17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
          <p:cNvSpPr/>
          <p:nvPr/>
        </p:nvSpPr>
        <p:spPr>
          <a:xfrm>
            <a:off x="179280" y="609840"/>
            <a:ext cx="8713800" cy="5639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5 Definición de la RT 18 de un instrumento derivado.</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De acuerdo a la resolución técnica enunciada, es considerado como instrumento derivado aquel cuyo valor cambia frente a los cambios de las variables subyacentes con las que se liquidará en fecha futura la operación de derivado, liquidándose en la mayoría de los casos por diferencias entre los importes a cobrar y a pagar de las partes. Los cambios de las variables subyacentes se deben a variaciones del mercado, pudiendo ser las mismas tasas de interés, diferencias de precios de productos, diferencias en la cotización de la moneda extranjera, etc..</a:t>
            </a:r>
            <a:endParaRPr b="0" lang="en-US" sz="2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1T13:29:22Z</dcterms:created>
  <dc:creator>A004600</dc:creator>
  <dc:description/>
  <dc:language>en-US</dc:language>
  <cp:lastModifiedBy>C.P.C.E.C.A.B.A.</cp:lastModifiedBy>
  <dcterms:modified xsi:type="dcterms:W3CDTF">2005-11-24T12:18:48Z</dcterms:modified>
  <cp:revision>13</cp:revision>
  <dc:subject/>
  <dc:title>INSTRUMENTOS DERIVADOS Y OPERACIONES DE COBERTURA. TRATAMIENTO DE LAS DIFERENCIAS DE MEDICIÓN</dc:title>
</cp:coreProperties>
</file>