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544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54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044360" y="715680"/>
            <a:ext cx="4770360" cy="357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9065880"/>
            <a:ext cx="29718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5840" y="9065880"/>
            <a:ext cx="29718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D2F4C-1B21-44BF-9777-AA31F73CAB6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3885840" y="9065880"/>
            <a:ext cx="29718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36C23-F619-4885-9DD3-5C6B40C8487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9065880"/>
            <a:ext cx="29718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-360" y="-360"/>
            <a:ext cx="29718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885840" y="-360"/>
            <a:ext cx="29718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044720" y="717480"/>
            <a:ext cx="4770360" cy="35784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533840"/>
            <a:ext cx="5486400" cy="429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9CAF3-710B-4337-AAFD-9894E9C82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EC0D6-148D-4202-98F6-A244B5B2D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984FC-A141-4D3D-9D1B-9F483B94A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80B37-F681-404B-B7E5-20BA0F85C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1AD523-9171-4A0D-8DB7-2C399604B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F47D3B-7E2D-4708-8643-D535C77E2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F972C2-E5C0-4DB9-B895-8DC8A6F4A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ACC819-542E-40E2-892C-040E222F4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335A25-72DF-43EB-989E-CDC262EB9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6367E6-9BA9-42E9-BF6A-5909530AE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3ECD76-102D-49C4-B39E-2AF8A720E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F6C1F-4B77-4664-98D7-024833C47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171519-8CB4-4D62-B30A-2AA047288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F9F0A1-913F-42C6-B7A6-CA6882100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791F29-2415-4438-90C0-A948E80C7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C0230A-E10F-405B-AF7D-B1A84D0E3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B30CCF-DCE2-4E0C-9403-316097A1B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10896-66BB-4848-AD27-A1B7008F6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BEE95-A5AD-4E1D-93DE-1436E4B73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07859-12FE-432A-9458-847AD28A8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9857B-2F13-4496-8174-DF0A08487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92ADD-5B3B-4DD1-9AB3-90F49D79D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6E292-6EA5-4BBC-BCA9-6D3F8E2D4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577DE-95EC-45AD-B024-DAD8C87FC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44680" cy="685800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33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620640" y="1447920"/>
            <a:ext cx="8523360" cy="75960"/>
            <a:chOff x="620640" y="1447920"/>
            <a:chExt cx="8523360" cy="75960"/>
          </a:xfrm>
        </p:grpSpPr>
        <p:sp>
          <p:nvSpPr>
            <p:cNvPr id="2" name=""/>
            <p:cNvSpPr/>
            <p:nvPr/>
          </p:nvSpPr>
          <p:spPr>
            <a:xfrm>
              <a:off x="620640" y="1523880"/>
              <a:ext cx="8523360" cy="0"/>
            </a:xfrm>
            <a:prstGeom prst="line">
              <a:avLst/>
            </a:prstGeom>
            <a:ln cap="sq" w="2556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620640" y="1447920"/>
              <a:ext cx="8523360" cy="0"/>
            </a:xfrm>
            <a:prstGeom prst="line">
              <a:avLst/>
            </a:prstGeom>
            <a:ln cap="sq" w="7632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E8BC1-C005-4998-85D7-81F301B9E4E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444680" cy="685800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33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604800" y="3619440"/>
              <a:ext cx="8523360" cy="76320"/>
              <a:chOff x="604800" y="3619440"/>
              <a:chExt cx="8523360" cy="76320"/>
            </a:xfrm>
          </p:grpSpPr>
          <p:sp>
            <p:nvSpPr>
              <p:cNvPr id="48" name=""/>
              <p:cNvSpPr/>
              <p:nvPr/>
            </p:nvSpPr>
            <p:spPr>
              <a:xfrm>
                <a:off x="604800" y="3695760"/>
                <a:ext cx="8523360" cy="0"/>
              </a:xfrm>
              <a:prstGeom prst="line">
                <a:avLst/>
              </a:prstGeom>
              <a:ln cap="sq" w="2556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04800" y="3619440"/>
                <a:ext cx="8523360" cy="0"/>
              </a:xfrm>
              <a:prstGeom prst="line">
                <a:avLst/>
              </a:prstGeom>
              <a:ln cap="sq" w="7632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" name=""/>
            <p:cNvSpPr/>
            <p:nvPr/>
          </p:nvSpPr>
          <p:spPr>
            <a:xfrm>
              <a:off x="609480" y="1523880"/>
              <a:ext cx="8533080" cy="60984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3366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ftr" idx="4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5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62F03-FBBE-4A76-8D2E-1A921144025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dt" idx="6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96040" algn="ctr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343880" algn="ctr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792080" algn="ctr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hsandven.com/titanic/images/titanic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497800" cy="190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Garamond"/>
              </a:rPr>
              <a:t> </a:t>
            </a:r>
            <a:r>
              <a:rPr b="1" lang="es-ES_tradnl" sz="2000" spc="-1" strike="noStrike">
                <a:solidFill>
                  <a:srgbClr val="ffcc66"/>
                </a:solidFill>
                <a:latin typeface="Garamond"/>
              </a:rPr>
              <a:t>LA CRISIS DE LA SALUD: EL SECTOR Y LOS PRESTADORES.</a:t>
            </a:r>
            <a:br>
              <a:rPr sz="2000"/>
            </a:br>
            <a:br>
              <a:rPr sz="2400"/>
            </a:br>
            <a:r>
              <a:rPr b="1" lang="es-ES_tradnl" sz="2000" spc="-1" strike="noStrike">
                <a:solidFill>
                  <a:srgbClr val="ffcc66"/>
                </a:solidFill>
                <a:latin typeface="Garamond"/>
              </a:rPr>
              <a:t>EL PROFESIONAL DE CIENCIAS ECONOMICAS</a:t>
            </a:r>
            <a:br>
              <a:rPr sz="2000"/>
            </a:br>
            <a:r>
              <a:rPr b="1" lang="es-ES_tradnl" sz="2000" spc="-1" strike="noStrike">
                <a:solidFill>
                  <a:srgbClr val="ffcc66"/>
                </a:solidFill>
                <a:latin typeface="Garamond"/>
              </a:rPr>
              <a:t> MANEJANDO LA INCERTIDUMBRE A TRAVES</a:t>
            </a:r>
            <a:br>
              <a:rPr sz="2000"/>
            </a:br>
            <a:r>
              <a:rPr b="1" lang="es-ES_tradnl" sz="2000" spc="-1" strike="noStrike">
                <a:solidFill>
                  <a:srgbClr val="ffcc66"/>
                </a:solidFill>
                <a:latin typeface="Garamond"/>
              </a:rPr>
              <a:t>DE LA PREVENCION DE LAS CRISIS</a:t>
            </a:r>
            <a:endParaRPr b="0" lang="en-US" sz="2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419076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Book Antiqua"/>
              </a:rPr>
              <a:t>Dr. Enrique Cimino                Dr. Carlos Mango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Arial"/>
              </a:rPr>
              <a:t>CONTADOR PUBLICO                                     CONTADOR PUBLIC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ecimino@cponline.org.ar                     cmango@fibertel.com.ar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Arial"/>
              </a:rPr>
              <a:t>NOVIEMBRE 2005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Arial"/>
              </a:rPr>
              <a:t>CIUDAD AUTONOMA DE BUENOS AIR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Arial"/>
              </a:rPr>
              <a:t>ARGENTI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2895480"/>
            <a:ext cx="8382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cc66"/>
                </a:solidFill>
                <a:latin typeface="Arial"/>
              </a:rPr>
              <a:t>CONGRESO METROPOLITANO DE CIENCIAS ECONOMIC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ffcc66"/>
                </a:solidFill>
                <a:latin typeface="Arial"/>
              </a:rPr>
              <a:t>60º  ANIVERSAR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18640" y="685800"/>
            <a:ext cx="7944120" cy="5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c66"/>
                </a:solidFill>
                <a:latin typeface="Times New Roman"/>
              </a:rPr>
              <a:t>SISTEMA DE SALUD –CARACTERISITICAS</a:t>
            </a:r>
            <a:endParaRPr b="0" lang="en-US" sz="28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6553080" cy="211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506520" indent="-50652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Sistema de Salud </a:t>
            </a:r>
            <a:r>
              <a:rPr b="0" lang="es-ES_tradnl" sz="26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 integrad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06520" indent="-50652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Basado en la Seguridad Socia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06520" indent="-50652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Sectores: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-Privad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06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-Seguridad Socia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06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-Públic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371600" y="3809880"/>
            <a:ext cx="7162920" cy="2819520"/>
          </a:xfrm>
          <a:prstGeom prst="flowChartMultidocumen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828800" y="4419720"/>
            <a:ext cx="59436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Dificultad sobre determinación de pre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Influencias significativas sobre la ofer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Gran componente de Recursos Human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Costos crecien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Atomización de prestador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0"/>
                            </p:stCondLst>
                            <p:childTnLst>
                              <p:par>
                                <p:cTn id="22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7500"/>
                            </p:stCondLst>
                            <p:childTnLst>
                              <p:par>
                                <p:cTn id="23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2500"/>
                            </p:stCondLst>
                            <p:childTnLst>
                              <p:par>
                                <p:cTn id="240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700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8325000" cy="5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66"/>
                </a:solidFill>
                <a:latin typeface="Times New Roman"/>
              </a:rPr>
              <a:t>SISTEMA DE SALUD – FACTORES DE LA CRISIS</a:t>
            </a:r>
            <a:endParaRPr b="0" lang="en-US" sz="2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195640" y="2133360"/>
            <a:ext cx="5486400" cy="247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Obras Sociales: 2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restadores: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153.97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Individuale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148.96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No individuales 5.0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Beneficiario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15.055.9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828800" y="5219280"/>
            <a:ext cx="6934320" cy="163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ersonal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Ocupado: 13.700.0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Ingreso promedio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mensual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: $ 736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50 % de los ocupados gana menos de $ 5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733920" y="1571760"/>
            <a:ext cx="138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AÑO 200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3500"/>
                            </p:stCondLst>
                            <p:childTnLst>
                              <p:par>
                                <p:cTn id="257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7000"/>
                            </p:stCondLst>
                            <p:childTnLst>
                              <p:par>
                                <p:cTn id="270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500"/>
                            </p:stCondLst>
                            <p:childTnLst>
                              <p:par>
                                <p:cTn id="275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8325000" cy="38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c66"/>
                </a:solidFill>
                <a:latin typeface="Times New Roman"/>
              </a:rPr>
              <a:t>SISTEMA DE SALUD - CARACTERISTICAS</a:t>
            </a:r>
            <a:endParaRPr b="0" lang="en-US" sz="28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99840" y="1676160"/>
            <a:ext cx="716292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Modalidades de Contratació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rest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ago Globaliz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ápi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artera Fi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onvenio entre Prepago y Obra So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filiación Direc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371600" y="563832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Factores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portante – Obra Social - Prestado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M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500"/>
                            </p:stCondLst>
                            <p:childTnLst>
                              <p:par>
                                <p:cTn id="312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324640" cy="57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66"/>
                </a:solidFill>
                <a:latin typeface="Times New Roman"/>
              </a:rPr>
              <a:t>SISTEMA DE SALUD – FACTORES DE LA CRISIS</a:t>
            </a:r>
            <a:endParaRPr b="0" lang="en-US" sz="2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28600" y="1752480"/>
            <a:ext cx="8686800" cy="190512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ÑO 20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Obras Sociale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el 50 % no tenía capacidad financie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umulaban  $ 1.054 M  por prestaciones 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$   389  M  por pasivos  concurs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038480"/>
            <a:ext cx="8686800" cy="22860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ÑO 20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Obras Sociales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: Acumulaban  $   838 M  por prestacion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$   369 M  por pasivos  concurs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Prestadores Privados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: Adeudan $ 700 M a la AFI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speran cobrar $ 500 M del INSSJ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500"/>
                            </p:stCondLst>
                            <p:childTnLst>
                              <p:par>
                                <p:cTn id="324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6000"/>
                            </p:stCondLst>
                            <p:childTnLst>
                              <p:par>
                                <p:cTn id="329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9500"/>
                            </p:stCondLst>
                            <p:childTnLst>
                              <p:par>
                                <p:cTn id="334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3000"/>
                            </p:stCondLst>
                            <p:childTnLst>
                              <p:par>
                                <p:cTn id="339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6500"/>
                            </p:stCondLst>
                            <p:childTnLst>
                              <p:par>
                                <p:cTn id="344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20000"/>
                            </p:stCondLst>
                            <p:childTnLst>
                              <p:par>
                                <p:cTn id="349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32500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66"/>
                </a:solidFill>
                <a:latin typeface="Times New Roman"/>
              </a:rPr>
              <a:t>SISTEMA DE SALUD – FACTORES DE LA CRISIS</a:t>
            </a:r>
            <a:endParaRPr b="0" lang="en-US" sz="2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37160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CARGA TRIBUTARIA SOBRE PRESTADO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Arial"/>
              </a:rPr>
              <a:t>Tributos Provinci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Ingresos Bru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Sell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Contribuciones Especi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Inmobiliar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Tasas Municip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                                            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Arial"/>
              </a:rPr>
              <a:t>Tributos Nacion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cc66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Impuesto a las Ganancias y GM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cc66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Impuesto al Valor Agreg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cc66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Bienes Personales Participación Acciona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cc66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Impuesto a los Débitos y Crédi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cc66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Contribuciones sobre la Seguridad Soc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cc66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Contribuciones para Obras Sociales y Sindica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3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8325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66"/>
                </a:solidFill>
                <a:latin typeface="Times New Roman"/>
              </a:rPr>
              <a:t>SISTEMA DE SALUD – FACTORES DE LA CRISIS</a:t>
            </a:r>
            <a:endParaRPr b="0" lang="en-US" sz="2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844280"/>
            <a:ext cx="91440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xis Med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Existen 21.000  médicos demandados</a:t>
            </a:r>
            <a:r>
              <a:rPr b="1" i="1" lang="es-ES_tradnl" sz="2400" spc="-1" strike="noStrike">
                <a:solidFill>
                  <a:srgbClr val="ffffff"/>
                </a:solidFill>
                <a:latin typeface="Arial"/>
              </a:rPr>
              <a:t> por 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 $ 3.000 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Arial"/>
              </a:rPr>
              <a:t>80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 % de los casos no prospe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Arial"/>
              </a:rPr>
              <a:t>Se soporta 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el cargo del 50 % de la demanda y</a:t>
            </a:r>
            <a:r>
              <a:rPr b="1" i="1" lang="es-ES_tradnl" sz="2400" spc="-1" strike="noStrike">
                <a:solidFill>
                  <a:srgbClr val="ffffff"/>
                </a:solidFill>
                <a:latin typeface="Arial"/>
              </a:rPr>
              <a:t> gas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ffffff"/>
                </a:solidFill>
                <a:latin typeface="Arial"/>
              </a:rPr>
              <a:t>El 70 % de las demandas es hacia O</a:t>
            </a:r>
            <a:r>
              <a:rPr b="1" i="1" lang="es-ES_tradnl" sz="2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es-ES" sz="2200" spc="-1" strike="noStrike">
                <a:solidFill>
                  <a:srgbClr val="ffffff"/>
                </a:solidFill>
                <a:latin typeface="Arial"/>
              </a:rPr>
              <a:t>.S</a:t>
            </a:r>
            <a:r>
              <a:rPr b="1" i="1" lang="es-ES_tradnl" sz="2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i="1" lang="es-ES" sz="2200" spc="-1" strike="noStrike">
                <a:solidFill>
                  <a:srgbClr val="ffffff"/>
                </a:solidFill>
                <a:latin typeface="Arial"/>
              </a:rPr>
              <a:t>, Clínicas y Prepaga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5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0"/>
                            </p:stCondLst>
                            <p:childTnLst>
                              <p:par>
                                <p:cTn id="37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7500"/>
                            </p:stCondLst>
                            <p:childTnLst>
                              <p:par>
                                <p:cTn id="37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8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684360" y="1989000"/>
            <a:ext cx="1066680" cy="3049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553600" cy="5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66"/>
                </a:solidFill>
                <a:latin typeface="Times New Roman"/>
              </a:rPr>
              <a:t>SISTEMA DE SALUD – FACTORES DE LA CRISIS</a:t>
            </a:r>
            <a:endParaRPr b="0" lang="en-US" sz="2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908000" y="3213000"/>
            <a:ext cx="655344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Ley de los Equivalentes  = No Equitativ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908000" y="4575240"/>
            <a:ext cx="669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lto endeudamiento fis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ranceles y Honorarios desactualiz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Grandes créditos contra la Seguridad So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Mayor demanda Hospitala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Incremento del gasto de bolsill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>
            <a:alphaModFix amt="50000"/>
          </a:blip>
          <a:stretch/>
        </p:blipFill>
        <p:spPr>
          <a:xfrm>
            <a:off x="684360" y="3284640"/>
            <a:ext cx="1066680" cy="3045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>
            <a:alphaModFix amt="50000"/>
          </a:blip>
          <a:stretch/>
        </p:blipFill>
        <p:spPr>
          <a:xfrm>
            <a:off x="684360" y="2637000"/>
            <a:ext cx="1066680" cy="3045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143000" y="3124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833120" y="2565360"/>
            <a:ext cx="586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Proceso Económico      = Cumplió Transmi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908000" y="1916280"/>
            <a:ext cx="587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Principal Motivación   =  Cambio : sin proces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6320" y="5105520"/>
            <a:ext cx="1981080" cy="1218960"/>
          </a:xfrm>
          <a:custGeom>
            <a:avLst/>
            <a:gdLst>
              <a:gd name="textAreaLeft" fmla="*/ 309600 w 1981080"/>
              <a:gd name="textAreaRight" fmla="*/ 1733760 w 1981080"/>
              <a:gd name="textAreaTop" fmla="*/ 304560 h 1218960"/>
              <a:gd name="textAreaBottom" fmla="*/ 914400 h 12189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66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RI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4">
            <a:alphaModFix amt="50000"/>
          </a:blip>
          <a:stretch/>
        </p:blipFill>
        <p:spPr>
          <a:xfrm>
            <a:off x="684360" y="3860640"/>
            <a:ext cx="1066680" cy="3049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830240" y="3789360"/>
            <a:ext cx="60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Trabajo informal, desempleo =   Desfinanci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3" presetSubtype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6500"/>
                            </p:stCondLst>
                            <p:childTnLst>
                              <p:par>
                                <p:cTn id="391" nodeType="afterEffect" fill="hold" presetClass="entr" presetID="3" presetSubtype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3000"/>
                            </p:stCondLst>
                            <p:childTnLst>
                              <p:par>
                                <p:cTn id="395" nodeType="afterEffect" fill="hold" presetClass="entr" presetID="3" presetSubtype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9500"/>
                            </p:stCondLst>
                            <p:childTnLst>
                              <p:par>
                                <p:cTn id="399" nodeType="afterEffect" fill="hold" presetClass="entr" presetID="3" presetSubtype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26000"/>
                            </p:stCondLst>
                            <p:childTnLst>
                              <p:par>
                                <p:cTn id="403" nodeType="afterEffect" fill="hold" presetClass="entr" presetID="3" presetSubtype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32500"/>
                            </p:stCondLst>
                            <p:childTnLst>
                              <p:par>
                                <p:cTn id="407" nodeType="afterEffect" fill="hold" presetClass="entr" presetID="17" presetSubtype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5761080" cy="15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cc66"/>
                </a:solidFill>
                <a:latin typeface="Garamond"/>
              </a:rPr>
              <a:t>   </a:t>
            </a:r>
            <a:r>
              <a:rPr b="1" lang="es-ES" sz="2400" spc="-1" strike="noStrike">
                <a:solidFill>
                  <a:srgbClr val="ffcc66"/>
                </a:solidFill>
                <a:latin typeface="Garamond"/>
              </a:rPr>
              <a:t>12 Marzo 2002      </a:t>
            </a:r>
            <a:r>
              <a:rPr b="1" lang="es-ES" sz="2400" spc="-1" strike="noStrike">
                <a:solidFill>
                  <a:srgbClr val="ffcc66"/>
                </a:solidFill>
                <a:latin typeface="Wingdings"/>
                <a:ea typeface="Wingdings"/>
              </a:rPr>
              <a:t></a:t>
            </a:r>
            <a:r>
              <a:rPr b="1" lang="es-ES" sz="2400" spc="-1" strike="noStrike">
                <a:solidFill>
                  <a:srgbClr val="ffcc66"/>
                </a:solidFill>
                <a:latin typeface="Garamond"/>
              </a:rPr>
              <a:t>     Decreto 486/02</a:t>
            </a:r>
            <a:br>
              <a:rPr sz="2400"/>
            </a:br>
            <a:r>
              <a:rPr b="1" lang="es-ES" sz="2400" spc="-1" strike="noStrike">
                <a:solidFill>
                  <a:srgbClr val="ffcc66"/>
                </a:solidFill>
                <a:latin typeface="Garamond"/>
              </a:rPr>
              <a:t>31 Diciembre 2002   </a:t>
            </a:r>
            <a:r>
              <a:rPr b="1" lang="es-ES" sz="2400" spc="-1" strike="noStrike">
                <a:solidFill>
                  <a:srgbClr val="ffcc66"/>
                </a:solidFill>
                <a:latin typeface="Wingdings"/>
                <a:ea typeface="Wingdings"/>
              </a:rPr>
              <a:t></a:t>
            </a:r>
            <a:r>
              <a:rPr b="1" lang="es-ES" sz="2400" spc="-1" strike="noStrike">
                <a:solidFill>
                  <a:srgbClr val="ffcc66"/>
                </a:solidFill>
                <a:latin typeface="Garamond"/>
              </a:rPr>
              <a:t>     Decreto 2724/02</a:t>
            </a:r>
            <a:br>
              <a:rPr sz="2400"/>
            </a:br>
            <a:r>
              <a:rPr b="1" lang="es-ES" sz="2400" spc="-1" strike="noStrike">
                <a:solidFill>
                  <a:srgbClr val="ffcc66"/>
                </a:solidFill>
                <a:latin typeface="Garamond"/>
              </a:rPr>
              <a:t>10 Diciembre 2003   </a:t>
            </a:r>
            <a:r>
              <a:rPr b="1" lang="es-ES" sz="2400" spc="-1" strike="noStrike">
                <a:solidFill>
                  <a:srgbClr val="ffcc66"/>
                </a:solidFill>
                <a:latin typeface="Wingdings"/>
                <a:ea typeface="Wingdings"/>
              </a:rPr>
              <a:t></a:t>
            </a:r>
            <a:r>
              <a:rPr b="1" lang="es-ES" sz="2400" spc="-1" strike="noStrike">
                <a:solidFill>
                  <a:srgbClr val="ffcc66"/>
                </a:solidFill>
                <a:latin typeface="Garamond"/>
              </a:rPr>
              <a:t>     Decreto 1210/03</a:t>
            </a:r>
            <a:br>
              <a:rPr sz="2400"/>
            </a:br>
            <a:r>
              <a:rPr b="1" lang="es-ES" sz="2400" spc="-1" strike="noStrike">
                <a:solidFill>
                  <a:srgbClr val="ffcc66"/>
                </a:solidFill>
                <a:latin typeface="Garamond"/>
              </a:rPr>
              <a:t>         17 Junio 2004   </a:t>
            </a:r>
            <a:r>
              <a:rPr b="1" lang="es-ES" sz="2400" spc="-1" strike="noStrike">
                <a:solidFill>
                  <a:srgbClr val="ffcc66"/>
                </a:solidFill>
                <a:latin typeface="Wingdings"/>
                <a:ea typeface="Wingdings"/>
              </a:rPr>
              <a:t></a:t>
            </a:r>
            <a:r>
              <a:rPr b="1" lang="es-ES" sz="2400" spc="-1" strike="noStrike">
                <a:solidFill>
                  <a:srgbClr val="ffcc66"/>
                </a:solidFill>
                <a:latin typeface="Garamond"/>
              </a:rPr>
              <a:t>     Decreto 756/04</a:t>
            </a:r>
            <a:endParaRPr b="0" lang="en-US" sz="2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980720" y="4038480"/>
            <a:ext cx="590076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15 de Diciembre  2004   </a:t>
            </a:r>
            <a:r>
              <a:rPr b="1" lang="es-E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   Ley 25.97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Impide las ejecucion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Hasta 31 de Diciembre de 20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31520" y="1628640"/>
            <a:ext cx="69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66"/>
                </a:solidFill>
                <a:latin typeface="Times New Roman"/>
              </a:rPr>
              <a:t>PARAGUAS DE LA EMERGENCIA  SANITA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05800" y="5911920"/>
            <a:ext cx="18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0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3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3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3500"/>
                            </p:stCondLst>
                            <p:childTnLst>
                              <p:par>
                                <p:cTn id="420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3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3700"/>
                            </p:stCondLst>
                            <p:childTnLst>
                              <p:par>
                                <p:cTn id="424" nodeType="afterEffect" fill="hold" presetClass="entr" presetID="5" presetSubtype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6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20200"/>
                            </p:stCondLst>
                            <p:childTnLst>
                              <p:par>
                                <p:cTn id="428" nodeType="afterEffect" fill="hold" presetClass="entr" presetID="5" presetSubtype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0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6700"/>
                            </p:stCondLst>
                            <p:childTnLst>
                              <p:par>
                                <p:cTn id="432" nodeType="afterEffect" fill="hold" presetClass="entr" presetID="5" presetSubtype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4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174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497800" cy="190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Garamond"/>
              </a:rPr>
              <a:t> </a:t>
            </a:r>
            <a:r>
              <a:rPr b="1" lang="es-ES_tradnl" sz="2000" spc="-1" strike="noStrike">
                <a:solidFill>
                  <a:srgbClr val="ffff00"/>
                </a:solidFill>
                <a:latin typeface="Garamond"/>
              </a:rPr>
              <a:t>LA CRISIS DE LA SALUD: EL SECTOR Y LOS PRESTADORES.</a:t>
            </a:r>
            <a:br>
              <a:rPr sz="2000"/>
            </a:br>
            <a:br>
              <a:rPr sz="2400"/>
            </a:br>
            <a:r>
              <a:rPr b="1" lang="es-ES_tradnl" sz="2000" spc="-1" strike="noStrike">
                <a:solidFill>
                  <a:srgbClr val="ffff00"/>
                </a:solidFill>
                <a:latin typeface="Garamond"/>
              </a:rPr>
              <a:t>EL PROFESIONAL DE CIENCIAS ECONOMICAS</a:t>
            </a:r>
            <a:br>
              <a:rPr sz="2000"/>
            </a:br>
            <a:r>
              <a:rPr b="1" lang="es-ES_tradnl" sz="2000" spc="-1" strike="noStrike">
                <a:solidFill>
                  <a:srgbClr val="ffff00"/>
                </a:solidFill>
                <a:latin typeface="Garamond"/>
              </a:rPr>
              <a:t> MANEJANDO LA INCERTIDUMBRE A TRAVES</a:t>
            </a:r>
            <a:br>
              <a:rPr sz="2000"/>
            </a:br>
            <a:r>
              <a:rPr b="1" lang="es-ES_tradnl" sz="2000" spc="-1" strike="noStrike">
                <a:solidFill>
                  <a:srgbClr val="ffff00"/>
                </a:solidFill>
                <a:latin typeface="Garamond"/>
              </a:rPr>
              <a:t>DE LA PREVENCION DE LAS CRISIS</a:t>
            </a:r>
            <a:endParaRPr b="0" lang="en-US" sz="2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Book Antiqua"/>
              </a:rPr>
              <a:t>Dr. Carlos Man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ONTADOR PUBLIC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mango@fibertel.com.ar</a:t>
            </a: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cc66"/>
                </a:solidFill>
                <a:latin typeface="Arial"/>
              </a:rPr>
              <a:t>CONGRESO METROPOLITANO DE CIENCIAS ECONOMIC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ffcc66"/>
                </a:solidFill>
                <a:latin typeface="Arial"/>
              </a:rPr>
              <a:t>60º  ANIVERSAR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Arial"/>
              </a:rPr>
              <a:t>NOVIEMBRE 2005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Arial"/>
              </a:rPr>
              <a:t>CIUDAD AUTONOMA DE BUENOS AIR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Arial"/>
              </a:rPr>
              <a:t>ARGENTI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19520" y="2438280"/>
            <a:ext cx="3733560" cy="99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Segunda  Par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305280" y="533160"/>
            <a:ext cx="9448920" cy="647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d60093"/>
                </a:solidFill>
                <a:latin typeface="Arial"/>
              </a:rPr>
              <a:t>  </a:t>
            </a:r>
            <a:br>
              <a:rPr sz="2800"/>
            </a:br>
            <a:r>
              <a:rPr b="1" lang="es-ES" sz="4000" spc="-1" strike="noStrike">
                <a:solidFill>
                  <a:srgbClr val="ff3300"/>
                </a:solidFill>
                <a:latin typeface="Arial"/>
              </a:rPr>
              <a:t>Navegando en la incertidumbre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s-ES" sz="4000" spc="-1" strike="noStrike">
                <a:solidFill>
                  <a:srgbClr val="ff3300"/>
                </a:solidFill>
                <a:latin typeface="Arial"/>
              </a:rPr>
              <a:t>La paradoja del Titanic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s-ES" sz="4000" spc="-1" strike="noStrike">
                <a:solidFill>
                  <a:srgbClr val="ff3300"/>
                </a:solidFill>
                <a:latin typeface="Arial"/>
              </a:rPr>
              <a:t>El Profesional de Ciencias Económicas en medio del caos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</p:spTree>
  </p:cSld>
  <p:transition spd="slow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497800" cy="190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Garamond"/>
              </a:rPr>
              <a:t> </a:t>
            </a:r>
            <a:r>
              <a:rPr b="1" lang="es-ES_tradnl" sz="2000" spc="-1" strike="noStrike">
                <a:solidFill>
                  <a:srgbClr val="ffff00"/>
                </a:solidFill>
                <a:latin typeface="Garamond"/>
              </a:rPr>
              <a:t>LA CRISIS DE LA SALUD: EL SECTOR Y LOS PRESTADORES.</a:t>
            </a:r>
            <a:br>
              <a:rPr sz="2000"/>
            </a:br>
            <a:br>
              <a:rPr sz="2400"/>
            </a:br>
            <a:r>
              <a:rPr b="1" lang="es-ES_tradnl" sz="2000" spc="-1" strike="noStrike">
                <a:solidFill>
                  <a:srgbClr val="ffff00"/>
                </a:solidFill>
                <a:latin typeface="Garamond"/>
              </a:rPr>
              <a:t>EL PROFESIONAL DE CIENCIAS ECONOMICAS</a:t>
            </a:r>
            <a:br>
              <a:rPr sz="2000"/>
            </a:br>
            <a:r>
              <a:rPr b="1" lang="es-ES_tradnl" sz="2000" spc="-1" strike="noStrike">
                <a:solidFill>
                  <a:srgbClr val="ffff00"/>
                </a:solidFill>
                <a:latin typeface="Garamond"/>
              </a:rPr>
              <a:t> MANEJANDO LA INCERTIDUMBRE A TRAVES</a:t>
            </a:r>
            <a:br>
              <a:rPr sz="2000"/>
            </a:br>
            <a:r>
              <a:rPr b="1" lang="es-ES_tradnl" sz="2000" spc="-1" strike="noStrike">
                <a:solidFill>
                  <a:srgbClr val="ffff00"/>
                </a:solidFill>
                <a:latin typeface="Garamond"/>
              </a:rPr>
              <a:t>DE LA PREVENCION DE LAS CRISIS</a:t>
            </a:r>
            <a:endParaRPr b="0" lang="en-US" sz="2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Book Antiqua"/>
              </a:rPr>
              <a:t>Dr. Enrique Cimin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ONTADOR PUBLIC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ecimino@cponline.org.ar</a:t>
            </a: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cc66"/>
                </a:solidFill>
                <a:latin typeface="Arial"/>
              </a:rPr>
              <a:t>CONGRESO METROPOLITANO DE CIENCIAS ECONOMIC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ffcc66"/>
                </a:solidFill>
                <a:latin typeface="Arial"/>
              </a:rPr>
              <a:t>60º  ANIVERSAR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Arial"/>
              </a:rPr>
              <a:t>NOVIEMBRE 2005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Arial"/>
              </a:rPr>
              <a:t>CIUDAD AUTONOMA DE BUENOS AIR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Arial"/>
              </a:rPr>
              <a:t>ARGENTI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819520" y="2438280"/>
            <a:ext cx="3733560" cy="99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rimera  Par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174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solidFill>
            <a:srgbClr val="cc3300"/>
          </a:solidFill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¿PROSPECTIVA ?  ó  </a:t>
            </a: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¿ ADIVINAR  EL FUTURO?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pic>
        <p:nvPicPr>
          <p:cNvPr id="179" name="BOLA%20DE%20CRISTAL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304920" y="2895480"/>
            <a:ext cx="3124080" cy="260856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33520" y="1523880"/>
            <a:ext cx="53337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Incertidumbre residu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733920" y="2743200"/>
            <a:ext cx="541008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Tipo 1: Futuro suficientemente cla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Tipo 2: Futuros alterna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Tipo 3: Abanico de futu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Tipo 4: Auténtica ambigüe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174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INCERTIDUMBRE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REFERENCIA           PUNTOS DE VIS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Ignorando la relación causa-efecto </a:t>
            </a: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(Teoría</a:t>
            </a: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del Caos).</a:t>
            </a: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  La relació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No es determinista: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  “seguro que ocurrirá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No es  azarosa: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  “no sabemos qué pasará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s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aótica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  “sabemos que pasarán cosas pero no sabemos el por qué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Partiendo de la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complejidad, la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imprevisibilidad y la competitivida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81280" y="1600200"/>
            <a:ext cx="990720" cy="533520"/>
          </a:xfrm>
          <a:prstGeom prst="leftRightArrow">
            <a:avLst>
              <a:gd name="adj1" fmla="val 50000"/>
              <a:gd name="adj2" fmla="val 36967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174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4495680" y="2286000"/>
            <a:ext cx="4953240" cy="411480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FINANCIADO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DE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SISTE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rot="5415000">
            <a:off x="1446840" y="2058120"/>
            <a:ext cx="3809880" cy="5789520"/>
          </a:xfrm>
          <a:custGeom>
            <a:avLst/>
            <a:gdLst>
              <a:gd name="textAreaLeft" fmla="*/ 1270080 w 3809880"/>
              <a:gd name="textAreaRight" fmla="*/ 3263400 w 3809880"/>
              <a:gd name="textAreaTop" fmla="*/ 3334320 h 5789520"/>
              <a:gd name="textAreaBottom" fmla="*/ 4958640 h 57895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33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FALTA 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AG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OBRAS SOCIALES Y PAM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1219320"/>
            <a:ext cx="91440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 FALTA DE PAGO: UNA CONSTANTE DEL SISTEMA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1066680"/>
            <a:ext cx="5181480" cy="3124440"/>
          </a:xfrm>
          <a:prstGeom prst="ellipse">
            <a:avLst/>
          </a:prstGeom>
          <a:solidFill>
            <a:srgbClr val="3366cc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RED DE PRESTADO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línicas y Sanatorios Privado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aboratorios;Centros de diagnóstico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rofesionales Independien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174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535640" y="2249640"/>
            <a:ext cx="4608360" cy="4608360"/>
          </a:xfrm>
          <a:custGeom>
            <a:avLst/>
            <a:gdLst>
              <a:gd name="textAreaLeft" fmla="*/ 298440 w 4608360"/>
              <a:gd name="textAreaRight" fmla="*/ 4309920 w 4608360"/>
              <a:gd name="textAreaTop" fmla="*/ 298440 h 4608360"/>
              <a:gd name="textAreaBottom" fmla="*/ 4309920 h 46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0082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solidFill>
            <a:srgbClr val="cc3300"/>
          </a:solidFill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Garamond"/>
              </a:rPr>
              <a:t>                        </a:t>
            </a: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El interrogante</a:t>
            </a:r>
            <a:r>
              <a:rPr b="0" lang="es-ES" sz="4400" spc="-1" strike="noStrike">
                <a:solidFill>
                  <a:srgbClr val="ffcc66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5800" y="1904760"/>
            <a:ext cx="8845560" cy="41907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¿Qué pasaría si el 31 de diciembre de 2005 no se prorrogara la vigencia de la Emergencia Sanitari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ARAGUASROJOUGT02" descr=""/>
          <p:cNvPicPr/>
          <p:nvPr/>
        </p:nvPicPr>
        <p:blipFill>
          <a:blip r:embed="rId1"/>
          <a:stretch/>
        </p:blipFill>
        <p:spPr>
          <a:xfrm>
            <a:off x="0" y="0"/>
            <a:ext cx="4419720" cy="40640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ransition spd="slow"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174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371600" y="5562720"/>
            <a:ext cx="7391520" cy="12952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Gradual     =   herramientas tradicion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xplosivo  =  sólo capacidades especi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rot="5429400">
            <a:off x="3504600" y="2971080"/>
            <a:ext cx="2589120" cy="2743200"/>
          </a:xfrm>
          <a:custGeom>
            <a:avLst/>
            <a:gdLst>
              <a:gd name="textAreaLeft" fmla="*/ 0 w 2589120"/>
              <a:gd name="textAreaRight" fmla="*/ 2589480 w 2589120"/>
              <a:gd name="textAreaTop" fmla="*/ 0 h 2743200"/>
              <a:gd name="textAreaBottom" fmla="*/ 2743560 h 274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INGRE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solidFill>
            <a:srgbClr val="cc3300"/>
          </a:solidFill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DESARROLLO DE UN SISTEMA PREVENTIVO</a:t>
            </a:r>
            <a:endParaRPr b="0" lang="en-US" sz="32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98" name=""/>
          <p:cNvSpPr/>
          <p:nvPr/>
        </p:nvSpPr>
        <p:spPr>
          <a:xfrm>
            <a:off x="1676520" y="1676520"/>
            <a:ext cx="6019560" cy="11430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RISIS     vs.   TORMEN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85800" y="3124080"/>
            <a:ext cx="2133720" cy="1600200"/>
          </a:xfrm>
          <a:prstGeom prst="octagon">
            <a:avLst>
              <a:gd name="adj" fmla="val 29287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TORMEN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INEVI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0" y="3200400"/>
            <a:ext cx="2286000" cy="1447920"/>
          </a:xfrm>
          <a:prstGeom prst="octagon">
            <a:avLst>
              <a:gd name="adj" fmla="val 29287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RI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18594000">
            <a:off x="2416680" y="2494080"/>
            <a:ext cx="1435320" cy="2011680"/>
          </a:xfrm>
          <a:prstGeom prst="lightningBol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7439400">
            <a:off x="5486400" y="2533680"/>
            <a:ext cx="1828800" cy="1828800"/>
          </a:xfrm>
          <a:prstGeom prst="lightningBol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174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ffff"/>
                </a:solidFill>
                <a:latin typeface="Arial"/>
              </a:rPr>
              <a:t>PLAN DE MANEJO DE CRISIS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28600" y="1790640"/>
            <a:ext cx="8686800" cy="5067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Arial"/>
              </a:rPr>
              <a:t>CATEGORIAS DE CRI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Económicas: </a:t>
            </a: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devaluación, mayores costos, deudas de O.S. y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Pami impagas, impuestos distorsiv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De información: </a:t>
            </a: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extravío historias clínicas, hack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Físicas: </a:t>
            </a: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robo equipos clave, rotura aparatos, destrucció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instalacion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De recursos humanos: </a:t>
            </a: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ausentismo, contagio VIH o hepatitis,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infidelidad empleados, pérdida personal clave, mobb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De reputación: </a:t>
            </a: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calumnias, denuncias públicas, juicios mala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praxis, difamación, incremento rumo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Actos de psicópatas: </a:t>
            </a: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secuestro, atentado, toma de rehenes, terrorismo, sabotaje, soborno, contaminación.</a:t>
            </a: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Desastres naturales: </a:t>
            </a: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inundación, terremoto, incendio, explosión, tornad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174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228240" y="167616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Arial"/>
              </a:rPr>
              <a:t>MECANISMOS PARA ACTU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Detección de señ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Mecanismos de conten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Mecanismos post mor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Sistemas organizacion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Las partes involucradas (stakeholder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Los escenarios posi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0" y="-228600"/>
            <a:ext cx="9144000" cy="137160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ffff"/>
                </a:solidFill>
                <a:latin typeface="Arial"/>
              </a:rPr>
              <a:t>PLAN DE MANEJO DE CRISIS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</p:spTree>
  </p:cSld>
  <p:transition spd="slow"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174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GRADO DE PREVISIBILIDAD DE LAS CRI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0" y="1828800"/>
          <a:ext cx="9067680" cy="5470560"/>
        </p:xfrm>
        <a:graphic>
          <a:graphicData uri="http://schemas.openxmlformats.org/drawingml/2006/table">
            <a:tbl>
              <a:tblPr/>
              <a:tblGrid>
                <a:gridCol w="2030400"/>
                <a:gridCol w="3435480"/>
                <a:gridCol w="3601800"/>
              </a:tblGrid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igen         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emp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stac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ter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4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RG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ivel 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ff3300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érdida productivida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ff3300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aja rotación de     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</a:t>
                      </a: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ventario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ff3300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allas en los   product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ivel 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ff3300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ambios en los             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</a:t>
                      </a: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nsumidor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ff3300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oductos sustitut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ff3300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uevos competidor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4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RT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ivel 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ff3300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ccidentes en la  plant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ff3300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xodo empleados  cla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ff3300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uelga del pers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</a:t>
                      </a: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ivel</a:t>
                      </a:r>
                      <a:r>
                        <a:rPr b="0" lang="es-E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ff3300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tentado terrorist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ff3300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taque cibernétic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ff3300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ifusión de calumni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>
            <a:off x="0" y="1828800"/>
            <a:ext cx="2057400" cy="99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174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RESPUESTAS SEGÚN GRADO DE PREVISIBIL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250920" y="1600200"/>
          <a:ext cx="8893080" cy="8883720"/>
        </p:xfrm>
        <a:graphic>
          <a:graphicData uri="http://schemas.openxmlformats.org/drawingml/2006/table">
            <a:tbl>
              <a:tblPr/>
              <a:tblGrid>
                <a:gridCol w="4245120"/>
                <a:gridCol w="4647960"/>
              </a:tblGrid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ter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08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ivel 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ff3300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ablero de control         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ivel 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ff3300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étodo Delph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ff3300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atriz Impactos cruzados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ff3300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écnica escenarios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ff3300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alanced scorecar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39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ivel 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ff3300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egur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ff3300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lanes de contingenci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ff3300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anuales de crisi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ff3300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ff3300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ff3300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ff3300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ff3300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ff3300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      </a:t>
                      </a: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ivel</a:t>
                      </a:r>
                      <a:r>
                        <a:rPr b="0" lang="es-E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2" marL="914400">
                        <a:lnSpc>
                          <a:spcPct val="70000"/>
                        </a:lnSpc>
                        <a:spcBef>
                          <a:spcPts val="499"/>
                        </a:spcBef>
                        <a:buClr>
                          <a:srgbClr val="ff3300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sesinos intern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2" marL="914400">
                        <a:lnSpc>
                          <a:spcPct val="70000"/>
                        </a:lnSpc>
                        <a:spcBef>
                          <a:spcPts val="499"/>
                        </a:spcBef>
                        <a:buClr>
                          <a:srgbClr val="ff3300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</a:t>
                      </a: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etáforas combinad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2" marL="9144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3300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</a:t>
                      </a: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ueda de crisi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2" marL="914400">
                        <a:lnSpc>
                          <a:spcPct val="70000"/>
                        </a:lnSpc>
                        <a:spcBef>
                          <a:spcPts val="499"/>
                        </a:spcBef>
                        <a:buClr>
                          <a:srgbClr val="ff3300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Juego de espí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2" marL="914400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2" marL="914400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2" marL="914400">
                        <a:lnSpc>
                          <a:spcPct val="70000"/>
                        </a:lnSpc>
                        <a:spcBef>
                          <a:spcPts val="499"/>
                        </a:spcBef>
                        <a:buClr>
                          <a:srgbClr val="ff3300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2" marL="914400">
                        <a:lnSpc>
                          <a:spcPct val="70000"/>
                        </a:lnSpc>
                        <a:spcBef>
                          <a:spcPts val="499"/>
                        </a:spcBef>
                        <a:buClr>
                          <a:srgbClr val="ff3300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2" marL="914400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2" marL="914400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2" marL="914400">
                        <a:lnSpc>
                          <a:spcPct val="70000"/>
                        </a:lnSpc>
                        <a:spcBef>
                          <a:spcPts val="499"/>
                        </a:spcBef>
                        <a:buClr>
                          <a:srgbClr val="ff3300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2" marL="914400">
                        <a:lnSpc>
                          <a:spcPct val="70000"/>
                        </a:lnSpc>
                        <a:spcBef>
                          <a:spcPts val="499"/>
                        </a:spcBef>
                        <a:buClr>
                          <a:srgbClr val="ff3300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2" marL="914400">
                        <a:lnSpc>
                          <a:spcPct val="70000"/>
                        </a:lnSpc>
                        <a:spcBef>
                          <a:spcPts val="499"/>
                        </a:spcBef>
                        <a:buClr>
                          <a:srgbClr val="ff3300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2" marL="914400">
                        <a:lnSpc>
                          <a:spcPct val="70000"/>
                        </a:lnSpc>
                        <a:spcBef>
                          <a:spcPts val="499"/>
                        </a:spcBef>
                        <a:buClr>
                          <a:srgbClr val="ff3300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2" marL="914400">
                        <a:lnSpc>
                          <a:spcPct val="70000"/>
                        </a:lnSpc>
                        <a:spcBef>
                          <a:spcPts val="499"/>
                        </a:spcBef>
                        <a:buClr>
                          <a:srgbClr val="ff3300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2" marL="914400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2" marL="9144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split dir="out" orient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174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LEMENTOS PARA DESARROLLA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UN SISTEMA DE ALER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6804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80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80400" indent="-32220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Contar con información precisa y oportun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80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80400" indent="-32220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La previsión del futuro que anticipe los camb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80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80400" indent="-32220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Elaboración de planes contingent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80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80400" indent="-32220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Mejoras en el diseño de plantas, procesos y product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80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80400" indent="-32220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Atención de los comportamientos dentro de la organiz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80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80400" indent="-32220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Auditorías sobre aspectos financieros legales y medioambient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80400" indent="-322200">
              <a:lnSpc>
                <a:spcPct val="120000"/>
              </a:lnSpc>
              <a:spcBef>
                <a:spcPts val="499"/>
              </a:spcBef>
              <a:buClr>
                <a:srgbClr val="ff33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Sistema de alerta con información externa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.                   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066680" y="4724280"/>
            <a:ext cx="7925040" cy="16765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3366cc"/>
              </a:gs>
              <a:gs pos="100000">
                <a:srgbClr val="0033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cc66"/>
                </a:solidFill>
                <a:latin typeface="Book Antiqua"/>
              </a:rPr>
              <a:t>                                                                                                                                                                     </a:t>
            </a:r>
            <a:r>
              <a:rPr b="1" lang="es-ES_tradnl" sz="1400" spc="-1" strike="noStrike">
                <a:solidFill>
                  <a:srgbClr val="ffcc66"/>
                </a:solidFill>
                <a:latin typeface="Book Antiqua"/>
              </a:rPr>
              <a:t>Dr. Enrique Cimino</a:t>
            </a:r>
            <a:br>
              <a:rPr sz="1400"/>
            </a:br>
            <a:r>
              <a:rPr b="1" lang="es-ES_tradnl" sz="2400" spc="-1" strike="noStrike">
                <a:solidFill>
                  <a:srgbClr val="ffcc66"/>
                </a:solidFill>
                <a:latin typeface="Book Antiqua"/>
              </a:rPr>
              <a:t> </a:t>
            </a:r>
            <a:br>
              <a:rPr sz="2400"/>
            </a:b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UN BIEN QUE SE LLAMA SALUD</a:t>
            </a:r>
            <a:br>
              <a:rPr sz="3200"/>
            </a:br>
            <a:endParaRPr b="0" lang="en-US" sz="32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828440" y="190512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Necesidades individu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lementos    </a:t>
            </a:r>
            <a:r>
              <a:rPr b="1" lang="es-ES_trad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Tangibles (físicos)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1" lang="es-ES_trad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Intangibles (servici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1" lang="es-ES_trad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mb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14400" y="42667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-228600"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Origen: procurar satisfa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inámica: demanda perman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Generalmente crea su ofer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5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174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CONCLUSIONES</a:t>
            </a:r>
            <a:endParaRPr b="0" lang="en-US" sz="36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El paraguas de la emergencia sanitar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Impacto de las crisis: muchas veces sin avi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No esperar: prepararse para sobrellevar la emergenc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Monitorear variables internas y externa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Los profesionales de C.E. deben utilizar todas las herramientas y apelar a la creativida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Crisis: no son sólo económic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174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CONCLUSIONES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Manejo de incertidumbre:  conducir en tempestad y anticiparse para conocer los caminos de menor turbulencia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Plan de contingencia: no evitará la crisis pero contribuirá para  manejarl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Habitualmente se manejan hipótesis de condiciones normales y se deja de lado el entorno. Aprender del Titanic es muy úti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La competencia por el futuro permitirá a las empresas ponerse al tope de la curva de cambio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174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0" y="1790280"/>
            <a:ext cx="91440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or la incertidumbre del contexto y la complejidad de las tecnologías, la anticipación y el manejo de crisis, deben formar parte de las competencias de los Profesionales en Ciencias Económic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La cuestión será quebrar el paradigma y poder imaginar lo inimaginabl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60%20aniversari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174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90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LA CRISIS DE LA SALUD: EL SECTOR Y LOS PRESTADORES</a:t>
            </a:r>
            <a:br>
              <a:rPr sz="2800"/>
            </a:b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l Profesional de Ciencias Económicas manejando la incertidumbre a través de la prevención de las crisis</a:t>
            </a:r>
            <a:br>
              <a:rPr sz="2400"/>
            </a:br>
            <a:br>
              <a:rPr sz="2400"/>
            </a:br>
            <a:br>
              <a:rPr sz="1800"/>
            </a:br>
            <a:endParaRPr b="0" lang="en-US" sz="2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371600" y="495288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Book Antiqua"/>
              </a:rPr>
              <a:t>Dr. Enrique Cimino                                      Dr. Carlos Mango</a:t>
            </a:r>
            <a:r>
              <a:rPr b="1" lang="es-ES_tradnl" sz="16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s-ES_tradnl" sz="1000" spc="-1" strike="noStrike">
                <a:solidFill>
                  <a:srgbClr val="ffffff"/>
                </a:solidFill>
                <a:latin typeface="Arial"/>
              </a:rPr>
              <a:t>CONTADOR PUBLICO                                                                                    CONTADOR PUBLIC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ecimino@cponline.org.ar                                                         cmango@fibertel.com.ar</a:t>
            </a: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NOVIEMBRE 200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IUDAD AUTONOMA DE BUENOS AIR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ARGENTIN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80880" y="3733920"/>
            <a:ext cx="8382240" cy="11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CONGRESO METROPOLITANO DE CIENCIAS ECONOMIC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60º  ANIVERSAR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2438280"/>
            <a:ext cx="9144000" cy="12956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Garamond"/>
              </a:rPr>
              <a:t>MUCHAS GRACIA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066680" y="3581280"/>
            <a:ext cx="7925040" cy="28195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3366cc"/>
              </a:gs>
              <a:gs pos="100000">
                <a:srgbClr val="0033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18640" y="456840"/>
            <a:ext cx="83250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UN BIEN QUE SE LLAMA SALUD</a:t>
            </a:r>
            <a:endParaRPr b="0" lang="en-US" sz="32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3520" y="1599840"/>
            <a:ext cx="7162920" cy="171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490680" indent="-4906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roveedores  de Bienes y Servi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90680" indent="-4906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nsumidores de Bienes y Servi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90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90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Mercado: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relación regular entre partes, destina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0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 realizar intercamb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905120" y="3885840"/>
            <a:ext cx="7238880" cy="210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Salud : es un bi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onservació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Reestablecer el equilibrio perdi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Mejorar el bienestar gene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4500"/>
                            </p:stCondLst>
                            <p:childTnLst>
                              <p:par>
                                <p:cTn id="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523880" y="45720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UN BIEN QUE SE LLAMA SALU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76720" y="1752480"/>
            <a:ext cx="26668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Book Antiqua"/>
              </a:rPr>
              <a:t>Bienes</a:t>
            </a:r>
            <a:r>
              <a:rPr b="0" lang="es-ES_tradnl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228600" y="2590920"/>
          <a:ext cx="8686800" cy="2743200"/>
        </p:xfrm>
        <a:graphic>
          <a:graphicData uri="http://schemas.openxmlformats.org/drawingml/2006/table">
            <a:tbl>
              <a:tblPr/>
              <a:tblGrid>
                <a:gridCol w="2080080"/>
                <a:gridCol w="2080440"/>
                <a:gridCol w="2674800"/>
                <a:gridCol w="1851480"/>
              </a:tblGrid>
              <a:tr h="120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conómic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Escas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 Capit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Procesos productiv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 Consum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Satisfacc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direct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medi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Insum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4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nal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Listos para utilizar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Públic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ffff66"/>
                          </a:solidFill>
                          <a:latin typeface="Book Antiqua"/>
                        </a:rPr>
                        <a:t>Muchos tendrán acces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vad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Benefician exclusivamente al que los consu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Meritori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ffff66"/>
                          </a:solidFill>
                          <a:latin typeface="Book Antiqua"/>
                        </a:rPr>
                        <a:t>Prioritarios para el Paí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>
            <a:off x="3866760" y="5651640"/>
            <a:ext cx="1578240" cy="5324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66"/>
                </a:solidFill>
                <a:latin typeface="Book Antiqua"/>
              </a:rPr>
              <a:t>SALU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ru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70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5257800" y="2590920"/>
            <a:ext cx="3505320" cy="40384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1904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1904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1904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1904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1904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18640" y="609480"/>
            <a:ext cx="8325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UN BIEN QUE SE LLAMA SALUD</a:t>
            </a:r>
            <a:endParaRPr b="0" lang="en-US" sz="32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2819520"/>
            <a:ext cx="48006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Bien prefer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Consumo sin tener en cuenta la ren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Vitales para el paí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Efecto social mayor que el individu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Externalidad positi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Satisface una necesidad públ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Otros: 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Educación,  Alimentación, Tp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81120" y="2666520"/>
            <a:ext cx="3505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NO DEBE SER DE CONSUMO EXCLUSIV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MUCHOS  DEBEN TENER ACCES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EXISTIR BENEFICIO SI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HABERLO CONSUMI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UTILIDAD PRIVADA Y PUBL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POLITICA DE ESTA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DEBE SER PROVISTO POR EL ESTA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024440" y="1676520"/>
            <a:ext cx="123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Book Antiqua"/>
              </a:rPr>
              <a:t>Salu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500"/>
                            </p:stCondLst>
                            <p:childTnLst>
                              <p:par>
                                <p:cTn id="72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600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1500"/>
                            </p:stCondLst>
                            <p:childTnLst>
                              <p:par>
                                <p:cTn id="82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7000"/>
                            </p:stCondLst>
                            <p:childTnLst>
                              <p:par>
                                <p:cTn id="103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00200" y="685800"/>
            <a:ext cx="6477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UN BIEN QUE SE LLAMA SALUD</a:t>
            </a:r>
            <a:endParaRPr b="0" lang="en-US" sz="32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52120" y="1676160"/>
            <a:ext cx="70866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  mayor ingreso y educación mayor deman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be perseguir la equida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ayor gasto no significa desarrol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s un componente básico de la calidad de vi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presenta un importante subsector económ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8" presetSubtype="1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4500"/>
                            </p:stCondLst>
                            <p:childTnLst>
                              <p:par>
                                <p:cTn id="115" nodeType="afterEffect" fill="hold" presetClass="entr" presetID="18" presetSubtype="1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7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000"/>
                            </p:stCondLst>
                            <p:childTnLst>
                              <p:par>
                                <p:cTn id="119" nodeType="afterEffect" fill="hold" presetClass="entr" presetID="18" presetSubtype="1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1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3500"/>
                            </p:stCondLst>
                            <p:childTnLst>
                              <p:par>
                                <p:cTn id="123" nodeType="afterEffect" fill="hold" presetClass="entr" presetID="18" presetSubtype="1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27" nodeType="afterEffect" fill="hold" presetClass="entr" presetID="18" presetSubtype="1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9" dur="500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8325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66"/>
                </a:solidFill>
                <a:latin typeface="Garamond"/>
              </a:rPr>
              <a:t>MODELOS</a:t>
            </a:r>
            <a:r>
              <a:rPr b="1" lang="es-ES_tradnl" sz="3600" spc="-1" strike="noStrike">
                <a:solidFill>
                  <a:srgbClr val="ffcc66"/>
                </a:solidFill>
                <a:latin typeface="Garamond"/>
              </a:rPr>
              <a:t> </a:t>
            </a:r>
            <a:r>
              <a:rPr b="1" lang="es-ES_tradnl" sz="3200" spc="-1" strike="noStrike">
                <a:solidFill>
                  <a:srgbClr val="ffcc66"/>
                </a:solidFill>
                <a:latin typeface="Garamond"/>
              </a:rPr>
              <a:t>DE GESTION</a:t>
            </a:r>
            <a:endParaRPr b="0" lang="en-US" sz="32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133360" y="1752120"/>
            <a:ext cx="65530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700" spc="-1" strike="noStrike">
                <a:solidFill>
                  <a:srgbClr val="ffffff"/>
                </a:solidFill>
                <a:latin typeface="Arial"/>
              </a:rPr>
              <a:t>Universalista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Acceso Universal                          Financiación Pública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057040" y="5866920"/>
            <a:ext cx="6705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Asistencialis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El Estado asiste a los que no tienen acces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905120" y="4495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Seguros Priv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Estado totalmente aus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No financia  ni es prestad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057040" y="30477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700" spc="-1" strike="noStrike">
                <a:solidFill>
                  <a:srgbClr val="ffffff"/>
                </a:solidFill>
                <a:latin typeface="Arial"/>
              </a:rPr>
              <a:t>Seguro Social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Aportes y Contribu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Servicios de Proveedores Públicos y Priv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19320" y="3200400"/>
            <a:ext cx="457200" cy="2890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 flipH="1">
            <a:off x="1219320" y="1828800"/>
            <a:ext cx="457200" cy="3049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 flipH="1" rot="10800000">
            <a:off x="1219320" y="4571640"/>
            <a:ext cx="457200" cy="3049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1219320" y="5943600"/>
            <a:ext cx="457200" cy="2890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50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6000"/>
                            </p:stCondLst>
                            <p:childTnLst>
                              <p:par>
                                <p:cTn id="14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850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450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8000"/>
                            </p:stCondLst>
                            <p:childTnLst>
                              <p:par>
                                <p:cTn id="16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50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6868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c66"/>
                </a:solidFill>
                <a:latin typeface="Times New Roman"/>
              </a:rPr>
              <a:t>SISTEMA DE SALUD - ANTECEDENTES</a:t>
            </a:r>
            <a:endParaRPr b="0" lang="en-US" sz="28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47920" y="1676160"/>
            <a:ext cx="769608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eguro Obligatori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Bismar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Accidentes, enfermedad, vejez e invalide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Argentina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Entidades civiles de beneficenci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Hospital Públ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1" lang="es-ES_trad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Medico Priv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s-ES_tradnl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Surgen las Obras Soci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s-ES_tradnl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Se desarrolla la actividad Privada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523520" y="5257800"/>
            <a:ext cx="76201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Ley 18610 : Obras Sociales y Trabajad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reación del PAMI (INSSJ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ntidades intermedias: Tercer Pagad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500"/>
                            </p:stCondLst>
                            <p:childTnLst>
                              <p:par>
                                <p:cTn id="182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7000"/>
                            </p:stCondLst>
                            <p:childTnLst>
                              <p:par>
                                <p:cTn id="187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92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4000"/>
                            </p:stCondLst>
                            <p:childTnLst>
                              <p:par>
                                <p:cTn id="197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7500"/>
                            </p:stCondLst>
                            <p:childTnLst>
                              <p:par>
                                <p:cTn id="202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100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3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3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9T23:25:52Z</dcterms:created>
  <dc:creator>Enrique Cimino - Carlos Mango</dc:creator>
  <dc:description/>
  <dc:language>en-US</dc:language>
  <cp:lastModifiedBy>C.P.C.E.C.A.B.A.</cp:lastModifiedBy>
  <dcterms:modified xsi:type="dcterms:W3CDTF">2005-11-24T17:34:24Z</dcterms:modified>
  <cp:revision>335</cp:revision>
  <dc:subject>Congreso Metropolitano CPCE CABA -  Noviembre 2005</dc:subject>
  <dc:title>LA CRISIS DE LA SALUD: EL SECTOR Y LOS PRESTADOR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158909469</vt:r8>
  </property>
  <property fmtid="{D5CDD505-2E9C-101B-9397-08002B2CF9AE}" pid="3" name="_AuthorEmail">
    <vt:lpwstr>ciminoe@caes.org.ar</vt:lpwstr>
  </property>
  <property fmtid="{D5CDD505-2E9C-101B-9397-08002B2CF9AE}" pid="4" name="_AuthorEmailDisplayName">
    <vt:lpwstr>Cimino Enrique</vt:lpwstr>
  </property>
  <property fmtid="{D5CDD505-2E9C-101B-9397-08002B2CF9AE}" pid="5" name="_EmailSubject">
    <vt:lpwstr>Congreso</vt:lpwstr>
  </property>
</Properties>
</file>