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23E4D5-66D4-4373-BD4E-69D8FA102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AFE058-97B5-485A-9D54-7A3471EADD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1ABD30-FC88-42BF-A0C4-EC6B4FB18C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931BA-28F4-4050-B5BD-0D4C7216E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134C56-B968-4AD2-ACB1-B912179A29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FB7138-C437-4DAA-9A29-9701F5663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0F98D7-C324-44BD-9437-9FAFF7DA96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18538C-EEA3-464E-AD4F-C8F366990E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114E78-AB4C-45BD-AE7C-0EF546FBF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A0D31-4534-4854-8FFC-3BA3B0BF75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2309E7-C8D5-4025-B725-01A0373BB5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4C1B3-9197-46DE-B67D-373010589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52A6CA-CE7A-4FB8-B94B-17185AD1FB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27F32B-EB77-483F-B225-6CD153646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6810A2-462C-4317-8CA5-2916D9B32D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1C965F-21E1-4038-88CB-246BE32154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89D17-9295-4F84-B6BF-E312AFD6FF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814CFB-0C6A-4422-B219-E13220C18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9C403-D7CE-43C2-A7AD-040452B7A0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DC5579-14EA-4551-B6BE-5DF69FBA2D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B644EA-736B-48B1-90E4-55BC9F658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39735B-EF7B-46DD-ABCE-559FCBE7AC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72519A-9333-4672-9C07-4B7F3B73F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DFA43-0150-4C0B-AD83-32641E05F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FBBD-C903-4539-A41C-30125823255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E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9BA49-FBBE-4BBD-965E-43D606D97D07}" type="slidenum">
              <a:rPr b="1" lang="es-E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66"/>
                </a:solidFill>
                <a:latin typeface="Arial"/>
              </a:rPr>
              <a:t>EL ACUERDO PREVENTIVO EXTRAJUDICIAL</a:t>
            </a:r>
            <a:r>
              <a:rPr b="1" lang="en-US" sz="3600" spc="-1" strike="noStrike">
                <a:solidFill>
                  <a:srgbClr val="003366"/>
                </a:solidFill>
                <a:latin typeface="Arial"/>
              </a:rPr>
              <a:t> </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MENAZA U OPORTUNIDAD EN EL DESARROLLO</a:t>
            </a:r>
            <a:endParaRPr b="0" lang="en-US" sz="2400" spc="-1" strike="noStrike">
              <a:solidFill>
                <a:srgbClr val="006666"/>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DEL PROFESIONAL EN CIENCIAS ECONOMICAS?</a:t>
            </a:r>
            <a:endParaRPr b="0" lang="en-US" sz="2400" spc="-1" strike="noStrike">
              <a:solidFill>
                <a:srgbClr val="00666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95"/>
                                        </p:tgtEl>
                                        <p:attrNameLst>
                                          <p:attrName>style.visibility</p:attrName>
                                        </p:attrNameLst>
                                      </p:cBhvr>
                                      <p:to>
                                        <p:strVal val="visible"/>
                                      </p:to>
                                    </p:set>
                                    <p:animEffect filter="box(in)" transition="in">
                                      <p:cBhvr additive="repl">
                                        <p:cTn id="7" dur="500"/>
                                        <p:tgtEl>
                                          <p:spTgt spid="9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12" dur="500"/>
                                        <p:tgtEl>
                                          <p:spTgt spid="96">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7" dur="500"/>
                                        <p:tgtEl>
                                          <p:spTgt spid="9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QUE SUCEDE EN OTROS PAISES RESPECTO AL APE?</a:t>
            </a:r>
            <a:r>
              <a:rPr b="0" lang="es-MX" sz="3200" spc="-1" strike="noStrike">
                <a:solidFill>
                  <a:srgbClr val="006666"/>
                </a:solidFill>
                <a:latin typeface="Arial"/>
              </a:rPr>
              <a:t> (cont.)</a:t>
            </a:r>
            <a:br>
              <a:rPr sz="3200"/>
            </a:br>
            <a:endParaRPr b="1" lang="en-US" sz="3200" spc="-1" strike="noStrike">
              <a:solidFill>
                <a:srgbClr val="006666"/>
              </a:solidFill>
              <a:latin typeface="Arial"/>
            </a:endParaRPr>
          </a:p>
        </p:txBody>
      </p:sp>
      <p:sp>
        <p:nvSpPr>
          <p:cNvPr id="11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a:t>
            </a:r>
            <a:r>
              <a:rPr b="0" lang="es-MX" sz="2400" spc="-1" strike="noStrike">
                <a:solidFill>
                  <a:srgbClr val="003366"/>
                </a:solidFill>
                <a:latin typeface="Arial"/>
              </a:rPr>
              <a:t>LONDON APROACH” guía y aplicación de carácter no obligatorio</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Bcos deben mantener líneas de crédito y no ejecutar</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Decisiones largo plazo c/inf.completa y compartida con bancos y comité</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Bancos trabajar en visión compartida para financiar cia.</a:t>
            </a:r>
            <a:endParaRPr b="0" lang="en-US" sz="2400" spc="-1" strike="noStrike">
              <a:solidFill>
                <a:srgbClr val="003366"/>
              </a:solidFill>
              <a:latin typeface="Arial"/>
            </a:endParaRPr>
          </a:p>
          <a:p>
            <a:pPr marL="332640" indent="-3326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Arial"/>
              </a:rPr>
              <a:t>Se reconoce privilegio y prioridades con perdida compartida y equitativa</a:t>
            </a:r>
            <a:endParaRPr b="0" lang="en-US" sz="2400" spc="-1" strike="noStrike">
              <a:solidFill>
                <a:srgbClr val="003366"/>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QUE SUCEDE EN OTROS PAISES RESPECTO AL APE?</a:t>
            </a:r>
            <a:r>
              <a:rPr b="0" lang="es-MX" sz="3200" spc="-1" strike="noStrike">
                <a:solidFill>
                  <a:srgbClr val="006666"/>
                </a:solidFill>
                <a:latin typeface="Arial"/>
              </a:rPr>
              <a:t> (cont.)</a:t>
            </a:r>
            <a:endParaRPr b="1" lang="en-US" sz="3200" spc="-1" strike="noStrike">
              <a:solidFill>
                <a:srgbClr val="006666"/>
              </a:solidFill>
              <a:latin typeface="Arial"/>
            </a:endParaRPr>
          </a:p>
        </p:txBody>
      </p:sp>
      <p:sp>
        <p:nvSpPr>
          <p:cNvPr id="11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INGLATERRA: corporate voluntary arragement</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Permite reorganizar y refinanciar. Pudiendo Corte nombrar administrador</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FRANCIA: acuerdos amigables. Con conciliador y homologados judicialmente</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LEMANIA ITALIA BRASIL Y JAPON no tienen sistemas preventivos extrajudiciales</a:t>
            </a:r>
            <a:endParaRPr b="0" lang="en-US" sz="2000" spc="-1" strike="noStrike">
              <a:solidFill>
                <a:srgbClr val="003366"/>
              </a:solidFill>
              <a:latin typeface="Arial"/>
            </a:endParaRPr>
          </a:p>
          <a:p>
            <a:pPr marL="339480" indent="-3394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EEUU hasta hace poco solo chapter 11 no existían acuerdos fuera del tribunal. Hoy prepackaged plan; acuerdos fuera del tribunal para homologar. La tercera parte de cortes especializadas cuentan con mediaciones especializadas</a:t>
            </a:r>
            <a:endParaRPr b="0" lang="en-US" sz="2000" spc="-1" strike="noStrike">
              <a:solidFill>
                <a:srgbClr val="003366"/>
              </a:solidFill>
              <a:latin typeface="Arial"/>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QUE SUCEDE EN OTROS PAISES RESPECTO AL APE?</a:t>
            </a:r>
            <a:r>
              <a:rPr b="0" lang="es-MX" sz="3200" spc="-1" strike="noStrike">
                <a:solidFill>
                  <a:srgbClr val="006666"/>
                </a:solidFill>
                <a:latin typeface="Arial"/>
              </a:rPr>
              <a:t> (cont.)</a:t>
            </a:r>
            <a:endParaRPr b="1" lang="en-US" sz="3200" spc="-1" strike="noStrike">
              <a:solidFill>
                <a:srgbClr val="006666"/>
              </a:solidFill>
              <a:latin typeface="Arial"/>
            </a:endParaRPr>
          </a:p>
        </p:txBody>
      </p:sp>
      <p:sp>
        <p:nvSpPr>
          <p:cNvPr id="11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URUGUAY acuerdo preventivos logrando 50% acreedor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oncordato preventivo.extrajudicial.(indiv/empresa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oncordato privado (no inscripto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HILE acuerdos con rigurosa reglamentación con aprobación unánim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OLOMBIA mecanismo paraconcursal administrativ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 cargo Superintendecia Sociedades (IGJ) nacional.</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ECUADOR ídem Colombia para grandes empresas se requiere ¾ partes capital sino se liquid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QUE SUCEDE EN OTROS PAISES RESPECTO AL APE?</a:t>
            </a:r>
            <a:r>
              <a:rPr b="0" lang="es-MX" sz="3200" spc="-1" strike="noStrike">
                <a:solidFill>
                  <a:srgbClr val="006666"/>
                </a:solidFill>
                <a:latin typeface="Arial"/>
              </a:rPr>
              <a:t> (cont.)</a:t>
            </a:r>
            <a:endParaRPr b="1" lang="en-US" sz="3200" spc="-1" strike="noStrike">
              <a:solidFill>
                <a:srgbClr val="006666"/>
              </a:solidFill>
              <a:latin typeface="Arial"/>
            </a:endParaRPr>
          </a:p>
        </p:txBody>
      </p:sp>
      <p:sp>
        <p:nvSpPr>
          <p:cNvPr id="12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ERU instituto preconcursal</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Conservación empresa y trabajadore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1992 ley de reestructuración empresari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Normas de reestructuración económica y fin de empresas excepto bancos, compañías seguros y administradoras de fondo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sburocratiza entrada y salida actividad econ. (INDECOPI)</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clara insolvencia cuando deudor no tiene capacidad pago</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Reconoce legitimidad y monto de créditos</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clara prelación de créditos y su orden de preferencia</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lega funciones en inst. públicos. Y privadas: Col. Abogados Lima, Colegios. Contadores Públicos y Cámara de Comercio de Arequip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Declaratoria de insolvencia: -acreedores después de 30 días vto.</a:t>
            </a:r>
            <a:endParaRPr b="0"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deudor reduzca pat. A 3ra. Parte</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El deudor tiene 2 posibilidades:</a:t>
            </a:r>
            <a:endParaRPr b="0"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acredita pago: deniega declaratoria insolvencia</a:t>
            </a:r>
            <a:endParaRPr b="0"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no acredita: se declara insolvencia y convoca junta acreedores</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Junta: 2 atribuciones:  decide destino de empresa</a:t>
            </a:r>
            <a:endParaRPr b="0" lang="en-US" sz="2000" spc="-1" strike="noStrike">
              <a:solidFill>
                <a:srgbClr val="003366"/>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supervisa ejecución de acuerdos</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Principio rector: conservación de empresa, 70% acreedores, administración temporal 60 días plan de reestructuración</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probado obliga a todos los acreedores</a:t>
            </a:r>
            <a:endParaRPr b="0" lang="en-US" sz="2000" spc="-1" strike="noStrike">
              <a:solidFill>
                <a:srgbClr val="003366"/>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LGUNAS PROPUESTAS</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12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Kleidermacher nuevo régimen alternativo a resolución de la crisis empresari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IGJ CAC CPA CPCECABA</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uerpo de profesionales especializ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dministración colegiada interdisciplinaria (ídem síndic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Deudor opta por régimen actual o este.</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omité evalúa viabilidad y plan de acció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Medidas de protección ejecucione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Sin requisito de cesación de pag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Si el comité dice no viable: liquidación judici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Si hay acuerdo % monto de acuerdo tasa justicia</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6666"/>
                </a:solidFill>
                <a:latin typeface="Arial"/>
              </a:rPr>
              <a:t>ALGUNAS PROPUESTAS</a:t>
            </a:r>
            <a:r>
              <a:rPr b="0" lang="es-MX" sz="3600" spc="-1" strike="noStrike">
                <a:solidFill>
                  <a:srgbClr val="006666"/>
                </a:solidFill>
                <a:latin typeface="Arial"/>
              </a:rPr>
              <a:t> (cont.)</a:t>
            </a:r>
            <a:endParaRPr b="1" lang="en-US" sz="3600" spc="-1" strike="noStrike">
              <a:solidFill>
                <a:srgbClr val="006666"/>
              </a:solidFill>
              <a:latin typeface="Arial"/>
            </a:endParaRPr>
          </a:p>
        </p:txBody>
      </p:sp>
      <p:sp>
        <p:nvSpPr>
          <p:cNvPr id="12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PE mayor control por ausencia sindicatur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Certificación contable es insuficient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Implementar auditoria para disminuir riesgo fraud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Juicios en tramite: certificación informe abogado ad-hoc</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Reforma sugerida: solamente dictamen de auditores de la firma o integrantes de la lista de síndico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Deudor requisito información como declaración jurad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Establecer régimen de responsabilidad por omitir o falsear información si actúa dolo o fraude.</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clusiones</a:t>
            </a:r>
            <a:endParaRPr b="1" lang="en-US" sz="3600" spc="-1" strike="noStrike">
              <a:solidFill>
                <a:srgbClr val="006666"/>
              </a:solidFill>
              <a:latin typeface="Arial"/>
            </a:endParaRPr>
          </a:p>
        </p:txBody>
      </p:sp>
      <p:sp>
        <p:nvSpPr>
          <p:cNvPr id="12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Arial"/>
              </a:rPr>
              <a:t>FORTALEZ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l deudor establece libremente el contenido del acuerdo y el proceso es rápi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os efectos del acuerdo homologado serán iguales que si se tratara de un acuerdo preventivo judicial homologa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suspenden las acciones de contenido patrimonial desde el momento del pedido.</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suspenden las ejecuciones de garantías reales y los actos de ejecución forzada de dichas garantías.</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Celeridad de trámite, carencia de plazos perentorios previstos explícitamente.</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3366"/>
                </a:solidFill>
                <a:latin typeface="Arial"/>
              </a:rPr>
              <a:t>se aliviaría los tramites en la justicia que se hallaban rebasados de expedientes concursales</a:t>
            </a:r>
            <a:endParaRPr b="0" lang="en-US" sz="2000" spc="-1" strike="noStrike">
              <a:solidFill>
                <a:srgbClr val="003366"/>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ebilidades</a:t>
            </a:r>
            <a:endParaRPr b="1" lang="en-US" sz="3600" spc="-1" strike="noStrike">
              <a:solidFill>
                <a:srgbClr val="006666"/>
              </a:solidFill>
              <a:latin typeface="Arial"/>
            </a:endParaRPr>
          </a:p>
        </p:txBody>
      </p:sp>
      <p:sp>
        <p:nvSpPr>
          <p:cNvPr id="13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El deudor al establecer libremente el contenido del acuerdo en un proceso tan rápido como precario, poco controlado, redundando en posible falta de  legitimidad de sus créditos, los que podrían  ser “manejados” por el deudor a su gusto.</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s efectos del acuerdo homologado serán iguales que si se tratara de un acuerdo preventivo judicial homologado sin el “tamiz” de la verificación de créditos.</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hay fuero de atracción de los juicios de contenido patrimonial</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o resulta aplicable el régimen de verificación tardía.</a:t>
            </a:r>
            <a:endParaRPr b="0" lang="en-US" sz="2000" spc="-1" strike="noStrike">
              <a:solidFill>
                <a:srgbClr val="003366"/>
              </a:solidFill>
              <a:latin typeface="Arial"/>
            </a:endParaRPr>
          </a:p>
          <a:p>
            <a:pPr marL="339480" indent="-33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Ser privado de llevar adelante acciones legales a que pudiera tener derecho por el sólo hecho de que el deudor solicite la homologación judicial de un APE con alguno de sus acreedores.</a:t>
            </a:r>
            <a:endParaRPr b="0" lang="en-US" sz="2000" spc="-1" strike="noStrike">
              <a:solidFill>
                <a:srgbClr val="003366"/>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menazas</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os grandes vacíos legales no previstos en el acuerdo.</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Utilizar al APE de forma abusiva, tendenciosa y manipulatoria, dejando de lado acreedores o discriminándolos indebidament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3366"/>
                </a:solidFill>
                <a:latin typeface="Arial"/>
              </a:rPr>
              <a:t>La simple certificación contable de la documentación que debe ser acompañada como requisito para su homologación no implica un trabajo de auditoria profesional dado que es sólo una certificación literal.</a:t>
            </a: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INTRODUCCIÓN</a:t>
            </a:r>
            <a:r>
              <a:rPr b="1" lang="en-US" sz="3600" spc="-1" strike="noStrike">
                <a:solidFill>
                  <a:srgbClr val="006666"/>
                </a:solidFill>
                <a:latin typeface="Arial"/>
              </a:rPr>
              <a:t> </a:t>
            </a:r>
            <a:endParaRPr b="1" lang="en-US" sz="3600" spc="-1" strike="noStrike">
              <a:solidFill>
                <a:srgbClr val="006666"/>
              </a:solidFill>
              <a:latin typeface="Arial"/>
            </a:endParaRPr>
          </a:p>
        </p:txBody>
      </p:sp>
      <p:sp>
        <p:nvSpPr>
          <p:cNvPr id="9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7000"/>
          </a:bodyPr>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cuerdos preconcursales: iniciativa privada</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Nacieron antes de su regulación</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parecen regulados en 1983 ley 22917</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Inmunizaba al deudor si –juez homologaba</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 plan viable</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Naturaleza contractual. Todo o parte de acreedores.</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Informal, rápido, económico, discreto</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A pesar de no suspender acciones ni intereses</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Ley 24522 introdujo homologación judicial si hay mayoría</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Naturaleza contractual obligaba a firmantes. La homologación para ser opuesto en quiebra posterior.</a:t>
            </a:r>
            <a:endParaRPr b="0" lang="en-US" sz="2000" spc="-1" strike="noStrike">
              <a:solidFill>
                <a:srgbClr val="003366"/>
              </a:solidFill>
              <a:latin typeface="Arial"/>
            </a:endParaRPr>
          </a:p>
          <a:p>
            <a:pPr marL="298440" indent="-29844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Ley 25589 subtipo concursal. Acuerdo privado con homologación judicial</a:t>
            </a:r>
            <a:endParaRPr b="0" lang="en-US" sz="2000" spc="-1" strike="noStrike">
              <a:solidFill>
                <a:srgbClr val="003366"/>
              </a:solidFill>
              <a:latin typeface="Arial"/>
            </a:endParaRPr>
          </a:p>
          <a:p>
            <a:pPr marL="2984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portunidades</a:t>
            </a:r>
            <a:endParaRPr b="1" lang="en-US" sz="3600" spc="-1" strike="noStrike">
              <a:solidFill>
                <a:srgbClr val="006666"/>
              </a:solidFill>
              <a:latin typeface="Arial"/>
            </a:endParaRPr>
          </a:p>
        </p:txBody>
      </p:sp>
      <p:sp>
        <p:nvSpPr>
          <p:cNvPr id="134"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fontScale="92000"/>
          </a:bodyPr>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Como bien lo puntualiza el Dr. Marcelo Barreiro los jueces deben convertir su tarea en una “tarea pretoriana rigurosa” para evitar los posibles abusos que surjan de la utilización del instituto.</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Se abre una oportunidad para los síndicos atento la resolución del Juzgado Nacional de Primera Instancia en lo Comercial de Capital Federal Nro. 16 Secretaria 32, en autos:”Modo S.A. de transporte s/acuerdo preventivo extrajudicial, el Juez Alfredo Kolliker Frers nombra un síndico ad-hoc dado la complejidad del proceso.</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a alternativa tendiente a superar las situaciones de insolvencia o crisis empresaria en estados generales del patrimonio del deudor.</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Es una alternativa ágil dado que produce efectos similares al Concurso Preventivo con poco control jurisdiccional y a un costo menor. </a:t>
            </a:r>
            <a:endParaRPr b="0" lang="en-US" sz="2000" spc="-1" strike="noStrike">
              <a:solidFill>
                <a:srgbClr val="003366"/>
              </a:solidFill>
              <a:latin typeface="Arial"/>
            </a:endParaRPr>
          </a:p>
          <a:p>
            <a:pPr marL="315360" indent="-31536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Arial"/>
              </a:rPr>
              <a:t>la presencia de un juez en plenitud de facultades, ejerciendo un control y garantizando la transparencia del proceso resulta absolutamente imprescindible.</a:t>
            </a:r>
            <a:endParaRPr b="0" lang="en-US" sz="2000" spc="-1" strike="noStrike">
              <a:solidFill>
                <a:srgbClr val="003366"/>
              </a:solidFill>
              <a:latin typeface="Arial"/>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E ES EL APE, UN CONTRATO O UN TIPO DE CONCURSO?</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0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Mero contrato: Heredia Villanueva y Grippo: contrato y multilater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                 </a:t>
            </a:r>
            <a:r>
              <a:rPr b="0" lang="es-MX" sz="2800" spc="-1" strike="noStrike">
                <a:solidFill>
                  <a:srgbClr val="003366"/>
                </a:solidFill>
                <a:latin typeface="Arial"/>
              </a:rPr>
              <a:t>Neuquén y Río Negro: sello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Subtipo concursal: Truffat,Barreiro</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   </a:t>
            </a:r>
            <a:r>
              <a:rPr b="0" lang="es-MX" sz="2800" spc="-1" strike="noStrike">
                <a:solidFill>
                  <a:srgbClr val="003366"/>
                </a:solidFill>
                <a:latin typeface="Arial"/>
              </a:rPr>
              <a:t>al presentar a homologar subespecie concurs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   </a:t>
            </a:r>
            <a:r>
              <a:rPr b="0" lang="es-MX" sz="2800" spc="-1" strike="noStrike">
                <a:solidFill>
                  <a:srgbClr val="003366"/>
                </a:solidFill>
                <a:latin typeface="Arial"/>
              </a:rPr>
              <a:t>comienza como contrato privado y continua judicialmente con efecto erga hommes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4000" y="1052280"/>
            <a:ext cx="7995960" cy="115236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r>
              <a:rPr b="0" lang="es-ES" sz="3200" spc="-1" strike="noStrike">
                <a:solidFill>
                  <a:srgbClr val="006666"/>
                </a:solidFill>
                <a:latin typeface="Arial"/>
              </a:rPr>
              <a:t>¿QUE ES EL APE, UN CONTRATO O UN TIPO DE CONCURSO?</a:t>
            </a:r>
            <a:r>
              <a:rPr b="0" lang="es-MX" sz="3200" spc="-1" strike="noStrike">
                <a:solidFill>
                  <a:srgbClr val="006666"/>
                </a:solidFill>
                <a:latin typeface="Arial"/>
              </a:rPr>
              <a:t> (cont.)</a:t>
            </a:r>
            <a:br>
              <a:rPr sz="3200"/>
            </a:br>
            <a:endParaRPr b="1" lang="en-US" sz="3200" spc="-1" strike="noStrike">
              <a:solidFill>
                <a:srgbClr val="006666"/>
              </a:solidFill>
              <a:latin typeface="Arial"/>
            </a:endParaRPr>
          </a:p>
        </p:txBody>
      </p:sp>
      <p:sp>
        <p:nvSpPr>
          <p:cNvPr id="10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Escasa legislación: jurisprudenci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27-05-03 SERVICIOS Y CALIDAD (AP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Juez 1ra. Inst. verdadera “resolución de Apertur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Publicación edictos, presentar libros a intervenir, inscripción en registro de juicios, inhibición general de bienes, suspensión juicios, prohibición viaje ext., formar legajo art.279</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ROULLION    1ro. Aplicar regla procesal especific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                       </a:t>
            </a:r>
            <a:r>
              <a:rPr b="0" lang="es-MX" sz="2000" spc="-1" strike="noStrike">
                <a:solidFill>
                  <a:srgbClr val="003366"/>
                </a:solidFill>
                <a:latin typeface="Arial"/>
              </a:rPr>
              <a:t>2do. Aplicar regla procesal por analogí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No analogía en restricciones (viaje al exterior)</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6666"/>
                </a:solidFill>
                <a:latin typeface="Arial"/>
              </a:rPr>
              <a:t>¿QUE ES EL APE, UN CONTRATO O UN TIPO DE CONCURSO?</a:t>
            </a:r>
            <a:r>
              <a:rPr b="0" lang="es-MX" sz="3200" spc="-1" strike="noStrike">
                <a:solidFill>
                  <a:srgbClr val="006666"/>
                </a:solidFill>
                <a:latin typeface="Arial"/>
              </a:rPr>
              <a:t> (cont.)</a:t>
            </a:r>
            <a:br>
              <a:rPr sz="3200"/>
            </a:br>
            <a:br>
              <a:rPr sz="3200"/>
            </a:br>
            <a:endParaRPr b="1" lang="en-US" sz="3200" spc="-1" strike="noStrike">
              <a:solidFill>
                <a:srgbClr val="006666"/>
              </a:solidFill>
              <a:latin typeface="Arial"/>
            </a:endParaRPr>
          </a:p>
        </p:txBody>
      </p:sp>
      <p:sp>
        <p:nvSpPr>
          <p:cNvPr id="104"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Juez dice falta sindico necesito información para no homologar propuesta abusiva</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Pidió: características de la empresa, plan para cumplir propuesta, que no se puede mejorar propuesta, comparar propuesta con posible venta en quiebra, comparación de total de acreedores votaron favorable sobre el total de acreedores registrados y en juicio.</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Arial"/>
              </a:rPr>
              <a:t>BARREIRO manera pretoriana subsana vacíos a pesar de extralimitarse. Garantiza transparencia.</a:t>
            </a: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 QUIENES PUEDEN PRESENTARSE O ACCEDER AL APE Y BAJO QUE CIRCUNSTANCIAS?</a:t>
            </a:r>
            <a:endParaRPr b="1" lang="en-US" sz="2400" spc="-1" strike="noStrike">
              <a:solidFill>
                <a:srgbClr val="006666"/>
              </a:solidFill>
              <a:latin typeface="Arial"/>
            </a:endParaRPr>
          </a:p>
        </p:txBody>
      </p:sp>
      <p:sp>
        <p:nvSpPr>
          <p:cNvPr id="106"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0000"/>
          </a:bodyPr>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resupuesto objetivo: no solo cesación de pagos. Preinsolvencia.</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resuouesto subjetivo: cualquier persona física o jurídica puede celebrar APE no homologable.</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El APE homologado judicialmente personas físicas o jurídicas con registración contable activos y pasivos (art. 72)</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Requisitos del 72 indispensable para acceder </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Caso MENZILDIAN DE PELLEGRINI ANELGA S/APE</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1ra. Inst.: rechaza por falta información y no comerciante</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Escaso respaldo documental, precaria certificación contable.</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Causas crisis no guardan relación con pasivo</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Unico acreedor  en juicio no fue incorporado</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2da. Inst. SALA B CNAC revoca y dice que a falta de art 69 remisión al 2 y 5.</a:t>
            </a:r>
            <a:endParaRPr b="0" lang="en-US" sz="1800" spc="-1" strike="noStrike">
              <a:solidFill>
                <a:srgbClr val="003366"/>
              </a:solidFill>
              <a:latin typeface="Arial"/>
            </a:endParaRPr>
          </a:p>
          <a:p>
            <a:pPr marL="308520" indent="-30852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El único recaudo es expresar cesación de pagos o crisis y la certificación es suficiente, no condiciona ser comerciante o n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66"/>
                </a:solidFill>
                <a:latin typeface="Arial"/>
              </a:rPr>
              <a:t>¿ QUIENES PUEDEN PRESENTARSE O ACCEDER AL APE Y BAJO QUE CIRCUNSTANCIAS?</a:t>
            </a:r>
            <a:r>
              <a:rPr b="1" lang="es-MX" sz="2400" spc="-1" strike="noStrike">
                <a:solidFill>
                  <a:srgbClr val="006666"/>
                </a:solidFill>
                <a:latin typeface="Arial"/>
              </a:rPr>
              <a:t> (cont.)</a:t>
            </a:r>
            <a:endParaRPr b="1" lang="en-US" sz="2400" spc="-1" strike="noStrike">
              <a:solidFill>
                <a:srgbClr val="006666"/>
              </a:solidFill>
              <a:latin typeface="Arial"/>
            </a:endParaRPr>
          </a:p>
        </p:txBody>
      </p:sp>
      <p:sp>
        <p:nvSpPr>
          <p:cNvPr id="108"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Resumiendo: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Arial"/>
              </a:rPr>
              <a:t>Gran parte doctrina: Junyent Bas, Molina Sandoval, Truffat y Heredia opinan en sentido del fallo de Cámara que por lo ambiguo del art. 69 nos remitimos al 2 y 5</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 SE HACE CAMINO AL ANDAR?</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0"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5000"/>
          </a:bodyPr>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Reduce costos no sindico</a:t>
            </a: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ero falta control y verificación de créditos</a:t>
            </a:r>
            <a:endParaRPr b="0" lang="en-US" sz="1800" spc="-1" strike="noStrike">
              <a:solidFill>
                <a:srgbClr val="003366"/>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MODO S.A. de transporte S/APE (J.16 S.32)</a:t>
            </a: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 </a:t>
            </a:r>
            <a:r>
              <a:rPr b="0" lang="es-MX" sz="1800" spc="-1" strike="noStrike">
                <a:solidFill>
                  <a:srgbClr val="003366"/>
                </a:solidFill>
                <a:latin typeface="Arial"/>
              </a:rPr>
              <a:t>sindicatura ad-hoc</a:t>
            </a:r>
            <a:endParaRPr b="0" lang="en-US" sz="1800" spc="-1" strike="noStrike">
              <a:solidFill>
                <a:srgbClr val="003366"/>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STANTERO Y STANTERO S/INC.ASOC.MUTUAL SUP.FERROV S/INC. IMPUGNACION (JCYC NRO. 3 SAN MARTIN)</a:t>
            </a: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Nombra perito técnico especializado de la lista sindico A</a:t>
            </a:r>
            <a:endParaRPr b="0" lang="en-US" sz="1800" spc="-1" strike="noStrike">
              <a:solidFill>
                <a:srgbClr val="003366"/>
              </a:solidFill>
              <a:latin typeface="Arial"/>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25800" indent="-325800">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Vemos no siempre se puede prescindir de la sindicatura y juez debe cubrir pretorianamente aquel vacío.</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66"/>
                </a:solidFill>
                <a:latin typeface="Arial"/>
              </a:rPr>
              <a:t>¿QUE SUCEDE EN OTROS PAISES RESPECTO AL APE?</a:t>
            </a:r>
            <a:r>
              <a:rPr b="1" lang="en-US" sz="3200" spc="-1" strike="noStrike">
                <a:solidFill>
                  <a:srgbClr val="006666"/>
                </a:solidFill>
                <a:latin typeface="Arial"/>
              </a:rPr>
              <a:t> </a:t>
            </a:r>
            <a:endParaRPr b="1" lang="en-US" sz="3200" spc="-1" strike="noStrike">
              <a:solidFill>
                <a:srgbClr val="006666"/>
              </a:solidFill>
              <a:latin typeface="Arial"/>
            </a:endParaRPr>
          </a:p>
        </p:txBody>
      </p:sp>
      <p:sp>
        <p:nvSpPr>
          <p:cNvPr id="112" name="PlaceHolder 2"/>
          <p:cNvSpPr>
            <a:spLocks noGrp="1"/>
          </p:cNvSpPr>
          <p:nvPr>
            <p:ph/>
          </p:nvPr>
        </p:nvSpPr>
        <p:spPr>
          <a:xfrm>
            <a:off x="838080" y="2276280"/>
            <a:ext cx="7693200" cy="3809880"/>
          </a:xfrm>
          <a:prstGeom prst="rect">
            <a:avLst/>
          </a:prstGeom>
          <a:noFill/>
          <a:ln w="0">
            <a:noFill/>
          </a:ln>
        </p:spPr>
        <p:txBody>
          <a:bodyPr lIns="90000" rIns="90000" tIns="46800" bIns="46800" anchor="t">
            <a:normAutofit fontScale="88000"/>
          </a:bodyPr>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Tendencia mundial: resolución extrajudicial conflictos (ámbito priv.)</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A raíz de eso surge APE en nuestro paí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RINCIPIOS “INSOL”</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rotección acreedores financiero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Bco Mundial, Bco. de Inglaterra y Asoc.Bcos .Británico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Grupo INSOL Leaders Group (HSBC y otro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Mejores practicas para créditos financieros en crisis empresaria.</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udor debe ser apoyado para hacer propuesta</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eriodo de espera no ejecutan</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udor no hará acciones en perjuicio</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Acreedores mayoritarios nombran asesores para aconsejar</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Deudor informa a acreedores relevantes activos, pasivos y propuesta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Propuestas de acuerdo a ley y de acuerdo a deudas originales</a:t>
            </a:r>
            <a:endParaRPr b="0" lang="en-US" sz="1800" spc="-1" strike="noStrike">
              <a:solidFill>
                <a:srgbClr val="003366"/>
              </a:solidFill>
              <a:latin typeface="Arial"/>
            </a:endParaRPr>
          </a:p>
          <a:p>
            <a:pPr marL="301680" indent="-3016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Arial"/>
              </a:rPr>
              <a:t>Si hay financiamiento adicional este es prioritario</a:t>
            </a:r>
            <a:endParaRPr b="0" lang="en-US" sz="1800" spc="-1" strike="noStrike">
              <a:solidFill>
                <a:srgbClr val="003366"/>
              </a:solidFill>
              <a:latin typeface="Arial"/>
            </a:endParaRPr>
          </a:p>
          <a:p>
            <a:pPr marL="3016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2T02:51:15Z</dcterms:created>
  <dc:creator>MATILDE</dc:creator>
  <dc:description/>
  <dc:language>en-US</dc:language>
  <cp:lastModifiedBy>C.P.C.E.C.A.B.A.</cp:lastModifiedBy>
  <dcterms:modified xsi:type="dcterms:W3CDTF">2005-11-28T13:24:22Z</dcterms:modified>
  <cp:revision>5</cp:revision>
  <dc:subject/>
  <dc:title>EL ACUERDO PREVENTIVO EXTRAJUDICIAL </dc:title>
</cp:coreProperties>
</file>