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501A-E02E-4DEA-B330-86D44FD6C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3505320" cy="45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aure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ure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ure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6681-1395-4E92-B379-04F5A110D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3505320" cy="45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aure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ure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ure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ure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ure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0EA90-464B-4C4F-A6D2-D7BA7FC42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3505320" cy="45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aure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ure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ure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ure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ure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ure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ure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A8FCB-070F-4D94-9927-6A1511904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797D6-0493-4170-B413-25CF6AE75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3505320" cy="45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aure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ure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F7484-762A-434B-8323-54C3A5882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3505320" cy="45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aure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ure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6AE30-AAC2-4361-8E49-C6B6583F7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3505320" cy="45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aure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ure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ure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C7463-D362-4C4F-8827-4422F96B0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3505320" cy="45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aure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0A045-6362-4DE4-BBAB-F0D1AB91F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520" y="304920"/>
            <a:ext cx="350532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ure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49201-C0E0-409F-AB3E-1324D0E2A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3505320" cy="45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aure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ure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ure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ure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E887E-73F6-4F01-9F6F-4FE2D7A04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3505320" cy="45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aure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ure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E357-B3A5-47A2-87BF-B5D51CDD0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3505320" cy="45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aure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ure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ure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ure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DCEE7-EFDD-46E3-9F89-9DCEA5E96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3505320" cy="45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aure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ure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ure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ure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B1DC2-8A6A-4A56-A8B9-5A1B6F6B3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3505320" cy="45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aure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ure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ure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4E88E-C729-496D-B4C8-A215DCBEE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3505320" cy="45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aure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ure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ure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ure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ure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84B97-1524-4CE6-B721-8561A85A1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3505320" cy="45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aure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ure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ure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ure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ure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ure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ure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A7E51-260F-46C0-ADBE-2EE4577DA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3505320" cy="45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aure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ure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9D77-D060-4EB6-A8B6-6E5967148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3505320" cy="45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aure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ure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ure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E06C-DB2F-4EEC-B378-BC8B7DF37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3505320" cy="45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aure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EBD7-80B0-40F9-956D-CA5B76EEF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304920"/>
            <a:ext cx="3505320" cy="14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ure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5E5C6-BE54-4005-B46D-6652FD30C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3505320" cy="45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aure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ure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ure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ure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DA67-A948-4B43-84DA-86AD57EB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3505320" cy="45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aure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ure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ure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ure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18E5-34F7-4D2F-8A04-A5627C906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3505320" cy="45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aure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ure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ure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aure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3362-8795-4B27-B85A-7F852899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3505320" cy="30456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616f85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auren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Laure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ure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Laure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ure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aure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ure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Laure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ure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Laure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ure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Lauren"/>
            </a:endParaRPr>
          </a:p>
          <a:p>
            <a:pPr lvl="5" marL="2057400" indent="-228600">
              <a:spcBef>
                <a:spcPts val="700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ure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Lauren"/>
            </a:endParaRPr>
          </a:p>
          <a:p>
            <a:pPr lvl="6" marL="2057400" indent="-228600">
              <a:spcBef>
                <a:spcPts val="700"/>
              </a:spcBef>
              <a:buClr>
                <a:srgbClr val="dddddd"/>
              </a:buClr>
              <a:buSzPct val="65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ure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Laure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1CBE9-C8FD-4CD3-95C9-C39D67FFD1B2}" type="datetime">
              <a:rPr b="0" lang="es-ES" sz="1400" spc="-1" strike="noStrike">
                <a:solidFill>
                  <a:srgbClr val="dddddd"/>
                </a:solidFill>
                <a:latin typeface="Arial"/>
              </a:rPr>
              <a:t>28/07/26</a:t>
            </a:fld>
            <a:r>
              <a:rPr b="0" lang="es-ES" sz="1400" spc="-1" strike="noStrike">
                <a:solidFill>
                  <a:srgbClr val="dddddd"/>
                </a:solidFill>
                <a:latin typeface="Arial"/>
              </a:rPr>
              <a:t> </a:t>
            </a:r>
            <a:fld id="{8DD4C60C-2447-49A0-863F-75E044573B78}" type="datetime10">
              <a:rPr b="0" lang="es-ES" sz="1400" spc="-1" strike="noStrike">
                <a:solidFill>
                  <a:srgbClr val="dddddd"/>
                </a:solidFill>
                <a:latin typeface="Arial"/>
              </a:rPr>
              <a:t>08:04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dddddd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B4D27-0661-4A72-9921-845ED94B7830}" type="slidenum">
              <a:rPr b="0" lang="es-E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r>
              <a:rPr b="0" lang="es-ES" sz="1400" spc="-1" strike="noStrike">
                <a:solidFill>
                  <a:srgbClr val="dddddd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12600" y="1681200"/>
            <a:ext cx="9144000" cy="1766880"/>
            <a:chOff x="-12600" y="1681200"/>
            <a:chExt cx="9144000" cy="1766880"/>
          </a:xfrm>
        </p:grpSpPr>
        <p:sp>
          <p:nvSpPr>
            <p:cNvPr id="42" name=""/>
            <p:cNvSpPr/>
            <p:nvPr/>
          </p:nvSpPr>
          <p:spPr>
            <a:xfrm>
              <a:off x="0" y="3200400"/>
              <a:ext cx="9131400" cy="114480"/>
            </a:xfrm>
            <a:prstGeom prst="rect">
              <a:avLst/>
            </a:prstGeom>
            <a:gradFill rotWithShape="0">
              <a:gsLst>
                <a:gs pos="0">
                  <a:srgbClr val="616f85"/>
                </a:gs>
                <a:gs pos="50000">
                  <a:srgbClr val="00cccc"/>
                </a:gs>
                <a:gs pos="100000">
                  <a:srgbClr val="616f8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3409920"/>
              <a:ext cx="9131400" cy="38160"/>
            </a:xfrm>
            <a:prstGeom prst="rect">
              <a:avLst/>
            </a:prstGeom>
            <a:gradFill rotWithShape="0">
              <a:gsLst>
                <a:gs pos="0">
                  <a:srgbClr val="616f85"/>
                </a:gs>
                <a:gs pos="50000">
                  <a:srgbClr val="000000"/>
                </a:gs>
                <a:gs pos="100000">
                  <a:srgbClr val="616f8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dddddd"/>
                </a:solidFill>
                <a:latin typeface="Times New Roman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-12600" y="1681200"/>
              <a:ext cx="1322280" cy="1571760"/>
              <a:chOff x="-12600" y="1681200"/>
              <a:chExt cx="1322280" cy="1571760"/>
            </a:xfrm>
          </p:grpSpPr>
          <p:sp>
            <p:nvSpPr>
              <p:cNvPr id="45" name=""/>
              <p:cNvSpPr/>
              <p:nvPr/>
            </p:nvSpPr>
            <p:spPr>
              <a:xfrm>
                <a:off x="-12600" y="1681200"/>
                <a:ext cx="1322280" cy="1571760"/>
              </a:xfrm>
              <a:custGeom>
                <a:avLst/>
                <a:gdLst/>
                <a:ahLst/>
                <a:rect l="l" t="t" r="r" b="b"/>
                <a:pathLst>
                  <a:path w="833" h="990">
                    <a:moveTo>
                      <a:pt x="284" y="448"/>
                    </a:moveTo>
                    <a:lnTo>
                      <a:pt x="115" y="0"/>
                    </a:lnTo>
                    <a:lnTo>
                      <a:pt x="353" y="398"/>
                    </a:lnTo>
                    <a:lnTo>
                      <a:pt x="591" y="0"/>
                    </a:lnTo>
                    <a:lnTo>
                      <a:pt x="419" y="448"/>
                    </a:lnTo>
                    <a:lnTo>
                      <a:pt x="832" y="495"/>
                    </a:lnTo>
                    <a:lnTo>
                      <a:pt x="417" y="540"/>
                    </a:lnTo>
                    <a:lnTo>
                      <a:pt x="591" y="989"/>
                    </a:lnTo>
                    <a:lnTo>
                      <a:pt x="353" y="590"/>
                    </a:lnTo>
                    <a:lnTo>
                      <a:pt x="115" y="989"/>
                    </a:lnTo>
                    <a:lnTo>
                      <a:pt x="282" y="543"/>
                    </a:lnTo>
                    <a:lnTo>
                      <a:pt x="0" y="509"/>
                    </a:lnTo>
                    <a:lnTo>
                      <a:pt x="0" y="479"/>
                    </a:lnTo>
                    <a:lnTo>
                      <a:pt x="284" y="448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-6480" y="1895400"/>
                <a:ext cx="1108080" cy="1143000"/>
              </a:xfrm>
              <a:custGeom>
                <a:avLst/>
                <a:gdLst/>
                <a:ahLst/>
                <a:rect l="l" t="t" r="r" b="b"/>
                <a:pathLst>
                  <a:path w="698" h="720">
                    <a:moveTo>
                      <a:pt x="279" y="315"/>
                    </a:moveTo>
                    <a:lnTo>
                      <a:pt x="173" y="0"/>
                    </a:lnTo>
                    <a:lnTo>
                      <a:pt x="349" y="263"/>
                    </a:lnTo>
                    <a:lnTo>
                      <a:pt x="519" y="0"/>
                    </a:lnTo>
                    <a:lnTo>
                      <a:pt x="415" y="315"/>
                    </a:lnTo>
                    <a:lnTo>
                      <a:pt x="697" y="360"/>
                    </a:lnTo>
                    <a:lnTo>
                      <a:pt x="413" y="403"/>
                    </a:lnTo>
                    <a:lnTo>
                      <a:pt x="519" y="719"/>
                    </a:lnTo>
                    <a:lnTo>
                      <a:pt x="349" y="455"/>
                    </a:lnTo>
                    <a:lnTo>
                      <a:pt x="173" y="719"/>
                    </a:lnTo>
                    <a:lnTo>
                      <a:pt x="278" y="407"/>
                    </a:lnTo>
                    <a:lnTo>
                      <a:pt x="0" y="360"/>
                    </a:lnTo>
                    <a:lnTo>
                      <a:pt x="279" y="315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157320" y="1924200"/>
                <a:ext cx="782640" cy="1087200"/>
              </a:xfrm>
              <a:custGeom>
                <a:avLst/>
                <a:gdLst/>
                <a:ahLst/>
                <a:rect l="l" t="t" r="r" b="b"/>
                <a:pathLst>
                  <a:path w="493" h="685">
                    <a:moveTo>
                      <a:pt x="0" y="173"/>
                    </a:moveTo>
                    <a:lnTo>
                      <a:pt x="223" y="295"/>
                    </a:lnTo>
                    <a:lnTo>
                      <a:pt x="246" y="0"/>
                    </a:lnTo>
                    <a:lnTo>
                      <a:pt x="268" y="295"/>
                    </a:lnTo>
                    <a:lnTo>
                      <a:pt x="490" y="169"/>
                    </a:lnTo>
                    <a:lnTo>
                      <a:pt x="290" y="343"/>
                    </a:lnTo>
                    <a:lnTo>
                      <a:pt x="492" y="514"/>
                    </a:lnTo>
                    <a:lnTo>
                      <a:pt x="268" y="390"/>
                    </a:lnTo>
                    <a:lnTo>
                      <a:pt x="246" y="684"/>
                    </a:lnTo>
                    <a:lnTo>
                      <a:pt x="223" y="390"/>
                    </a:lnTo>
                    <a:lnTo>
                      <a:pt x="0" y="514"/>
                    </a:lnTo>
                    <a:lnTo>
                      <a:pt x="201" y="343"/>
                    </a:lnTo>
                    <a:lnTo>
                      <a:pt x="0" y="17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449280" y="2328840"/>
                <a:ext cx="196920" cy="274680"/>
              </a:xfrm>
              <a:custGeom>
                <a:avLst/>
                <a:gdLst/>
                <a:ahLst/>
                <a:rect l="l" t="t" r="r" b="b"/>
                <a:pathLst>
                  <a:path w="124" h="173">
                    <a:moveTo>
                      <a:pt x="0" y="42"/>
                    </a:moveTo>
                    <a:lnTo>
                      <a:pt x="51" y="63"/>
                    </a:lnTo>
                    <a:lnTo>
                      <a:pt x="61" y="0"/>
                    </a:lnTo>
                    <a:lnTo>
                      <a:pt x="71" y="63"/>
                    </a:lnTo>
                    <a:lnTo>
                      <a:pt x="123" y="42"/>
                    </a:lnTo>
                    <a:lnTo>
                      <a:pt x="83" y="86"/>
                    </a:lnTo>
                    <a:lnTo>
                      <a:pt x="123" y="128"/>
                    </a:lnTo>
                    <a:lnTo>
                      <a:pt x="71" y="108"/>
                    </a:lnTo>
                    <a:lnTo>
                      <a:pt x="61" y="172"/>
                    </a:lnTo>
                    <a:lnTo>
                      <a:pt x="51" y="108"/>
                    </a:lnTo>
                    <a:lnTo>
                      <a:pt x="0" y="128"/>
                    </a:lnTo>
                    <a:lnTo>
                      <a:pt x="39" y="86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dddddd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19047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616f85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auren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Laure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21284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463F0-B56B-42ED-9414-71C99AB36CF4}" type="datetime">
              <a:rPr b="0" lang="es-ES" sz="1400" spc="-1" strike="noStrike">
                <a:solidFill>
                  <a:srgbClr val="dddddd"/>
                </a:solidFill>
                <a:latin typeface="Arial"/>
              </a:rPr>
              <a:t>28/07/26</a:t>
            </a:fld>
            <a:r>
              <a:rPr b="0" lang="es-ES" sz="1400" spc="-1" strike="noStrike">
                <a:solidFill>
                  <a:srgbClr val="dddddd"/>
                </a:solidFill>
                <a:latin typeface="Arial"/>
              </a:rPr>
              <a:t> </a:t>
            </a:r>
            <a:fld id="{FF6822F6-F0B6-44B2-9F1E-D75C4752C02E}" type="datetime10">
              <a:rPr b="0" lang="es-ES" sz="1400" spc="-1" strike="noStrike">
                <a:solidFill>
                  <a:srgbClr val="dddddd"/>
                </a:solidFill>
                <a:latin typeface="Arial"/>
              </a:rPr>
              <a:t>08:04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651120" y="62326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dddddd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80120" y="6232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D5738-2C50-475E-8FA2-E9A46DBEB672}" type="slidenum">
              <a:rPr b="0" lang="es-E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5.xml"/><Relationship Id="rId9" Type="http://schemas.openxmlformats.org/officeDocument/2006/relationships/slide" Target="slide5.xml"/><Relationship Id="rId10" Type="http://schemas.openxmlformats.org/officeDocument/2006/relationships/slide" Target="slide5.xml"/><Relationship Id="rId11" Type="http://schemas.openxmlformats.org/officeDocument/2006/relationships/slide" Target="slide6.xml"/><Relationship Id="rId12" Type="http://schemas.openxmlformats.org/officeDocument/2006/relationships/slide" Target="slide6.xml"/><Relationship Id="rId13" Type="http://schemas.openxmlformats.org/officeDocument/2006/relationships/slide" Target="slide6.xml"/><Relationship Id="rId14" Type="http://schemas.openxmlformats.org/officeDocument/2006/relationships/slide" Target="slide6.xml"/><Relationship Id="rId15" Type="http://schemas.openxmlformats.org/officeDocument/2006/relationships/slide" Target="slide6.xml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9.xml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143000" y="2971800"/>
            <a:ext cx="678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Verdana"/>
              </a:rPr>
              <a:t>La Industria del Software en el 2005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4920" y="609588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. CP Carlos Waldbott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00200" y="380880"/>
            <a:ext cx="5943600" cy="99072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616f85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greso Metropolitano de Ciencias Económicas</a:t>
            </a:r>
            <a:endParaRPr b="0" lang="en-US" sz="2800" spc="-1" strike="noStrike">
              <a:solidFill>
                <a:srgbClr val="000000"/>
              </a:solidFill>
              <a:latin typeface="Laure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3505320" cy="30456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616f85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auren"/>
              </a:rPr>
              <a:t>Certificaciones</a:t>
            </a:r>
            <a:endParaRPr b="0" lang="en-US" sz="2400" spc="-1" strike="noStrike">
              <a:solidFill>
                <a:srgbClr val="000000"/>
              </a:solidFill>
              <a:latin typeface="Lauren"/>
            </a:endParaRPr>
          </a:p>
        </p:txBody>
      </p:sp>
      <p:sp>
        <p:nvSpPr>
          <p:cNvPr id="117" name=""/>
          <p:cNvSpPr/>
          <p:nvPr/>
        </p:nvSpPr>
        <p:spPr>
          <a:xfrm>
            <a:off x="762120" y="1219320"/>
            <a:ext cx="8153280" cy="61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aure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Lauren"/>
              </a:rPr>
              <a:t>Obligatoria a partir de 2006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aure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Lauren"/>
              </a:rPr>
              <a:t>Certificación de Proceso o Producto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aure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Lauren"/>
              </a:rPr>
              <a:t>Duración - Costo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aure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Lauren"/>
              </a:rPr>
              <a:t>Costos Internos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aure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Lauren"/>
              </a:rPr>
              <a:t>Pocas Empresas Certificadas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aure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Lauren"/>
              </a:rPr>
              <a:t>Empresas Pequeñas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8" name="">
            <a:hlinkClick r:id="rId2" action="ppaction://hlinksldjump"/>
          </p:cNvPr>
          <p:cNvSpPr/>
          <p:nvPr/>
        </p:nvSpPr>
        <p:spPr>
          <a:xfrm>
            <a:off x="8381880" y="2286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3505320" cy="30456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616f85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auren"/>
              </a:rPr>
              <a:t>Beneficios Fiscales</a:t>
            </a:r>
            <a:endParaRPr b="0" lang="en-US" sz="2400" spc="-1" strike="noStrike">
              <a:solidFill>
                <a:srgbClr val="000000"/>
              </a:solidFill>
              <a:latin typeface="Laure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295280"/>
            <a:ext cx="8153280" cy="61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aure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Lauren"/>
              </a:rPr>
              <a:t>Pérdida de 1 año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aure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Lauren"/>
              </a:rPr>
              <a:t>70% de Reducción de Contribuciones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aure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Lauren"/>
              </a:rPr>
              <a:t>60% Desgravación de Ganancias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aure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Lauren"/>
              </a:rPr>
              <a:t>Cupo Fiscal – 4to Ejercicio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aure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Lauren"/>
              </a:rPr>
              <a:t>Parámetros Claros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aure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Lauren"/>
              </a:rPr>
              <a:t>Mantenimiento Futuro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381880" y="2286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3505320" cy="30456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616f85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auren"/>
              </a:rPr>
              <a:t>70% de Contribuciones</a:t>
            </a:r>
            <a:endParaRPr b="0" lang="en-US" sz="2400" spc="-1" strike="noStrike">
              <a:solidFill>
                <a:srgbClr val="000000"/>
              </a:solidFill>
              <a:latin typeface="Lauren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1600200"/>
            <a:ext cx="815328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aure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Lauren"/>
              </a:rPr>
              <a:t>Cuenta Corriente – IVA 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aure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Lauren"/>
              </a:rPr>
              <a:t>Capital Federal: 8,8%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aure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Lauren"/>
              </a:rPr>
              <a:t>Monotributistas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aure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Lauren"/>
              </a:rPr>
              <a:t>Exportadores – Débito Fiscal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381880" y="2286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3505320" cy="30456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616f85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auren"/>
              </a:rPr>
              <a:t>60% de Ganancias</a:t>
            </a:r>
            <a:endParaRPr b="0" lang="en-US" sz="2400" spc="-1" strike="noStrike">
              <a:solidFill>
                <a:srgbClr val="000000"/>
              </a:solidFill>
              <a:latin typeface="Lauren"/>
            </a:endParaRPr>
          </a:p>
        </p:txBody>
      </p:sp>
      <p:sp>
        <p:nvSpPr>
          <p:cNvPr id="126" name=""/>
          <p:cNvSpPr/>
          <p:nvPr/>
        </p:nvSpPr>
        <p:spPr>
          <a:xfrm>
            <a:off x="762120" y="1600200"/>
            <a:ext cx="8153280" cy="50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aure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Lauren"/>
              </a:rPr>
              <a:t>Ejercicio posterior a la inscripción 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aure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Lauren"/>
              </a:rPr>
              <a:t>Porcentaje del 35% al 14%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aure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Lauren"/>
              </a:rPr>
              <a:t>Exportadores – Retenciones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aure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Lauren"/>
              </a:rPr>
              <a:t>Reinversión o Ganancia extraordinaria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381880" y="2286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3505320" cy="30456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616f85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auren"/>
              </a:rPr>
              <a:t>Recursos Humanos</a:t>
            </a:r>
            <a:endParaRPr b="0" lang="en-US" sz="2400" spc="-1" strike="noStrike">
              <a:solidFill>
                <a:srgbClr val="000000"/>
              </a:solidFill>
              <a:latin typeface="Laure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1295280"/>
            <a:ext cx="8153280" cy="61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aure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Lauren"/>
              </a:rPr>
              <a:t>Demanda: + de 5.000 empleos anuales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aure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Lauren"/>
              </a:rPr>
              <a:t>Total Universidades: 3.500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aure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Lauren"/>
              </a:rPr>
              <a:t>UBA: &lt; de 200 profesionales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aure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Lauren"/>
              </a:rPr>
              <a:t>Costos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aure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Lauren"/>
              </a:rPr>
              <a:t>Perfiles CESSI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1880" y="2286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3505320" cy="30456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616f85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auren"/>
              </a:rPr>
              <a:t>Efectos</a:t>
            </a:r>
            <a:endParaRPr b="0" lang="en-US" sz="3200" spc="-1" strike="noStrike">
              <a:solidFill>
                <a:srgbClr val="000000"/>
              </a:solidFill>
              <a:latin typeface="Lauren"/>
            </a:endParaRPr>
          </a:p>
        </p:txBody>
      </p:sp>
      <p:sp>
        <p:nvSpPr>
          <p:cNvPr id="132" name=""/>
          <p:cNvSpPr/>
          <p:nvPr/>
        </p:nvSpPr>
        <p:spPr>
          <a:xfrm>
            <a:off x="1295280" y="1447920"/>
            <a:ext cx="6858000" cy="54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aure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auren"/>
              </a:rPr>
              <a:t>Exención de Ingresos Bruto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aure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auren"/>
              </a:rPr>
              <a:t>Fábricas de Software Internacionale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aure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auren"/>
              </a:rPr>
              <a:t>Fábricas de Software Argentina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aure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auren"/>
              </a:rPr>
              <a:t>Empresas de Paquete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aure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auren"/>
              </a:rPr>
              <a:t>Universidade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3505320" cy="30456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616f85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auren"/>
              </a:rPr>
              <a:t>Conclusiones</a:t>
            </a:r>
            <a:endParaRPr b="0" lang="en-US" sz="3200" spc="-1" strike="noStrike">
              <a:solidFill>
                <a:srgbClr val="000000"/>
              </a:solidFill>
              <a:latin typeface="Lauren"/>
            </a:endParaRPr>
          </a:p>
        </p:txBody>
      </p:sp>
      <p:sp>
        <p:nvSpPr>
          <p:cNvPr id="134" name=""/>
          <p:cNvSpPr/>
          <p:nvPr/>
        </p:nvSpPr>
        <p:spPr>
          <a:xfrm>
            <a:off x="1295280" y="1523880"/>
            <a:ext cx="7391520" cy="54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aure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auren"/>
              </a:rPr>
              <a:t>Crecimiento anterior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aure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auren"/>
              </a:rPr>
              <a:t>Articulación de acciones conjunta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aure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auren"/>
              </a:rPr>
              <a:t>Mantener Marco jurídico 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aure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auren"/>
              </a:rPr>
              <a:t>Políticas consistente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aure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auren"/>
              </a:rPr>
              <a:t>Crecimiento por calidad y no por costo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aure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auren"/>
              </a:rPr>
              <a:t>Resolver demanda de RRHH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3657600" cy="30456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616f85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auren"/>
              </a:rPr>
              <a:t>Aspectos Favorables</a:t>
            </a:r>
            <a:endParaRPr b="0" lang="en-US" sz="3200" spc="-1" strike="noStrike">
              <a:solidFill>
                <a:srgbClr val="000000"/>
              </a:solidFill>
              <a:latin typeface="Lauren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1447920"/>
            <a:ext cx="6858000" cy="58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auren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auren"/>
                <a:hlinkClick r:id="rId2" action="ppaction://hlinksldjump"/>
              </a:rPr>
              <a:t>Marc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auren"/>
                <a:hlinkClick r:id="rId3" action="ppaction://hlinksldjump"/>
              </a:rPr>
              <a:t>Macroeconómico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auren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auren"/>
                <a:hlinkClick r:id="rId4" action="ppaction://hlinksldjump"/>
              </a:rPr>
              <a:t>Pla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auren"/>
                <a:hlinkClick r:id="rId5" action="ppaction://hlinksldjump"/>
              </a:rPr>
              <a:t>Estratégico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auren"/>
                <a:hlinkClick r:id="rId6" action="ppaction://hlinksldjump"/>
              </a:rPr>
              <a:t> de SSI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auren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auren"/>
                <a:hlinkClick r:id="rId7" action="ppaction://hlinksldjump"/>
              </a:rPr>
              <a:t>Ley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auren"/>
                <a:hlinkClick r:id="rId8" action="ppaction://hlinksldjump"/>
              </a:rPr>
              <a:t> 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auren"/>
                <a:hlinkClick r:id="rId9" action="ppaction://hlinksldjump"/>
              </a:rPr>
              <a:t>Industria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auren"/>
                <a:hlinkClick r:id="rId10" action="ppaction://hlinksldjump"/>
              </a:rPr>
              <a:t> del Softwar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auren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auren"/>
                <a:hlinkClick r:id="rId11" action="ppaction://hlinksldjump"/>
              </a:rPr>
              <a:t>Ley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auren"/>
                <a:hlinkClick r:id="rId12" action="ppaction://hlinksldjump"/>
              </a:rPr>
              <a:t> 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auren"/>
                <a:hlinkClick r:id="rId13" action="ppaction://hlinksldjump"/>
              </a:rPr>
              <a:t>Promoción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auren"/>
                <a:hlinkClick r:id="rId14" action="ppaction://hlinksldjump"/>
              </a:rPr>
              <a:t> de l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auren"/>
                <a:hlinkClick r:id="rId15" action="ppaction://hlinksldjump"/>
              </a:rPr>
              <a:t>Industria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aure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auren"/>
              </a:rPr>
              <a:t>Asociatividad - Polo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aure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auren"/>
              </a:rPr>
              <a:t>Recursos Humano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3505320" cy="30456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616f85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auren"/>
              </a:rPr>
              <a:t>Marco Macroeconómico</a:t>
            </a:r>
            <a:endParaRPr b="0" lang="en-US" sz="2400" spc="-1" strike="noStrike">
              <a:solidFill>
                <a:srgbClr val="000000"/>
              </a:solidFill>
              <a:latin typeface="Lauren"/>
            </a:endParaRPr>
          </a:p>
        </p:txBody>
      </p:sp>
      <p:sp>
        <p:nvSpPr>
          <p:cNvPr id="95" name=""/>
          <p:cNvSpPr/>
          <p:nvPr/>
        </p:nvSpPr>
        <p:spPr>
          <a:xfrm>
            <a:off x="1295280" y="2362320"/>
            <a:ext cx="6858000" cy="22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aure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Lauren"/>
              </a:rPr>
              <a:t>Devaluación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2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aure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Lauren"/>
              </a:rPr>
              <a:t>Publicidad</a:t>
            </a:r>
            <a:endParaRPr b="0" lang="en-US" sz="40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6" name="">
            <a:hlinkClick r:id="rId2" action="ppaction://hlinksldjump"/>
          </p:cNvPr>
          <p:cNvSpPr/>
          <p:nvPr/>
        </p:nvSpPr>
        <p:spPr>
          <a:xfrm>
            <a:off x="8381880" y="2286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3505320" cy="30456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616f85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auren"/>
              </a:rPr>
              <a:t>Plan Estratégico SSI</a:t>
            </a:r>
            <a:endParaRPr b="0" lang="en-US" sz="2400" spc="-1" strike="noStrike">
              <a:solidFill>
                <a:srgbClr val="000000"/>
              </a:solidFill>
              <a:latin typeface="Lauren"/>
            </a:endParaRPr>
          </a:p>
        </p:txBody>
      </p:sp>
      <p:sp>
        <p:nvSpPr>
          <p:cNvPr id="98" name="">
            <a:hlinkClick r:id="rId2" action="ppaction://hlinksldjump"/>
          </p:cNvPr>
          <p:cNvSpPr/>
          <p:nvPr/>
        </p:nvSpPr>
        <p:spPr>
          <a:xfrm>
            <a:off x="8458200" y="30492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10800"/>
                </a:moveTo>
                <a:lnTo>
                  <a:pt x="21406" y="3794"/>
                </a:lnTo>
                <a:lnTo>
                  <a:pt x="21406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95280" y="1447920"/>
            <a:ext cx="73915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ure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auren"/>
              </a:rPr>
              <a:t>Diciembre 2003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ure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auren"/>
              </a:rPr>
              <a:t>Ministerio de Economía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aure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auren"/>
              </a:rPr>
              <a:t>Cámaras, Empresas, Universidades y Estado</a:t>
            </a:r>
            <a:endParaRPr b="0" lang="en-US" sz="28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09680" y="5181480"/>
            <a:ext cx="51818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auren"/>
              </a:rPr>
              <a:t>Plan de Acción 2004 – 2007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auren"/>
              </a:rPr>
              <a:t>(30 medidas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0" y="3505320"/>
            <a:ext cx="0" cy="137160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3505320" cy="30456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616f85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auren"/>
              </a:rPr>
              <a:t>Ley Industria del Software</a:t>
            </a:r>
            <a:endParaRPr b="0" lang="en-US" sz="2400" spc="-1" strike="noStrike">
              <a:solidFill>
                <a:srgbClr val="000000"/>
              </a:solidFill>
              <a:latin typeface="Lauren"/>
            </a:endParaRPr>
          </a:p>
        </p:txBody>
      </p:sp>
      <p:sp>
        <p:nvSpPr>
          <p:cNvPr id="103" name=""/>
          <p:cNvSpPr/>
          <p:nvPr/>
        </p:nvSpPr>
        <p:spPr>
          <a:xfrm>
            <a:off x="1295280" y="1371600"/>
            <a:ext cx="7239240" cy="57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aure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auren"/>
              </a:rPr>
              <a:t>Ley 25.856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aure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auren"/>
              </a:rPr>
              <a:t>Sancionada el 4/12/2003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aure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auren"/>
              </a:rPr>
              <a:t>Software como Actividad Productiva de Transformación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aure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auren"/>
              </a:rPr>
              <a:t>Mezcla Software con Beneficio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aure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auren"/>
              </a:rPr>
              <a:t>No define Actividades comprendidas (diseño, desarrollo y elaboración)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4" name="">
            <a:hlinkClick r:id="rId2" action="ppaction://hlinksldjump"/>
          </p:cNvPr>
          <p:cNvSpPr/>
          <p:nvPr/>
        </p:nvSpPr>
        <p:spPr>
          <a:xfrm>
            <a:off x="8381880" y="2286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3733920" cy="30456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616f85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auren"/>
              </a:rPr>
              <a:t>Ley Promoción de Software</a:t>
            </a:r>
            <a:endParaRPr b="0" lang="en-US" sz="2400" spc="-1" strike="noStrike">
              <a:solidFill>
                <a:srgbClr val="000000"/>
              </a:solidFill>
              <a:latin typeface="Lauren"/>
            </a:endParaRPr>
          </a:p>
        </p:txBody>
      </p:sp>
      <p:sp>
        <p:nvSpPr>
          <p:cNvPr id="106" name=""/>
          <p:cNvSpPr/>
          <p:nvPr/>
        </p:nvSpPr>
        <p:spPr>
          <a:xfrm>
            <a:off x="1295280" y="1371600"/>
            <a:ext cx="7239240" cy="66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aure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auren"/>
              </a:rPr>
              <a:t>Ley 25.922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aure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auren"/>
              </a:rPr>
              <a:t>Sancionada el 18/08/2004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aure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auren"/>
              </a:rPr>
              <a:t>Estabilidad Fiscal por 10 año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aure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auren"/>
              </a:rPr>
              <a:t>70% reducción de Contrib. Patronale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aure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auren"/>
              </a:rPr>
              <a:t>Desgravación del 60% de Ganancia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aure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auren"/>
              </a:rPr>
              <a:t>Cupo Fiscal a partir del 4to ejercicio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8381880" y="2286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3505320" cy="30456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616f85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auren"/>
              </a:rPr>
              <a:t>Perspectivas</a:t>
            </a:r>
            <a:endParaRPr b="0" lang="en-US" sz="3200" spc="-1" strike="noStrike">
              <a:solidFill>
                <a:srgbClr val="000000"/>
              </a:solidFill>
              <a:latin typeface="Laure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71640" y="1523880"/>
          <a:ext cx="7845480" cy="4572000"/>
        </p:xfrm>
        <a:graphic>
          <a:graphicData uri="http://schemas.openxmlformats.org/drawingml/2006/table">
            <a:tbl>
              <a:tblPr/>
              <a:tblGrid>
                <a:gridCol w="1295280"/>
                <a:gridCol w="865080"/>
                <a:gridCol w="935280"/>
                <a:gridCol w="936360"/>
                <a:gridCol w="871560"/>
                <a:gridCol w="981360"/>
                <a:gridCol w="979200"/>
                <a:gridCol w="981360"/>
              </a:tblGrid>
              <a:tr h="66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33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A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0</a:t>
                      </a:r>
                      <a:endParaRPr b="0" lang="en-US" sz="1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33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A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2</a:t>
                      </a:r>
                      <a:endParaRPr b="0" lang="en-US" sz="1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33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A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3</a:t>
                      </a:r>
                      <a:endParaRPr b="0" lang="en-US" sz="1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33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AR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04</a:t>
                      </a:r>
                      <a:endParaRPr b="0" lang="en-US" sz="1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33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AR" sz="18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2005</a:t>
                      </a:r>
                      <a:endParaRPr b="0" lang="en-US" sz="1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33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AR" sz="18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2006</a:t>
                      </a:r>
                      <a:endParaRPr b="0" lang="en-US" sz="1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33c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AR" sz="18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2007</a:t>
                      </a:r>
                      <a:endParaRPr b="0" lang="en-US" sz="18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dddddd"/>
                      </a:solidFill>
                    </a:lnL>
                    <a:lnR w="13680">
                      <a:solidFill>
                        <a:srgbClr val="dddddd"/>
                      </a:solidFill>
                    </a:lnR>
                    <a:lnT w="1368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solidFill>
                      <a:srgbClr val="33ccff">
                        <a:alpha val="50000"/>
                      </a:srgbClr>
                    </a:solidFill>
                  </a:tcPr>
                </a:tc>
              </a:tr>
              <a:tr h="130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ntas Totales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Millones Pesos Argentinos)</a:t>
                      </a:r>
                      <a:endParaRPr b="0" lang="en-US" sz="12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90</a:t>
                      </a:r>
                      <a:endParaRPr b="0" lang="en-US" sz="16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350</a:t>
                      </a:r>
                      <a:endParaRPr b="0" lang="en-US" sz="16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830</a:t>
                      </a:r>
                      <a:endParaRPr b="0" lang="en-US" sz="16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396</a:t>
                      </a:r>
                      <a:endParaRPr b="0" lang="en-US" sz="16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620</a:t>
                      </a:r>
                      <a:endParaRPr b="0" lang="en-US" sz="16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4050</a:t>
                      </a:r>
                      <a:endParaRPr b="0" lang="en-US" sz="16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4650</a:t>
                      </a:r>
                      <a:endParaRPr b="0" lang="en-US" sz="16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dddddd"/>
                      </a:solidFill>
                    </a:lnL>
                    <a:lnR w="1368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1303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xporta-ciones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Millones Pesos Argentinos)</a:t>
                      </a:r>
                      <a:endParaRPr b="0" lang="en-US" sz="12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0</a:t>
                      </a:r>
                      <a:endParaRPr b="0" lang="en-US" sz="16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60</a:t>
                      </a:r>
                      <a:endParaRPr b="0" lang="en-US" sz="16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10</a:t>
                      </a:r>
                      <a:endParaRPr b="0" lang="en-US" sz="16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60</a:t>
                      </a:r>
                      <a:endParaRPr b="0" lang="en-US" sz="16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740</a:t>
                      </a:r>
                      <a:endParaRPr b="0" lang="en-US" sz="16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900</a:t>
                      </a:r>
                      <a:endParaRPr b="0" lang="en-US" sz="16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1200</a:t>
                      </a:r>
                      <a:endParaRPr b="0" lang="en-US" sz="16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dddddd"/>
                      </a:solidFill>
                    </a:lnL>
                    <a:lnR w="1368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1301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AR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mpleos directos</a:t>
                      </a:r>
                      <a:endParaRPr b="0" lang="en-US" sz="20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Miles de personas)</a:t>
                      </a:r>
                      <a:endParaRPr b="0" lang="en-US" sz="12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1368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5</a:t>
                      </a:r>
                      <a:endParaRPr b="0" lang="en-US" sz="16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1368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4.5</a:t>
                      </a:r>
                      <a:endParaRPr b="0" lang="en-US" sz="16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1368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9.3</a:t>
                      </a:r>
                      <a:endParaRPr b="0" lang="en-US" sz="16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1368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6.3</a:t>
                      </a:r>
                      <a:endParaRPr b="0" lang="en-US" sz="16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1368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35</a:t>
                      </a:r>
                      <a:endParaRPr b="0" lang="en-US" sz="16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1368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42</a:t>
                      </a:r>
                      <a:endParaRPr b="0" lang="en-US" sz="16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dddddd"/>
                      </a:solidFill>
                    </a:lnL>
                    <a:lnR w="576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1368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AR" sz="1600" spc="-1" strike="noStrike">
                          <a:solidFill>
                            <a:srgbClr val="0066ff"/>
                          </a:solidFill>
                          <a:latin typeface="Tahoma"/>
                        </a:rPr>
                        <a:t>47</a:t>
                      </a:r>
                      <a:endParaRPr b="0" lang="en-US" sz="1600" spc="-1" strike="noStrike">
                        <a:solidFill>
                          <a:srgbClr val="dddddd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dddddd"/>
                      </a:solidFill>
                    </a:lnL>
                    <a:lnR w="13680">
                      <a:solidFill>
                        <a:srgbClr val="dddddd"/>
                      </a:solidFill>
                    </a:lnR>
                    <a:lnT w="5760">
                      <a:solidFill>
                        <a:srgbClr val="dddddd"/>
                      </a:solidFill>
                    </a:lnT>
                    <a:lnB w="13680">
                      <a:solidFill>
                        <a:srgbClr val="ddddd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" name=""/>
          <p:cNvSpPr/>
          <p:nvPr/>
        </p:nvSpPr>
        <p:spPr>
          <a:xfrm>
            <a:off x="914400" y="6324480"/>
            <a:ext cx="32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auren"/>
              </a:rPr>
              <a:t>Fuente: CESSI – Diciembre 2004</a:t>
            </a:r>
            <a:endParaRPr b="0" lang="en-US" sz="16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3505320" cy="30456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616f85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auren"/>
              </a:rPr>
              <a:t>Dificultades</a:t>
            </a:r>
            <a:endParaRPr b="0" lang="en-US" sz="3200" spc="-1" strike="noStrike">
              <a:solidFill>
                <a:srgbClr val="000000"/>
              </a:solidFill>
              <a:latin typeface="Laure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1447920"/>
            <a:ext cx="68580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aure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auren"/>
              </a:rPr>
              <a:t>Tratamiento del Sector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aure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auren"/>
              </a:rPr>
              <a:t>Tratamiento Provincial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auren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auren"/>
                <a:hlinkClick r:id="rId2" action="ppaction://hlinksldjump"/>
              </a:rPr>
              <a:t>Demoras Ley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auren"/>
                <a:hlinkClick r:id="rId3" action="ppaction://hlinksldjump"/>
              </a:rPr>
              <a:t> de Software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auren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Lauren"/>
                <a:hlinkClick r:id="rId4" action="ppaction://hlinksldjump"/>
              </a:rPr>
              <a:t>Certificacione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aure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auren"/>
              </a:rPr>
              <a:t>Beneficios Fiscale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aure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Lauren"/>
              </a:rPr>
              <a:t>Recursos Humanos</a:t>
            </a:r>
            <a:endParaRPr b="0" lang="en-US" sz="32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med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3505320" cy="304560"/>
          </a:xfrm>
          <a:prstGeom prst="rect">
            <a:avLst/>
          </a:prstGeom>
          <a:noFill/>
          <a:ln w="0">
            <a:noFill/>
          </a:ln>
          <a:effectLst>
            <a:outerShdw dist="13237" dir="2700000" blurRad="0" rotWithShape="0">
              <a:srgbClr val="616f85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auren"/>
              </a:rPr>
              <a:t>Ley de Promoción</a:t>
            </a:r>
            <a:endParaRPr b="0" lang="en-US" sz="2400" spc="-1" strike="noStrike">
              <a:solidFill>
                <a:srgbClr val="000000"/>
              </a:solidFill>
              <a:latin typeface="Lauren"/>
            </a:endParaRPr>
          </a:p>
        </p:txBody>
      </p:sp>
      <p:sp>
        <p:nvSpPr>
          <p:cNvPr id="114" name=""/>
          <p:cNvSpPr/>
          <p:nvPr/>
        </p:nvSpPr>
        <p:spPr>
          <a:xfrm>
            <a:off x="762120" y="1905120"/>
            <a:ext cx="815328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aure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Lauren"/>
              </a:rPr>
              <a:t>Fecha de Presentación vs Otorgamiento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aure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Lauren"/>
              </a:rPr>
              <a:t>Primeras presentadas en Mayo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22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Laure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Lauren"/>
              </a:rPr>
              <a:t>12 aprobadas en trámite</a:t>
            </a:r>
            <a:endParaRPr b="0" lang="en-US" sz="3600" spc="-1" strike="noStrike">
              <a:solidFill>
                <a:srgbClr val="dddddd"/>
              </a:solidFill>
              <a:latin typeface="Times New Roman"/>
            </a:endParaRPr>
          </a:p>
        </p:txBody>
      </p:sp>
      <p:sp>
        <p:nvSpPr>
          <p:cNvPr id="115" name="">
            <a:hlinkClick r:id="rId2" action="ppaction://hlinksldjump"/>
          </p:cNvPr>
          <p:cNvSpPr/>
          <p:nvPr/>
        </p:nvSpPr>
        <p:spPr>
          <a:xfrm>
            <a:off x="8381880" y="228600"/>
            <a:ext cx="381240" cy="304920"/>
          </a:xfrm>
          <a:custGeom>
            <a:avLst/>
            <a:gdLst>
              <a:gd name="textAreaLeft" fmla="*/ 19440 w 381240"/>
              <a:gd name="textAreaRight" fmla="*/ 361800 w 3812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dddddd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30T19:04:42Z</dcterms:created>
  <dc:creator>Carlos Waldbott</dc:creator>
  <dc:description/>
  <dc:language>en-US</dc:language>
  <cp:lastModifiedBy>C.P.C.E.C.A.B.A.</cp:lastModifiedBy>
  <dcterms:modified xsi:type="dcterms:W3CDTF">2005-11-24T13:02:53Z</dcterms:modified>
  <cp:revision>213</cp:revision>
  <dc:subject>Versión 6.0</dc:subject>
  <dc:title>Waldbott Software</dc:title>
</cp:coreProperties>
</file>