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EBA1-8246-4A9D-AA11-0DB0B4300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907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6772-697F-4B21-872D-BAB66B6F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70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90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270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A4D7-FD07-42C8-BF56-D74B3A27A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154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190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90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154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3190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5190-DF71-417F-983A-8C7186C8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D02E-DFBA-4B77-A010-5DD94AB1A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4613-3445-4713-9A43-BA790B25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701A-E2EA-467D-928A-DCB9DF57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270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6D48-D68A-4B6B-93C9-7525A58F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8567-1C42-474B-97C1-338E45FB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0340-5F26-409A-BCC9-FB8E8E5E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270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90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BF79-C7FA-40FA-9E1E-B118AB80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C25F-2516-48D3-8F69-00F01359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70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270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2968-7EBF-4405-9C0C-46836BE0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70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9907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CC19-04CA-4837-95B3-2B13DE72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9907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9B8B-0C7A-4918-AFD2-5B2219AE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70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90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270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6CCF-9C45-49BB-8970-706F3ABBD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154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3190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990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154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3190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40AD-A222-4D36-941A-57A04E87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B6AD-D46B-4C03-8B75-C758C864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70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7DE2-792B-466B-BBDB-08FF1E16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9B99-A968-4FAE-881F-931F4AB7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980F-B14C-4947-B01C-8E43CA2A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70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90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E048-DCE1-4573-B125-13B7CFB3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70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270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7DA6-A166-4224-8780-79C5A8B0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70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7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8093-C96C-481B-A5C3-46D8FBDF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0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3276720" y="6324480"/>
              <a:ext cx="3047760" cy="457200"/>
              <a:chOff x="3276720" y="6324480"/>
              <a:chExt cx="3047760" cy="457200"/>
            </a:xfrm>
          </p:grpSpPr>
          <p:sp>
            <p:nvSpPr>
              <p:cNvPr id="57" name=""/>
              <p:cNvSpPr/>
              <p:nvPr/>
            </p:nvSpPr>
            <p:spPr>
              <a:xfrm>
                <a:off x="3352680" y="6400800"/>
                <a:ext cx="2895840" cy="3049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276720" y="6400800"/>
                <a:ext cx="304776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276720" y="6705720"/>
                <a:ext cx="304776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52680" y="6324480"/>
                <a:ext cx="0" cy="45720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248520" y="6324480"/>
                <a:ext cx="0" cy="45720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7162920" y="6324480"/>
              <a:ext cx="1447560" cy="457200"/>
              <a:chOff x="7162920" y="6324480"/>
              <a:chExt cx="1447560" cy="457200"/>
            </a:xfrm>
          </p:grpSpPr>
          <p:sp>
            <p:nvSpPr>
              <p:cNvPr id="63" name=""/>
              <p:cNvSpPr/>
              <p:nvPr/>
            </p:nvSpPr>
            <p:spPr>
              <a:xfrm>
                <a:off x="7238880" y="6400800"/>
                <a:ext cx="1295640" cy="3049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62920" y="6400800"/>
                <a:ext cx="144756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162920" y="6705720"/>
                <a:ext cx="144756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238880" y="6324480"/>
                <a:ext cx="0" cy="45720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534520" y="6324480"/>
                <a:ext cx="0" cy="45720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990720" y="6324480"/>
              <a:ext cx="1447560" cy="457200"/>
              <a:chOff x="990720" y="6324480"/>
              <a:chExt cx="1447560" cy="457200"/>
            </a:xfrm>
          </p:grpSpPr>
          <p:sp>
            <p:nvSpPr>
              <p:cNvPr id="69" name=""/>
              <p:cNvSpPr/>
              <p:nvPr/>
            </p:nvSpPr>
            <p:spPr>
              <a:xfrm>
                <a:off x="1066680" y="6400800"/>
                <a:ext cx="1295640" cy="3049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990720" y="6400800"/>
                <a:ext cx="144756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990720" y="6705720"/>
                <a:ext cx="144756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066680" y="6324480"/>
                <a:ext cx="0" cy="45720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362320" y="6324480"/>
                <a:ext cx="0" cy="45720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76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6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1abc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6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ac0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6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1abc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6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3d6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6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3d6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6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3d6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6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d62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d62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d62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d62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d62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d62"/>
                </a:solidFill>
                <a:latin typeface="Comic Sans MS"/>
              </a:rPr>
              <a:t>Page </a:t>
            </a:r>
            <a:fld id="{F432C7B3-FD9C-4669-A91A-564C991A2866}" type="slidenum">
              <a:rPr b="0" lang="en-US" sz="1400" spc="-1" strike="noStrike">
                <a:solidFill>
                  <a:srgbClr val="003d62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0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21" name=""/>
            <p:cNvGrpSpPr/>
            <p:nvPr/>
          </p:nvGrpSpPr>
          <p:grpSpPr>
            <a:xfrm>
              <a:off x="1104840" y="3141720"/>
              <a:ext cx="4971960" cy="514440"/>
              <a:chOff x="1104840" y="3141720"/>
              <a:chExt cx="4971960" cy="514440"/>
            </a:xfrm>
          </p:grpSpPr>
          <p:sp>
            <p:nvSpPr>
              <p:cNvPr id="122" name=""/>
              <p:cNvSpPr/>
              <p:nvPr/>
            </p:nvSpPr>
            <p:spPr>
              <a:xfrm>
                <a:off x="1104840" y="3141720"/>
                <a:ext cx="175284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04840" y="3503880"/>
                <a:ext cx="228600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24120" y="3418200"/>
                <a:ext cx="3352680" cy="171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719440" y="3237120"/>
                <a:ext cx="297180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7162920" y="6324480"/>
              <a:ext cx="1447560" cy="457200"/>
              <a:chOff x="7162920" y="6324480"/>
              <a:chExt cx="1447560" cy="457200"/>
            </a:xfrm>
          </p:grpSpPr>
          <p:sp>
            <p:nvSpPr>
              <p:cNvPr id="182" name=""/>
              <p:cNvSpPr/>
              <p:nvPr/>
            </p:nvSpPr>
            <p:spPr>
              <a:xfrm>
                <a:off x="7238880" y="6400800"/>
                <a:ext cx="1295640" cy="304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162920" y="6400800"/>
                <a:ext cx="144756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162920" y="6705720"/>
                <a:ext cx="144756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238880" y="6324480"/>
                <a:ext cx="0" cy="45720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534520" y="6324480"/>
                <a:ext cx="0" cy="45720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81a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414360" y="2845080"/>
              <a:ext cx="6355800" cy="2690280"/>
              <a:chOff x="414360" y="2845080"/>
              <a:chExt cx="6355800" cy="2690280"/>
            </a:xfrm>
          </p:grpSpPr>
          <p:sp>
            <p:nvSpPr>
              <p:cNvPr id="189" name=""/>
              <p:cNvSpPr/>
              <p:nvPr/>
            </p:nvSpPr>
            <p:spPr>
              <a:xfrm flipH="1">
                <a:off x="414360" y="3232440"/>
                <a:ext cx="2433600" cy="468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08040" y="3117960"/>
                <a:ext cx="0" cy="236844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rot="16200000">
                <a:off x="479160" y="31147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45800" y="3000240"/>
                <a:ext cx="476280" cy="47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715" y="6518"/>
                    </a:moveTo>
                    <a:arcTo wR="10800" hR="10800" stAng="-1401335" swAng="98614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715" y="6518"/>
                    </a:moveTo>
                    <a:arcTo wR="10800" hR="10800" stAng="-1401335" swAng="9861460"/>
                  </a:path>
                </a:pathLst>
              </a:custGeom>
              <a:noFill/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1324080" y="3081600"/>
                <a:ext cx="914040" cy="912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498" y="20209"/>
                    </a:moveTo>
                    <a:arcTo wR="10800" hR="10800" stAng="7164193" swAng="4498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498" y="20209"/>
                    </a:moveTo>
                    <a:arcTo wR="10800" hR="10800" stAng="7164193" swAng="4498063"/>
                  </a:path>
                </a:pathLst>
              </a:custGeom>
              <a:noFill/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1327320" y="3092040"/>
                <a:ext cx="914040" cy="914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315" y="8333"/>
                    </a:moveTo>
                    <a:arcTo wR="10800" hR="10800" stAng="-792138" swAng="47472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315" y="8333"/>
                    </a:moveTo>
                    <a:arcTo wR="10800" hR="10800" stAng="-792138" swAng="4747290"/>
                  </a:path>
                </a:pathLst>
              </a:custGeom>
              <a:noFill/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1143000" y="3137040"/>
                <a:ext cx="662040" cy="51912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24000" y="3137040"/>
                <a:ext cx="476280" cy="51444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4135680" y="2902320"/>
                <a:ext cx="2634480" cy="263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610" y="18858"/>
                    </a:moveTo>
                    <a:arcTo wR="10800" hR="10800" stAng="7904515" swAng="116381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610" y="18858"/>
                    </a:moveTo>
                    <a:arcTo wR="10800" hR="10800" stAng="7904515" swAng="1163815"/>
                  </a:path>
                </a:pathLst>
              </a:custGeom>
              <a:noFill/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880520" y="2845080"/>
                <a:ext cx="680760" cy="68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471" y="12467"/>
                    </a:moveTo>
                    <a:arcTo wR="10800" hR="10800" stAng="532687" swAng="98360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471" y="12467"/>
                    </a:moveTo>
                    <a:arcTo wR="10800" hR="10800" stAng="532687" swAng="9836051"/>
                  </a:path>
                </a:pathLst>
              </a:custGeom>
              <a:noFill/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flipV="1">
                <a:off x="5461560" y="3368160"/>
                <a:ext cx="45756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79" y="11474"/>
                    </a:moveTo>
                    <a:arcTo wR="10800" hR="10800" stAng="214610" swAng="104078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79" y="11474"/>
                    </a:moveTo>
                    <a:arcTo wR="10800" hR="10800" stAng="214610" swAng="10407819"/>
                  </a:path>
                </a:pathLst>
              </a:custGeom>
              <a:noFill/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flipV="1">
                <a:off x="4357080" y="3381480"/>
                <a:ext cx="318600" cy="317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114" y="7598"/>
                    </a:moveTo>
                    <a:arcTo wR="10800" hR="10800" stAng="-1034896" swAng="127520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114" y="7598"/>
                    </a:moveTo>
                    <a:arcTo wR="10800" hR="10800" stAng="-1034896" swAng="12752080"/>
                  </a:path>
                </a:pathLst>
              </a:custGeom>
              <a:noFill/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419720" y="3246480"/>
                <a:ext cx="347400" cy="34308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210280" y="3232440"/>
                <a:ext cx="476280" cy="35244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4723920" y="3232440"/>
                <a:ext cx="476280" cy="35244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205240" y="3232440"/>
                <a:ext cx="0" cy="35712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681520" y="3232440"/>
                <a:ext cx="0" cy="47124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57200" y="3589560"/>
                <a:ext cx="5619600" cy="0"/>
              </a:xfrm>
              <a:prstGeom prst="line">
                <a:avLst/>
              </a:prstGeom>
              <a:ln w="9360">
                <a:solidFill>
                  <a:srgbClr val="81a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4"/>
          </p:nvPr>
        </p:nvSpPr>
        <p:spPr>
          <a:xfrm>
            <a:off x="7238880" y="6248520"/>
            <a:ext cx="133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d62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d62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d62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d62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d62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d62"/>
                </a:solidFill>
                <a:latin typeface="Comic Sans MS"/>
              </a:rPr>
              <a:t>Page </a:t>
            </a:r>
            <a:fld id="{229386E5-F92B-4707-8D38-ED4AA32F5F83}" type="slidenum">
              <a:rPr b="0" lang="es-ES" sz="1400" spc="-1" strike="noStrike">
                <a:solidFill>
                  <a:srgbClr val="003d62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6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d6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d6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3d6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9ac0ea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3d6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81abcb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3d62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3d6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3d6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3d6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techguide.com/" TargetMode="External"/><Relationship Id="rId2" Type="http://schemas.openxmlformats.org/officeDocument/2006/relationships/hyperlink" Target="http://www.techguide.com/" TargetMode="External"/><Relationship Id="rId3" Type="http://schemas.openxmlformats.org/officeDocument/2006/relationships/hyperlink" Target="http://www.techguide.com/" TargetMode="External"/><Relationship Id="rId4" Type="http://schemas.openxmlformats.org/officeDocument/2006/relationships/hyperlink" Target="http://www.techguide.com/" TargetMode="External"/><Relationship Id="rId5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techguide.com/" TargetMode="External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iat.org/docu/esfu.asp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0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4360" y="1411560"/>
            <a:ext cx="7719840" cy="25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d62"/>
                </a:solidFill>
                <a:latin typeface="Times New Roman"/>
              </a:rPr>
              <a:t>Explotación Inteligente de la Información en la DGR</a:t>
            </a:r>
            <a:endParaRPr b="0" lang="en-US" sz="5400" spc="-1" strike="noStrike">
              <a:solidFill>
                <a:srgbClr val="003d62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484360" y="4653000"/>
            <a:ext cx="3816360" cy="9478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0" y="4079160"/>
            <a:ext cx="914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d62"/>
                </a:solidFill>
                <a:latin typeface="Tahoma"/>
              </a:rPr>
              <a:t>Congreso Metropolitano de Ciencias Económicas</a:t>
            </a: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0" y="6303960"/>
            <a:ext cx="9144000" cy="620640"/>
            <a:chOff x="0" y="6303960"/>
            <a:chExt cx="9144000" cy="620640"/>
          </a:xfrm>
        </p:grpSpPr>
        <p:sp>
          <p:nvSpPr>
            <p:cNvPr id="252" name=""/>
            <p:cNvSpPr/>
            <p:nvPr/>
          </p:nvSpPr>
          <p:spPr>
            <a:xfrm>
              <a:off x="0" y="6303960"/>
              <a:ext cx="9144000" cy="620640"/>
            </a:xfrm>
            <a:prstGeom prst="rect">
              <a:avLst/>
            </a:prstGeom>
            <a:solidFill>
              <a:srgbClr val="e3f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1080" y="6419880"/>
              <a:ext cx="21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3d62"/>
                  </a:solidFill>
                  <a:latin typeface="Tahoma"/>
                </a:rPr>
                <a:t>Dr. N. Bocalandro</a:t>
              </a:r>
              <a:endParaRPr b="0" lang="en-US" sz="18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44280" y="642456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3d62"/>
                  </a:solidFill>
                  <a:latin typeface="Tahoma"/>
                </a:rPr>
                <a:t>Dr. F. Morteo</a:t>
              </a:r>
              <a:endParaRPr b="0" lang="en-US" sz="18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11080" y="644688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3d62"/>
                  </a:solidFill>
                  <a:latin typeface="Tahoma"/>
                </a:rPr>
                <a:t>Dr. P. Sturla</a:t>
              </a:r>
              <a:endParaRPr b="0" lang="en-US" sz="18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0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960480"/>
            <a:ext cx="9144000" cy="515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2687760"/>
            <a:ext cx="9144000" cy="515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2741760"/>
            <a:ext cx="874872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d62"/>
                </a:solidFill>
                <a:latin typeface="Tahoma"/>
                <a:ea typeface="Tahoma"/>
              </a:rPr>
              <a:t>DimTiempo:</a:t>
            </a:r>
            <a:r>
              <a:rPr b="0" lang="en-US" sz="2400" spc="-1" strike="noStrike">
                <a:solidFill>
                  <a:srgbClr val="003d62"/>
                </a:solidFill>
                <a:latin typeface="Tahoma"/>
                <a:ea typeface="Tahoma"/>
              </a:rPr>
              <a:t> Año, Trimestre, Mes, Semana, Fecha, Día.</a:t>
            </a:r>
            <a:endParaRPr b="0" lang="en-US" sz="24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d62"/>
                </a:solidFill>
                <a:latin typeface="Tahoma"/>
                <a:ea typeface="Tahoma"/>
              </a:rPr>
              <a:t>DimContribuyente:</a:t>
            </a:r>
            <a:r>
              <a:rPr b="0" lang="en-US" sz="2400" spc="-1" strike="noStrike">
                <a:solidFill>
                  <a:srgbClr val="003d62"/>
                </a:solidFill>
                <a:latin typeface="Tahoma"/>
                <a:ea typeface="Tahoma"/>
              </a:rPr>
              <a:t> CUIT, TipoContribuyente, Carácter, Localidad, TipoBarrio, Manzana, CódigoActividad.</a:t>
            </a:r>
            <a:endParaRPr b="0" lang="en-US" sz="24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d62"/>
                </a:solidFill>
                <a:latin typeface="Tahoma"/>
                <a:ea typeface="Tahoma"/>
              </a:rPr>
              <a:t>DimFormaPago:</a:t>
            </a:r>
            <a:r>
              <a:rPr b="0" lang="en-US" sz="2400" spc="-1" strike="noStrike">
                <a:solidFill>
                  <a:srgbClr val="003d62"/>
                </a:solidFill>
                <a:latin typeface="Tahoma"/>
                <a:ea typeface="Tahoma"/>
              </a:rPr>
              <a:t> FormaPago, Banco, Sucursal, Cheque, FechaAcreeditacion, CodImpuesto</a:t>
            </a:r>
            <a:r>
              <a:rPr b="0" lang="en-US" sz="2400" spc="-1" strike="noStrike">
                <a:solidFill>
                  <a:srgbClr val="003d62"/>
                </a:solidFill>
                <a:latin typeface="Tahoma"/>
                <a:ea typeface="Arial Unicode MS"/>
              </a:rPr>
              <a:t>.</a:t>
            </a:r>
            <a:endParaRPr b="0" lang="en-US" sz="24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e3f0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3d62"/>
                </a:solidFill>
                <a:latin typeface="Tahoma"/>
              </a:rPr>
              <a:t>4. Beneficios Logrados con DW</a:t>
            </a:r>
            <a:endParaRPr b="0" lang="en-US" sz="40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1484280"/>
            <a:ext cx="874872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d62"/>
                </a:solidFill>
                <a:latin typeface="Tahoma"/>
                <a:ea typeface="Tahoma"/>
              </a:rPr>
              <a:t>Percepciones, Retenciones, Deducciones y Actividades.</a:t>
            </a:r>
            <a:endParaRPr b="0" lang="en-US" sz="24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03680" y="981000"/>
            <a:ext cx="595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62"/>
                </a:solidFill>
                <a:latin typeface="Tahoma"/>
              </a:rPr>
              <a:t>Datos resumidos/detallados por:</a:t>
            </a:r>
            <a:endParaRPr b="0" lang="en-US" sz="28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02240" y="2708280"/>
            <a:ext cx="640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62"/>
                </a:solidFill>
                <a:latin typeface="Tahoma"/>
              </a:rPr>
              <a:t>Posibilidad de armado de cubos de:</a:t>
            </a:r>
            <a:endParaRPr b="0" lang="en-US" sz="28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827200" y="65246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d62"/>
                </a:solidFill>
                <a:latin typeface="Tahoma"/>
              </a:rPr>
              <a:t>9</a:t>
            </a:r>
            <a:endParaRPr b="0" lang="en-US" sz="1400" spc="-1" strike="noStrike">
              <a:solidFill>
                <a:srgbClr val="003d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0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539640" y="162864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d62"/>
                </a:solidFill>
                <a:latin typeface="Tahoma"/>
                <a:ea typeface="Tahoma"/>
              </a:rPr>
              <a:t>Proceso de extraer conocimiento útil y comprensible , previamente desconocido, desde grandes cantidades de datos almacenados en distintos formatos.</a:t>
            </a:r>
            <a:endParaRPr b="0" lang="en-US" sz="28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e3f0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3d62"/>
                </a:solidFill>
                <a:latin typeface="Tahoma"/>
              </a:rPr>
              <a:t>5. Minería de Datos</a:t>
            </a:r>
            <a:endParaRPr b="0" lang="en-US" sz="40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3859920"/>
            <a:ext cx="914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d62"/>
                </a:solidFill>
                <a:latin typeface="Tahoma"/>
              </a:rPr>
              <a:t>Witten &amp; Frank 2000</a:t>
            </a: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767440" y="65246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d62"/>
                </a:solidFill>
                <a:latin typeface="Tahoma"/>
              </a:rPr>
              <a:t>10</a:t>
            </a:r>
            <a:endParaRPr b="0" lang="en-US" sz="1400" spc="-1" strike="noStrike">
              <a:solidFill>
                <a:srgbClr val="003d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0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"/>
          <p:cNvGrpSpPr/>
          <p:nvPr/>
        </p:nvGrpSpPr>
        <p:grpSpPr>
          <a:xfrm>
            <a:off x="4295880" y="2852640"/>
            <a:ext cx="4751280" cy="898560"/>
            <a:chOff x="4295880" y="2852640"/>
            <a:chExt cx="4751280" cy="898560"/>
          </a:xfrm>
        </p:grpSpPr>
        <p:sp>
          <p:nvSpPr>
            <p:cNvPr id="558" name=""/>
            <p:cNvSpPr/>
            <p:nvPr/>
          </p:nvSpPr>
          <p:spPr>
            <a:xfrm>
              <a:off x="4367160" y="2958840"/>
              <a:ext cx="4680000" cy="792360"/>
            </a:xfrm>
            <a:prstGeom prst="rect">
              <a:avLst/>
            </a:prstGeom>
            <a:solidFill>
              <a:srgbClr val="0066cc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pic>
          <p:nvPicPr>
            <p:cNvPr id="559" name="" descr=""/>
            <p:cNvPicPr/>
            <p:nvPr/>
          </p:nvPicPr>
          <p:blipFill>
            <a:blip r:embed="rId1"/>
            <a:stretch/>
          </p:blipFill>
          <p:spPr>
            <a:xfrm>
              <a:off x="4295880" y="2852640"/>
              <a:ext cx="4724280" cy="79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0" name=""/>
          <p:cNvSpPr/>
          <p:nvPr/>
        </p:nvSpPr>
        <p:spPr>
          <a:xfrm rot="10800000">
            <a:off x="3492360" y="3141720"/>
            <a:ext cx="503280" cy="216000"/>
          </a:xfrm>
          <a:prstGeom prst="leftArrow">
            <a:avLst>
              <a:gd name="adj1" fmla="val 50000"/>
              <a:gd name="adj2" fmla="val 58250"/>
            </a:avLst>
          </a:prstGeom>
          <a:solidFill>
            <a:srgbClr val="9ac0ea"/>
          </a:solidFill>
          <a:ln w="936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52280" y="2712960"/>
            <a:ext cx="3240000" cy="1584360"/>
            <a:chOff x="152280" y="2712960"/>
            <a:chExt cx="3240000" cy="1584360"/>
          </a:xfrm>
        </p:grpSpPr>
        <p:pic>
          <p:nvPicPr>
            <p:cNvPr id="562" name="" descr=""/>
            <p:cNvPicPr/>
            <p:nvPr/>
          </p:nvPicPr>
          <p:blipFill>
            <a:blip r:embed="rId2"/>
            <a:stretch/>
          </p:blipFill>
          <p:spPr>
            <a:xfrm>
              <a:off x="152280" y="2712960"/>
              <a:ext cx="3240000" cy="15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152280" y="2712960"/>
              <a:ext cx="3240000" cy="1584360"/>
            </a:xfrm>
            <a:prstGeom prst="rect">
              <a:avLst/>
            </a:prstGeom>
            <a:solidFill>
              <a:srgbClr val="6699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133200" y="1666800"/>
            <a:ext cx="6191280" cy="955800"/>
            <a:chOff x="133200" y="1666800"/>
            <a:chExt cx="6191280" cy="955800"/>
          </a:xfrm>
        </p:grpSpPr>
        <p:pic>
          <p:nvPicPr>
            <p:cNvPr id="565" name="" descr=""/>
            <p:cNvPicPr/>
            <p:nvPr/>
          </p:nvPicPr>
          <p:blipFill>
            <a:blip r:embed="rId3"/>
            <a:stretch/>
          </p:blipFill>
          <p:spPr>
            <a:xfrm>
              <a:off x="133200" y="1666800"/>
              <a:ext cx="616428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133200" y="1666800"/>
              <a:ext cx="6191280" cy="955800"/>
            </a:xfrm>
            <a:prstGeom prst="rect">
              <a:avLst/>
            </a:prstGeom>
            <a:solidFill>
              <a:srgbClr val="6699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4295880" y="3789360"/>
            <a:ext cx="4822200" cy="917640"/>
            <a:chOff x="4295880" y="3789360"/>
            <a:chExt cx="4822200" cy="917640"/>
          </a:xfrm>
        </p:grpSpPr>
        <p:sp>
          <p:nvSpPr>
            <p:cNvPr id="568" name=""/>
            <p:cNvSpPr/>
            <p:nvPr/>
          </p:nvSpPr>
          <p:spPr>
            <a:xfrm>
              <a:off x="4366800" y="3914640"/>
              <a:ext cx="4751280" cy="792360"/>
            </a:xfrm>
            <a:prstGeom prst="rect">
              <a:avLst/>
            </a:prstGeom>
            <a:solidFill>
              <a:srgbClr val="0066cc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pic>
          <p:nvPicPr>
            <p:cNvPr id="569" name="" descr=""/>
            <p:cNvPicPr/>
            <p:nvPr/>
          </p:nvPicPr>
          <p:blipFill>
            <a:blip r:embed="rId4"/>
            <a:stretch/>
          </p:blipFill>
          <p:spPr>
            <a:xfrm>
              <a:off x="4295880" y="3789360"/>
              <a:ext cx="4752720" cy="80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0" name=""/>
          <p:cNvSpPr/>
          <p:nvPr/>
        </p:nvSpPr>
        <p:spPr>
          <a:xfrm>
            <a:off x="0" y="1030320"/>
            <a:ext cx="9144000" cy="5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622600" y="981000"/>
            <a:ext cx="37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3d62"/>
                </a:solidFill>
                <a:latin typeface="Tahoma"/>
              </a:rPr>
              <a:t>Algoritmo BayesNet</a:t>
            </a:r>
            <a:endParaRPr b="0" lang="en-US" sz="2800" spc="-1" strike="noStrike">
              <a:solidFill>
                <a:srgbClr val="003d62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57240" y="4784760"/>
            <a:ext cx="4679640" cy="2016000"/>
            <a:chOff x="57240" y="4784760"/>
            <a:chExt cx="4679640" cy="2016000"/>
          </a:xfrm>
        </p:grpSpPr>
        <p:sp>
          <p:nvSpPr>
            <p:cNvPr id="573" name=""/>
            <p:cNvSpPr/>
            <p:nvPr/>
          </p:nvSpPr>
          <p:spPr>
            <a:xfrm>
              <a:off x="57240" y="4784760"/>
              <a:ext cx="4679640" cy="2016000"/>
            </a:xfrm>
            <a:prstGeom prst="rect">
              <a:avLst/>
            </a:prstGeom>
            <a:solidFill>
              <a:srgbClr val="66669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09480" y="6426000"/>
              <a:ext cx="3949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ministración de fondos de jubilaciones y pensiones (AFJP).</a:t>
              </a:r>
              <a:endParaRPr b="0" lang="en-US" sz="10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16000" y="6426000"/>
              <a:ext cx="3934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662</a:t>
              </a:r>
              <a:endParaRPr b="0" lang="en-US" sz="10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09480" y="6181560"/>
              <a:ext cx="39499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Explotación de minas y canteras n.c.p.</a:t>
              </a:r>
              <a:endParaRPr b="0" lang="en-US" sz="10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16000" y="6181560"/>
              <a:ext cx="3934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4</a:t>
              </a:r>
              <a:endParaRPr b="0" lang="en-US" sz="10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09480" y="5937120"/>
              <a:ext cx="39499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Extracción de minerales metalíferos.</a:t>
              </a:r>
              <a:endParaRPr b="0" lang="en-US" sz="10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16000" y="5937120"/>
              <a:ext cx="3934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3</a:t>
              </a:r>
              <a:endParaRPr b="0" lang="en-US" sz="10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09480" y="5692680"/>
              <a:ext cx="39499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Extracción de minerales y concentrados de uranio y torio.</a:t>
              </a:r>
              <a:endParaRPr b="0" lang="en-US" sz="10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16000" y="5692680"/>
              <a:ext cx="3934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2</a:t>
              </a:r>
              <a:endParaRPr b="0" lang="en-US" sz="10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480" y="5145120"/>
              <a:ext cx="394992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Extracción de petróleo crudo y gas natural; actividades de servicios relacionadas con la extracción de petróleo y gas, excepto las actividades de prospección.</a:t>
              </a:r>
              <a:endParaRPr b="0" lang="en-US" sz="10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16000" y="5145120"/>
              <a:ext cx="39348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1</a:t>
              </a:r>
              <a:endParaRPr b="0" lang="en-US" sz="10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09480" y="4857840"/>
              <a:ext cx="39499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Extracción de carbón y lignito, extracción de turba.</a:t>
              </a:r>
              <a:endParaRPr b="0" lang="en-US" sz="10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16000" y="4857840"/>
              <a:ext cx="3934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0</a:t>
              </a:r>
              <a:endParaRPr b="0" lang="en-US" sz="10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16000" y="5145120"/>
              <a:ext cx="434340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09480" y="4857840"/>
              <a:ext cx="0" cy="181296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16000" y="5692680"/>
              <a:ext cx="434340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16000" y="5937120"/>
              <a:ext cx="434340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16000" y="6181560"/>
              <a:ext cx="434340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16000" y="6426000"/>
              <a:ext cx="434340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16000" y="4857840"/>
              <a:ext cx="4343400" cy="0"/>
            </a:xfrm>
            <a:prstGeom prst="line">
              <a:avLst/>
            </a:prstGeom>
            <a:ln cap="sq"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16000" y="4857840"/>
              <a:ext cx="0" cy="1812960"/>
            </a:xfrm>
            <a:prstGeom prst="line">
              <a:avLst/>
            </a:prstGeom>
            <a:ln cap="sq"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559400" y="4857840"/>
              <a:ext cx="0" cy="1812960"/>
            </a:xfrm>
            <a:prstGeom prst="line">
              <a:avLst/>
            </a:prstGeom>
            <a:ln cap="sq"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16000" y="6670800"/>
              <a:ext cx="4343400" cy="0"/>
            </a:xfrm>
            <a:prstGeom prst="line">
              <a:avLst/>
            </a:prstGeom>
            <a:ln cap="sq"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</p:grpSp>
      <p:pic>
        <p:nvPicPr>
          <p:cNvPr id="596" name="" descr=""/>
          <p:cNvPicPr/>
          <p:nvPr/>
        </p:nvPicPr>
        <p:blipFill>
          <a:blip r:embed="rId5"/>
          <a:stretch/>
        </p:blipFill>
        <p:spPr>
          <a:xfrm>
            <a:off x="7289640" y="6438960"/>
            <a:ext cx="1219320" cy="24768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e3f0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3d62"/>
                </a:solidFill>
                <a:latin typeface="Tahoma"/>
              </a:rPr>
              <a:t>5. Minería de Datos</a:t>
            </a:r>
            <a:endParaRPr b="0" lang="en-US" sz="40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767440" y="65246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d62"/>
                </a:solidFill>
                <a:latin typeface="Tahoma"/>
              </a:rPr>
              <a:t>11</a:t>
            </a:r>
            <a:endParaRPr b="0" lang="en-US" sz="1400" spc="-1" strike="noStrike">
              <a:solidFill>
                <a:srgbClr val="003d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0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e3f0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3d62"/>
                </a:solidFill>
                <a:latin typeface="Tahoma"/>
              </a:rPr>
              <a:t>6. Ámbito de Aplicación</a:t>
            </a:r>
            <a:endParaRPr b="0" lang="en-US" sz="40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1173240"/>
            <a:ext cx="9144000" cy="515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52280" y="1992240"/>
            <a:ext cx="8748720" cy="41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d62"/>
                </a:solidFill>
                <a:latin typeface="Tahoma"/>
                <a:ea typeface="Tahoma"/>
              </a:rPr>
              <a:t>Variaciones de Contribuyentes en cuanto a Declaraciones Juradas y su relación con actividades declaradas (Bayes - BayesNet).</a:t>
            </a:r>
            <a:endParaRPr b="0" lang="en-US" sz="28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d62"/>
                </a:solidFill>
                <a:latin typeface="Tahoma"/>
                <a:ea typeface="Tahoma"/>
              </a:rPr>
              <a:t>Comportamiento del Contribuyentes respecto a impuestos (Clustering - SimpleKMeans).</a:t>
            </a:r>
            <a:endParaRPr b="0" lang="en-US" sz="28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3d62"/>
                </a:solidFill>
                <a:latin typeface="Tahoma"/>
                <a:ea typeface="Tahoma"/>
              </a:rPr>
              <a:t>Comportamiento del Contribuyente respecto a fechas de vencimientos y pagos (Árboles de Decisión – J48).</a:t>
            </a:r>
            <a:endParaRPr b="0" lang="en-US" sz="28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0640" y="1177920"/>
            <a:ext cx="37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62"/>
                </a:solidFill>
                <a:latin typeface="Tahoma"/>
              </a:rPr>
              <a:t>Beneficios logrados:</a:t>
            </a:r>
            <a:endParaRPr b="0" lang="en-US" sz="28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767440" y="65246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d62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3d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0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539640" y="809640"/>
            <a:ext cx="8604360" cy="72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d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d62"/>
                </a:solidFill>
                <a:latin typeface="Tahoma"/>
              </a:rPr>
              <a:t>E-Data Transformando datos en información con Data Warehousing. Jill Dyché. Prentice Hall. Buenos Aires. 2001.</a:t>
            </a: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d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d62"/>
                </a:solidFill>
                <a:latin typeface="Tahoma"/>
              </a:rPr>
              <a:t>Introducción a la minería de datos. José Hernández Orallo-María José Ramírez Quintana-César Ferri Ramírez. Pearson/Prentice Hall. Madrid 2004.</a:t>
            </a: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d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Professional Datawarehousing with SQL Server 7.0 and OLAP Services. Sakhr Youness. Edit. </a:t>
            </a:r>
            <a:r>
              <a:rPr b="0" lang="es-AR" sz="1800" spc="-1" strike="noStrike">
                <a:solidFill>
                  <a:srgbClr val="003d62"/>
                </a:solidFill>
                <a:latin typeface="Tahoma"/>
              </a:rPr>
              <a:t>Wrox.</a:t>
            </a: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d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3d62"/>
                </a:solidFill>
                <a:latin typeface="Tahoma"/>
              </a:rPr>
              <a:t>Bases de Datos Multidimensiona</a:t>
            </a:r>
            <a:r>
              <a:rPr b="0" lang="es-ES" sz="1800" spc="-1" strike="noStrike">
                <a:solidFill>
                  <a:srgbClr val="003d62"/>
                </a:solidFill>
                <a:latin typeface="Tahoma"/>
              </a:rPr>
              <a:t>les, Universidad de Concepción, Jorge Carrasco, Diciembre 1997.</a:t>
            </a: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d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Communications of the ACM Datawarehousing, Volumen 41 – Número 9, Sep. 1998.</a:t>
            </a: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d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Oracle Datawarehousing”, Michael J. Corey &amp; Michael Abbey, Computer World 1993.</a:t>
            </a: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d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Designing The Perfect Data Warehouse, Frank Mcguff, </a:t>
            </a:r>
            <a:r>
              <a:rPr b="0" lang="en-US" sz="1800" spc="-1" strike="noStrike" u="sng">
                <a:solidFill>
                  <a:srgbClr val="81abcb"/>
                </a:solidFill>
                <a:uFillTx/>
                <a:latin typeface="Tahoma"/>
                <a:hlinkClick r:id="rId1"/>
              </a:rPr>
              <a:t>http://www.techguide.com</a:t>
            </a: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d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Data Warehouse Modeling, Frank Mcguff, </a:t>
            </a:r>
            <a:r>
              <a:rPr b="0" lang="en-US" sz="1800" spc="-1" strike="noStrike" u="sng">
                <a:solidFill>
                  <a:srgbClr val="81abcb"/>
                </a:solidFill>
                <a:uFillTx/>
                <a:latin typeface="Tahoma"/>
                <a:hlinkClick r:id="rId2"/>
              </a:rPr>
              <a:t>http://www.techguide.com</a:t>
            </a: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d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Data Warehousing, Data Modeling and Design, MicroStrategy7, MicroStrategy Education.</a:t>
            </a: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d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Managing The Warehouse Throughout Its Lifecycle, </a:t>
            </a:r>
            <a:r>
              <a:rPr b="0" lang="en-US" sz="1800" spc="-1" strike="noStrike" u="sng">
                <a:solidFill>
                  <a:srgbClr val="81abcb"/>
                </a:solidFill>
                <a:uFillTx/>
                <a:latin typeface="Tahoma"/>
                <a:hlinkClick r:id="rId3"/>
              </a:rPr>
              <a:t>http://www.techguide.com</a:t>
            </a: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d6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Building a Decision Support Architecture For Datawarehousing, </a:t>
            </a:r>
            <a:r>
              <a:rPr b="0" lang="en-US" sz="1800" spc="-1" strike="noStrike" u="sng">
                <a:solidFill>
                  <a:srgbClr val="81abcb"/>
                </a:solidFill>
                <a:uFillTx/>
                <a:latin typeface="Tahoma"/>
                <a:hlinkClick r:id="rId4"/>
              </a:rPr>
              <a:t>http://www.techguide.com</a:t>
            </a: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d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d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d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e3f0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3d62"/>
                </a:solidFill>
                <a:latin typeface="Tahoma"/>
              </a:rPr>
              <a:t>7. Bibliografía</a:t>
            </a:r>
            <a:endParaRPr b="0" lang="en-US" sz="40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8767440" y="65246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d62"/>
                </a:solidFill>
                <a:latin typeface="Tahoma"/>
              </a:rPr>
              <a:t>13</a:t>
            </a:r>
            <a:endParaRPr b="0" lang="en-US" sz="1400" spc="-1" strike="noStrike">
              <a:solidFill>
                <a:srgbClr val="003d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0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539640" y="809640"/>
            <a:ext cx="8604360" cy="61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d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Putting Metadata To Work In The Warehouse, </a:t>
            </a:r>
            <a:r>
              <a:rPr b="0" lang="en-US" sz="1800" spc="-1" strike="noStrike" u="sng">
                <a:solidFill>
                  <a:srgbClr val="81abcb"/>
                </a:solidFill>
                <a:uFillTx/>
                <a:latin typeface="Tahoma"/>
                <a:hlinkClick r:id="rId1"/>
              </a:rPr>
              <a:t>http://www.techguide.com</a:t>
            </a: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d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d62"/>
                </a:solidFill>
                <a:latin typeface="Tahoma"/>
              </a:rPr>
              <a:t>Especial de Datawarehouse, Revista Soluciones Avanzadas, Edición Junio 1996, Pág.40-72.</a:t>
            </a: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d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d62"/>
                </a:solidFill>
                <a:latin typeface="Tahoma"/>
              </a:rPr>
              <a:t>Business Inteligence, Revista Information Tecnology, Edición Mayo 2004, Pág.1-5.</a:t>
            </a: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d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d62"/>
                </a:solidFill>
                <a:latin typeface="Tahoma"/>
              </a:rPr>
              <a:t>Consideraciones para enfrentar el desarrollo de un DW, Carmen Gloria Wolf, Ciencias de la Computación, Facultad De Ingeniería -  Universidad de Concepción.</a:t>
            </a: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d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d62"/>
                </a:solidFill>
                <a:latin typeface="Tahoma"/>
              </a:rPr>
              <a:t>Análisis y Diseño de un DataMart Dimensional, Carmen Gloria Wolf, Ciencias de la Computación, Facultad De Ingeniería -  Universidad de  Concepción.</a:t>
            </a: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d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Executive Briefing for the Datawarehouse, Software AG Education Services, Enero 2000.</a:t>
            </a: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d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d62"/>
                </a:solidFill>
                <a:latin typeface="Tahoma"/>
              </a:rPr>
              <a:t>El Estado de la Administración Financiera Integrada en América Latina en 1995,</a:t>
            </a:r>
            <a:r>
              <a:rPr b="1" lang="es-ES" sz="1800" spc="-1" strike="noStrike">
                <a:solidFill>
                  <a:srgbClr val="003d62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3d62"/>
                </a:solidFill>
                <a:latin typeface="Tahoma"/>
              </a:rPr>
              <a:t>Asselin, Lynnette</a:t>
            </a:r>
            <a:r>
              <a:rPr b="1" lang="es-ES" sz="1800" spc="-1" strike="noStrike">
                <a:solidFill>
                  <a:srgbClr val="003d62"/>
                </a:solidFill>
                <a:latin typeface="Tahoma"/>
              </a:rPr>
              <a:t>, </a:t>
            </a:r>
            <a:r>
              <a:rPr b="0" lang="es-ES" sz="1800" spc="-1" strike="noStrike">
                <a:solidFill>
                  <a:srgbClr val="003d62"/>
                </a:solidFill>
                <a:latin typeface="Tahoma"/>
              </a:rPr>
              <a:t> LATPS Serie de Documentos Especiales, Enero 1998.</a:t>
            </a: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d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Focus, criteria, techniques and procedures adopted by the IADB to evaluate public sector financial management, Asselin, Lynnette, Banco Interamericano de Desarrollo, Septiembre 2000.</a:t>
            </a: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d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d62"/>
                </a:solidFill>
                <a:latin typeface="Tahoma"/>
              </a:rPr>
              <a:t>Las Nuevas Tecnologías de la Información y Comunicación: su aplicación en las Administraciones Tributarias. Un análisis regional – Argentina, Brasil y Chile, Barra, F</a:t>
            </a:r>
            <a:r>
              <a:rPr b="1" lang="es-ES" sz="1800" spc="-1" strike="noStrike">
                <a:solidFill>
                  <a:srgbClr val="003d62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3d62"/>
                </a:solidFill>
                <a:latin typeface="Tahoma"/>
              </a:rPr>
              <a:t>y Bustamante, R. y Ratner G., proyecto CEPAL, Marzo 2002.</a:t>
            </a: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d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Modernizing Government: E-Government – A Strategic Framework for Public Services in the Information Age, Cabinet Office, Abril 2000.</a:t>
            </a: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e3f0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3d62"/>
                </a:solidFill>
                <a:latin typeface="Tahoma"/>
              </a:rPr>
              <a:t>7. Bibliografía</a:t>
            </a:r>
            <a:endParaRPr b="0" lang="en-US" sz="40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767440" y="65246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d62"/>
                </a:solidFill>
                <a:latin typeface="Tahoma"/>
              </a:rPr>
              <a:t>14</a:t>
            </a:r>
            <a:endParaRPr b="0" lang="en-US" sz="1400" spc="-1" strike="noStrike">
              <a:solidFill>
                <a:srgbClr val="003d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0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539640" y="809640"/>
            <a:ext cx="8604360" cy="46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d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The Global Information Technology Report 2001-2002: Readiness for the Networked World, CID Center for International Development - Harvard University, Diciembre. </a:t>
            </a:r>
            <a:r>
              <a:rPr b="0" lang="es-AR" sz="1800" spc="-1" strike="noStrike">
                <a:solidFill>
                  <a:srgbClr val="003d62"/>
                </a:solidFill>
                <a:latin typeface="Tahoma"/>
              </a:rPr>
              <a:t>2002.</a:t>
            </a: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d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d62"/>
                </a:solidFill>
                <a:latin typeface="Tahoma"/>
              </a:rPr>
              <a:t>SITRIBA, Sistema de Informaciones tributarias Básicas. Proyecto BIDCIAT, Centro Interamericano de Administraciones Tributarias (CIAT), Mayo 2000.</a:t>
            </a:r>
            <a:r>
              <a:rPr b="0" lang="es-ES" sz="1800" spc="-1" strike="noStrike" u="sng">
                <a:solidFill>
                  <a:srgbClr val="81abcb"/>
                </a:solidFill>
                <a:uFillTx/>
                <a:latin typeface="Tahoma"/>
                <a:hlinkClick r:id="rId1"/>
              </a:rPr>
              <a:t>http://www.ciat.org/docu/esfu.asp</a:t>
            </a:r>
            <a:r>
              <a:rPr b="0" lang="es-ES" sz="1800" spc="-1" strike="noStrike">
                <a:solidFill>
                  <a:srgbClr val="003d62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d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d62"/>
                </a:solidFill>
                <a:latin typeface="Tahoma"/>
              </a:rPr>
              <a:t>VII Congreso Internacional del CLAD sobre la Reforma del Estado y de la Administración Pública, Centro Interamericano de Administraciones Tributarias (CIAT); Lisboa, Portugal, 8-11 Oct. 2002.</a:t>
            </a: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d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3d62"/>
                </a:solidFill>
                <a:latin typeface="Tahoma"/>
              </a:rPr>
              <a:t>Servicios Personalizados. Presentación telemática de declaraciones y pago electrónico – SII – Chile. Conferencia Técnica del CIAT; Sevilla, España, Octubre, 2001.</a:t>
            </a: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d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d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d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d6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e3f0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3d62"/>
                </a:solidFill>
                <a:latin typeface="Tahoma"/>
              </a:rPr>
              <a:t>7. Bibliografía</a:t>
            </a:r>
            <a:endParaRPr b="0" lang="en-US" sz="40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767440" y="652464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d62"/>
                </a:solidFill>
                <a:latin typeface="Tahoma"/>
              </a:rPr>
              <a:t>15</a:t>
            </a:r>
            <a:endParaRPr b="0" lang="en-US" sz="1400" spc="-1" strike="noStrike">
              <a:solidFill>
                <a:srgbClr val="003d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0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1427040"/>
            <a:ext cx="9144000" cy="360360"/>
          </a:xfrm>
          <a:prstGeom prst="rect">
            <a:avLst/>
          </a:prstGeom>
          <a:solidFill>
            <a:srgbClr val="c0c0c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81360" y="3860640"/>
            <a:ext cx="456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2"/>
                </a:solidFill>
                <a:latin typeface="Tahoma"/>
              </a:rPr>
              <a:t>Dr. Lic. Pablo Daniel Sturla</a:t>
            </a:r>
            <a:endParaRPr b="0" lang="en-US" sz="20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71640" y="2421000"/>
            <a:ext cx="456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2"/>
                </a:solidFill>
                <a:latin typeface="Tahoma"/>
              </a:rPr>
              <a:t>Dr. CP Francisco Morteo</a:t>
            </a:r>
            <a:endParaRPr b="0" lang="en-US" sz="20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81360" y="1052640"/>
            <a:ext cx="45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d62"/>
                </a:solidFill>
                <a:latin typeface="Tahoma"/>
              </a:rPr>
              <a:t>Dr. Lic. Nicolás Bocalandro</a:t>
            </a:r>
            <a:endParaRPr b="0" lang="en-US" sz="2000" spc="-1" strike="noStrike">
              <a:solidFill>
                <a:srgbClr val="003d62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995640" y="3933720"/>
            <a:ext cx="595440" cy="430200"/>
            <a:chOff x="3995640" y="3933720"/>
            <a:chExt cx="595440" cy="430200"/>
          </a:xfrm>
        </p:grpSpPr>
        <p:sp>
          <p:nvSpPr>
            <p:cNvPr id="261" name=""/>
            <p:cNvSpPr/>
            <p:nvPr/>
          </p:nvSpPr>
          <p:spPr>
            <a:xfrm>
              <a:off x="4230720" y="4005360"/>
              <a:ext cx="360360" cy="358560"/>
            </a:xfrm>
            <a:prstGeom prst="ellipse">
              <a:avLst/>
            </a:prstGeom>
            <a:noFill/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95640" y="3933720"/>
              <a:ext cx="432000" cy="287280"/>
            </a:xfrm>
            <a:prstGeom prst="rect">
              <a:avLst/>
            </a:prstGeom>
            <a:solidFill>
              <a:srgbClr val="e3f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427640" y="4005360"/>
              <a:ext cx="0" cy="21564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3995640" y="4221000"/>
              <a:ext cx="43200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3995640" y="1125360"/>
            <a:ext cx="595440" cy="430200"/>
            <a:chOff x="3995640" y="1125360"/>
            <a:chExt cx="595440" cy="430200"/>
          </a:xfrm>
        </p:grpSpPr>
        <p:sp>
          <p:nvSpPr>
            <p:cNvPr id="266" name=""/>
            <p:cNvSpPr/>
            <p:nvPr/>
          </p:nvSpPr>
          <p:spPr>
            <a:xfrm>
              <a:off x="4230720" y="1197000"/>
              <a:ext cx="360360" cy="358560"/>
            </a:xfrm>
            <a:prstGeom prst="ellipse">
              <a:avLst/>
            </a:prstGeom>
            <a:noFill/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995640" y="1125360"/>
              <a:ext cx="432000" cy="287280"/>
            </a:xfrm>
            <a:prstGeom prst="rect">
              <a:avLst/>
            </a:prstGeom>
            <a:solidFill>
              <a:srgbClr val="e3f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27640" y="1197000"/>
              <a:ext cx="0" cy="21564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995640" y="1412640"/>
              <a:ext cx="43200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57120" y="2492280"/>
            <a:ext cx="595440" cy="430200"/>
            <a:chOff x="357120" y="2492280"/>
            <a:chExt cx="595440" cy="430200"/>
          </a:xfrm>
        </p:grpSpPr>
        <p:sp>
          <p:nvSpPr>
            <p:cNvPr id="271" name=""/>
            <p:cNvSpPr/>
            <p:nvPr/>
          </p:nvSpPr>
          <p:spPr>
            <a:xfrm>
              <a:off x="592200" y="2563920"/>
              <a:ext cx="360360" cy="358560"/>
            </a:xfrm>
            <a:prstGeom prst="ellipse">
              <a:avLst/>
            </a:prstGeom>
            <a:noFill/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57120" y="2492280"/>
              <a:ext cx="432000" cy="287280"/>
            </a:xfrm>
            <a:prstGeom prst="rect">
              <a:avLst/>
            </a:prstGeom>
            <a:solidFill>
              <a:srgbClr val="e3f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89120" y="2563920"/>
              <a:ext cx="0" cy="21564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357120" y="2779560"/>
              <a:ext cx="43200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4595760" y="4154400"/>
            <a:ext cx="36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9966"/>
                </a:solidFill>
                <a:latin typeface="Tahoma"/>
              </a:rPr>
              <a:t>psturla@rentasgcba.gov.ar</a:t>
            </a:r>
            <a:endParaRPr b="0" lang="en-US" sz="20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01160" y="1374840"/>
            <a:ext cx="38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9966"/>
                </a:solidFill>
                <a:latin typeface="Tahoma"/>
              </a:rPr>
              <a:t>nicolas_bocalandro@yahoo.com</a:t>
            </a: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87840" y="2752560"/>
            <a:ext cx="33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66"/>
                </a:solidFill>
                <a:latin typeface="Tahoma"/>
              </a:rPr>
              <a:t>fmorteo@rentasgcba.gov.ar</a:t>
            </a: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2743200"/>
            <a:ext cx="9144000" cy="358920"/>
          </a:xfrm>
          <a:prstGeom prst="rect">
            <a:avLst/>
          </a:prstGeom>
          <a:solidFill>
            <a:srgbClr val="80c3c8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4202280"/>
            <a:ext cx="9144000" cy="358560"/>
          </a:xfrm>
          <a:prstGeom prst="rect">
            <a:avLst/>
          </a:prstGeom>
          <a:solidFill>
            <a:srgbClr val="6699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827200" y="65246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d62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3d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0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95280" y="1484280"/>
            <a:ext cx="76327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d62"/>
                </a:solidFill>
                <a:latin typeface="Tahoma"/>
                <a:ea typeface="Tahoma"/>
              </a:rPr>
              <a:t>1. ¿Qué es Data Warehouse?. </a:t>
            </a:r>
            <a:endParaRPr b="0" lang="en-US" sz="30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d62"/>
                </a:solidFill>
                <a:latin typeface="Tahoma"/>
                <a:ea typeface="Tahoma"/>
              </a:rPr>
              <a:t>2. ¿Para qué se utiliza en la DGR?. </a:t>
            </a:r>
            <a:endParaRPr b="0" lang="en-US" sz="30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d62"/>
                </a:solidFill>
                <a:latin typeface="Tahoma"/>
                <a:ea typeface="Tahoma"/>
              </a:rPr>
              <a:t>3. Modelo planteado.</a:t>
            </a:r>
            <a:endParaRPr b="0" lang="en-US" sz="30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d62"/>
                </a:solidFill>
                <a:latin typeface="Tahoma"/>
                <a:ea typeface="Tahoma"/>
              </a:rPr>
              <a:t>4. Beneficios logrados con DW. </a:t>
            </a:r>
            <a:endParaRPr b="0" lang="en-US" sz="30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d62"/>
                </a:solidFill>
                <a:latin typeface="Tahoma"/>
                <a:ea typeface="Tahoma"/>
              </a:rPr>
              <a:t>5. Minería de Datos. </a:t>
            </a:r>
            <a:endParaRPr b="0" lang="en-US" sz="30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d62"/>
                </a:solidFill>
                <a:latin typeface="Tahoma"/>
                <a:ea typeface="Tahoma"/>
              </a:rPr>
              <a:t>6. Ámbito de Aplicación.</a:t>
            </a:r>
            <a:endParaRPr b="0" lang="en-US" sz="30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d62"/>
                </a:solidFill>
                <a:latin typeface="Tahoma"/>
                <a:ea typeface="Tahoma"/>
              </a:rPr>
              <a:t>7. Bibliografía.</a:t>
            </a:r>
            <a:endParaRPr b="0" lang="en-US" sz="30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e3f0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3d62"/>
                </a:solidFill>
                <a:latin typeface="Tahoma"/>
              </a:rPr>
              <a:t>Agenda</a:t>
            </a:r>
            <a:endParaRPr b="0" lang="en-US" sz="40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827200" y="65246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d62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3d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0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80880" y="1828800"/>
            <a:ext cx="830592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3d62"/>
                </a:solidFill>
                <a:latin typeface="Tahoma"/>
                <a:ea typeface="Tahoma"/>
              </a:rPr>
              <a:t>Es una combinación de Hard, Soft y Datos.</a:t>
            </a:r>
            <a:endParaRPr b="0" lang="en-US" sz="3200" spc="-1" strike="noStrike">
              <a:solidFill>
                <a:srgbClr val="003d6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3d62"/>
                </a:solidFill>
                <a:latin typeface="Tahoma"/>
                <a:ea typeface="Tahoma"/>
              </a:rPr>
              <a:t>Repositorio de datos históricos.</a:t>
            </a:r>
            <a:endParaRPr b="0" lang="en-US" sz="3200" spc="-1" strike="noStrike">
              <a:solidFill>
                <a:srgbClr val="003d62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3d62"/>
                </a:solidFill>
                <a:latin typeface="Tahoma"/>
                <a:ea typeface="Tahoma"/>
              </a:rPr>
              <a:t>Uno o más Data Marts.</a:t>
            </a:r>
            <a:endParaRPr b="0" lang="en-US" sz="32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e3f0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3d62"/>
                </a:solidFill>
                <a:latin typeface="Tahoma"/>
              </a:rPr>
              <a:t>1. ¿Qué es Data Warehouse? </a:t>
            </a:r>
            <a:endParaRPr b="0" lang="en-US" sz="40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788640"/>
            <a:ext cx="914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d62"/>
                </a:solidFill>
                <a:latin typeface="Tahoma"/>
              </a:rPr>
              <a:t>Jill Dyché 2001</a:t>
            </a: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827200" y="65246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d62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3d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0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24000" y="1484280"/>
            <a:ext cx="8496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3d62"/>
                </a:solidFill>
                <a:latin typeface="Tahoma"/>
                <a:ea typeface="Tahoma"/>
              </a:rPr>
              <a:t>Eliminación y depuración de datos.</a:t>
            </a:r>
            <a:endParaRPr b="0" lang="en-US" sz="32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3d62"/>
                </a:solidFill>
                <a:latin typeface="Tahoma"/>
                <a:ea typeface="Tahoma"/>
              </a:rPr>
              <a:t>Mayor seguridad debido a vistas de usuario.</a:t>
            </a:r>
            <a:endParaRPr b="0" lang="en-US" sz="32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3d62"/>
                </a:solidFill>
                <a:latin typeface="Tahoma"/>
                <a:ea typeface="Tahoma"/>
              </a:rPr>
              <a:t>Procesamiento y utilización de grandes volúmenes de datos.</a:t>
            </a:r>
            <a:endParaRPr b="0" lang="en-US" sz="32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3d62"/>
                </a:solidFill>
                <a:latin typeface="Tahoma"/>
                <a:ea typeface="Tahoma"/>
              </a:rPr>
              <a:t>Personalización del usuario respecto a salidas de información.</a:t>
            </a:r>
            <a:endParaRPr b="0" lang="en-US" sz="32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81abcb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3d62"/>
                </a:solidFill>
                <a:latin typeface="Tahoma"/>
                <a:ea typeface="Tahoma"/>
              </a:rPr>
              <a:t>Extremada flexibilidad para análisis de datos.</a:t>
            </a:r>
            <a:endParaRPr b="0" lang="en-US" sz="32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e3f0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3d62"/>
                </a:solidFill>
                <a:latin typeface="Tahoma"/>
              </a:rPr>
              <a:t>2. ¿Para qué se utiliza en la DGR? </a:t>
            </a:r>
            <a:endParaRPr b="0" lang="en-US" sz="40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827200" y="65246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d62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3d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0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e3f0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3d62"/>
                </a:solidFill>
                <a:latin typeface="Tahoma"/>
              </a:rPr>
              <a:t>3. Modelo planteado</a:t>
            </a:r>
            <a:endParaRPr b="0" lang="en-US" sz="4000" spc="-1" strike="noStrike">
              <a:solidFill>
                <a:srgbClr val="003d62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258920" y="831960"/>
            <a:ext cx="6553080" cy="5787720"/>
            <a:chOff x="1258920" y="831960"/>
            <a:chExt cx="6553080" cy="5787720"/>
          </a:xfrm>
        </p:grpSpPr>
        <p:pic>
          <p:nvPicPr>
            <p:cNvPr id="293" name="" descr=""/>
            <p:cNvPicPr/>
            <p:nvPr/>
          </p:nvPicPr>
          <p:blipFill>
            <a:blip r:embed="rId1"/>
            <a:stretch/>
          </p:blipFill>
          <p:spPr>
            <a:xfrm>
              <a:off x="1258920" y="2657520"/>
              <a:ext cx="6553080" cy="39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2"/>
            <a:stretch/>
          </p:blipFill>
          <p:spPr>
            <a:xfrm>
              <a:off x="1258920" y="831960"/>
              <a:ext cx="6525000" cy="188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"/>
          <p:cNvSpPr/>
          <p:nvPr/>
        </p:nvSpPr>
        <p:spPr>
          <a:xfrm>
            <a:off x="8827200" y="65246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d62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3d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0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252360" y="1962000"/>
            <a:ext cx="8605800" cy="3926520"/>
            <a:chOff x="252360" y="1962000"/>
            <a:chExt cx="8605800" cy="3926520"/>
          </a:xfrm>
        </p:grpSpPr>
        <p:sp>
          <p:nvSpPr>
            <p:cNvPr id="297" name=""/>
            <p:cNvSpPr/>
            <p:nvPr/>
          </p:nvSpPr>
          <p:spPr>
            <a:xfrm>
              <a:off x="6949800" y="5489640"/>
              <a:ext cx="3956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d62"/>
                  </a:solidFill>
                  <a:latin typeface="Tahoma"/>
                </a:rPr>
                <a:t>4.</a:t>
              </a:r>
              <a:endParaRPr b="0" lang="en-US" sz="20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97080" y="5489640"/>
              <a:ext cx="3956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d62"/>
                  </a:solidFill>
                  <a:latin typeface="Tahoma"/>
                </a:rPr>
                <a:t>3.</a:t>
              </a:r>
              <a:endParaRPr b="0" lang="en-US" sz="20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196720" y="5486400"/>
              <a:ext cx="3956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d62"/>
                  </a:solidFill>
                  <a:latin typeface="Tahoma"/>
                </a:rPr>
                <a:t>2.</a:t>
              </a:r>
              <a:endParaRPr b="0" lang="en-US" sz="20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2360" y="5489640"/>
              <a:ext cx="3956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d62"/>
                  </a:solidFill>
                  <a:latin typeface="Tahoma"/>
                </a:rPr>
                <a:t>1.</a:t>
              </a:r>
              <a:endParaRPr b="0" lang="en-US" sz="20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058160" y="1962000"/>
              <a:ext cx="1800000" cy="3581640"/>
            </a:xfrm>
            <a:prstGeom prst="rect">
              <a:avLst/>
            </a:prstGeom>
            <a:solidFill>
              <a:srgbClr val="6699ff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84360" y="1962000"/>
              <a:ext cx="1424160" cy="3581640"/>
            </a:xfrm>
            <a:prstGeom prst="rect">
              <a:avLst/>
            </a:prstGeom>
            <a:solidFill>
              <a:srgbClr val="80c3c8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53880" y="1995480"/>
              <a:ext cx="2016360" cy="3581280"/>
            </a:xfrm>
            <a:prstGeom prst="rect">
              <a:avLst/>
            </a:prstGeom>
            <a:solidFill>
              <a:srgbClr val="c0c0c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033800" y="1962000"/>
              <a:ext cx="2914560" cy="3581640"/>
            </a:xfrm>
            <a:prstGeom prst="rect">
              <a:avLst/>
            </a:prstGeom>
            <a:solidFill>
              <a:srgbClr val="800080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46680" y="268272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d62"/>
                  </a:solidFill>
                  <a:latin typeface="Tahoma"/>
                </a:rPr>
                <a:t>Data Warehouse</a:t>
              </a:r>
              <a:endParaRPr b="0" lang="en-US" sz="18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7640640" y="4375080"/>
              <a:ext cx="651600" cy="654840"/>
              <a:chOff x="7640640" y="4375080"/>
              <a:chExt cx="651600" cy="65484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7640640" y="4720320"/>
                <a:ext cx="641520" cy="309600"/>
                <a:chOff x="7640640" y="4720320"/>
                <a:chExt cx="641520" cy="30960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8060040" y="4800600"/>
                  <a:ext cx="221040" cy="22932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1"/>
                  <a:srcRect/>
                  <a:stretch/>
                </a:blipFill>
                <a:ln cap="rnd" w="3240">
                  <a:solidFill>
                    <a:srgbClr val="003d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640640" y="4720320"/>
                  <a:ext cx="641520" cy="19836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cap="rnd" w="3240">
                  <a:solidFill>
                    <a:srgbClr val="003d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640640" y="4817880"/>
                  <a:ext cx="419400" cy="21204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cap="rnd" w="3240">
                  <a:solidFill>
                    <a:srgbClr val="003d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859880" y="4893120"/>
                  <a:ext cx="164520" cy="10296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863480" y="4931640"/>
                  <a:ext cx="158760" cy="3672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7859160" y="4892400"/>
                  <a:ext cx="164520" cy="62280"/>
                </a:xfrm>
                <a:custGeom>
                  <a:avLst/>
                  <a:gdLst/>
                  <a:ahLst/>
                  <a:rect l="l" t="t" r="r" b="b"/>
                  <a:pathLst>
                    <a:path w="270" h="116">
                      <a:moveTo>
                        <a:pt x="0" y="116"/>
                      </a:moveTo>
                      <a:lnTo>
                        <a:pt x="1" y="0"/>
                      </a:lnTo>
                      <a:lnTo>
                        <a:pt x="270" y="75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874280" y="4913640"/>
                  <a:ext cx="128520" cy="2844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983360" y="4972320"/>
                  <a:ext cx="24120" cy="4320"/>
                </a:xfrm>
                <a:prstGeom prst="line">
                  <a:avLst/>
                </a:prstGeom>
                <a:ln w="19080">
                  <a:solidFill>
                    <a:srgbClr val="80c3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914600" y="4921200"/>
                  <a:ext cx="39240" cy="1872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8640" bIns="-8640" anchor="ctr">
                  <a:sp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651440" y="4840560"/>
                  <a:ext cx="169560" cy="4284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651440" y="4857120"/>
                  <a:ext cx="169560" cy="421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651440" y="4874400"/>
                  <a:ext cx="169560" cy="4284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651440" y="4890960"/>
                  <a:ext cx="169560" cy="421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7861680" y="4937760"/>
                  <a:ext cx="166320" cy="6300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e3f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7692480" y="4375080"/>
                <a:ext cx="599760" cy="505440"/>
                <a:chOff x="7692480" y="4375080"/>
                <a:chExt cx="599760" cy="5054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7737840" y="4703760"/>
                  <a:ext cx="466920" cy="17676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743600" y="4707720"/>
                  <a:ext cx="452160" cy="15624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856280" y="4745880"/>
                  <a:ext cx="235080" cy="8424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3d6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727760" y="4749120"/>
                  <a:ext cx="379800" cy="9468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d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7818480" y="4375080"/>
                  <a:ext cx="473760" cy="39132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4"/>
                  <a:srcRect/>
                  <a:stretch/>
                </a:blipFill>
                <a:ln cap="rnd" w="3240">
                  <a:solidFill>
                    <a:srgbClr val="003d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114400" y="4461480"/>
                  <a:ext cx="94680" cy="38088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5"/>
                  <a:srcRect/>
                  <a:stretch/>
                </a:blipFill>
                <a:ln cap="rnd" w="3240">
                  <a:solidFill>
                    <a:srgbClr val="003d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692480" y="4379400"/>
                  <a:ext cx="516960" cy="12924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e3f0f9"/>
                </a:solidFill>
                <a:ln cap="rnd" w="3240">
                  <a:solidFill>
                    <a:srgbClr val="003d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692480" y="4417920"/>
                  <a:ext cx="421920" cy="42588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cap="rnd" w="3240">
                  <a:solidFill>
                    <a:srgbClr val="003d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7725240" y="4455360"/>
                  <a:ext cx="357120" cy="34920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7746840" y="4478760"/>
                  <a:ext cx="312480" cy="30096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e3f0f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7774920" y="4503600"/>
                  <a:ext cx="0" cy="45720"/>
                </a:xfrm>
                <a:prstGeom prst="line">
                  <a:avLst/>
                </a:prstGeom>
                <a:ln w="25560">
                  <a:solidFill>
                    <a:srgbClr val="e3f0f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4" name=""/>
            <p:cNvSpPr/>
            <p:nvPr/>
          </p:nvSpPr>
          <p:spPr>
            <a:xfrm>
              <a:off x="7436880" y="2049480"/>
              <a:ext cx="124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d62"/>
                  </a:solidFill>
                  <a:latin typeface="Tahoma"/>
                </a:rPr>
                <a:t>Usuarios </a:t>
              </a:r>
              <a:endParaRPr b="0" lang="en-US" sz="1800" spc="-1" strike="noStrike">
                <a:solidFill>
                  <a:srgbClr val="003d6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d62"/>
                  </a:solidFill>
                  <a:latin typeface="Tahoma"/>
                </a:rPr>
                <a:t>DGR</a:t>
              </a:r>
              <a:endParaRPr b="0" lang="en-US" sz="18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88400" y="2022480"/>
              <a:ext cx="12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d62"/>
                  </a:solidFill>
                  <a:latin typeface="Tahoma"/>
                </a:rPr>
                <a:t>XML AFIP</a:t>
              </a:r>
              <a:endParaRPr b="0" lang="en-US" sz="18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155600" y="4340160"/>
              <a:ext cx="609840" cy="60984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16000" y="3497400"/>
              <a:ext cx="609480" cy="60948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20213400">
              <a:off x="1883880" y="4381560"/>
              <a:ext cx="722520" cy="304920"/>
            </a:xfrm>
            <a:prstGeom prst="rightArrow">
              <a:avLst>
                <a:gd name="adj1" fmla="val 46657"/>
                <a:gd name="adj2" fmla="val 56649"/>
              </a:avLst>
            </a:prstGeom>
            <a:solidFill>
              <a:srgbClr val="dddddd"/>
            </a:solidFill>
            <a:ln w="9360">
              <a:solidFill>
                <a:srgbClr val="003d62"/>
              </a:solidFill>
              <a:miter/>
            </a:ln>
            <a:effectLst>
              <a:outerShdw dist="17819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 rot="1386600">
              <a:off x="1888920" y="2923200"/>
              <a:ext cx="757080" cy="304560"/>
            </a:xfrm>
            <a:prstGeom prst="rightArrow">
              <a:avLst>
                <a:gd name="adj1" fmla="val 46657"/>
                <a:gd name="adj2" fmla="val 59429"/>
              </a:avLst>
            </a:prstGeom>
            <a:solidFill>
              <a:srgbClr val="dddddd"/>
            </a:solidFill>
            <a:ln w="9360">
              <a:solidFill>
                <a:srgbClr val="003d62"/>
              </a:solidFill>
              <a:miter/>
            </a:ln>
            <a:effectLst>
              <a:outerShdw dist="17819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08000" y="3641760"/>
              <a:ext cx="609840" cy="304920"/>
            </a:xfrm>
            <a:prstGeom prst="rightArrow">
              <a:avLst>
                <a:gd name="adj1" fmla="val 50000"/>
                <a:gd name="adj2" fmla="val 47741"/>
              </a:avLst>
            </a:prstGeom>
            <a:solidFill>
              <a:srgbClr val="dddddd"/>
            </a:solidFill>
            <a:ln w="9360">
              <a:solidFill>
                <a:srgbClr val="003d62"/>
              </a:solidFill>
              <a:miter/>
            </a:ln>
            <a:effectLst>
              <a:outerShdw dist="17819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638800" y="4438800"/>
              <a:ext cx="1192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d62"/>
                  </a:solidFill>
                  <a:latin typeface="Tahoma"/>
                </a:rPr>
                <a:t>Área </a:t>
              </a:r>
              <a:endParaRPr b="0" lang="en-US" sz="1800" spc="-1" strike="noStrike">
                <a:solidFill>
                  <a:srgbClr val="003d6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d62"/>
                  </a:solidFill>
                  <a:latin typeface="Tahoma"/>
                </a:rPr>
                <a:t>de Carga</a:t>
              </a:r>
              <a:endParaRPr b="0" lang="en-US" sz="1800" spc="-1" strike="noStrike">
                <a:solidFill>
                  <a:srgbClr val="003d6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689200" y="3198960"/>
              <a:ext cx="1066680" cy="1125360"/>
            </a:xfrm>
            <a:prstGeom prst="can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003d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406120" y="428940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d62"/>
                  </a:solidFill>
                  <a:latin typeface="Tahoma"/>
                </a:rPr>
                <a:t>Data Mart</a:t>
              </a:r>
              <a:endParaRPr b="0" lang="en-US" sz="18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311800" y="3660840"/>
              <a:ext cx="485640" cy="301680"/>
            </a:xfrm>
            <a:prstGeom prst="rightArrow">
              <a:avLst>
                <a:gd name="adj1" fmla="val 50000"/>
                <a:gd name="adj2" fmla="val 38426"/>
              </a:avLst>
            </a:prstGeom>
            <a:solidFill>
              <a:srgbClr val="dddddd"/>
            </a:solidFill>
            <a:ln w="9360">
              <a:solidFill>
                <a:srgbClr val="003d62"/>
              </a:solidFill>
              <a:miter/>
            </a:ln>
            <a:effectLst>
              <a:outerShdw dist="17819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84920" y="3403440"/>
              <a:ext cx="654120" cy="693720"/>
            </a:xfrm>
            <a:prstGeom prst="cube">
              <a:avLst>
                <a:gd name="adj" fmla="val 25000"/>
              </a:avLst>
            </a:prstGeom>
            <a:solidFill>
              <a:srgbClr val="9ac0ea"/>
            </a:solidFill>
            <a:ln w="9360">
              <a:solidFill>
                <a:srgbClr val="003d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86320" y="3441600"/>
              <a:ext cx="762120" cy="703440"/>
            </a:xfrm>
            <a:prstGeom prst="can">
              <a:avLst>
                <a:gd name="adj" fmla="val 25000"/>
              </a:avLst>
            </a:prstGeom>
            <a:solidFill>
              <a:srgbClr val="9ac0ea"/>
            </a:solidFill>
            <a:ln w="9360">
              <a:solidFill>
                <a:srgbClr val="003d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138320" y="2604960"/>
              <a:ext cx="609480" cy="609840"/>
            </a:xfrm>
            <a:prstGeom prst="rect">
              <a:avLst/>
            </a:prstGeom>
            <a:solidFill>
              <a:srgbClr val="ff9966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6840" y="26589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3d62"/>
                  </a:solidFill>
                  <a:latin typeface="Tahoma"/>
                </a:rPr>
                <a:t>xml1</a:t>
              </a:r>
              <a:endParaRPr b="0" lang="en-US" sz="18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816360" y="3657600"/>
              <a:ext cx="609480" cy="287280"/>
            </a:xfrm>
            <a:prstGeom prst="rightArrow">
              <a:avLst>
                <a:gd name="adj1" fmla="val 50000"/>
                <a:gd name="adj2" fmla="val 50642"/>
              </a:avLst>
            </a:prstGeom>
            <a:solidFill>
              <a:srgbClr val="dddddd"/>
            </a:solidFill>
            <a:ln w="9360">
              <a:solidFill>
                <a:srgbClr val="003d62"/>
              </a:solidFill>
              <a:miter/>
            </a:ln>
            <a:effectLst>
              <a:outerShdw dist="17819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31920" y="35910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3d62"/>
                  </a:solidFill>
                  <a:latin typeface="Tahoma"/>
                </a:rPr>
                <a:t>xml2</a:t>
              </a:r>
              <a:endParaRPr b="0" lang="en-US" sz="18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8040" y="44053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3d62"/>
                  </a:solidFill>
                  <a:latin typeface="Tahoma"/>
                </a:rPr>
                <a:t>xml3</a:t>
              </a:r>
              <a:endParaRPr b="0" lang="en-US" sz="18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7640640" y="3533760"/>
              <a:ext cx="651600" cy="654840"/>
              <a:chOff x="7640640" y="3533760"/>
              <a:chExt cx="651600" cy="654840"/>
            </a:xfrm>
          </p:grpSpPr>
          <p:grpSp>
            <p:nvGrpSpPr>
              <p:cNvPr id="353" name=""/>
              <p:cNvGrpSpPr/>
              <p:nvPr/>
            </p:nvGrpSpPr>
            <p:grpSpPr>
              <a:xfrm>
                <a:off x="7640640" y="3879000"/>
                <a:ext cx="641520" cy="309600"/>
                <a:chOff x="7640640" y="3879000"/>
                <a:chExt cx="641520" cy="30960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8060040" y="3959280"/>
                  <a:ext cx="221040" cy="22932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8"/>
                  <a:srcRect/>
                  <a:stretch/>
                </a:blipFill>
                <a:ln cap="rnd" w="3240">
                  <a:solidFill>
                    <a:srgbClr val="003d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640640" y="3879000"/>
                  <a:ext cx="641520" cy="19836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9"/>
                  <a:srcRect/>
                  <a:stretch/>
                </a:blipFill>
                <a:ln cap="rnd" w="3240">
                  <a:solidFill>
                    <a:srgbClr val="003d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640640" y="3976560"/>
                  <a:ext cx="419400" cy="21204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10"/>
                  <a:srcRect/>
                  <a:stretch/>
                </a:blipFill>
                <a:ln cap="rnd" w="3240">
                  <a:solidFill>
                    <a:srgbClr val="003d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7859880" y="4051800"/>
                  <a:ext cx="164520" cy="10296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7863480" y="4090320"/>
                  <a:ext cx="158760" cy="3672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7859160" y="4051080"/>
                  <a:ext cx="164520" cy="62280"/>
                </a:xfrm>
                <a:custGeom>
                  <a:avLst/>
                  <a:gdLst/>
                  <a:ahLst/>
                  <a:rect l="l" t="t" r="r" b="b"/>
                  <a:pathLst>
                    <a:path w="270" h="116">
                      <a:moveTo>
                        <a:pt x="0" y="116"/>
                      </a:moveTo>
                      <a:lnTo>
                        <a:pt x="1" y="0"/>
                      </a:lnTo>
                      <a:lnTo>
                        <a:pt x="270" y="75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874280" y="4072320"/>
                  <a:ext cx="128520" cy="2844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983360" y="4131000"/>
                  <a:ext cx="24120" cy="4320"/>
                </a:xfrm>
                <a:prstGeom prst="line">
                  <a:avLst/>
                </a:prstGeom>
                <a:ln w="19080">
                  <a:solidFill>
                    <a:srgbClr val="80c3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914600" y="4079880"/>
                  <a:ext cx="39240" cy="1872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8640" bIns="-8640" anchor="ctr">
                  <a:sp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651440" y="3999240"/>
                  <a:ext cx="169560" cy="4284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7651440" y="4015800"/>
                  <a:ext cx="169560" cy="421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651440" y="4033080"/>
                  <a:ext cx="169560" cy="4284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651440" y="4049640"/>
                  <a:ext cx="169560" cy="421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861680" y="4096440"/>
                  <a:ext cx="166320" cy="6300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e3f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7692480" y="3533760"/>
                <a:ext cx="599760" cy="505440"/>
                <a:chOff x="7692480" y="3533760"/>
                <a:chExt cx="599760" cy="50544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7737840" y="3862440"/>
                  <a:ext cx="466920" cy="17676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743600" y="3866400"/>
                  <a:ext cx="452160" cy="15624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856280" y="3904560"/>
                  <a:ext cx="235080" cy="8424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3d6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727760" y="3907800"/>
                  <a:ext cx="379800" cy="9468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d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818480" y="3533760"/>
                  <a:ext cx="473760" cy="39132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11"/>
                  <a:srcRect/>
                  <a:stretch/>
                </a:blipFill>
                <a:ln cap="rnd" w="3240">
                  <a:solidFill>
                    <a:srgbClr val="003d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8114400" y="3620160"/>
                  <a:ext cx="94680" cy="38088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12"/>
                  <a:srcRect/>
                  <a:stretch/>
                </a:blipFill>
                <a:ln cap="rnd" w="3240">
                  <a:solidFill>
                    <a:srgbClr val="003d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692480" y="3538080"/>
                  <a:ext cx="516960" cy="12924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e3f0f9"/>
                </a:solidFill>
                <a:ln cap="rnd" w="3240">
                  <a:solidFill>
                    <a:srgbClr val="003d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692480" y="3576600"/>
                  <a:ext cx="421920" cy="42588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13"/>
                  <a:srcRect/>
                  <a:stretch/>
                </a:blipFill>
                <a:ln cap="rnd" w="3240">
                  <a:solidFill>
                    <a:srgbClr val="003d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7725240" y="3614040"/>
                  <a:ext cx="357120" cy="34920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746840" y="3637440"/>
                  <a:ext cx="312480" cy="30096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4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e3f0f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774920" y="3662280"/>
                  <a:ext cx="0" cy="45720"/>
                </a:xfrm>
                <a:prstGeom prst="line">
                  <a:avLst/>
                </a:prstGeom>
                <a:ln w="25560">
                  <a:solidFill>
                    <a:srgbClr val="e3f0f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0" name=""/>
            <p:cNvGrpSpPr/>
            <p:nvPr/>
          </p:nvGrpSpPr>
          <p:grpSpPr>
            <a:xfrm>
              <a:off x="7640640" y="2727360"/>
              <a:ext cx="651600" cy="654840"/>
              <a:chOff x="7640640" y="2727360"/>
              <a:chExt cx="651600" cy="654840"/>
            </a:xfrm>
          </p:grpSpPr>
          <p:grpSp>
            <p:nvGrpSpPr>
              <p:cNvPr id="381" name=""/>
              <p:cNvGrpSpPr/>
              <p:nvPr/>
            </p:nvGrpSpPr>
            <p:grpSpPr>
              <a:xfrm>
                <a:off x="7640640" y="3072600"/>
                <a:ext cx="641520" cy="309600"/>
                <a:chOff x="7640640" y="3072600"/>
                <a:chExt cx="641520" cy="30960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8060040" y="3152880"/>
                  <a:ext cx="221040" cy="22932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15"/>
                  <a:srcRect/>
                  <a:stretch/>
                </a:blipFill>
                <a:ln cap="rnd" w="3240">
                  <a:solidFill>
                    <a:srgbClr val="003d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7640640" y="3072600"/>
                  <a:ext cx="641520" cy="19836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16"/>
                  <a:srcRect/>
                  <a:stretch/>
                </a:blipFill>
                <a:ln cap="rnd" w="3240">
                  <a:solidFill>
                    <a:srgbClr val="003d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640640" y="3170160"/>
                  <a:ext cx="419400" cy="21204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17"/>
                  <a:srcRect/>
                  <a:stretch/>
                </a:blipFill>
                <a:ln cap="rnd" w="3240">
                  <a:solidFill>
                    <a:srgbClr val="003d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7859880" y="3245400"/>
                  <a:ext cx="164520" cy="10296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863480" y="3283920"/>
                  <a:ext cx="158760" cy="3672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859160" y="3244680"/>
                  <a:ext cx="164520" cy="62280"/>
                </a:xfrm>
                <a:custGeom>
                  <a:avLst/>
                  <a:gdLst/>
                  <a:ahLst/>
                  <a:rect l="l" t="t" r="r" b="b"/>
                  <a:pathLst>
                    <a:path w="270" h="116">
                      <a:moveTo>
                        <a:pt x="0" y="116"/>
                      </a:moveTo>
                      <a:lnTo>
                        <a:pt x="1" y="0"/>
                      </a:lnTo>
                      <a:lnTo>
                        <a:pt x="270" y="75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7874280" y="3265920"/>
                  <a:ext cx="128520" cy="2844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7983360" y="3324600"/>
                  <a:ext cx="24120" cy="4320"/>
                </a:xfrm>
                <a:prstGeom prst="line">
                  <a:avLst/>
                </a:prstGeom>
                <a:ln w="19080">
                  <a:solidFill>
                    <a:srgbClr val="80c3c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7914600" y="3273480"/>
                  <a:ext cx="39240" cy="1872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8640" bIns="-8640" anchor="ctr">
                  <a:sp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651440" y="3192840"/>
                  <a:ext cx="169560" cy="4284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651440" y="3209400"/>
                  <a:ext cx="169560" cy="421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651440" y="3226680"/>
                  <a:ext cx="169560" cy="4284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651440" y="3243240"/>
                  <a:ext cx="169560" cy="421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861680" y="3290040"/>
                  <a:ext cx="166320" cy="6300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e3f0f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7692480" y="2727360"/>
                <a:ext cx="599760" cy="505440"/>
                <a:chOff x="7692480" y="2727360"/>
                <a:chExt cx="599760" cy="50544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7737840" y="3056040"/>
                  <a:ext cx="466920" cy="17676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743600" y="3060000"/>
                  <a:ext cx="452160" cy="15624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856280" y="3098160"/>
                  <a:ext cx="235080" cy="8424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3d6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727760" y="3101400"/>
                  <a:ext cx="379800" cy="9468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3d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818480" y="2727360"/>
                  <a:ext cx="473760" cy="39132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18"/>
                  <a:srcRect/>
                  <a:stretch/>
                </a:blipFill>
                <a:ln cap="rnd" w="3240">
                  <a:solidFill>
                    <a:srgbClr val="003d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8114400" y="2813760"/>
                  <a:ext cx="94680" cy="38088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19"/>
                  <a:srcRect/>
                  <a:stretch/>
                </a:blipFill>
                <a:ln cap="rnd" w="3240">
                  <a:solidFill>
                    <a:srgbClr val="003d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692480" y="2731680"/>
                  <a:ext cx="516960" cy="12924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e3f0f9"/>
                </a:solidFill>
                <a:ln cap="rnd" w="3240">
                  <a:solidFill>
                    <a:srgbClr val="003d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692480" y="2770200"/>
                  <a:ext cx="421920" cy="42588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20"/>
                  <a:srcRect/>
                  <a:stretch/>
                </a:blipFill>
                <a:ln cap="rnd" w="3240">
                  <a:solidFill>
                    <a:srgbClr val="003d6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725240" y="2807640"/>
                  <a:ext cx="357120" cy="34920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7746840" y="2831040"/>
                  <a:ext cx="312480" cy="30096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1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e3f0f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7774920" y="2855880"/>
                  <a:ext cx="0" cy="45720"/>
                </a:xfrm>
                <a:prstGeom prst="line">
                  <a:avLst/>
                </a:prstGeom>
                <a:ln w="25560">
                  <a:solidFill>
                    <a:srgbClr val="e3f0f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3d6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8" name=""/>
            <p:cNvSpPr/>
            <p:nvPr/>
          </p:nvSpPr>
          <p:spPr>
            <a:xfrm>
              <a:off x="6873840" y="3633840"/>
              <a:ext cx="485640" cy="301680"/>
            </a:xfrm>
            <a:prstGeom prst="rightArrow">
              <a:avLst>
                <a:gd name="adj1" fmla="val 50000"/>
                <a:gd name="adj2" fmla="val 38426"/>
              </a:avLst>
            </a:prstGeom>
            <a:solidFill>
              <a:srgbClr val="dddddd"/>
            </a:solidFill>
            <a:ln w="9360">
              <a:solidFill>
                <a:srgbClr val="003d62"/>
              </a:solidFill>
              <a:miter/>
            </a:ln>
            <a:effectLst>
              <a:outerShdw dist="17819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19877400">
              <a:off x="6858000" y="3212640"/>
              <a:ext cx="485640" cy="301680"/>
            </a:xfrm>
            <a:prstGeom prst="rightArrow">
              <a:avLst>
                <a:gd name="adj1" fmla="val 50000"/>
                <a:gd name="adj2" fmla="val 38426"/>
              </a:avLst>
            </a:prstGeom>
            <a:solidFill>
              <a:srgbClr val="dddddd"/>
            </a:solidFill>
            <a:ln w="9360">
              <a:solidFill>
                <a:srgbClr val="003d62"/>
              </a:solidFill>
              <a:miter/>
            </a:ln>
            <a:effectLst>
              <a:outerShdw dist="17819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2052000">
              <a:off x="6859080" y="4158720"/>
              <a:ext cx="486000" cy="301680"/>
            </a:xfrm>
            <a:prstGeom prst="rightArrow">
              <a:avLst>
                <a:gd name="adj1" fmla="val 50000"/>
                <a:gd name="adj2" fmla="val 38454"/>
              </a:avLst>
            </a:prstGeom>
            <a:solidFill>
              <a:srgbClr val="dddddd"/>
            </a:solidFill>
            <a:ln w="9360">
              <a:solidFill>
                <a:srgbClr val="003d62"/>
              </a:solidFill>
              <a:miter/>
            </a:ln>
            <a:effectLst>
              <a:outerShdw dist="17819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e3f0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3d62"/>
                </a:solidFill>
                <a:latin typeface="Tahoma"/>
              </a:rPr>
              <a:t>3. Modelo planteado</a:t>
            </a:r>
            <a:endParaRPr b="0" lang="en-US" sz="40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827200" y="65246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d62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3d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0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0" y="176832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d62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3d62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3d62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3d62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3d62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3d62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3d62"/>
                </a:solidFill>
                <a:latin typeface="Tahoma"/>
              </a:rPr>
              <a:t>Nivel Trimestre</a:t>
            </a: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Miembros</a:t>
            </a: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299736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d62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3d62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3d62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3d62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3d62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3d62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3d62"/>
                </a:solidFill>
                <a:latin typeface="Tahoma"/>
              </a:rPr>
              <a:t>Nivel Trimestre</a:t>
            </a: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Miembros</a:t>
            </a: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449424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d62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3d62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3d62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3d62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3d62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3d62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3d62"/>
                </a:solidFill>
                <a:latin typeface="Tahoma"/>
              </a:rPr>
              <a:t>Nivel Mes</a:t>
            </a: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3d62"/>
                </a:solidFill>
                <a:latin typeface="Tahoma"/>
              </a:rPr>
              <a:t>Miembros</a:t>
            </a: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1104840" y="1297080"/>
            <a:ext cx="2602080" cy="5244840"/>
            <a:chOff x="1104840" y="1297080"/>
            <a:chExt cx="2602080" cy="5244840"/>
          </a:xfrm>
        </p:grpSpPr>
        <p:sp>
          <p:nvSpPr>
            <p:cNvPr id="417" name=""/>
            <p:cNvSpPr/>
            <p:nvPr/>
          </p:nvSpPr>
          <p:spPr>
            <a:xfrm>
              <a:off x="1116000" y="1297080"/>
              <a:ext cx="2590920" cy="368280"/>
            </a:xfrm>
            <a:prstGeom prst="rect">
              <a:avLst/>
            </a:prstGeom>
            <a:solidFill>
              <a:srgbClr val="889be0"/>
            </a:solidFill>
            <a:ln w="28440">
              <a:solidFill>
                <a:srgbClr val="003d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DimTiempo</a:t>
              </a:r>
              <a:endParaRPr b="0" lang="en-US" sz="18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116000" y="1830600"/>
              <a:ext cx="2590920" cy="1191240"/>
            </a:xfrm>
            <a:prstGeom prst="rect">
              <a:avLst/>
            </a:prstGeom>
            <a:solidFill>
              <a:srgbClr val="666699"/>
            </a:solidFill>
            <a:ln w="28440">
              <a:solidFill>
                <a:srgbClr val="003d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66"/>
                  </a:solidFill>
                  <a:latin typeface="Webdings"/>
                  <a:ea typeface="Webdings"/>
                </a:rPr>
                <a:t>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ño</a:t>
              </a:r>
              <a:endParaRPr b="0" lang="en-US" sz="1800" spc="-1" strike="noStrike">
                <a:solidFill>
                  <a:srgbClr val="003d62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2002</a:t>
              </a:r>
              <a:endParaRPr b="0" lang="en-US" sz="1800" spc="-1" strike="noStrike">
                <a:solidFill>
                  <a:srgbClr val="003d62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2003</a:t>
              </a:r>
              <a:endParaRPr b="0" lang="en-US" sz="1800" spc="-1" strike="noStrike">
                <a:solidFill>
                  <a:srgbClr val="003d62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2004</a:t>
              </a:r>
              <a:endParaRPr b="0" lang="en-US" sz="18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116000" y="3049560"/>
              <a:ext cx="2590920" cy="1465560"/>
            </a:xfrm>
            <a:prstGeom prst="rect">
              <a:avLst/>
            </a:prstGeom>
            <a:solidFill>
              <a:srgbClr val="333399"/>
            </a:solidFill>
            <a:ln w="28440">
              <a:solidFill>
                <a:srgbClr val="003d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66"/>
                  </a:solidFill>
                  <a:latin typeface="Webdings"/>
                  <a:ea typeface="Webdings"/>
                </a:rPr>
                <a:t></a:t>
              </a:r>
              <a:r>
                <a:rPr b="0" lang="es-ES" sz="1400" spc="-1" strike="noStrike">
                  <a:solidFill>
                    <a:srgbClr val="ffffff"/>
                  </a:solidFill>
                  <a:latin typeface="Webdings"/>
                  <a:ea typeface="Webdings"/>
                </a:rPr>
                <a:t>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Trimestre</a:t>
              </a:r>
              <a:endParaRPr b="0" lang="en-US" sz="1800" spc="-1" strike="noStrike">
                <a:solidFill>
                  <a:srgbClr val="003d62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I Trimestre</a:t>
              </a:r>
              <a:endParaRPr b="0" lang="en-US" sz="1800" spc="-1" strike="noStrike">
                <a:solidFill>
                  <a:srgbClr val="003d62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II Trimestre</a:t>
              </a:r>
              <a:endParaRPr b="0" lang="en-US" sz="1800" spc="-1" strike="noStrike">
                <a:solidFill>
                  <a:srgbClr val="003d62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ffffff"/>
                  </a:solidFill>
                  <a:latin typeface="Tahoma"/>
                </a:rPr>
                <a:t>III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Trimestre</a:t>
              </a:r>
              <a:endParaRPr b="0" lang="en-US" sz="1800" spc="-1" strike="noStrike">
                <a:solidFill>
                  <a:srgbClr val="003d62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ffffff"/>
                  </a:solidFill>
                  <a:latin typeface="Tahoma"/>
                </a:rPr>
                <a:t>IV 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Trimestre</a:t>
              </a:r>
              <a:endParaRPr b="0" lang="en-US" sz="18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04840" y="4527720"/>
              <a:ext cx="2590920" cy="2014200"/>
            </a:xfrm>
            <a:prstGeom prst="rect">
              <a:avLst/>
            </a:prstGeom>
            <a:solidFill>
              <a:srgbClr val="000066"/>
            </a:solidFill>
            <a:ln w="28440">
              <a:solidFill>
                <a:srgbClr val="003d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66"/>
                  </a:solidFill>
                  <a:latin typeface="Webdings"/>
                  <a:ea typeface="Webdings"/>
                </a:rPr>
                <a:t></a:t>
              </a:r>
              <a:r>
                <a:rPr b="0" lang="es-ES" sz="1400" spc="-1" strike="noStrike">
                  <a:solidFill>
                    <a:srgbClr val="ffffff"/>
                  </a:solidFill>
                  <a:latin typeface="Webdings"/>
                  <a:ea typeface="Webdings"/>
                </a:rPr>
                <a:t>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Mes</a:t>
              </a:r>
              <a:endParaRPr b="0" lang="en-US" sz="1800" spc="-1" strike="noStrike">
                <a:solidFill>
                  <a:srgbClr val="003d6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Enero</a:t>
              </a:r>
              <a:endParaRPr b="0" lang="en-US" sz="1800" spc="-1" strike="noStrike">
                <a:solidFill>
                  <a:srgbClr val="003d6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s-ES" sz="1800" spc="-1" strike="noStrike">
                  <a:solidFill>
                    <a:srgbClr val="ffffff"/>
                  </a:solidFill>
                  <a:latin typeface="Tahoma"/>
                </a:rPr>
                <a:t>Febrero</a:t>
              </a:r>
              <a:endParaRPr b="0" lang="en-US" sz="1800" spc="-1" strike="noStrike">
                <a:solidFill>
                  <a:srgbClr val="003d6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ffffff"/>
                  </a:solidFill>
                  <a:latin typeface="Tahoma"/>
                </a:rPr>
                <a:t>            </a:t>
              </a:r>
              <a:r>
                <a:rPr b="0" lang="es-AR" sz="1800" spc="-1" strike="noStrike">
                  <a:solidFill>
                    <a:srgbClr val="ffffff"/>
                  </a:solidFill>
                  <a:latin typeface="Tahoma"/>
                </a:rPr>
                <a:t>.</a:t>
              </a:r>
              <a:endParaRPr b="0" lang="en-US" sz="1800" spc="-1" strike="noStrike">
                <a:solidFill>
                  <a:srgbClr val="003d6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ffffff"/>
                  </a:solidFill>
                  <a:latin typeface="Tahoma"/>
                </a:rPr>
                <a:t>            </a:t>
              </a:r>
              <a:r>
                <a:rPr b="0" lang="es-AR" sz="1800" spc="-1" strike="noStrike">
                  <a:solidFill>
                    <a:srgbClr val="ffffff"/>
                  </a:solidFill>
                  <a:latin typeface="Tahoma"/>
                </a:rPr>
                <a:t>.</a:t>
              </a:r>
              <a:endParaRPr b="0" lang="en-US" sz="1800" spc="-1" strike="noStrike">
                <a:solidFill>
                  <a:srgbClr val="003d6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ffffff"/>
                  </a:solidFill>
                  <a:latin typeface="Tahoma"/>
                </a:rPr>
                <a:t>            </a:t>
              </a:r>
              <a:r>
                <a:rPr b="0" lang="es-AR" sz="1800" spc="-1" strike="noStrike">
                  <a:solidFill>
                    <a:srgbClr val="ffffff"/>
                  </a:solidFill>
                  <a:latin typeface="Tahoma"/>
                </a:rPr>
                <a:t>.</a:t>
              </a:r>
              <a:endParaRPr b="0" lang="en-US" sz="1800" spc="-1" strike="noStrike">
                <a:solidFill>
                  <a:srgbClr val="003d6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s-AR" sz="1800" spc="-1" strike="noStrike">
                  <a:solidFill>
                    <a:srgbClr val="ffffff"/>
                  </a:solidFill>
                  <a:latin typeface="Tahoma"/>
                </a:rPr>
                <a:t>Diciembre</a:t>
              </a:r>
              <a:endParaRPr b="0" lang="en-US" sz="18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 flipH="1">
            <a:off x="3879360" y="3193920"/>
            <a:ext cx="838440" cy="0"/>
          </a:xfrm>
          <a:prstGeom prst="line">
            <a:avLst/>
          </a:prstGeom>
          <a:ln w="1584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3879360" y="4705200"/>
            <a:ext cx="838440" cy="0"/>
          </a:xfrm>
          <a:prstGeom prst="line">
            <a:avLst/>
          </a:prstGeom>
          <a:ln w="1584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3879360" y="1969920"/>
            <a:ext cx="838440" cy="0"/>
          </a:xfrm>
          <a:prstGeom prst="line">
            <a:avLst/>
          </a:prstGeom>
          <a:ln w="15840">
            <a:solidFill>
              <a:srgbClr val="ffcc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e3f0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3d62"/>
                </a:solidFill>
                <a:latin typeface="Tahoma"/>
              </a:rPr>
              <a:t>3. Modelo planteado</a:t>
            </a:r>
            <a:endParaRPr b="0" lang="en-US" sz="40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827200" y="65246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d62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3d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0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"/>
          <p:cNvGrpSpPr/>
          <p:nvPr/>
        </p:nvGrpSpPr>
        <p:grpSpPr>
          <a:xfrm>
            <a:off x="3568680" y="1892160"/>
            <a:ext cx="3276360" cy="2971800"/>
            <a:chOff x="3568680" y="1892160"/>
            <a:chExt cx="3276360" cy="2971800"/>
          </a:xfrm>
        </p:grpSpPr>
        <p:sp>
          <p:nvSpPr>
            <p:cNvPr id="427" name=""/>
            <p:cNvSpPr/>
            <p:nvPr/>
          </p:nvSpPr>
          <p:spPr>
            <a:xfrm>
              <a:off x="3568680" y="3949560"/>
              <a:ext cx="99036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568680" y="3263760"/>
              <a:ext cx="99036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68680" y="2577960"/>
              <a:ext cx="99036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30440" y="3949560"/>
              <a:ext cx="99072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330440" y="3263760"/>
              <a:ext cx="99072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30440" y="2577960"/>
              <a:ext cx="99072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92560" y="3949560"/>
              <a:ext cx="99072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092560" y="3263760"/>
              <a:ext cx="99072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092560" y="2577960"/>
              <a:ext cx="99072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68680" y="1892160"/>
              <a:ext cx="99036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30440" y="1892160"/>
              <a:ext cx="99072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92560" y="1892160"/>
              <a:ext cx="99072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854680" y="3949560"/>
              <a:ext cx="99036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854680" y="3263760"/>
              <a:ext cx="99036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854680" y="2577960"/>
              <a:ext cx="99036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854680" y="1892160"/>
              <a:ext cx="99036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3340080" y="2120760"/>
            <a:ext cx="3276360" cy="2971800"/>
            <a:chOff x="3340080" y="2120760"/>
            <a:chExt cx="3276360" cy="2971800"/>
          </a:xfrm>
        </p:grpSpPr>
        <p:sp>
          <p:nvSpPr>
            <p:cNvPr id="444" name=""/>
            <p:cNvSpPr/>
            <p:nvPr/>
          </p:nvSpPr>
          <p:spPr>
            <a:xfrm>
              <a:off x="3340080" y="4178160"/>
              <a:ext cx="99036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340080" y="3492360"/>
              <a:ext cx="99036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40080" y="2806560"/>
              <a:ext cx="99036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101840" y="4178160"/>
              <a:ext cx="99072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101840" y="3492360"/>
              <a:ext cx="99072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101840" y="2806560"/>
              <a:ext cx="99072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863960" y="4178160"/>
              <a:ext cx="99072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63960" y="3492360"/>
              <a:ext cx="99072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63960" y="2806560"/>
              <a:ext cx="99072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40080" y="2120760"/>
              <a:ext cx="99036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01840" y="2120760"/>
              <a:ext cx="99072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863960" y="2120760"/>
              <a:ext cx="99072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626080" y="4178160"/>
              <a:ext cx="99036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626080" y="3492360"/>
              <a:ext cx="99036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626080" y="2806560"/>
              <a:ext cx="99036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626080" y="2120760"/>
              <a:ext cx="99036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3111480" y="2349360"/>
            <a:ext cx="3276360" cy="2971800"/>
            <a:chOff x="3111480" y="2349360"/>
            <a:chExt cx="3276360" cy="2971800"/>
          </a:xfrm>
        </p:grpSpPr>
        <p:sp>
          <p:nvSpPr>
            <p:cNvPr id="461" name=""/>
            <p:cNvSpPr/>
            <p:nvPr/>
          </p:nvSpPr>
          <p:spPr>
            <a:xfrm>
              <a:off x="3111480" y="4406760"/>
              <a:ext cx="99036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11480" y="3720960"/>
              <a:ext cx="99036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111480" y="3035160"/>
              <a:ext cx="99036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873240" y="4406760"/>
              <a:ext cx="99072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873240" y="3720960"/>
              <a:ext cx="99072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873240" y="3035160"/>
              <a:ext cx="99072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635360" y="4406760"/>
              <a:ext cx="99072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635360" y="3720960"/>
              <a:ext cx="99072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635360" y="3035160"/>
              <a:ext cx="99072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11480" y="2349360"/>
              <a:ext cx="99036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73240" y="2349360"/>
              <a:ext cx="99072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635360" y="2349360"/>
              <a:ext cx="99072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397480" y="4406760"/>
              <a:ext cx="99036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397480" y="3720960"/>
              <a:ext cx="99036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397480" y="3035160"/>
              <a:ext cx="99036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397480" y="2349360"/>
              <a:ext cx="99036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4711680" y="5397480"/>
            <a:ext cx="1371600" cy="609480"/>
          </a:xfrm>
          <a:prstGeom prst="parallelogram">
            <a:avLst>
              <a:gd name="adj" fmla="val 109084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854680" y="5321160"/>
            <a:ext cx="2362320" cy="228600"/>
          </a:xfrm>
          <a:prstGeom prst="rect">
            <a:avLst/>
          </a:prstGeom>
          <a:solidFill>
            <a:srgbClr val="889b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806560" y="349236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06560" y="417816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5854680" y="3111120"/>
            <a:ext cx="9907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5854680" y="3873240"/>
            <a:ext cx="9907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88200" y="5092560"/>
            <a:ext cx="2133360" cy="0"/>
          </a:xfrm>
          <a:prstGeom prst="line">
            <a:avLst/>
          </a:prstGeom>
          <a:ln w="1908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159600" y="5321160"/>
            <a:ext cx="2133360" cy="0"/>
          </a:xfrm>
          <a:prstGeom prst="line">
            <a:avLst/>
          </a:prstGeom>
          <a:ln w="1908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616800" y="4863960"/>
            <a:ext cx="2133360" cy="0"/>
          </a:xfrm>
          <a:prstGeom prst="line">
            <a:avLst/>
          </a:prstGeom>
          <a:ln w="1908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54680" y="5549760"/>
            <a:ext cx="2133720" cy="0"/>
          </a:xfrm>
          <a:prstGeom prst="line">
            <a:avLst/>
          </a:prstGeom>
          <a:ln w="1908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45400" y="4635360"/>
            <a:ext cx="2133360" cy="0"/>
          </a:xfrm>
          <a:prstGeom prst="line">
            <a:avLst/>
          </a:prstGeom>
          <a:ln w="1908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25480" y="3492360"/>
            <a:ext cx="2057400" cy="0"/>
          </a:xfrm>
          <a:prstGeom prst="line">
            <a:avLst/>
          </a:prstGeom>
          <a:ln w="1908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480" y="4178160"/>
            <a:ext cx="2057400" cy="0"/>
          </a:xfrm>
          <a:prstGeom prst="line">
            <a:avLst/>
          </a:prstGeom>
          <a:ln w="1908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25480" y="4863960"/>
            <a:ext cx="2057400" cy="0"/>
          </a:xfrm>
          <a:prstGeom prst="line">
            <a:avLst/>
          </a:prstGeom>
          <a:ln w="1908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25480" y="5549760"/>
            <a:ext cx="2057400" cy="0"/>
          </a:xfrm>
          <a:prstGeom prst="line">
            <a:avLst/>
          </a:prstGeom>
          <a:ln w="1908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2882880" y="2577960"/>
            <a:ext cx="3276360" cy="2971800"/>
            <a:chOff x="2882880" y="2577960"/>
            <a:chExt cx="3276360" cy="2971800"/>
          </a:xfrm>
        </p:grpSpPr>
        <p:sp>
          <p:nvSpPr>
            <p:cNvPr id="493" name=""/>
            <p:cNvSpPr/>
            <p:nvPr/>
          </p:nvSpPr>
          <p:spPr>
            <a:xfrm>
              <a:off x="2882880" y="4635360"/>
              <a:ext cx="99036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882880" y="3949560"/>
              <a:ext cx="99036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882880" y="3263760"/>
              <a:ext cx="99036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644640" y="4635360"/>
              <a:ext cx="99072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644640" y="3949560"/>
              <a:ext cx="99072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644640" y="3263760"/>
              <a:ext cx="99072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06760" y="4635360"/>
              <a:ext cx="99072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406760" y="3949560"/>
              <a:ext cx="99072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406760" y="3263760"/>
              <a:ext cx="99072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882880" y="2577960"/>
              <a:ext cx="99036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644640" y="2577960"/>
              <a:ext cx="99072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406760" y="2577960"/>
              <a:ext cx="99072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168880" y="4635360"/>
              <a:ext cx="99036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168880" y="3949560"/>
              <a:ext cx="99036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168880" y="3263760"/>
              <a:ext cx="99036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168880" y="2577960"/>
              <a:ext cx="990360" cy="914400"/>
            </a:xfrm>
            <a:prstGeom prst="cube">
              <a:avLst>
                <a:gd name="adj" fmla="val 25000"/>
              </a:avLst>
            </a:prstGeom>
            <a:solidFill>
              <a:srgbClr val="81abcb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825480" y="2577960"/>
            <a:ext cx="4572000" cy="914400"/>
            <a:chOff x="825480" y="2577960"/>
            <a:chExt cx="4572000" cy="914400"/>
          </a:xfrm>
        </p:grpSpPr>
        <p:grpSp>
          <p:nvGrpSpPr>
            <p:cNvPr id="510" name=""/>
            <p:cNvGrpSpPr/>
            <p:nvPr/>
          </p:nvGrpSpPr>
          <p:grpSpPr>
            <a:xfrm>
              <a:off x="825480" y="2577960"/>
              <a:ext cx="2285640" cy="914400"/>
              <a:chOff x="825480" y="2577960"/>
              <a:chExt cx="2285640" cy="914400"/>
            </a:xfrm>
          </p:grpSpPr>
          <p:sp>
            <p:nvSpPr>
              <p:cNvPr id="511" name=""/>
              <p:cNvSpPr/>
              <p:nvPr/>
            </p:nvSpPr>
            <p:spPr>
              <a:xfrm>
                <a:off x="825480" y="2577960"/>
                <a:ext cx="900360" cy="914400"/>
              </a:xfrm>
              <a:prstGeom prst="cube">
                <a:avLst>
                  <a:gd name="adj" fmla="val 25000"/>
                </a:avLst>
              </a:prstGeom>
              <a:solidFill>
                <a:srgbClr val="9ac0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518120" y="2577960"/>
                <a:ext cx="900360" cy="914400"/>
              </a:xfrm>
              <a:prstGeom prst="cube">
                <a:avLst>
                  <a:gd name="adj" fmla="val 25000"/>
                </a:avLst>
              </a:prstGeom>
              <a:solidFill>
                <a:srgbClr val="9ac0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211120" y="2577960"/>
                <a:ext cx="900000" cy="914400"/>
              </a:xfrm>
              <a:prstGeom prst="cube">
                <a:avLst>
                  <a:gd name="adj" fmla="val 25000"/>
                </a:avLst>
              </a:prstGeom>
              <a:solidFill>
                <a:srgbClr val="9ac0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2882880" y="2577960"/>
              <a:ext cx="2514600" cy="914400"/>
              <a:chOff x="2882880" y="2577960"/>
              <a:chExt cx="2514600" cy="914400"/>
            </a:xfrm>
          </p:grpSpPr>
          <p:sp>
            <p:nvSpPr>
              <p:cNvPr id="515" name=""/>
              <p:cNvSpPr/>
              <p:nvPr/>
            </p:nvSpPr>
            <p:spPr>
              <a:xfrm>
                <a:off x="2882880" y="2577960"/>
                <a:ext cx="990720" cy="914400"/>
              </a:xfrm>
              <a:prstGeom prst="cube">
                <a:avLst>
                  <a:gd name="adj" fmla="val 25000"/>
                </a:avLst>
              </a:prstGeom>
              <a:solidFill>
                <a:srgbClr val="9ac0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645000" y="2577960"/>
                <a:ext cx="990720" cy="914400"/>
              </a:xfrm>
              <a:prstGeom prst="cube">
                <a:avLst>
                  <a:gd name="adj" fmla="val 25000"/>
                </a:avLst>
              </a:prstGeom>
              <a:solidFill>
                <a:srgbClr val="9ac0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407120" y="2577960"/>
                <a:ext cx="990360" cy="914400"/>
              </a:xfrm>
              <a:prstGeom prst="cube">
                <a:avLst>
                  <a:gd name="adj" fmla="val 25000"/>
                </a:avLst>
              </a:prstGeom>
              <a:solidFill>
                <a:srgbClr val="9ac0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d62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8" name=""/>
          <p:cNvSpPr/>
          <p:nvPr/>
        </p:nvSpPr>
        <p:spPr>
          <a:xfrm>
            <a:off x="5931000" y="2654280"/>
            <a:ext cx="228600" cy="2895480"/>
          </a:xfrm>
          <a:prstGeom prst="rect">
            <a:avLst/>
          </a:prstGeom>
          <a:solidFill>
            <a:srgbClr val="889b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5159520" y="2576520"/>
            <a:ext cx="990360" cy="2971800"/>
            <a:chOff x="5159520" y="2576520"/>
            <a:chExt cx="990360" cy="2971800"/>
          </a:xfrm>
        </p:grpSpPr>
        <p:sp>
          <p:nvSpPr>
            <p:cNvPr id="520" name=""/>
            <p:cNvSpPr/>
            <p:nvPr/>
          </p:nvSpPr>
          <p:spPr>
            <a:xfrm>
              <a:off x="5159520" y="4633920"/>
              <a:ext cx="990360" cy="91440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159520" y="3948120"/>
              <a:ext cx="990360" cy="91440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59520" y="3262320"/>
              <a:ext cx="990360" cy="91440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159520" y="2576520"/>
              <a:ext cx="990360" cy="91440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825480" y="2806560"/>
            <a:ext cx="2057400" cy="0"/>
          </a:xfrm>
          <a:prstGeom prst="line">
            <a:avLst/>
          </a:prstGeom>
          <a:ln w="19080">
            <a:solidFill>
              <a:srgbClr val="003d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d62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5016600" y="2577960"/>
            <a:ext cx="1143000" cy="914400"/>
            <a:chOff x="5016600" y="2577960"/>
            <a:chExt cx="1143000" cy="914400"/>
          </a:xfrm>
        </p:grpSpPr>
        <p:sp>
          <p:nvSpPr>
            <p:cNvPr id="526" name=""/>
            <p:cNvSpPr/>
            <p:nvPr/>
          </p:nvSpPr>
          <p:spPr>
            <a:xfrm>
              <a:off x="5168880" y="2577960"/>
              <a:ext cx="990720" cy="914400"/>
            </a:xfrm>
            <a:prstGeom prst="cube">
              <a:avLst>
                <a:gd name="adj" fmla="val 25000"/>
              </a:avLst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016600" y="29296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Pago</a:t>
              </a:r>
              <a:endParaRPr b="0" lang="en-US" sz="2000" spc="-1" strike="noStrike">
                <a:solidFill>
                  <a:srgbClr val="003d62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5238000" y="5493960"/>
            <a:ext cx="41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4</a:t>
            </a:r>
            <a:endParaRPr b="0" lang="en-US" sz="16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045600" y="5506560"/>
            <a:ext cx="41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d62"/>
                </a:solidFill>
                <a:latin typeface="Tahoma"/>
              </a:rPr>
              <a:t>T1</a:t>
            </a:r>
            <a:endParaRPr b="0" lang="en-US" sz="16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07720" y="5506560"/>
            <a:ext cx="41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d62"/>
                </a:solidFill>
                <a:latin typeface="Tahoma"/>
              </a:rPr>
              <a:t>T2</a:t>
            </a:r>
            <a:endParaRPr b="0" lang="en-US" sz="16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569480" y="5506560"/>
            <a:ext cx="41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d62"/>
                </a:solidFill>
                <a:latin typeface="Tahoma"/>
              </a:rPr>
              <a:t>T3</a:t>
            </a:r>
            <a:endParaRPr b="0" lang="en-US" sz="16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0920" y="58762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d62"/>
                </a:solidFill>
                <a:latin typeface="Tahoma"/>
              </a:rPr>
              <a:t>DimTiempo</a:t>
            </a: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04000" y="5733360"/>
            <a:ext cx="25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d62"/>
                </a:solidFill>
                <a:latin typeface="Tahoma"/>
              </a:rPr>
              <a:t>DimFormaPago</a:t>
            </a: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055520" y="50367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d62"/>
                </a:solidFill>
                <a:latin typeface="Tahoma"/>
              </a:rPr>
              <a:t>Recoleta</a:t>
            </a:r>
            <a:endParaRPr b="0" lang="en-US" sz="16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052640" y="431604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d62"/>
                </a:solidFill>
                <a:latin typeface="Tahoma"/>
              </a:rPr>
              <a:t>Almagro</a:t>
            </a:r>
            <a:endParaRPr b="0" lang="en-US" sz="16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63560" y="364464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d62"/>
                </a:solidFill>
                <a:latin typeface="Tahoma"/>
              </a:rPr>
              <a:t>Congreso</a:t>
            </a:r>
            <a:endParaRPr b="0" lang="en-US" sz="16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29560" y="4579560"/>
            <a:ext cx="31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d62"/>
                </a:solidFill>
                <a:latin typeface="Tahoma"/>
              </a:rPr>
              <a:t>Decla Jurada y Pago</a:t>
            </a:r>
            <a:endParaRPr b="0" lang="en-US" sz="16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26920" y="29476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an Cristóbal</a:t>
            </a:r>
            <a:endParaRPr b="0" lang="en-US" sz="16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95280" y="5495040"/>
            <a:ext cx="25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d62"/>
                </a:solidFill>
                <a:latin typeface="Tahoma"/>
              </a:rPr>
              <a:t>DimContribuyente</a:t>
            </a:r>
            <a:endParaRPr b="0" lang="en-US" sz="18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211800" y="5252760"/>
            <a:ext cx="31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ago</a:t>
            </a:r>
            <a:endParaRPr b="0" lang="en-US" sz="16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621480" y="4800240"/>
            <a:ext cx="31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d62"/>
                </a:solidFill>
                <a:latin typeface="Tahoma"/>
              </a:rPr>
              <a:t>Decla Jurada</a:t>
            </a:r>
            <a:endParaRPr b="0" lang="en-US" sz="16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424560" y="5020920"/>
            <a:ext cx="31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d62"/>
                </a:solidFill>
                <a:latin typeface="Tahoma"/>
              </a:rPr>
              <a:t>Otra</a:t>
            </a:r>
            <a:endParaRPr b="0" lang="en-US" sz="16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e3f0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3d62"/>
                </a:solidFill>
                <a:latin typeface="Tahoma"/>
              </a:rPr>
              <a:t>3. Modelo planteado</a:t>
            </a:r>
            <a:endParaRPr b="0" lang="en-US" sz="4000" spc="-1" strike="noStrike">
              <a:solidFill>
                <a:srgbClr val="003d62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8827200" y="65246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d62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003d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16:05:17Z</dcterms:created>
  <dc:creator>UBATEC S.A.</dc:creator>
  <dc:description/>
  <dc:language>en-US</dc:language>
  <cp:lastModifiedBy>C.P.C.E.C.A.B.A.</cp:lastModifiedBy>
  <dcterms:modified xsi:type="dcterms:W3CDTF">2005-11-14T20:35:04Z</dcterms:modified>
  <cp:revision>103</cp:revision>
  <dc:subject/>
  <dc:title>Gener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455473082</vt:lpwstr>
  </property>
</Properties>
</file>