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A0C-CFB6-48DF-B43D-33ACFA68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381-A4F4-4778-886E-3FEA328C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8F5-90E7-4D56-AA7A-4881408E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0FB-A8E4-4E83-8E1D-A763357D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53B-9216-43C7-BAF2-AE0D265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486-F2FF-4C2B-83EA-743BE5F3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276-2549-435F-B614-B7F578A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9A0-4730-459E-B954-CDDF8DD2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B3D-2391-4EAF-BA93-17437430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3C2-7C76-4FC8-962E-B895823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FECE-3865-4570-858D-D3FBF9D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98B-C60C-4087-B37C-DD268E2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756-DE2B-4A5F-9B58-053A5F91DF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Y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9051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puesta para una reforma arancel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342900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utores: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ra. Juana Bil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r. Mario Oscar Bruz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r. Juan Carlos Ce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r. Armando Stol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90920" y="9144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9760" y="2362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 cargo del D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748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600" spc="-1" strike="noStrike">
                <a:solidFill>
                  <a:srgbClr val="000000"/>
                </a:solidFill>
                <a:latin typeface="Times New Roman"/>
              </a:rPr>
              <a:t>Mario Oscar Bruzz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06668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Principio de Oner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464832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Frutos Civ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23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648320"/>
            <a:ext cx="266688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erecho de Trab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685800"/>
            <a:ext cx="266724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erecho de Prop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Inexig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Servicios Pers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40080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03812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rt.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2666880"/>
            <a:ext cx="2666880" cy="15242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90880" y="2451240"/>
            <a:ext cx="31622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t. 2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itu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c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283988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220680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37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Resolución Jud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6002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590920"/>
            <a:ext cx="4114800" cy="2361960"/>
          </a:xfrm>
          <a:prstGeom prst="ellipse">
            <a:avLst/>
          </a:prstGeom>
          <a:solidFill>
            <a:srgbClr val="ffff66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Decl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l derecho al hon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57680" y="30492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Ley 24.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7680" y="106668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Títul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7680" y="1828800"/>
            <a:ext cx="34290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57680" y="2590920"/>
            <a:ext cx="3429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ecció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94320" y="762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943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3640" y="3429000"/>
            <a:ext cx="32767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Regul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Honor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5040" y="4343400"/>
            <a:ext cx="373392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spcBef>
                <a:spcPts val="8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Art. 2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00200" y="685800"/>
            <a:ext cx="2971800" cy="304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rt. 2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incip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ce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762120"/>
            <a:ext cx="2743200" cy="2971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rt. 2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hib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ey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g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809520" y="251460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962520"/>
            <a:ext cx="2210040" cy="1218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rt. 2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Vigil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3623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4038480"/>
            <a:ext cx="274320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rt. 2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rancel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ocales a Inci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de Ver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y Re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0"/>
            <a:ext cx="2666880" cy="762120"/>
          </a:xfrm>
          <a:prstGeom prst="cloudCallout">
            <a:avLst>
              <a:gd name="adj1" fmla="val -45712"/>
              <a:gd name="adj2" fmla="val 57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uestiones no prev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72000" y="837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334120"/>
            <a:ext cx="2286000" cy="685800"/>
          </a:xfrm>
          <a:prstGeom prst="cloudCallout">
            <a:avLst>
              <a:gd name="adj1" fmla="val -12430"/>
              <a:gd name="adj2" fmla="val 36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Jurispru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5715000"/>
            <a:ext cx="2286000" cy="685800"/>
          </a:xfrm>
          <a:prstGeom prst="cloudCallout">
            <a:avLst>
              <a:gd name="adj1" fmla="val -12430"/>
              <a:gd name="adj2" fmla="val 36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ey 218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733920"/>
            <a:ext cx="2286000" cy="685800"/>
          </a:xfrm>
          <a:prstGeom prst="cloudCallout">
            <a:avLst>
              <a:gd name="adj1" fmla="val -12430"/>
              <a:gd name="adj2" fmla="val 36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ey 244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390998" descr=""/>
          <p:cNvPicPr/>
          <p:nvPr/>
        </p:nvPicPr>
        <p:blipFill>
          <a:blip r:embed="rId1"/>
          <a:stretch/>
        </p:blipFill>
        <p:spPr>
          <a:xfrm>
            <a:off x="3532320" y="457200"/>
            <a:ext cx="2079360" cy="2971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419720"/>
            <a:ext cx="5867280" cy="2133360"/>
          </a:xfrm>
          <a:prstGeom prst="ellipse">
            <a:avLst/>
          </a:prstGeom>
          <a:solidFill>
            <a:srgbClr val="cc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HONOR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77800"/>
            <a:ext cx="2109960" cy="946080"/>
          </a:xfrm>
          <a:prstGeom prst="borderCallout2">
            <a:avLst>
              <a:gd name="adj1" fmla="val 18750"/>
              <a:gd name="adj2" fmla="val -8333"/>
              <a:gd name="adj3" fmla="val 12078"/>
              <a:gd name="adj4" fmla="val -39125"/>
              <a:gd name="adj5" fmla="val 174666"/>
              <a:gd name="adj6" fmla="val -7592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Art. 271 LC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Ley 24.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422520"/>
            <a:ext cx="838080" cy="0"/>
          </a:xfrm>
          <a:prstGeom prst="line">
            <a:avLst/>
          </a:prstGeom>
          <a:ln w="190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429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j0280328" descr=""/>
          <p:cNvPicPr/>
          <p:nvPr/>
        </p:nvPicPr>
        <p:blipFill>
          <a:blip r:embed="rId1"/>
          <a:stretch/>
        </p:blipFill>
        <p:spPr>
          <a:xfrm>
            <a:off x="2593800" y="762120"/>
            <a:ext cx="3954600" cy="32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62320" y="4267080"/>
            <a:ext cx="2895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ey 19.5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2 % /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8% /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267080"/>
            <a:ext cx="2895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ey 24.5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1 % /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4% /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ín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80060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Quie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Hon. Le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20:52Z</dcterms:created>
  <dc:creator>Pablo</dc:creator>
  <dc:description/>
  <dc:language>en-US</dc:language>
  <cp:lastModifiedBy>C.P.C.E.C.A.B.A.</cp:lastModifiedBy>
  <dcterms:modified xsi:type="dcterms:W3CDTF">2005-11-28T13:21:24Z</dcterms:modified>
  <cp:revision>17</cp:revision>
  <dc:subject/>
  <dc:title>Presentación de PowerPoint</dc:title>
</cp:coreProperties>
</file>