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05AF-3E51-4261-B983-0D002FDE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FAF3-55D4-4484-B597-3A323377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282A-F6CE-40D5-9D11-296E930E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5FF2-60F1-429A-B8E6-29C098B5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C9D1-7965-418E-9F9B-5967EF70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E72F-0941-4DD3-B965-944F8DC3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8BD8-8A9F-4ADC-B204-BA3DA70E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A879-9C7B-45AF-B00A-4A97DC3B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4004-84A1-4533-B799-E8F544F0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2DCB-0F89-4F42-A218-B872B84E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1A8B-D58B-45A5-9A30-DC82C7BC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0A68-7750-45B1-AD3B-3DC10C60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9F64-4FF9-4E7B-912C-969D66C9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E53F-5AFA-45CD-A27E-20BCDE3B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0C85-AE30-4E44-BB0A-8AE34BD5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6BF3-FA6E-4435-8C7F-169E4854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516F-4C6A-4664-9793-D4A90151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3189-D290-42A2-9A82-CD352DE3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7A70-3801-46D8-A012-2209CADE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0BCB-D914-4DCD-9049-8A635A2E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C372-32A7-4AB9-A05D-4934F9E1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E6A4-C3F5-49EB-8CBA-3FD3553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360B-49F5-465A-A629-21B8B80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32E2-2AAF-4B86-8533-B5E37719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2A3E-01E7-4BD2-9448-A5E086CFD2B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4893-9267-4073-9F98-07925805076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LA MEDICIÓN DE VARIABLES CUALITATIVAS EN EL BALANCE SCORECARD. </a:t>
            </a:r>
            <a:br>
              <a:rPr sz="4800"/>
            </a:b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Un aporte de la Lógica Difusa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GRESO METROPOLIT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ENCIAS ECONÓM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ofrece una herramienta matemática adecuada para la medición de estados de las variables (cualitativa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herramienta sirve para medir desvíos de las variables con respecto a los objetivos planteados. Esto resulta imposible cuando trabajamos con escalas ordi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te realizar operaciones matemáticas con los valores que adoptan los distintos Factores crí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avés de la  valoración de los diversos Factores que forman una perspectiva se puede evaluar la mis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6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uestra página de intern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cecff"/>
                </a:solidFill>
                <a:latin typeface="Arial"/>
              </a:rPr>
              <a:t>WWW.GIMB.COM.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Balance Scorecar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una potente herramienta de Gestión Estraté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uce la estrategia en un conjunto de indicadores agrupados en diversas perspec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ye un proceso sistemático para poner en practica la estrategia y obtener una retroalimentación que permita su ajuste perman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te relacionar las acciones de hoy con los objetivos del mañ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e representar la teoría del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pa Conceptua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 una representación general de las relaciones de causa efecto entre los factores críticos de las diversas perspec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iene un conjunto de variables cri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s variables son agrupadas en diversas perspec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 las relaciones entre las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riables  (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actores Críticos de Éxit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5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 medición objetiva: Cuantitativ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De medición subjetiva: Cualitativ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ariables Cualitativ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on susceptibles de medición obje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rte de la lógica difus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ite crear una escala ordina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imila cada estado de la variable a un NB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artir de es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pueden determinar grados de cumplimientos de objetivos para las variables cualita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Numero Borroso Triangular (NBT)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358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denomina número borroso triangular (NBT) al número borroso real, continuo, tal que la forma de su función de pertenencia determina con el eje horizontal un triáng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NBT, queda determinado de manera única por tres números reales                          tales 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932360" y="4581360"/>
          <a:ext cx="158436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581360"/>
                    <a:ext cx="158436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900000" y="5157720"/>
          <a:ext cx="1224000" cy="3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5157720"/>
                    <a:ext cx="12240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Variable lingüística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decuadas para representar factores críticos de medición cualitativa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s valores no son números (a diferencia de las variables numérica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alores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tán expresados por términos lingüístic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resentan valores aproximados de la varia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ueden obtenerse a partir de la consulta a exper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tituyen un conjunto borros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ueden representarse adecuadamente con Números Borrosos Triangulares (NB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67564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fdef6"/>
                </a:solidFill>
                <a:latin typeface="Arial"/>
              </a:rPr>
              <a:t>Evaluación de Variables cualitativas</a:t>
            </a:r>
            <a:endParaRPr b="0" lang="en-US" sz="3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 evaluar los estados de los Factores Críticos de Éxito con etiquetas lingüísticas (asociadas a números borrosos) podremos dar para una determinada variable, una medida de la brecha con el obje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 brecha se expresará por la distancia entre la etiqueta lingüística que representa el estado actual de una variable y la que representa el estado deseado de la misma vari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ongamos que la calidad actual del servicio puede ser catalogada como “mala”. Valor actual de la variable (0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 ha planteado como objetivo que debe ser considerada como “muy buena”. Valor deseado de la variable (x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00000" y="5013360"/>
          <a:ext cx="6912000" cy="1093680"/>
        </p:xfrm>
        <a:graphic>
          <a:graphicData uri="http://schemas.openxmlformats.org/drawingml/2006/table">
            <a:tbl>
              <a:tblPr/>
              <a:tblGrid>
                <a:gridCol w="3130560"/>
                <a:gridCol w="792000"/>
                <a:gridCol w="792360"/>
                <a:gridCol w="720720"/>
                <a:gridCol w="792000"/>
                <a:gridCol w="68436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l Servic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8:42:32Z</dcterms:created>
  <dc:creator>PC1</dc:creator>
  <dc:description/>
  <dc:language>en-US</dc:language>
  <cp:lastModifiedBy>C.P.C.E.C.A.B.A.</cp:lastModifiedBy>
  <dcterms:modified xsi:type="dcterms:W3CDTF">2005-11-24T16:47:33Z</dcterms:modified>
  <cp:revision>18</cp:revision>
  <dc:subject/>
  <dc:title>LA MEDICIÓN DE VARIABLES CUALITATIVAS EN EL BALANCE SCORECARD.  Un aporte de la Logica Difusa </dc:title>
</cp:coreProperties>
</file>