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718-8079-44DE-87E3-70FC7B47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FCA-4899-4D49-81CD-400B941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E65-0059-40B7-9073-6A8F2045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F15-0348-42B1-B12E-0A9A44DE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8B4-72A0-4A5D-BF29-9011FBD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072-1A54-4647-9013-7C3C6A5F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709-A6FF-426C-9E5C-B3D7924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6B4-D0B5-466F-85C4-A3BC1E8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DEC-E974-4890-B6A0-0BC6864B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6B8-6B0C-40E0-8D66-2F76DD6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5B6-7694-4982-A2E7-C796B400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3DA-9DBA-4A5C-9AE9-91DF09D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DB3-36C8-48B1-B522-9C32DA71582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ENTIVOS FISCALES A LAS EXPORTACION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GRESO METROPOLITANO DE CIENCIAS ECONOMIC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III -  ECONOM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. C.P. Javier Gustavo Alvar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. C.P. Juan Sal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7-11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echos de expor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go a cuenta de 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go a cuenta de contribuciones sociales por porcentaje o monto fi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tamiento especial para P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uestas y altern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esto a los Ingresos Br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sas Municipale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uerdos Comerciales para la reducción de aranc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ención Art. 20 Inc. L L.I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bilidad fiscal para venta de bienes y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cedentes de Exportación en Argen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26668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conomía en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idad Exportadora Post-Crisis y cuentas pub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yor Recau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ción de Export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3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2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2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1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(En miles de Millones de U$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uente : Anuario Estadístico del In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negativos a la e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tancia a los centr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sez de Cré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de normas y su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perder Clientes por cambios en politicas econ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ón en el comercio Mun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i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1981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2004                 Variacion %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0,4672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0,3802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-18,62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8,9963%         10,0588%                  11,81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,1903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1,0645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-10,57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paña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,0391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2,0095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93,39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rea del Sur 1,0868%     2,8011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157,74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,1246%            6,5486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482,30%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 : En base a Datos del C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xportacion de Carnes Bov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i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nel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13.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55.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nte : I.P.C.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Fi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embo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integ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aw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fi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gimen de Recupero de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ención de Impuestos Inter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ención de Imp. Ing. Br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vio de Mues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y pro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echos de E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acto en la Recau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cios Inter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torsion en componentes de Producción y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2:55:36Z</dcterms:created>
  <dc:creator>Estela</dc:creator>
  <dc:description/>
  <dc:language>en-US</dc:language>
  <cp:lastModifiedBy>C.P.C.E.C.A.B.A.</cp:lastModifiedBy>
  <dcterms:modified xsi:type="dcterms:W3CDTF">2005-11-24T17:51:37Z</dcterms:modified>
  <cp:revision>3</cp:revision>
  <dc:subject/>
  <dc:title>INCENTIVOS FISCALES A LAS EXPORTACIONES CONGRESO METROPOLITANO DE CIENCIAS ECONOMICAS AREA III -  ECONOMIA </dc:title>
</cp:coreProperties>
</file>