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659-CA60-4812-9FA6-75CC05B0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268-8920-4567-86EE-70C0A97A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8C3-8EF8-4E63-B4C0-CD9F55E4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8D7-3F5A-4C6D-B81A-7C4D04F8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BC7-2CF3-4E52-BE6F-9FB6344D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0AB-0FE2-42D5-9E84-D692E18B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317-0623-4C1F-B8D3-9AFE421B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415-0A1B-49B1-A493-72351995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8EC-8DC4-4162-94A9-88B897A5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50D-0D23-4E9E-8C4E-F48F2B60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3AF-54F6-449E-B029-DDBB0271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ED2-C0DE-4060-8B6A-3099206F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D864-B5F6-4B0B-B3B0-B6D1F240E1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volucionar para camb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resari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378936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ierte para cre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0000" y="256536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Es el mercado argentino un mercado que por su cantidad y calidad económica es el requerido para crec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4149720"/>
            <a:ext cx="43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El empresario argentino se encuentra mentalmente, estructuralmente y culturalmente capacitado para cambiar e insertarse en el competitivo mundo del comercio internac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2492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3640" y="2924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486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29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500"/>
                            </p:stCondLst>
                            <p:childTnLst>
                              <p:par>
                                <p:cTn id="3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Tercer Eta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4647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reación de organ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447920"/>
            <a:ext cx="1752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iniste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y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1447920"/>
            <a:ext cx="75438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Órgano de normas regulatorias de actividades de las pequeñas y medianas empre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Órgano receptor de sugerencias que emanen de los ministerios provinci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formará las posibilidades de mercado a nivel nacional e internacional, y así el empresario tendrá una idea de los productos de factible rea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rganizará cursos de capacitación para que el empresario de pequeñas y medianas empresas adquiera aptitud y actitud competitiva a nivel inter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sesorará legalmente sobre el tipo de sociedad a constitu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sesorará sobre las estructura administrativa-financiera y productiva más conven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centivará a los empresarios para la presentación de proye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torgará créditos a mediano y largo plaz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9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4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9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4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19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34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9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64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inisterios</a:t>
            </a:r>
            <a:br>
              <a:rPr sz="2000"/>
            </a:b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Pymes</a:t>
            </a:r>
            <a:br>
              <a:rPr sz="2000"/>
            </a:b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Provin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90920" y="990360"/>
            <a:ext cx="57909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endrán las mismas funciones que el ministerio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ugerirá al ministerio nacional los cambios de las normas n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rá el abastecedor de todos los requerimientos de las dependencias municip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449568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pend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unici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44956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stores principales entre empresarios y el ministerio provi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9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4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9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4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3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Cuarta Eta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Créd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dentificación de la id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eparación del proyec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2363760"/>
            <a:ext cx="66294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tecedentes empresariales, legal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tudios de mer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geniería del proy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am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ca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ver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s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gr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tados de resultados proyec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uentes y usos de fon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Balance proyec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5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7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Arial"/>
              </a:rPr>
              <a:t>Cuestiones básicas exigibles del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124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ct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981080"/>
            <a:ext cx="4114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é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dminist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4952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decuación a los objetivos estratég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7150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ano de obra lo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8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Arial"/>
              </a:rPr>
              <a:t>Intangi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200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apaci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1911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17524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sto 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26668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sión del po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657600" y="1981080"/>
            <a:ext cx="685800" cy="990720"/>
            <a:chOff x="3657600" y="1981080"/>
            <a:chExt cx="685800" cy="990720"/>
          </a:xfrm>
        </p:grpSpPr>
        <p:sp>
          <p:nvSpPr>
            <p:cNvPr id="90" name=""/>
            <p:cNvSpPr/>
            <p:nvPr/>
          </p:nvSpPr>
          <p:spPr>
            <a:xfrm>
              <a:off x="3657600" y="1981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57600" y="2971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57600" y="19810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7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8500"/>
                            </p:stCondLst>
                            <p:childTnLst>
                              <p:par>
                                <p:cTn id="44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spondiendo las precitadas preguntas  nos va a permitir establecer los mecanismo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que facilite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la in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ón de las pymes en los mercad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 Argentina no esta capacitada ni por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antidad de habitantes, ni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or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calidad económica de los mismos para hacer un mercado que permita cre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empresario argentino no está capacitado para insertarse en el competitivo mundo del mercado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¿Por qué no es un mercado apetec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que sus 38 millones de habitantes no son significativos para mantener un crecimiento sostenido a largo pla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50% de esa población es po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48% de la masa laboral trabaja en neg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os dos elementos nos da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un panorama preocupante en el área económico-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7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2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7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2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7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000000"/>
                </a:solidFill>
                <a:uFillTx/>
                <a:latin typeface="Arial"/>
              </a:rPr>
              <a:t>Mercado Internacional</a:t>
            </a:r>
            <a:br>
              <a:rPr sz="4400"/>
            </a:br>
            <a:br>
              <a:rPr sz="44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204 Países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6.500.000.000 seres Hum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3124080"/>
          <a:ext cx="8305920" cy="3087720"/>
        </p:xfrm>
        <a:graphic>
          <a:graphicData uri="http://schemas.openxmlformats.org/drawingml/2006/table">
            <a:tbl>
              <a:tblPr/>
              <a:tblGrid>
                <a:gridCol w="2460600"/>
                <a:gridCol w="1349280"/>
                <a:gridCol w="1981440"/>
                <a:gridCol w="2514600"/>
              </a:tblGrid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M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TA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f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346.0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8.241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é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247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4.284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697.4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39.603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03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8.936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í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42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8.198.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¿Qué es lo que tenemos que copiar de Jap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bjetivos a corto pla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Definición de caminos a segu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udios de mercados con todas las variables requ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apacitación para poder compe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Y... Fundamentalmente PACI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LO IMPORTANTE ES CRE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3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3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3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3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3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200"/>
                            </p:stCondLst>
                            <p:childTnLst>
                              <p:par>
                                <p:cTn id="13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3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Arial"/>
              </a:rPr>
              <a:t>El Estado debe crear herramientas indispensables para el Empresario Py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Tangi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Intangi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Arial"/>
              </a:rPr>
              <a:t>Tangi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Primera Eta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xportaciones de cereales y car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antener importancia del ag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tagonismo de la indust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Segunda Eta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Determinar el papel que deben cumplir los Empresarios Pyme dentro del plan eleg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86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Debil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2346480"/>
            <a:ext cx="655308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al reto sobreviv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recuentemente dirigidas por hombres orque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eralmente niveles tecnológicas ba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frentan los mismos problemas, leyes, reglamentaciones y procedimientos administrativos que las grandes empresas, sin contar con los mismos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xiste gran cantidad de unidades inform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mayoría no está al tanto de problemas de contaminación y ventajas ofrecidas por la tecnologías y el recicl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9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4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9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4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19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4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Fortalez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600" y="838080"/>
            <a:ext cx="6324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 creciente su participación en la creación de empleos y valor agre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Han demostrado gran capacidad para aportar innovaciones relevantes de productos y de pre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u tejido empresarial ha resultado más resistente que el de las grandes corporaciones en tiempos de crisis econó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enen más flexibilidad que las grandes para adaptarse a las nuevas condiciones de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825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325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825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325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19:56:58Z</dcterms:created>
  <dc:creator>Usuario</dc:creator>
  <dc:description/>
  <dc:language>en-US</dc:language>
  <cp:lastModifiedBy>C.P.C.E.C.A.B.A.</cp:lastModifiedBy>
  <dcterms:modified xsi:type="dcterms:W3CDTF">2005-11-24T17:48:47Z</dcterms:modified>
  <cp:revision>17</cp:revision>
  <dc:subject/>
  <dc:title>Evolucionar para cambiar</dc:title>
</cp:coreProperties>
</file>