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164-00B8-4C80-8706-92A7A5CC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FF7D-ED55-425B-8893-18749ED4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A8DB-E48D-4AC0-8ED9-B4D574A2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1ABB-D38A-4A25-A36F-10F7BCB9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B2B8-998C-4604-9667-F42E8AEF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077F-77A1-4105-98A4-7912F2EB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110B-DA81-4039-9FEF-9D6F6426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893E-EA16-4BBF-92B0-73AD75B7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01A0-DFF9-463E-BDEE-CEEFCE5A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46A2-C82E-401B-9765-9F27F4B3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486B-75F0-4245-81C6-D546AF05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8F39-5F6D-4CF8-8A1B-E6537222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4978-FAB5-4B41-8FED-581C48ED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1F03-37FB-461A-974A-E749BC62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489C-B012-4A65-9CFA-912C5AE0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0D01-0359-46F4-8C80-D9BD961C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F46F-7D16-4D7A-A9C1-1BE62F5B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468A-2C1E-439A-B87D-FF9BE66E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0E3C-DA4E-42FE-B0FE-2EFC64A5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E698-9BAE-42A7-9583-60FC7301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6070-CD55-48B9-9CB7-F5970B30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C334-2255-4B41-96D9-4ED27E56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6667-E08C-4007-9D29-980B9A7D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1188-8B4D-4EFF-B10A-8D8D8500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9CDA-1CEF-495F-9A8E-8EA436418959}" type="slidenum">
              <a:rPr b="0" lang="es-E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6411-7059-490E-9D5C-6B31087120D4}" type="slidenum">
              <a:rPr b="0" lang="es-E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2532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LA ASOCIATIVIDAD COMO HERRAMIENTA PARA LAS Py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437920" y="1980720"/>
            <a:ext cx="6705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00"/>
                </a:solidFill>
                <a:latin typeface="Arial"/>
              </a:rPr>
              <a:t>Dificultades, Ventajas y Propuestas Superadora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00"/>
                </a:solidFill>
                <a:latin typeface="Arial"/>
              </a:rPr>
              <a:t>CONGRESO METROPOLITANO DE CIENCIAS ECONÓMICAS ( 16 al 18 DE NOVIEMBRE DE 2005)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00"/>
                </a:solidFill>
                <a:latin typeface="Arial"/>
              </a:rPr>
              <a:t>AREA III: ECONOMÍA. COMERCIO EXTERIOR, INTEGRACIÓN REGIONAL Y NEGOCIACIONES ECONÓMICAS INTERNACIONALES. MECANISMOS QUE FACILITEN LA INSERCIÓN DE LAS PyMEs EN LOS MERCADOS INTERNACIONALES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00"/>
                </a:solidFill>
                <a:latin typeface="Arial"/>
              </a:rPr>
              <a:t>Dra. C.P. Aira, Laura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00"/>
                </a:solidFill>
                <a:latin typeface="Arial"/>
              </a:rPr>
              <a:t>Dra. C.P. Lacava, Ma. Agustina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00"/>
                </a:solidFill>
                <a:latin typeface="Arial"/>
              </a:rPr>
              <a:t>Dr. C.P.   Ricca, Vicente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PUESTAS SUPERADO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2960" y="21427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00"/>
                </a:solidFill>
                <a:latin typeface="Arial"/>
              </a:rPr>
              <a:t>SE SEPARARON LAS PROPUESTAS SUPERADORAS EN DOS EJES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00"/>
                </a:solidFill>
                <a:latin typeface="Arial"/>
              </a:rPr>
              <a:t>1.- UN EJE MACROECONÓMICO – DONDE SE PONE ÉNFASIS EN EL PAPEL DEL ESTADO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00"/>
                </a:solidFill>
                <a:latin typeface="Arial"/>
              </a:rPr>
              <a:t>2.- UN EJE MICROECONÓMICO – DONDE SE PONE ÉNFASIS EN EL PAPEL DE LA CULTURA EMPRESARIAL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52400" y="60912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PUESTAS SUPERADORAS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ACROEC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42960" y="21427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00"/>
                </a:solidFill>
                <a:latin typeface="Arial"/>
              </a:rPr>
              <a:t>Logar la reformulación de la figura de los Consorcios de Exportación para hacerlos una figura viabl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00"/>
                </a:solidFill>
                <a:latin typeface="Arial"/>
              </a:rPr>
              <a:t>Reglamentar una ley de Transporte Multimodal (creación de la fig. de OTM)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00"/>
                </a:solidFill>
                <a:latin typeface="Arial"/>
              </a:rPr>
              <a:t>Reglamentar el funcionamiento de las Tradings Internacionale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52400" y="4568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PUESTAS SUPERADORAS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ICROEC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42960" y="21427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00"/>
                </a:solidFill>
                <a:latin typeface="Arial"/>
              </a:rPr>
              <a:t>Fomentar la asociatividad de las PyMEs con productos similares – Cambio Cultural Intraorganizacional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00"/>
                </a:solidFill>
                <a:latin typeface="Arial"/>
              </a:rPr>
              <a:t>Fomentar la asociatividad de las PyMEs con productos complementario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652760" y="457200"/>
            <a:ext cx="7491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EY 26.005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SORCIOS DE COOPERACIÓN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42960" y="2143080"/>
            <a:ext cx="760104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00"/>
                </a:solidFill>
                <a:latin typeface="Arial"/>
              </a:rPr>
              <a:t>Los consorcios de cooperación no son personas jurídicas, sociedades o sujetos de derecho; simplemente tienen naturaleza contractual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00"/>
                </a:solidFill>
                <a:latin typeface="Arial"/>
              </a:rPr>
              <a:t>El consorcio puede realizar embarques unificados, exportando a nombre propio o por cuenta y orden de los terceros que lo componen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00"/>
                </a:solidFill>
                <a:latin typeface="Arial"/>
              </a:rPr>
              <a:t>No está previsto que el Crédito Fiscal a favor del Consorcio sea transferido a las empresas que lo conforma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UCHAS GRA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42960" y="2971800"/>
            <a:ext cx="760104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00"/>
                </a:solidFill>
                <a:latin typeface="Arial"/>
              </a:rPr>
              <a:t>Dra.C.P.</a:t>
            </a:r>
            <a:r>
              <a:rPr b="1" lang="es-ES" sz="32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333300"/>
                </a:solidFill>
                <a:latin typeface="Arial"/>
              </a:rPr>
              <a:t>AIRA, LAURA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00"/>
                </a:solidFill>
                <a:latin typeface="Arial"/>
              </a:rPr>
              <a:t>Dra. C.P.</a:t>
            </a:r>
            <a:r>
              <a:rPr b="1" lang="es-ES" sz="32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333300"/>
                </a:solidFill>
                <a:latin typeface="Arial"/>
              </a:rPr>
              <a:t>LACAVA, Ma. AGUSTINA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00"/>
                </a:solidFill>
                <a:latin typeface="Arial"/>
              </a:rPr>
              <a:t>Dr. C.P.</a:t>
            </a:r>
            <a:r>
              <a:rPr b="1" lang="es-ES" sz="32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333300"/>
                </a:solidFill>
                <a:latin typeface="Arial"/>
              </a:rPr>
              <a:t>RICCA, VICENT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00120" y="-36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INTRODUCCIÓN A LA TEMÁ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4296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00"/>
                </a:solidFill>
                <a:latin typeface="Arial"/>
              </a:rPr>
              <a:t>En la actualidad nos movemos en un contexto signado por los cambios contínuos.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00"/>
                </a:solidFill>
                <a:latin typeface="Arial"/>
              </a:rPr>
              <a:t>Hoy el mercado es el MUNDO y los clientes estandarizan su demanda a medida que tienen acceso a ofertas más variadas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00"/>
                </a:solidFill>
                <a:latin typeface="Arial"/>
              </a:rPr>
              <a:t>En este marco las PyMEs Argentinas necesitan de las figuras asociativas para poder integrarse</a:t>
            </a:r>
            <a:r>
              <a:rPr b="1" lang="es-ES" sz="32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ASOCIATIV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00"/>
                </a:solidFill>
                <a:latin typeface="Arial"/>
              </a:rPr>
              <a:t>La problemática que traen aparejada las distintas formas asociativas, se pueden resumir en dos aspectos clave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00"/>
                </a:solidFill>
                <a:latin typeface="Arial"/>
              </a:rPr>
              <a:t>Falta de un real incentivo por parte del Estado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00"/>
                </a:solidFill>
                <a:latin typeface="Arial"/>
              </a:rPr>
              <a:t>Falta de “Cultura de Cooperación” por parte de los empresarios PyM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0120" y="-36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S DISTINTAS FORMAS ASOCIA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42960" y="17521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333300"/>
                </a:solidFill>
                <a:latin typeface="Arial"/>
              </a:rPr>
              <a:t>Subcontratación.</a:t>
            </a:r>
            <a:endParaRPr b="1" lang="en-US" sz="3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333300"/>
                </a:solidFill>
                <a:latin typeface="Arial"/>
              </a:rPr>
              <a:t>Alianzas Estratégicas.</a:t>
            </a:r>
            <a:endParaRPr b="1" lang="en-US" sz="3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333300"/>
                </a:solidFill>
                <a:latin typeface="Arial"/>
              </a:rPr>
              <a:t>Distritos Industriales.</a:t>
            </a:r>
            <a:endParaRPr b="1" lang="en-US" sz="3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333300"/>
                </a:solidFill>
                <a:latin typeface="Arial"/>
              </a:rPr>
              <a:t>Núcleos Empresariales.</a:t>
            </a:r>
            <a:endParaRPr b="1" lang="en-US" sz="3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333300"/>
                </a:solidFill>
                <a:latin typeface="Arial"/>
              </a:rPr>
              <a:t>Redes de Servicios.</a:t>
            </a:r>
            <a:endParaRPr b="1" lang="en-US" sz="3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333300"/>
                </a:solidFill>
                <a:latin typeface="Arial"/>
              </a:rPr>
              <a:t>Pools de Compra.</a:t>
            </a:r>
            <a:endParaRPr b="1" lang="en-US" sz="3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333300"/>
                </a:solidFill>
                <a:latin typeface="Arial"/>
              </a:rPr>
              <a:t>Grupos de Exportación.</a:t>
            </a:r>
            <a:endParaRPr b="1" lang="en-US" sz="3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ARCO REGULATO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00"/>
                </a:solidFill>
                <a:latin typeface="Arial"/>
              </a:rPr>
              <a:t>Ley 23.101 (1984) de Promoción de Exportaciones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00"/>
                </a:solidFill>
                <a:latin typeface="Arial"/>
              </a:rPr>
              <a:t>Ley 2.903: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00"/>
                </a:solidFill>
                <a:latin typeface="Arial"/>
              </a:rPr>
              <a:t>Art. 367 al 376 ACE – Agrupaciones de Colaboración Empresaria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00"/>
                </a:solidFill>
                <a:latin typeface="Arial"/>
              </a:rPr>
              <a:t>Art. 377 al 383 UTE – Unión Transitoria de Empresas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00"/>
                </a:solidFill>
                <a:latin typeface="Arial"/>
              </a:rPr>
              <a:t>Consorcios y Cooperativas de Exportación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00"/>
                </a:solidFill>
                <a:latin typeface="Arial"/>
              </a:rPr>
              <a:t>Decreto 256/96: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00"/>
                </a:solidFill>
                <a:latin typeface="Arial"/>
              </a:rPr>
              <a:t>Ley 19.550 – Sociedades Comerciales – Consorcios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00"/>
                </a:solidFill>
                <a:latin typeface="Arial"/>
              </a:rPr>
              <a:t>Ley 20.337 – Cooperativas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00"/>
                </a:solidFill>
                <a:latin typeface="Arial"/>
              </a:rPr>
              <a:t>Disposición 16/96 - Subsecretaría de Comercio Exterior: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00"/>
                </a:solidFill>
                <a:latin typeface="Arial"/>
              </a:rPr>
              <a:t>Ley Provincial 12.119 (Pcia. De Sta. Fe) – Consorcios de Exportación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00"/>
                </a:solidFill>
                <a:latin typeface="Arial"/>
              </a:rPr>
              <a:t>Ley 23.349 – Sección VIII – Art. 66 al 76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00"/>
                </a:solidFill>
                <a:latin typeface="Arial"/>
              </a:rPr>
              <a:t>Decreto MEyOSP N</a:t>
            </a:r>
            <a:r>
              <a:rPr b="1" lang="es-ES" sz="1800" spc="-1" strike="noStrike">
                <a:solidFill>
                  <a:srgbClr val="333300"/>
                </a:solidFill>
                <a:latin typeface="Arial"/>
                <a:ea typeface="Arial"/>
              </a:rPr>
              <a:t>° 256/96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00"/>
                </a:solidFill>
                <a:latin typeface="Arial"/>
              </a:rPr>
              <a:t>Disposición 17/96 – Subsecretaría de Comercio Exterior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00"/>
                </a:solidFill>
                <a:latin typeface="Arial"/>
              </a:rPr>
              <a:t>Ley 26.005 – Consorcios de Cooperación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ASOS DE ASOCIATIV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00"/>
                </a:solidFill>
                <a:latin typeface="Arial"/>
              </a:rPr>
              <a:t>Unión Industrial de Tres de Febrero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00"/>
                </a:solidFill>
                <a:latin typeface="Arial"/>
              </a:rPr>
              <a:t>Grupo CREA – Consorcios Regionales de Experimentación Agrícola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00"/>
                </a:solidFill>
                <a:latin typeface="Arial"/>
              </a:rPr>
              <a:t>IDEB – Instituto de Desarrollo Empresario de Buenos Aire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00"/>
                </a:solidFill>
                <a:latin typeface="Arial"/>
              </a:rPr>
              <a:t>Programa: Fundación Exportar y Bank Boston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-36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ENTAJAS DE LOS CONSOR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42960" y="18284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00"/>
                </a:solidFill>
                <a:latin typeface="Arial"/>
              </a:rPr>
              <a:t>Penetración en mercados de exportación antes inexplorados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00"/>
                </a:solidFill>
                <a:latin typeface="Arial"/>
              </a:rPr>
              <a:t>Acceso a nuevos tipos de compradores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00"/>
                </a:solidFill>
                <a:latin typeface="Arial"/>
              </a:rPr>
              <a:t>Seguridad mediante la diversificación de mercados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00"/>
                </a:solidFill>
                <a:latin typeface="Arial"/>
              </a:rPr>
              <a:t>Reducción de las fluctuaciones estacionales de la actividad comercial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00"/>
                </a:solidFill>
                <a:latin typeface="Arial"/>
              </a:rPr>
              <a:t>Estructura de Planificación a largo plazo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00"/>
                </a:solidFill>
                <a:latin typeface="Arial"/>
              </a:rPr>
              <a:t>Aumento de los márgenes de beneficio mediante mejores precios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00"/>
                </a:solidFill>
                <a:latin typeface="Arial"/>
              </a:rPr>
              <a:t>Etc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-36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ENTAJAS GRUPOS PRO-FORM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42960" y="21427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00"/>
                </a:solidFill>
                <a:latin typeface="Arial"/>
              </a:rPr>
              <a:t>Grupos de especialistas requeridos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00"/>
                </a:solidFill>
                <a:latin typeface="Arial"/>
              </a:rPr>
              <a:t>Capacitación de los mismo y de los integrantes del futuro consocio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00"/>
                </a:solidFill>
                <a:latin typeface="Arial"/>
              </a:rPr>
              <a:t>Servicios de contacto con los compradores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00"/>
                </a:solidFill>
                <a:latin typeface="Arial"/>
              </a:rPr>
              <a:t>Servicios de nombramiento de representantes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00"/>
                </a:solidFill>
                <a:latin typeface="Arial"/>
              </a:rPr>
              <a:t>Servicios de Estudios de Mercado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00"/>
                </a:solidFill>
                <a:latin typeface="Arial"/>
              </a:rPr>
              <a:t>Asistencia Técnica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00"/>
                </a:solidFill>
                <a:latin typeface="Arial"/>
              </a:rPr>
              <a:t>Control de Calidad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00"/>
                </a:solidFill>
                <a:latin typeface="Arial"/>
              </a:rPr>
              <a:t>Etc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2960" y="4568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EBILIDADES Y AMENAZAS DEL MARCO REGULATO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42960" y="21427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00"/>
                </a:solidFill>
                <a:latin typeface="Arial"/>
              </a:rPr>
              <a:t>ACEs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00"/>
                </a:solidFill>
                <a:latin typeface="Arial"/>
              </a:rPr>
              <a:t>Debe limitar su accionar al sector interno de las empresas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00"/>
                </a:solidFill>
                <a:latin typeface="Arial"/>
              </a:rPr>
              <a:t>Las empresas asociadas son solidarias e ilimitadamente responsables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00"/>
                </a:solidFill>
                <a:latin typeface="Arial"/>
              </a:rPr>
              <a:t>No existe figura asociativa específica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00"/>
                </a:solidFill>
                <a:latin typeface="Arial"/>
              </a:rPr>
              <a:t>UTEs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00"/>
                </a:solidFill>
                <a:latin typeface="Arial"/>
              </a:rPr>
              <a:t>Se limita a acciones determinadas y de carácter transitorio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00"/>
                </a:solidFill>
                <a:latin typeface="Arial"/>
              </a:rPr>
              <a:t>CONSORCIOS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00"/>
                </a:solidFill>
                <a:latin typeface="Arial"/>
              </a:rPr>
              <a:t>No tiene vigencia ni operatividad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2:42:17Z</dcterms:created>
  <dc:creator>Dra. Laura Aira</dc:creator>
  <dc:description/>
  <dc:language>en-US</dc:language>
  <cp:lastModifiedBy>C.P.C.E.C.A.B.A.</cp:lastModifiedBy>
  <dcterms:modified xsi:type="dcterms:W3CDTF">2005-11-24T17:46:01Z</dcterms:modified>
  <cp:revision>5</cp:revision>
  <dc:subject/>
  <dc:title>LA ASOCIATIVIDAD COMO HERRAMIENTA PARA LAS PyMES</dc:title>
</cp:coreProperties>
</file>