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  <p:custShowLst>
    <p:custShow name="Presentación personalizada 1" id="0">
      <p:sldLst>
        <p:sld r:id="rId2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F212-15F8-4937-8D52-32C26BE0EB2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AA06-1D6C-4373-B892-9BB7B417FF30}" type="slidenum">
              <a:rPr b="0" lang="es-E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1B4-8F89-4FFF-B2AF-834C6D59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D745-7750-4CC5-ACC6-8F435C48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85CB-740B-46B2-A09F-238A42FD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DCD4-9013-4C2D-9E3B-73E3C86F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177D-ED5A-4ED3-A912-34898687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F5F4-1A6C-4FBB-8892-BDFF4226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B1F5-A878-4FE9-AF9E-3A9EE143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7F71-AFA1-481D-AE74-05D0B6C0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5052-4222-4FF6-8BE2-DA064D51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1AA6-A3B1-42EC-AAD9-D42E80D0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242A-400B-45DE-A5C7-80D43F25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9AA-2F99-49E3-BC4E-CC3E274B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E17D-C543-4435-8001-8683DFAE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C751-758C-464A-A101-10363C50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C4BB-E420-4C3D-B15E-71E03172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73AA-7DB8-4258-B317-C1B3DE99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0533-08F4-4430-B462-5EDEED85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3587-8220-45EE-B39B-8DED6684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B79C-A121-47DF-B172-03950941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CB1B-6DAB-4316-847D-0E1F261B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E99-F9C6-4320-9753-CE56F704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5DC-4BBB-4CBD-A2B0-80943616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33B7-6255-4AF8-B11B-16436539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9BDB-B0A2-4EBD-A42F-880F2898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orge H Santesteban Hu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0CB4-C9C3-49C6-A85F-E142118BB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orge H Santesteban Hu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8387-F395-451E-A860-CB5DE66629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40DE-EEDB-4C5F-AD6D-28FBF28B30C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3213000"/>
            <a:ext cx="88200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Mesa Actuación Profesional: 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“La Actuación ante las normas del Lavado”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572000" y="5638680"/>
            <a:ext cx="457200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Comic Sans MS"/>
              </a:rPr>
              <a:t>JORGE H. SANTESTEBAN HUNTER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Comic Sans MS"/>
              </a:rPr>
              <a:t>           </a:t>
            </a:r>
            <a:r>
              <a:rPr b="1" lang="es-ES" sz="1600" spc="-1" strike="noStrike">
                <a:solidFill>
                  <a:srgbClr val="ffcc00"/>
                </a:solidFill>
                <a:latin typeface="Comic Sans MS"/>
              </a:rPr>
              <a:t>CONTADOR PÚBLICO (U.B.A.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7 Rectángulo"/>
          <p:cNvSpPr/>
          <p:nvPr/>
        </p:nvSpPr>
        <p:spPr>
          <a:xfrm>
            <a:off x="468360" y="177336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0f0"/>
                </a:solidFill>
                <a:latin typeface="Comic Sans MS"/>
              </a:rPr>
              <a:t>Jornada “La nueva Ley de Lavado de Activos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Picture 7" descr="http://www.consejo.org.ar/noticias11/images/logo_fapla.gif"/>
          <p:cNvPicPr/>
          <p:nvPr/>
        </p:nvPicPr>
        <p:blipFill>
          <a:blip r:embed="rId1"/>
          <a:stretch/>
        </p:blipFill>
        <p:spPr>
          <a:xfrm>
            <a:off x="2268360" y="33336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http://www.consejo.org.ar/noticias11/images/logo_consejo.gif"/>
          <p:cNvPicPr/>
          <p:nvPr/>
        </p:nvPicPr>
        <p:blipFill>
          <a:blip r:embed="rId2"/>
          <a:stretch/>
        </p:blipFill>
        <p:spPr>
          <a:xfrm>
            <a:off x="5003640" y="333360"/>
            <a:ext cx="1297080" cy="1079640"/>
          </a:xfrm>
          <a:prstGeom prst="rect">
            <a:avLst/>
          </a:prstGeom>
          <a:ln w="0">
            <a:noFill/>
          </a:ln>
        </p:spPr>
      </p:pic>
      <p:sp>
        <p:nvSpPr>
          <p:cNvPr id="113" name="9 Rectángulo"/>
          <p:cNvSpPr/>
          <p:nvPr/>
        </p:nvSpPr>
        <p:spPr>
          <a:xfrm>
            <a:off x="2627280" y="227664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b0f0"/>
                </a:solidFill>
                <a:latin typeface="Comic Sans MS"/>
              </a:rPr>
              <a:t>11  DE JULIO DE 201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AC34-BBF3-43C6-AED8-8BEDA350498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54524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Comic Sans MS"/>
              </a:rPr>
              <a:t>U.I.F - RESOLUCION 65/2011</a:t>
            </a:r>
            <a:br>
              <a:rPr sz="2000"/>
            </a:br>
            <a:r>
              <a:rPr b="1" lang="es-ES" sz="2000" spc="-1" strike="noStrike">
                <a:solidFill>
                  <a:srgbClr val="ffcc66"/>
                </a:solidFill>
                <a:latin typeface="Comic Sans MS"/>
              </a:rPr>
              <a:t>CAPITULO II. POLITICAS PARA PREVENIR E IMPEDIR EL LDA Y LFDT </a:t>
            </a:r>
            <a:r>
              <a:rPr b="1" i="1" lang="es-ES" sz="2000" spc="-1" strike="noStrike">
                <a:solidFill>
                  <a:srgbClr val="ffcc66"/>
                </a:solidFill>
                <a:latin typeface="Comic Sans MS"/>
              </a:rPr>
              <a:t>(arts. 3 a 7)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 3 .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DOPTAR POLITICA DE PREVENCION DE CONFORMIDAD A LA NORMATIVA LEGAL Y PROFESIONAL.  AL MENOS DEBERA CONTEMPL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000"/>
                </a:solidFill>
                <a:latin typeface="Comic Sans MS"/>
              </a:rPr>
              <a:t>ELABORACION DE UN MANUAL CON MECANISMOS Y PROCEDIMIENTOS CONFORME EL TIPO DE SERVICIO QUE PRESTE. </a:t>
            </a:r>
            <a:r>
              <a:rPr b="1" lang="es-MX" sz="2400" spc="-1" strike="noStrike">
                <a:solidFill>
                  <a:srgbClr val="92d050"/>
                </a:solidFill>
                <a:latin typeface="Comic Sans MS"/>
              </a:rPr>
              <a:t>(*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000"/>
                </a:solidFill>
                <a:latin typeface="Comic Sans MS"/>
              </a:rPr>
              <a:t>CAPACITAR AL 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000"/>
                </a:solidFill>
                <a:latin typeface="Comic Sans MS"/>
              </a:rPr>
              <a:t>ELABORAR UN REGISTRO ESCRITO DEL ANALISIS Y CONTROL DE RIESGO DE LAS O.S. REPORT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000"/>
                </a:solidFill>
                <a:latin typeface="Comic Sans MS"/>
              </a:rPr>
              <a:t>IMPLEMENTACION DE HERRAMIENTAS TECNOLOG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92d050"/>
                </a:solidFill>
                <a:latin typeface="Comic Sans MS"/>
              </a:rPr>
              <a:t>(*) … de acuerdo con las normas que emitan los CP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8171-4AF6-4CCA-B420-D9231624CFB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54524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Comic Sans MS"/>
              </a:rPr>
              <a:t>U.I.F - RESOLUCION 65/2011</a:t>
            </a:r>
            <a:br>
              <a:rPr sz="2000"/>
            </a:br>
            <a:r>
              <a:rPr b="1" lang="es-ES" sz="2000" spc="-1" strike="noStrike">
                <a:solidFill>
                  <a:srgbClr val="ffcc66"/>
                </a:solidFill>
                <a:latin typeface="Comic Sans MS"/>
              </a:rPr>
              <a:t>CAPITULO III. POLITICA DE IDENTIFICACION Y CONOCIMIENTO DEL CLIENTE ART. 21 a) LEY </a:t>
            </a:r>
            <a:r>
              <a:rPr b="1" i="1" lang="es-ES" sz="2000" spc="-1" strike="noStrike">
                <a:solidFill>
                  <a:srgbClr val="ffcc66"/>
                </a:solidFill>
                <a:latin typeface="Comic Sans MS"/>
              </a:rPr>
              <a:t>(arts. 8 a 20)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. 8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LOS S.O. DEBERAN ELABORAR Y OBSERVAR UNA POLITICA DE CONOCIMIENTO DEL 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. 9.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ONFECCIONAR UN LEGAJO DE IDENTIFICACION Y CONOCIMIENTO, QUE ACREDITE EL CUMPLIMIENTO DE LOS REQUISITOS DE ESTA RESOLUCION. ACTUALIZADO COMO MINIMO ANUALMENTE Y REFLEJANDO PERMANENTEMENTE </a:t>
            </a:r>
            <a:r>
              <a:rPr b="1" lang="es-ES" sz="2400" spc="-1" strike="noStrike" u="sng">
                <a:solidFill>
                  <a:srgbClr val="ffc000"/>
                </a:solidFill>
                <a:uFillTx/>
                <a:latin typeface="Comic Sans MS"/>
              </a:rPr>
              <a:t>EL PERFIL DEL CLI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BC29-D282-4725-92F5-96FAF87B581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663200"/>
            <a:ext cx="91440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. 10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. REQUERIR DATOS A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PERSONAS JURID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. 11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.REQUERIR DATOS A </a:t>
            </a:r>
            <a:r>
              <a:rPr b="1" lang="es-ES" sz="2400" spc="-1" strike="noStrike">
                <a:solidFill>
                  <a:srgbClr val="00b0f0"/>
                </a:solidFill>
                <a:latin typeface="Comic Sans MS"/>
              </a:rPr>
              <a:t>ORGANISMOS PU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. 12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IDEM AL </a:t>
            </a: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APODE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. 13.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LOS MISMOS RECAUDOS QUE A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PJ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, A UTES, ACES, CONSORCIOS, FIDEICOMISOS,FCI, ASOCIACIONES, FUNDACIONES Y OTROS ENTES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CON O SIN PERSONERIA JURID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. 14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.DISEÑAR UN PROGRAMA GLOBAL ANTIL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468360" y="0"/>
            <a:ext cx="75452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Comic Sans MS"/>
              </a:rPr>
              <a:t>U.I.F - RESOLUCION 65/2011</a:t>
            </a:r>
            <a:br>
              <a:rPr sz="2000"/>
            </a:br>
            <a:r>
              <a:rPr b="1" lang="es-ES" sz="2000" spc="-1" strike="noStrike">
                <a:solidFill>
                  <a:srgbClr val="ffcc66"/>
                </a:solidFill>
                <a:latin typeface="Comic Sans MS"/>
              </a:rPr>
              <a:t>CAPITULO III. POLITICA DE IDENTIFICACION Y CONOCIMIENTO DEL CLIENTE ART. 21 a) LEY </a:t>
            </a:r>
            <a:r>
              <a:rPr b="1" i="1" lang="es-ES" sz="2000" spc="-1" strike="noStrike">
                <a:solidFill>
                  <a:srgbClr val="ffcc66"/>
                </a:solidFill>
                <a:latin typeface="Comic Sans MS"/>
              </a:rPr>
              <a:t>(arts. 8 a 20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706E-FAAC-4057-BDB6-77D90328D6C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. 15. </a:t>
            </a:r>
            <a:r>
              <a:rPr b="1" lang="es-ES" sz="2400" spc="-1" strike="noStrike" u="sng">
                <a:solidFill>
                  <a:srgbClr val="ffc000"/>
                </a:solidFill>
                <a:uFillTx/>
                <a:latin typeface="Comic Sans MS"/>
              </a:rPr>
              <a:t>DEJAR CONSTANCIA EN SUS DICTAMENES QUE SE LLEVARON A CABO PROCEDIMIENTOS DE PREVENCION DE LDA Y FDT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, PUDIENDO HACER REFERENCIA A LAS NORMAS QUE EMITAN LOS CP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.16.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REFORZAR PROCEDIMIENTOS DE IDENTIFICACION EN CASO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EMPRESAS PANTALLA/VEHICU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PROPIETARIO/BENEFICIA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FIDEICOMI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TRANSACCIONES A DISTA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OPERACIONES Y RELACIONES PROFESIONALES CON PAISES QUE NO APLICAN O APLICAN INSUFICIENTEMENTE LAS RECOMENDACIONES DEL GAF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PERSONAS INCLUIDAS EN EL LISTADO DE TERRORISTAS (RESOLUCION UIF 125/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684360" y="0"/>
            <a:ext cx="75452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Comic Sans MS"/>
              </a:rPr>
              <a:t>U.I.F - RESOLUCION 65/2011</a:t>
            </a:r>
            <a:br>
              <a:rPr sz="2000"/>
            </a:br>
            <a:r>
              <a:rPr b="1" lang="es-ES" sz="2000" spc="-1" strike="noStrike">
                <a:solidFill>
                  <a:srgbClr val="ffcc66"/>
                </a:solidFill>
                <a:latin typeface="Comic Sans MS"/>
              </a:rPr>
              <a:t>CAPITULO III. POLITICA DE IDENTIFICACION Y CONOCIMIENTO DEL CLIENTE ART. 21 a) LEY </a:t>
            </a:r>
            <a:r>
              <a:rPr b="1" i="1" lang="es-ES" sz="2000" spc="-1" strike="noStrike">
                <a:solidFill>
                  <a:srgbClr val="ffcc66"/>
                </a:solidFill>
                <a:latin typeface="Comic Sans MS"/>
              </a:rPr>
              <a:t>(arts. 8 a 20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0585-7B94-4FA5-9AD4-C08EA09C71E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. 17.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LA POLITICA DE CONOCIMIENTO DEL CLIENTE, </a:t>
            </a:r>
            <a:r>
              <a:rPr b="1" lang="es-ES" sz="2400" spc="-1" strike="noStrike" u="sng">
                <a:solidFill>
                  <a:srgbClr val="ffc000"/>
                </a:solidFill>
                <a:uFillTx/>
                <a:latin typeface="Comic Sans MS"/>
              </a:rPr>
              <a:t>DEBE CONTENER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RITERIOS MEDIDAS Y PROCEDIMIENTOS , AL MEN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ANALISIS DE LAS </a:t>
            </a:r>
            <a:r>
              <a:rPr b="1" lang="es-ES" sz="2000" spc="-1" strike="noStrike" u="sng">
                <a:solidFill>
                  <a:srgbClr val="ffc000"/>
                </a:solidFill>
                <a:uFillTx/>
                <a:latin typeface="Comic Sans MS"/>
              </a:rPr>
              <a:t>VARIACIONES</a:t>
            </a: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 DE LAS OPERACIONES REALIZADAS POR LOS CLIENTES, EN RELACION CON LA OBTENIDA ANTERIOR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LA DETERMINACION DE UN </a:t>
            </a:r>
            <a:r>
              <a:rPr b="1" lang="es-ES" sz="2000" spc="-1" strike="noStrike" u="sng">
                <a:solidFill>
                  <a:srgbClr val="ffc000"/>
                </a:solidFill>
                <a:uFillTx/>
                <a:latin typeface="Comic Sans MS"/>
              </a:rPr>
              <a:t>PERFIL</a:t>
            </a: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 TRANSACCIONAL DEL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LA </a:t>
            </a:r>
            <a:r>
              <a:rPr b="1" lang="es-ES" sz="2000" spc="-1" strike="noStrike" u="sng">
                <a:solidFill>
                  <a:srgbClr val="ffc000"/>
                </a:solidFill>
                <a:uFillTx/>
                <a:latin typeface="Comic Sans MS"/>
              </a:rPr>
              <a:t>IDENTIFICACION</a:t>
            </a: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 DE OPERACIONES QUE SE APARTAN DEL PERF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. 18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1" lang="es-ES" sz="2400" spc="-1" strike="noStrike" u="sng">
                <a:solidFill>
                  <a:srgbClr val="ffc000"/>
                </a:solidFill>
                <a:uFillTx/>
                <a:latin typeface="Comic Sans MS"/>
              </a:rPr>
              <a:t>EL PERFIL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RANSACCIONAL DEBE ESTAR BASADO EN INFORMACION PROPORCIONADA POR EL CLIENTE  Y EN EL MONTO, TIPO , NATURALEZA Y FRECUENCIA DE LAS OPERACIONES HABITUALES, ASI COMO EL ORIGEN Y DESTINO DE LOS RECURSOS Y EL CONOCIMIENTO DE LOS EMPLE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684360" y="0"/>
            <a:ext cx="75452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Comic Sans MS"/>
              </a:rPr>
              <a:t>U.I.F - RESOLUCION 65/2011</a:t>
            </a:r>
            <a:br>
              <a:rPr sz="2000"/>
            </a:br>
            <a:r>
              <a:rPr b="1" lang="es-ES" sz="2000" spc="-1" strike="noStrike">
                <a:solidFill>
                  <a:srgbClr val="ffcc66"/>
                </a:solidFill>
                <a:latin typeface="Comic Sans MS"/>
              </a:rPr>
              <a:t>CAPITULO III. POLITICA DE IDENTIFICACION Y CONOCIMIENTO DEL CLIENTE ART. 21 a) LEY </a:t>
            </a:r>
            <a:r>
              <a:rPr b="1" i="1" lang="es-ES" sz="2000" spc="-1" strike="noStrike">
                <a:solidFill>
                  <a:srgbClr val="ffcc66"/>
                </a:solidFill>
                <a:latin typeface="Comic Sans MS"/>
              </a:rPr>
              <a:t>(arts. 8 a 20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3D6E-754B-447D-8D0F-3C32657AD44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. 19.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LOS SUJETOS OBLIGADOS DEBERAN CONSERVAR DURANTE UN PERIODO DE </a:t>
            </a:r>
            <a:r>
              <a:rPr b="1" lang="es-ES" sz="2400" spc="-1" strike="noStrike" u="sng">
                <a:solidFill>
                  <a:srgbClr val="ffc000"/>
                </a:solidFill>
                <a:uFillTx/>
                <a:latin typeface="Comic Sans MS"/>
              </a:rPr>
              <a:t>10 AÑOS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RESPECTO DE LA IDENTIFICACION DEL CLIENTE: LAS COPIAS DE LOS DOCUMENTOS EXIGI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RESPECTO DE LAS TRANSACCIONES U OPERACIONES LAS COPIAS DE LA DOCUMENTACION ORIGINAL,LOS PAPELES DE TRABAJO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EL REGISTRO DEL ANALISIS DE LAS O.S. REPORT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. 20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. LAS OBLIGACIONES EMERGENTES DEL PRESENTE CAPITULO NO PODRAN SER DELEGADAS EN TERCEROS AJENOS A LOS SUJETOS OBLIG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684360" y="0"/>
            <a:ext cx="75452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Comic Sans MS"/>
              </a:rPr>
              <a:t>U.I.F - RESOLUCION 65/2011</a:t>
            </a:r>
            <a:br>
              <a:rPr sz="2000"/>
            </a:br>
            <a:r>
              <a:rPr b="1" lang="es-ES" sz="2000" spc="-1" strike="noStrike">
                <a:solidFill>
                  <a:srgbClr val="ffcc66"/>
                </a:solidFill>
                <a:latin typeface="Comic Sans MS"/>
              </a:rPr>
              <a:t>CAPITULO III. POLITICA DE IDENTIFICACION Y CONOCIMIENTO DEL CLIENTE ART. 21 a) LEY </a:t>
            </a:r>
            <a:r>
              <a:rPr b="1" i="1" lang="es-ES" sz="2000" spc="-1" strike="noStrike">
                <a:solidFill>
                  <a:srgbClr val="ffcc66"/>
                </a:solidFill>
                <a:latin typeface="Comic Sans MS"/>
              </a:rPr>
              <a:t>(arts. 8 a 20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8105-668B-46C1-BBCB-3E16F6E877B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54524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Comic Sans MS"/>
              </a:rPr>
              <a:t>U.I.F - RESOLUCION 65/2011</a:t>
            </a:r>
            <a:br>
              <a:rPr sz="2000"/>
            </a:br>
            <a:r>
              <a:rPr b="1" lang="es-ES" sz="2000" spc="-1" strike="noStrike">
                <a:solidFill>
                  <a:srgbClr val="ffcc66"/>
                </a:solidFill>
                <a:latin typeface="Comic Sans MS"/>
              </a:rPr>
              <a:t>CAPITULO IV. REPORTE SISTEMATICO </a:t>
            </a:r>
            <a:r>
              <a:rPr b="1" i="1" lang="es-ES" sz="2000" spc="-1" strike="noStrike">
                <a:solidFill>
                  <a:srgbClr val="ffcc66"/>
                </a:solidFill>
                <a:latin typeface="Comic Sans MS"/>
              </a:rPr>
              <a:t>(art. 21)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. 21 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LOS SUJETOS OBLIGADOS </a:t>
            </a: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DEBERAN REPORTAR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ONFORME LO ESTABLECIDO EN EL ART 21 c) DE LA LEY 25.246 </a:t>
            </a: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QUELLAS OPERACIONES INUSUALES QUE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, DE ACUERDO A LA IDONEIDAD EXIGIBLE EN FUNCION DE LA ACTIVIDAD QUE REALIZAN Y EL ANALISIS EFECTUADO, </a:t>
            </a: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CONSIDEREN SOSPECHOSAS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DE LDA o FD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6D4C-FB79-400C-BEC1-0DA7A217CD7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54524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Comic Sans MS"/>
              </a:rPr>
              <a:t>U.I.F - RESOLUCION 65/2011</a:t>
            </a:r>
            <a:br>
              <a:rPr sz="2000"/>
            </a:br>
            <a:r>
              <a:rPr b="1" lang="es-ES" sz="2000" spc="-1" strike="noStrike">
                <a:solidFill>
                  <a:srgbClr val="ffcc66"/>
                </a:solidFill>
                <a:latin typeface="Comic Sans MS"/>
              </a:rPr>
              <a:t>CAPITULO IV. REPORTE SISTEMATICO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. 22 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L PLAZO PARA REPORTAR LOS HECHOS U OPERACIONES SOSPECHOSAS DE </a:t>
            </a: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LDA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SERA DE TREINTA </a:t>
            </a:r>
            <a:r>
              <a:rPr b="1" lang="es-ES" sz="2400" spc="-1" strike="noStrike" u="sng">
                <a:solidFill>
                  <a:srgbClr val="ffc000"/>
                </a:solidFill>
                <a:uFillTx/>
                <a:latin typeface="Comic Sans MS"/>
              </a:rPr>
              <a:t>(30) DIAS A PARTIR DE LA TOMA DE CONOCIMIENTO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 23.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L PLAZO PARA REPORTAR LOS HECHOS U OPERACIONES SOSPECHOSAS DE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FDT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SERA DE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Comic Sans MS"/>
              </a:rPr>
              <a:t>CUARENTA Y OCHO (48) HORAS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 PARTIR DE LA TOMA DE CONOCIMIENTO, HABILITANDOSE DIAS Y HORAS INHABILES A TAL EF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 24.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LOS DATOS DE LOS R.O.S. NO PODRAN FIGURAR EN ACTAS O DOCUMENTOS A EXHIB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.25.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L REPORTE DE R.O.S. DEBE SER FUNDADO Y CONTENER UNA DESCRIPCION DE LAS CIRCUNSTANCIAS POR LAS CUALES SE CONSIDERA QUE LA OPERACIÓN DETENTA TAL CARÁC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3492-BB75-45B5-89D7-ECE102D1A9E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Comic Sans MS"/>
              </a:rPr>
              <a:t>U.I.F - RESOLUCION 65/2011</a:t>
            </a:r>
            <a:br>
              <a:rPr sz="2000"/>
            </a:br>
            <a:r>
              <a:rPr b="1" lang="es-ES" sz="2000" spc="-1" strike="noStrike">
                <a:solidFill>
                  <a:srgbClr val="ffcc66"/>
                </a:solidFill>
                <a:latin typeface="Comic Sans MS"/>
              </a:rPr>
              <a:t>CAPITULO IV. REPORTE SISTEMATICO (hasta ART. 27)</a:t>
            </a:r>
            <a:br>
              <a:rPr sz="2000"/>
            </a:br>
            <a:r>
              <a:rPr b="1" lang="es-ES" sz="2000" spc="-1" strike="noStrike">
                <a:solidFill>
                  <a:srgbClr val="ffcc66"/>
                </a:solidFill>
                <a:latin typeface="Comic Sans MS"/>
              </a:rPr>
              <a:t>CAPITULO V. SANCIONES (ART 28)</a:t>
            </a:r>
            <a:br>
              <a:rPr sz="2000"/>
            </a:br>
            <a:r>
              <a:rPr b="1" lang="es-ES" sz="2000" spc="-1" strike="noStrike">
                <a:solidFill>
                  <a:srgbClr val="ffcc66"/>
                </a:solidFill>
                <a:latin typeface="Comic Sans MS"/>
              </a:rPr>
              <a:t>CAPITULO VI DISPOSICIONES TRANSITORIAS (art 29 a 31)</a:t>
            </a:r>
            <a:br>
              <a:rPr sz="2000"/>
            </a:b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. 26 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L REPORTE DE OPERACIONES SOSPECHOSAS DEBERA AJUSTARSE A LO ESTABLECIDO EN LA RESOLUCION UIF 51/201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 27.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L S.O. DEBERA ELABORAR UN </a:t>
            </a:r>
            <a:r>
              <a:rPr b="1" lang="es-ES" sz="2400" spc="-1" strike="noStrike" u="sng">
                <a:solidFill>
                  <a:srgbClr val="ffc000"/>
                </a:solidFill>
                <a:uFillTx/>
                <a:latin typeface="Comic Sans MS"/>
              </a:rPr>
              <a:t>REGISTRO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O BASE DE DATOS QUE CONTENGA IDENTIFICADOS TODOS LOS SUPUESTOS EN QUE HAYAN EXISTIDO O. S. ESTA DEBERA SER SUFICIENTE PARA LA RECONSTRUCCION DE LAS O.S. Y SERVIR DE PRUEBA EN EVENTUALES ACCIONES JUDIC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 28.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UALQUIER INCUMPLIMIENTO SE SANCIONARÁ CONFORME EL CAP. IV LEY 2524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.29.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VIG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 30 Y 31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DE FOR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orge H Santesteban Hunter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99D3-1EA8-4F1F-8782-01F7D05A5D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3 Rectángulo"/>
          <p:cNvSpPr/>
          <p:nvPr/>
        </p:nvSpPr>
        <p:spPr>
          <a:xfrm>
            <a:off x="324000" y="0"/>
            <a:ext cx="828036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spectos novedosos que afectan al Contador Público como consecuencia de la reforma de la ley 25.246, la Resolución UIF 65/2011 y proyecto de modificaciones a la RES 311/2005 FACP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Comic Sans MS"/>
              </a:rPr>
              <a:t>Identificación del delito preceden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Inclusión del delito tributario (Ley 24769) entre los precedent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Comic Sans MS"/>
              </a:rPr>
              <a:t>Tipificación del “auto lavado” como delito precedente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Incorporación de nuevos sujetos obligados. Casos de clientes incluido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Comic Sans MS"/>
              </a:rPr>
              <a:t>Oficial de cumplimiento en las personas jurídicas. Responsabilidades emergent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25D3-EF98-49B6-B676-847FC762643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CONTADOR COMO AUDITOR EXTERN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MITE OPINION RESPECTO “SENS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REQUISITO ESENCIAL INDEPEND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Comic Sans MS"/>
              </a:rPr>
              <a:t>SOLO LE INTERESA LO </a:t>
            </a:r>
            <a:r>
              <a:rPr b="1" lang="es-ES_tradnl" sz="2400" spc="-1" strike="noStrike" u="sng">
                <a:solidFill>
                  <a:srgbClr val="ff9900"/>
                </a:solidFill>
                <a:uFillTx/>
                <a:latin typeface="Comic Sans MS"/>
              </a:rPr>
              <a:t>SIGNIFIC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¿CUMPLIMIENTO DE LAS NORMAS CONTABLES VIGENT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OPINION = INFORME BREVE SUSTENTADO EN PROCEDIMI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9900"/>
                </a:solidFill>
                <a:uFillTx/>
                <a:latin typeface="Comic Sans MS"/>
              </a:rPr>
              <a:t>PAPELES DE TRABAJO </a:t>
            </a:r>
            <a:r>
              <a:rPr b="0" lang="es-ES_tradnl" sz="2800" spc="-1" strike="noStrike">
                <a:solidFill>
                  <a:srgbClr val="ff9900"/>
                </a:solidFill>
                <a:latin typeface="Comic Sans MS"/>
              </a:rPr>
              <a:t>DE RESPAL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orge H Santesteban Hunter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B1F8-8FAD-42EF-91C6-F4B7A7045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3 Rectángulo"/>
          <p:cNvSpPr/>
          <p:nvPr/>
        </p:nvSpPr>
        <p:spPr>
          <a:xfrm>
            <a:off x="324000" y="0"/>
            <a:ext cx="792000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spectos novedosos que afectan al Contador Público como consecuencia de la reforma de la ley 25.246, la Resolución UIF 65/2011 y proyecto de modificaciones a la RES 311/2005 FACP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Información mínima a requerir a los clientes incluidas en la ley (21 bi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Comic Sans MS"/>
              </a:rPr>
              <a:t>Conceptualización del secreto profesional y rango de preeminenci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aracterización del ingreso como ilícito para su encuadre lega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Comic Sans MS"/>
              </a:rPr>
              <a:t>Responsabilidad de informar. Su castigo se eleva hasta $ 500.000.- o más…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orge H Santesteban Hunter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7874-FFE2-4FD5-A6BC-7D46B1A6C1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4 Rectángulo"/>
          <p:cNvSpPr/>
          <p:nvPr/>
        </p:nvSpPr>
        <p:spPr>
          <a:xfrm>
            <a:off x="826920" y="0"/>
            <a:ext cx="7777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b0f0"/>
                </a:solidFill>
                <a:latin typeface="Comic Sans MS"/>
              </a:rPr>
              <a:t>R.O.S.: Tipo de reportant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b0f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b0f0"/>
                </a:solidFill>
                <a:latin typeface="Comic Sans MS"/>
              </a:rPr>
              <a:t>INFORME DE CASOS REPORTADOS AL: </a:t>
            </a:r>
            <a:r>
              <a:rPr b="0" lang="es-ES" sz="1800" spc="-1" strike="noStrike">
                <a:solidFill>
                  <a:srgbClr val="00b0f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00b0f0"/>
                </a:solidFill>
                <a:latin typeface="Comic Sans MS"/>
              </a:rPr>
              <a:t>31.03.2011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Sector Financiero y Cambiario 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8.250 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BCRA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   621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Sociedades Artículo 9º de la Ley 22.315 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   596 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Escribanos Públicos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   312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Remisores de Fondos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   277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AFIP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   261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Registros Seccionales de la Propiedad Automotor y de Créditos Prendarios 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    95 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Sector Seguros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    84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Adm. Tarjetas de Crédito y/o Compra 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    39 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Sociedades de Bolsa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    38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CNV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    33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Transportadoras de Caudales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    27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Juegos de Azar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    26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Otros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    23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SSN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    17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c000"/>
                </a:solidFill>
                <a:uFillTx/>
                <a:latin typeface="Comic Sans MS"/>
              </a:rPr>
              <a:t>Contador Público </a:t>
            </a:r>
            <a:r>
              <a:rPr b="0" lang="es-ES" sz="1800" spc="-1" strike="noStrike" u="sng">
                <a:solidFill>
                  <a:srgbClr val="ffc000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c000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c000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c000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c000"/>
                </a:solidFill>
                <a:uFillTx/>
                <a:latin typeface="Comic Sans MS"/>
              </a:rPr>
              <a:t>	</a:t>
            </a:r>
            <a:r>
              <a:rPr b="0" lang="es-ES" sz="1800" spc="-1" strike="noStrike" u="sng">
                <a:solidFill>
                  <a:srgbClr val="ffc000"/>
                </a:solidFill>
                <a:uFillTx/>
                <a:latin typeface="Comic Sans MS"/>
              </a:rPr>
              <a:t>     9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Registros de la Propiedad Inmueble 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     2 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Dirección de Personas Jurídicas 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     2 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Comic Sans MS"/>
              </a:rPr>
              <a:t>10.71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CF2F-C009-45B2-A5A1-FCF39569D15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CONCLUSION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87058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onocimiento previo de la ley, resoluciones de la UIF y normas profesionales aplicables.  Conveniente también conocer las cuarenta recomendaciones del GAF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Inscribirse en la UIF.  Pagina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laborar un Manual de Control interno del Estudio / Firma Anti l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Preparar programa global anti lav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onfeccionar programas de trabajo con procedimientos adecuados por rangos de clientes, con base en las normas profesio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006E-A036-4271-B784-1A1E5BD0322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CONCLUSION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836640"/>
            <a:ext cx="8915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onozca a su cliente. Confeccionar legajo de cada uno alcanzado. Establezca un perfil de riesgo de cada cli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istinción entre clientes incluidos o no en el art 20 de la ley 25.24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Activo o Ventas superiores a $ 6.000.000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n caso de duplicarse activo o ventas, el crecimiento debe superar los $ 600.000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termine rango de significación del servicio a pres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mita y conserve adecuados papeles de trabaj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673C-4B23-4A56-BF75-3D4F64766DF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CONCLUSION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istinga entre operación usual, inusual y sospecho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leve a cabo un debido proceso de identificación y “clarificación” de las operaciones inusual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 calificarse como sospechosas: Reporte en los plazos establec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 Reportar, lleve registro del Repor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 Reportar, evaluar el dilema ético de mantener al Cli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0E08-B626-4692-AA1C-4F4B24B69C0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CONCLUSION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836640"/>
            <a:ext cx="8915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apacítese y extienda la capacitación al personal profesional o afectado a auditorías o colaboración en sindicaturas societarias al menos una vez al añ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Incorpore herramientas tecnológicas a los procedimien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Incorpore un párrafo en su informe de auditoría o sindicatura societaria, que se refiera a la aplicación de la no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2556-2C61-4428-85F1-D70E3E38CBB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jsantesteban@fibertel.com.ar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WordArt 1027"/>
          <p:cNvSpPr txBox="1"/>
          <p:nvPr/>
        </p:nvSpPr>
        <p:spPr>
          <a:xfrm>
            <a:off x="2057400" y="1828800"/>
            <a:ext cx="5257800" cy="27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UCHAS GRACIA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E712-3700-4919-9720-0F768871D73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Comic Sans MS"/>
              </a:rPr>
              <a:t>SUJETOS OBLIGADOS</a:t>
            </a:r>
            <a:br>
              <a:rPr sz="3200"/>
            </a:br>
            <a:r>
              <a:rPr b="1" lang="es-ES" sz="3200" spc="-1" strike="noStrike">
                <a:solidFill>
                  <a:srgbClr val="ffcc66"/>
                </a:solidFill>
                <a:latin typeface="Comic Sans MS"/>
              </a:rPr>
              <a:t>DEBER DE INFORMAR </a:t>
            </a:r>
            <a:br>
              <a:rPr sz="3200"/>
            </a:br>
            <a:r>
              <a:rPr b="1" lang="es-ES" sz="3200" spc="-1" strike="noStrike">
                <a:solidFill>
                  <a:srgbClr val="ffcc66"/>
                </a:solidFill>
                <a:latin typeface="Comic Sans MS"/>
              </a:rPr>
              <a:t>ART. 21 LEY 25.246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8390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REGLA : </a:t>
            </a:r>
            <a:r>
              <a:rPr b="1" lang="es-ES" sz="3200" spc="-1" strike="noStrike" u="sng">
                <a:solidFill>
                  <a:srgbClr val="ffcc00"/>
                </a:solidFill>
                <a:uFillTx/>
                <a:latin typeface="Comic Sans MS"/>
              </a:rPr>
              <a:t>CONOZCA A SU CL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cc00"/>
                </a:solidFill>
                <a:uFillTx/>
                <a:latin typeface="Comic Sans MS"/>
              </a:rPr>
              <a:t>INFORMAR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3200" spc="-1" strike="noStrike" u="sng">
                <a:solidFill>
                  <a:srgbClr val="ffcc00"/>
                </a:solidFill>
                <a:uFillTx/>
                <a:latin typeface="Comic Sans MS"/>
              </a:rPr>
              <a:t>A LA UIF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 LAS OPERACIONES SOSPECHOS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cc00"/>
                </a:solidFill>
                <a:uFillTx/>
                <a:latin typeface="Comic Sans MS"/>
              </a:rPr>
              <a:t>ABSTENERSE DE REVELAR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 AL CLIENTE O A TERCEROS LAS ACTUACIONES QUE ESTE REALIZAN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R 65/2011 de la UIF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IGENC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ODO SERVICIO DE AUDITORÍA,SINDICATURA CON EJERCICIOS INICIADOS EL </a:t>
            </a: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1º/1/2011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ESPECÍF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-  </a:t>
            </a: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SALVO LOS ART 22 Y 23 EN RELACION CON EL PLAZO DE REPORTE DE OPERACIONES SOSPECHOSAS QUE OPERA DESDE LA PUBLICACION EN EL BOLETIN OFICIA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2d050"/>
                </a:solidFill>
                <a:latin typeface="Comic Sans MS"/>
              </a:rPr>
              <a:t>INTERPRETACION DE LA VIGENCIA ANTE LA DEROGACION DE LA 25/20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298B-FACC-4CFE-971F-1B99ED42438E}" type="slidenum"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9A5A-A5C0-40FC-A4C5-2E7F566AC83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Comic Sans MS"/>
              </a:rPr>
              <a:t>U.I.F - RESOLUCION 65/2011</a:t>
            </a:r>
            <a:br>
              <a:rPr sz="3200"/>
            </a:br>
            <a:r>
              <a:rPr b="1" lang="es-ES" sz="3200" spc="-1" strike="noStrike">
                <a:solidFill>
                  <a:srgbClr val="ffcc66"/>
                </a:solidFill>
                <a:latin typeface="Comic Sans MS"/>
              </a:rPr>
              <a:t>CAPITULO I.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Comic Sans MS"/>
              </a:rPr>
              <a:t>OBJETO</a:t>
            </a:r>
            <a:r>
              <a:rPr b="1" lang="es-ES" sz="3200" spc="-1" strike="noStrike">
                <a:solidFill>
                  <a:srgbClr val="ffcc66"/>
                </a:solidFill>
                <a:latin typeface="Comic Sans MS"/>
              </a:rPr>
              <a:t> Y DEFINICION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227664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ABLECER LAS MEDIDAS Y PROCEDIMIENTOS QUE LOS SUJETOS OBLIGADOS </a:t>
            </a:r>
            <a:r>
              <a:rPr b="1" i="1" lang="es-ES" sz="2400" spc="-1" strike="noStrike">
                <a:solidFill>
                  <a:srgbClr val="ffc000"/>
                </a:solidFill>
                <a:latin typeface="Comic Sans MS"/>
              </a:rPr>
              <a:t>(Profesionales en Ciencias Económicas)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DEBERÁN OBSERVAR PARA PREVENIR, DETECTAR Y REPORTAR, LOS HECHOS, ACTOS, OPERACIONES U OMISIONES </a:t>
            </a:r>
            <a:r>
              <a:rPr b="1" lang="es-ES" sz="2800" spc="-1" strike="noStrike">
                <a:solidFill>
                  <a:srgbClr val="ffc000"/>
                </a:solidFill>
                <a:latin typeface="Comic Sans MS"/>
              </a:rPr>
              <a:t>QUE PUEDAN </a:t>
            </a:r>
            <a:r>
              <a:rPr b="1" lang="es-ES" sz="2800" spc="-1" strike="noStrike" u="sng">
                <a:solidFill>
                  <a:srgbClr val="ffc000"/>
                </a:solidFill>
                <a:uFillTx/>
                <a:latin typeface="Comic Sans MS"/>
              </a:rPr>
              <a:t>PROVENIR</a:t>
            </a:r>
            <a:r>
              <a:rPr b="1" lang="es-ES" sz="28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DE LA COMISION DE LOS DELITOS DE LAVADO DE ACTIVOS Y FINANCIACION DEL TERRORISMO </a:t>
            </a:r>
            <a:r>
              <a:rPr b="1" i="1" lang="es-ES" sz="2400" spc="-1" strike="noStrike">
                <a:solidFill>
                  <a:srgbClr val="ffc000"/>
                </a:solidFill>
                <a:latin typeface="Comic Sans MS"/>
              </a:rPr>
              <a:t>(art. 1º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4AF0-FD88-407A-8444-BB9E20D93E0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66"/>
                </a:solidFill>
                <a:latin typeface="Comic Sans MS"/>
              </a:rPr>
              <a:t>U.I.F - RESOLUCION 65/2011</a:t>
            </a:r>
            <a:br>
              <a:rPr sz="2400"/>
            </a:br>
            <a:r>
              <a:rPr b="1" lang="es-ES" sz="2400" spc="-1" strike="noStrike">
                <a:solidFill>
                  <a:srgbClr val="ffcc66"/>
                </a:solidFill>
                <a:latin typeface="Comic Sans MS"/>
              </a:rPr>
              <a:t>CAPITULO I. OBJETO Y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Comic Sans MS"/>
              </a:rPr>
              <a:t>DEFINICIONES </a:t>
            </a:r>
            <a:r>
              <a:rPr b="1" i="1" lang="es-ES" sz="2400" spc="-1" strike="noStrike">
                <a:solidFill>
                  <a:srgbClr val="ffc000"/>
                </a:solidFill>
                <a:latin typeface="Comic Sans MS"/>
              </a:rPr>
              <a:t>(art 2º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883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d55000"/>
                </a:solidFill>
                <a:latin typeface="Comic Sans MS"/>
              </a:rPr>
              <a:t>b)OPERACIONES INUSU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SON AQUELLAS OPERACIONE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TENTADAS O REALIZAD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EN FORM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AISLADA O REITERADA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SI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JUSTIFICACION ECONOMICA Y/O JURIDICA</a:t>
            </a: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QU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NO</a:t>
            </a: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 GUARDAN RELACION CO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EL PERFIL ECONOMICO-FINANCIERO DEL CLIENTE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DESVIANDOSE EN 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USOS Y COSTUMBRES EN LAS PRACTICAS DE MERCADO</a:t>
            </a:r>
            <a:r>
              <a:rPr b="1" lang="es-ES" sz="2800" spc="-1" strike="noStrike">
                <a:solidFill>
                  <a:srgbClr val="ffcc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YA SEA </a:t>
            </a: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POR SU FRECUENCIA, HABITUALIDAD, MONTO, COMPLEJIDAD, NATURALEZA Y/O CARACTERISTICAS PARTICUL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82B6-FC55-4F08-B7D0-27CA82CE62D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66"/>
                </a:solidFill>
                <a:latin typeface="Comic Sans MS"/>
              </a:rPr>
              <a:t>U.I.F - RESOLUCION 65/2011</a:t>
            </a:r>
            <a:br>
              <a:rPr sz="2400"/>
            </a:br>
            <a:r>
              <a:rPr b="1" lang="es-ES" sz="2400" spc="-1" strike="noStrike">
                <a:solidFill>
                  <a:srgbClr val="ffcc66"/>
                </a:solidFill>
                <a:latin typeface="Comic Sans MS"/>
              </a:rPr>
              <a:t>CAPITULO I. OBJETO Y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Comic Sans MS"/>
              </a:rPr>
              <a:t>DEFINICIONES </a:t>
            </a:r>
            <a:r>
              <a:rPr b="1" i="1" lang="es-ES" sz="2400" spc="-1" strike="noStrike">
                <a:solidFill>
                  <a:srgbClr val="ffc000"/>
                </a:solidFill>
                <a:latin typeface="Comic Sans MS"/>
              </a:rPr>
              <a:t>(art 2º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d55000"/>
                </a:solidFill>
                <a:latin typeface="Comic Sans MS"/>
              </a:rPr>
              <a:t>c) OPERACIONES SOSPECHO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SON AQUELLAS OPERACIONES TENTADAS O REALIZADAS </a:t>
            </a:r>
            <a:r>
              <a:rPr b="1" lang="es-ES" sz="2800" spc="-1" strike="noStrike" u="sng">
                <a:solidFill>
                  <a:srgbClr val="ffc000"/>
                </a:solidFill>
                <a:uFillTx/>
                <a:latin typeface="Comic Sans MS"/>
              </a:rPr>
              <a:t>QUE HABIENDOSE IDENTIFICADO PREVIAMENTE COMO INUSUALES</a:t>
            </a: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, </a:t>
            </a:r>
            <a:r>
              <a:rPr b="1" lang="es-ES" sz="2800" spc="-1" strike="noStrike" u="sng">
                <a:solidFill>
                  <a:srgbClr val="ffc000"/>
                </a:solidFill>
                <a:uFillTx/>
                <a:latin typeface="Comic Sans MS"/>
              </a:rPr>
              <a:t>LUEGO DEL ANALISIS Y EVALUACION REALIZADOS POR EL SUJETO OBLIGADO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, LAS MISMAS NO GUARDAN RELACION CON </a:t>
            </a:r>
            <a:r>
              <a:rPr b="1" lang="es-ES" sz="2800" spc="-1" strike="noStrike" u="sng">
                <a:solidFill>
                  <a:srgbClr val="ffc000"/>
                </a:solidFill>
                <a:uFillTx/>
                <a:latin typeface="Comic Sans MS"/>
              </a:rPr>
              <a:t>LAS ACTIVIDADES LÍCITAS DECLARADAS POR EL CLIENTE</a:t>
            </a:r>
            <a:r>
              <a:rPr b="1" lang="es-ES" sz="2800" spc="-1" strike="noStrike">
                <a:solidFill>
                  <a:srgbClr val="ffc000"/>
                </a:solidFill>
                <a:latin typeface="Comic Sans MS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OCASIONANDO SOSPECHA DE LAVADO DE ACTIVOS O AÚN TRATANDOSE DE OPERACIONES RELACIONADAS CON ACTIVIDADES LÍCITAS, EXISTA SOSPECHA DE QUE ESTEN VINCULADAS O QUE VAYAN A SER UTILIZADAS PARA LA FINANCIACION DEL TERRORIS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A5C2-5FF9-4630-ACC4-B1E561C7F85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66"/>
                </a:solidFill>
                <a:latin typeface="Comic Sans MS"/>
              </a:rPr>
              <a:t>U.I.F - RESOLUCION 65/2011</a:t>
            </a:r>
            <a:br>
              <a:rPr sz="2800"/>
            </a:br>
            <a:r>
              <a:rPr b="1" lang="es-ES" sz="2800" spc="-1" strike="noStrike">
                <a:solidFill>
                  <a:srgbClr val="ffcc66"/>
                </a:solidFill>
                <a:latin typeface="Comic Sans MS"/>
              </a:rPr>
              <a:t>CAPITULO I. OBJETO Y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DEFINICIONES </a:t>
            </a:r>
            <a:r>
              <a:rPr b="1" i="1" lang="es-ES" sz="2400" spc="-1" strike="noStrike">
                <a:solidFill>
                  <a:srgbClr val="ffc000"/>
                </a:solidFill>
                <a:latin typeface="Comic Sans MS"/>
              </a:rPr>
              <a:t>(art 2º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mic Sans MS"/>
              </a:rPr>
              <a:t>ALGUNAS OPERACIONES PUEDEN SER  INUSU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00"/>
                </a:solidFill>
                <a:latin typeface="Comic Sans MS"/>
              </a:rPr>
              <a:t>pero…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00"/>
                </a:solidFill>
                <a:latin typeface="Comic Sans MS"/>
              </a:rPr>
              <a:t>NO TODA OPERACIÓN INUSUAL ES SOSPECHOS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876D-A146-4B76-8156-B2EAE5D99A2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400" spc="-1" strike="noStrike">
                <a:solidFill>
                  <a:srgbClr val="ffcc66"/>
                </a:solidFill>
                <a:latin typeface="Comic Sans MS"/>
              </a:rPr>
              <a:t>U.I.F - RESOLUCION 65/2011</a:t>
            </a:r>
            <a:br>
              <a:rPr sz="2400"/>
            </a:br>
            <a:r>
              <a:rPr b="1" lang="es-ES" sz="2400" spc="-1" strike="noStrike">
                <a:solidFill>
                  <a:srgbClr val="ffcc66"/>
                </a:solidFill>
                <a:latin typeface="Comic Sans MS"/>
              </a:rPr>
              <a:t>CAPITULO I. OBJETO Y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Comic Sans MS"/>
              </a:rPr>
              <a:t>DEFINICIONES </a:t>
            </a:r>
            <a:r>
              <a:rPr b="1" i="1" lang="es-ES" sz="2000" spc="-1" strike="noStrike">
                <a:solidFill>
                  <a:srgbClr val="ffc000"/>
                </a:solidFill>
                <a:latin typeface="Comic Sans MS"/>
              </a:rPr>
              <a:t>(art 2º)</a:t>
            </a:r>
            <a:br>
              <a:rPr sz="2400"/>
            </a:br>
            <a:br>
              <a:rPr sz="2800"/>
            </a:b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55000"/>
                </a:solidFill>
                <a:latin typeface="Comic Sans MS"/>
              </a:rPr>
              <a:t>e) </a:t>
            </a:r>
            <a:r>
              <a:rPr b="1" lang="es-ES" sz="2400" spc="-1" strike="noStrike" u="sng">
                <a:solidFill>
                  <a:srgbClr val="d55000"/>
                </a:solidFill>
                <a:uFillTx/>
                <a:latin typeface="Comic Sans MS"/>
              </a:rPr>
              <a:t>SUJETO OBL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66"/>
                </a:solidFill>
                <a:latin typeface="Comic Sans MS"/>
              </a:rPr>
              <a:t>AUDITOR  EXTERNO </a:t>
            </a:r>
            <a:r>
              <a:rPr b="1" lang="es-ES" sz="2400" spc="-1" strike="noStrike" u="sng">
                <a:solidFill>
                  <a:srgbClr val="009900"/>
                </a:solidFill>
                <a:uFillTx/>
                <a:latin typeface="Comic Sans MS"/>
              </a:rPr>
              <a:t>y</a:t>
            </a:r>
            <a:r>
              <a:rPr b="1" lang="es-ES" sz="2400" spc="-1" strike="noStrike">
                <a:solidFill>
                  <a:srgbClr val="ffcc66"/>
                </a:solidFill>
                <a:latin typeface="Comic Sans MS"/>
              </a:rPr>
              <a:t> SINDICO SOCIET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UANDO SE BRINDEN SERVICIOS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 -LOS SUJETOS DEL ART 20 LEY 25.24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B -BIEN A LOS NO ALCANZADOS PERO QU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POSEAN UN ACTIVO SUPERIOR A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$ 6.000.000.-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b) HAYAN </a:t>
            </a: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DUPLICADO SU ACTIVO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O SUS </a:t>
            </a: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VENTAS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EN EL TERMINO DE UN AÑO, CONFORME SURJA DE EECC AUDITADOS. </a:t>
            </a:r>
            <a:r>
              <a:rPr b="1" i="1" lang="es-ES" sz="2400" spc="-1" strike="noStrike">
                <a:solidFill>
                  <a:srgbClr val="92d050"/>
                </a:solidFill>
                <a:latin typeface="Comic Sans MS"/>
              </a:rPr>
              <a:t>(SUPERANDO LOS $600.000.-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19:42:14Z</dcterms:created>
  <dc:creator>..</dc:creator>
  <dc:description/>
  <dc:language>en-US</dc:language>
  <cp:lastModifiedBy>Jorge Santesteban</cp:lastModifiedBy>
  <dcterms:modified xsi:type="dcterms:W3CDTF">2011-07-11T03:01:36Z</dcterms:modified>
  <cp:revision>198</cp:revision>
  <dc:subject/>
  <dc:title>Sin título de diapositiva</dc:title>
</cp:coreProperties>
</file>