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B6B-771A-49B3-8798-23FE800BF3E1}" type="slidenum">
              <a:rPr b="0" lang="es-A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3306-BC2B-4A78-8020-EB19E273FFED}" type="slidenum">
              <a:rPr b="0" lang="es-A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F2E-A1C6-4B76-BCD4-9523EB9E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842-8704-48CB-BB1F-457021C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98455-2431-4284-8A6B-3154A50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BFD07-9266-4CEC-B46A-12BF0F9F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1774F-5A08-451D-9692-E716978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48EC5-2ABE-4A57-91F0-F17D83D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9F8A-8BD7-46E1-9ECD-4007DDF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5A422-3F3A-48A9-835B-65F3F442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93C0-F51F-4CE0-9B07-E567BBE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56A82-E1E2-47F5-A3C6-84C9016E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7F755-8952-4C3D-A872-9BC446E2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DCF-F3D0-4A16-B49A-DB39D734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D0D-378B-4E97-9860-D2B55A4F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8E95-010E-428D-8E1E-9A3DEB17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CB00-1A68-471E-BBED-8A0B973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23C8-9A63-49C9-8CEC-2A4D53E4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D83-5A0F-4EA0-BE76-B8D07441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6611-9B9F-4D77-B27F-09369EE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7988-AC66-4CF9-95BE-7A5E7434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47B8-10E4-44F0-95D8-6CF26BB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416-69C2-4E80-9877-12D846D4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1F5-8F55-4553-9AD6-6232C96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0D3-45CE-4B17-BB57-B94234C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6A4-155A-4C0F-A7DA-8892692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0ED-9A1A-47AE-8A6C-EC8528F5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16D-0B2B-4E1C-AF17-E8195FE8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4E9E-6837-4B17-8D08-7C8D9629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2509-4557-4FE0-A184-39AAF50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315E-7E8E-436D-868B-FB7C9FE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117A-EB72-4B29-BF0D-2913B582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E934-D209-486B-AAD0-2DD90CB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B44-4791-4BC4-A554-F1FD8A6D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E256-56D0-4D7D-881A-0630DC8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64FC-6B9B-4A45-A81B-AEEDC7B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CDB6-D836-4461-A44B-0EC1E02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1560-7A13-47CC-9DEE-ABDBD74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D690-6B37-4B9E-AADB-4C1DC7E1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AEE7-CACA-4875-88AA-623D3440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F842-16FA-4963-B740-EE3AB7C0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35EFD-3716-40D9-82F1-F2D65B6D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ED478-2D0D-4E41-BB14-85B6813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B51F2-3EBA-41A4-85D0-22E03E9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64B-41BF-4090-80B3-4B2106AA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90A89-FA66-4D21-AC01-0D3E8EC4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4AFFA-E84E-437E-AD8D-D5E9B7D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4ED47-30B4-45A2-A1ED-090B3F33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E046D-44F0-4E37-8A09-2605C6D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EB7A8-3249-467C-B354-A7E41B1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88DF2-4318-43FA-9F34-3706AE4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D0158-991C-4553-B926-E549158F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558CE-3864-4BCC-8D82-C12597EB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8D44D-280B-48BC-8765-8D1D471F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D14F8-A280-47AD-9440-3EE5A663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331-103E-4753-A4A5-D062DE2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34C1D-EFA1-45EA-AD2D-74EB270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51546-3F72-475B-A0A0-10C6338D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847D4-1298-4D49-8C07-C8044F7A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EBCDC-A857-4406-B3A5-09DFBDF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FE538-4BB8-4C90-B5EB-1BABD54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019DF-9650-46FD-B556-0593DD9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5115A-3021-4231-BF5A-55CC865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E3BC7-6B4E-46F6-A845-EB50371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5060C-02C4-4451-B6B3-D36C5C0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379CB-DAE2-4D55-9ACE-C922DC6E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362-5BF0-46BE-AA1E-F917C49C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8FA57-C6DF-46AF-9E1B-7CF9F25E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A3867-4FEA-426B-B74D-8C58DA6E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202EA-37C5-4556-A010-BAFE8EF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986A6-BC2E-4B48-8A6E-E68C0A1A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4BB4C-BA57-442E-93AE-AED34352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54B39-F46E-4783-9B6D-2212125E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99D3B-8351-4B1E-A489-64BA0FAF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AABC0-77E9-4DE3-93AF-5F384FA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8CAF5-C0D8-4B89-B811-A76EE46F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22ACF-0C86-4D4F-A348-A96F423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F9C-AE68-464E-A3AD-2500D3B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EBEFF-D1F7-46DE-B5D7-6892340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ACC47-039D-4A13-80AA-B24AC839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CB9CF-5420-4EEE-B94A-3D1F38CB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D0FB-7DAF-4A40-8791-94888ABB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DD05-A1A9-4031-81F4-C908BF7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56997-88AF-4CBB-94C0-5C15EC97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9E20-90F4-48E1-B6C2-CA2FF86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FA85-A267-47B8-B199-EBBD645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07DBF-0E97-4341-9CC7-864849B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659B-1BBA-45E6-AE4E-6E81D3BB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2B1-431A-42C3-9015-6951037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5398-EE07-4BE0-8780-1937E8C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BBC45-36BB-404E-8730-D43A409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73620-2085-4ACE-AA7F-6891E7B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1C4A-4A2F-474B-8B2A-28B291D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D019-EAFB-485C-A4CC-4C8A9EF5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C6185-1266-490D-A7D1-2B6133EB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3D3BC-125F-4CDA-ADA3-2E634222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7BAE5-EC0C-4514-8950-5D429C5E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031CD-5A80-4C63-B651-5B62CF3C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C4B72-4AF4-409F-A0B1-E9246B5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2AC-4362-4F67-AF4E-A64A11F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AFA8E-94A2-44C6-8312-FB85374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BC583-5A74-41C6-805C-BEA7EA0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EA585-3552-4A59-9A62-F6567A6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586C2-8F62-4A0E-AA95-95CDB7D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860F0-904D-40FB-B212-7D0CF4F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35E58-0FD0-43C5-B15A-533C9777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8D8BD-6DB2-46A3-9D4B-81683FEF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37B17-E472-4180-A139-1A29C003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3DC9-2235-465C-903C-47A47E3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E19C4-EC6A-45A7-AC86-E8BE1BE4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DD2-F4B6-4FCB-B0DB-46168BE0D646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8848-3495-456F-B6E3-7F4EB76937CB}" type="slidenum">
              <a:rPr b="1" lang="es-A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2359080" y="6072120"/>
            <a:ext cx="6784920" cy="785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-9360" y="6072120"/>
            <a:ext cx="3295440" cy="785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88F-C7ED-4CA9-805B-27AEECDF2F41}" type="datetime">
              <a:rPr b="0" lang="es-AR" sz="2000" spc="-1" strike="noStrike">
                <a:solidFill>
                  <a:srgbClr val="ffffff"/>
                </a:solidFill>
                <a:latin typeface="Tw Cen MT"/>
              </a:rPr>
              <a:t>31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c9c2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911E-F210-42AF-B136-63AAD8468949}" type="slidenum">
              <a:rPr b="1" lang="es-AR" sz="1400" spc="-1" strike="noStrike">
                <a:solidFill>
                  <a:srgbClr val="c9c2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F35-CABB-4CE9-AD33-650B49D52E53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6132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90E3-2ACB-4120-824B-0CA2067EC4F9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 Rectángulo"/>
          <p:cNvSpPr/>
          <p:nvPr/>
        </p:nvSpPr>
        <p:spPr>
          <a:xfrm>
            <a:off x="0" y="1600200"/>
            <a:ext cx="1295280" cy="368604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Rectángulo"/>
          <p:cNvSpPr/>
          <p:nvPr/>
        </p:nvSpPr>
        <p:spPr>
          <a:xfrm>
            <a:off x="1371600" y="1600200"/>
            <a:ext cx="7772400" cy="36860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8995-2467-4CA6-86F0-A323DB183FB8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21B5-3D96-4011-ADF1-FAE956E32A77}" type="slidenum">
              <a:rPr b="1" lang="es-A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C433-54AE-4E3B-B170-7E724E9B0026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DDC-D0A5-4010-A364-08C259128C53}" type="slidenum">
              <a:rPr b="1" lang="es-A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5675-70C2-4E99-8AD5-9EADC62274AC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DA88-93D9-46EB-B0E9-89D1335A340B}" type="slidenum">
              <a:rPr b="1" lang="es-A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169-63FC-4E72-9492-86B06422D874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1A8-63AB-46CC-AF50-D27D15623BE4}" type="slidenum">
              <a:rPr b="1" lang="es-AR" sz="1400" spc="-1" strike="noStrike">
                <a:solidFill>
                  <a:srgbClr val="6967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C5C6-6201-423E-9D6E-75A04604D650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D273-CAE8-4778-B640-138EC6510ACA}" type="slidenum">
              <a:rPr b="1" lang="es-A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bb1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585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059F-A407-4DE5-B053-DDF989710875}" type="datetime">
              <a:rPr b="0" lang="es-AR" sz="1400" spc="-1" strike="noStrike">
                <a:solidFill>
                  <a:srgbClr val="69676d"/>
                </a:solidFill>
                <a:latin typeface="Tw Cen MT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391-6021-44FB-85BA-F0188228D382}" type="slidenum">
              <a:rPr b="1" lang="es-A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1 Título"/>
          <p:cNvGrpSpPr/>
          <p:nvPr/>
        </p:nvGrpSpPr>
        <p:grpSpPr>
          <a:xfrm>
            <a:off x="804960" y="682560"/>
            <a:ext cx="7869240" cy="4462560"/>
            <a:chOff x="804960" y="682560"/>
            <a:chExt cx="7869240" cy="4462560"/>
          </a:xfrm>
        </p:grpSpPr>
        <p:pic>
          <p:nvPicPr>
            <p:cNvPr id="402" name="1 Título" descr=""/>
            <p:cNvPicPr/>
            <p:nvPr/>
          </p:nvPicPr>
          <p:blipFill>
            <a:blip r:embed="rId1"/>
            <a:stretch/>
          </p:blipFill>
          <p:spPr>
            <a:xfrm>
              <a:off x="804960" y="682560"/>
              <a:ext cx="786924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57160" y="714240"/>
              <a:ext cx="7553520" cy="43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5400" spc="-1" strike="noStrike">
                  <a:solidFill>
                    <a:srgbClr val="ffffff"/>
                  </a:solidFill>
                  <a:latin typeface="Tw Cen MT"/>
                </a:rPr>
                <a:t>REGIMEN PENAL ADMINISTRATIVO EN LA NUEVA LEY DE LAVADO DE ACTIVOS Nº 2668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560" y="6071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JOSÉ A. DIAZ ORTIZ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3 CuadroTexto"/>
          <p:cNvSpPr/>
          <p:nvPr/>
        </p:nvSpPr>
        <p:spPr>
          <a:xfrm>
            <a:off x="-71280" y="6000840"/>
            <a:ext cx="3500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w Cen MT"/>
              </a:rPr>
              <a:t>JOR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w Cen MT"/>
              </a:rPr>
              <a:t>NUEVA LEY DE LAVADO DE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w Cen MT"/>
              </a:rPr>
              <a:t>CPCE C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w Cen MT"/>
              </a:rPr>
              <a:t>11/7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w Cen MT"/>
              </a:rPr>
              <a:t>Prescripción de las multas (Art. 24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13840" y="1571760"/>
            <a:ext cx="857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w Cen MT"/>
              </a:rPr>
              <a:t>Acción para aplicar las multas</a:t>
            </a: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 (Ap. 4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La acción para aplicar la sanción prescribirá a los 5 años del incumplimient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w Cen MT"/>
              </a:rPr>
              <a:t>Plazo para la ejecución de las multas</a:t>
            </a: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 (Ap. 4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El plazo es de 5 años para la ejecución de las multas, que se computan a partir de que quede firme el acto que así lo dispong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w Cen MT"/>
              </a:rPr>
              <a:t>Causales de interrupción de la prescripción para aplicar la multa</a:t>
            </a: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 (Ap. 5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Notificación del acto que disponga la apertura de la instrucción sumaria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Notificación del acto administrativo que disponga su aplica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614-9E50-4973-9297-B162A144EF19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501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Tw Cen MT"/>
              </a:rPr>
              <a:t>Recursos ante las multas aplicadas (L, 25)</a:t>
            </a:r>
            <a:endParaRPr b="0" lang="en-US" sz="4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7531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82760" indent="-482760">
              <a:spcBef>
                <a:spcPts val="1199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w Cen MT"/>
              </a:rPr>
              <a:t>Las resoluciones de la UIF serán recurribles ante la justicia en el fuero contencioso administrativo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482760" indent="-482760">
              <a:spcBef>
                <a:spcPts val="1199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w Cen MT"/>
              </a:rPr>
              <a:t>Aplicación de la ley 19549 de procedimientos administrativos (en lo pertinente)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C42-F941-48EC-B7D0-1EE982B0AA13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831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w Cen MT"/>
              </a:rPr>
              <a:t>Relación entre la resolución de la causa penal y el trámite del proceso administrativo (Art. 26)</a:t>
            </a:r>
            <a:endParaRPr b="0" lang="en-US" sz="32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Las relaciones entre la resolución de la causa penal y el trámite del proceso administrativo a que dieren lugar las infracciones previstas en la ley, se regirán por los Art. 1101 y siguientes y 3982 bis del Código Civil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7120" indent="-3571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Se entenderá por “Acción Civil”, la “Acción Penal administrativa”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77880" indent="-357120">
              <a:spcBef>
                <a:spcPts val="550"/>
              </a:spcBef>
              <a:buClr>
                <a:srgbClr val="ceb9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Prejudicialida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820-E998-4231-8886-9C3B0264F48F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w Cen MT"/>
              </a:rPr>
              <a:t>Procedimiento sumarial (Resolución UIF 10/3, 23/4/03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7A3-8C3E-456C-A689-888BAB54A80C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4 Rectángulo"/>
          <p:cNvSpPr/>
          <p:nvPr/>
        </p:nvSpPr>
        <p:spPr>
          <a:xfrm>
            <a:off x="3143160" y="1500120"/>
            <a:ext cx="1857600" cy="85716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CONDUCTA TIPIFICABLE “PRIMA FACI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5 Rectángulo"/>
          <p:cNvSpPr/>
          <p:nvPr/>
        </p:nvSpPr>
        <p:spPr>
          <a:xfrm>
            <a:off x="3143160" y="2643120"/>
            <a:ext cx="1857600" cy="50004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INSTRUCCIÓN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6 Rectángulo"/>
          <p:cNvSpPr/>
          <p:nvPr/>
        </p:nvSpPr>
        <p:spPr>
          <a:xfrm>
            <a:off x="3143160" y="3286080"/>
            <a:ext cx="1857600" cy="59076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NOTIFICACIÓN DOMICI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7 Rectángulo"/>
          <p:cNvSpPr/>
          <p:nvPr/>
        </p:nvSpPr>
        <p:spPr>
          <a:xfrm>
            <a:off x="3143160" y="4071960"/>
            <a:ext cx="1857600" cy="5904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DESCARGO Y PRUE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9 Rectángulo"/>
          <p:cNvSpPr/>
          <p:nvPr/>
        </p:nvSpPr>
        <p:spPr>
          <a:xfrm>
            <a:off x="3143160" y="4857840"/>
            <a:ext cx="1857600" cy="50004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0 Rectángulo"/>
          <p:cNvSpPr/>
          <p:nvPr/>
        </p:nvSpPr>
        <p:spPr>
          <a:xfrm>
            <a:off x="3143160" y="5500800"/>
            <a:ext cx="1857600" cy="50004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NO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1 Rectángulo"/>
          <p:cNvSpPr/>
          <p:nvPr/>
        </p:nvSpPr>
        <p:spPr>
          <a:xfrm>
            <a:off x="3143160" y="6181560"/>
            <a:ext cx="1857600" cy="60516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APE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CC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13 Conector recto de flecha"/>
          <p:cNvCxnSpPr>
            <a:stCxn id="455" idx="2"/>
            <a:endCxn id="456" idx="0"/>
          </p:cNvCxnSpPr>
          <p:nvPr/>
        </p:nvCxnSpPr>
        <p:spPr>
          <a:xfrm flipH="1">
            <a:off x="4071600" y="2357280"/>
            <a:ext cx="2160" cy="2865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15 Conector recto de flecha"/>
          <p:cNvCxnSpPr>
            <a:stCxn id="456" idx="2"/>
            <a:endCxn id="457" idx="0"/>
          </p:cNvCxnSpPr>
          <p:nvPr/>
        </p:nvCxnSpPr>
        <p:spPr>
          <a:xfrm flipH="1">
            <a:off x="4071600" y="3142800"/>
            <a:ext cx="2160" cy="1436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17 Conector recto de flecha"/>
          <p:cNvCxnSpPr>
            <a:stCxn id="457" idx="2"/>
            <a:endCxn id="458" idx="0"/>
          </p:cNvCxnSpPr>
          <p:nvPr/>
        </p:nvCxnSpPr>
        <p:spPr>
          <a:xfrm flipH="1">
            <a:off x="4070160" y="3878280"/>
            <a:ext cx="2160" cy="1958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19 Conector recto de flecha"/>
          <p:cNvCxnSpPr>
            <a:stCxn id="458" idx="2"/>
            <a:endCxn id="459" idx="0"/>
          </p:cNvCxnSpPr>
          <p:nvPr/>
        </p:nvCxnSpPr>
        <p:spPr>
          <a:xfrm flipH="1">
            <a:off x="4070160" y="4664160"/>
            <a:ext cx="2160" cy="1958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21 Conector recto de flecha"/>
          <p:cNvCxnSpPr>
            <a:stCxn id="459" idx="2"/>
            <a:endCxn id="460" idx="0"/>
          </p:cNvCxnSpPr>
          <p:nvPr/>
        </p:nvCxnSpPr>
        <p:spPr>
          <a:xfrm flipH="1">
            <a:off x="4070160" y="5358960"/>
            <a:ext cx="2160" cy="1436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24 Conector recto de flecha"/>
          <p:cNvCxnSpPr>
            <a:stCxn id="460" idx="2"/>
            <a:endCxn id="461" idx="0"/>
          </p:cNvCxnSpPr>
          <p:nvPr/>
        </p:nvCxnSpPr>
        <p:spPr>
          <a:xfrm flipH="1">
            <a:off x="4070160" y="6001920"/>
            <a:ext cx="2160" cy="1818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25 Rectángulo"/>
          <p:cNvSpPr/>
          <p:nvPr/>
        </p:nvSpPr>
        <p:spPr>
          <a:xfrm>
            <a:off x="428760" y="2071800"/>
            <a:ext cx="1857240" cy="78588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ACTU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CARÁ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w Cen MT"/>
              </a:rPr>
              <a:t>RESER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2 Rectángulo"/>
          <p:cNvSpPr/>
          <p:nvPr/>
        </p:nvSpPr>
        <p:spPr>
          <a:xfrm>
            <a:off x="285840" y="6181560"/>
            <a:ext cx="1857240" cy="60516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w Cen MT"/>
              </a:rPr>
              <a:t>PAGO MULTAS 10 DS FIRMEZA RE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34 Conector recto de flecha"/>
          <p:cNvCxnSpPr>
            <a:stCxn id="461" idx="1"/>
            <a:endCxn id="469" idx="3"/>
          </p:cNvCxnSpPr>
          <p:nvPr/>
        </p:nvCxnSpPr>
        <p:spPr>
          <a:xfrm flipH="1">
            <a:off x="2142720" y="6483960"/>
            <a:ext cx="1000800" cy="10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35 CuadroTexto"/>
          <p:cNvSpPr/>
          <p:nvPr/>
        </p:nvSpPr>
        <p:spPr>
          <a:xfrm>
            <a:off x="5143680" y="6262560"/>
            <a:ext cx="357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NTRO DE LOS 20 D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FECTO SUSPENS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6 CuadroTexto"/>
          <p:cNvSpPr/>
          <p:nvPr/>
        </p:nvSpPr>
        <p:spPr>
          <a:xfrm>
            <a:off x="5072040" y="2496960"/>
            <a:ext cx="392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ARGOS DESCRIPTOS EN FORMA PRECISA CON CLARA IDENTIFICACIÓN DE LOS H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CUADRAMIENTO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37 CuadroTexto"/>
          <p:cNvSpPr/>
          <p:nvPr/>
        </p:nvSpPr>
        <p:spPr>
          <a:xfrm>
            <a:off x="5072040" y="317016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F (PADRÓN ELECTO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J (IG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DICTO BO POR 3 DÍAS (DESCONOCIMEINTO DOMICIL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38 CuadroTexto"/>
          <p:cNvSpPr/>
          <p:nvPr/>
        </p:nvSpPr>
        <p:spPr>
          <a:xfrm>
            <a:off x="5072040" y="4000680"/>
            <a:ext cx="3929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10 DS HS ADMINISTRATIVOS CABA (DESDE DÍA SIGUIENTE NOTIFICACIÓN Y HASTA LAS 16 HS DEL DÍA DE V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PRESENTACIÓN LEGAL Y PROFESIONAL PATROCIN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9 CuadroTexto"/>
          <p:cNvSpPr/>
          <p:nvPr/>
        </p:nvSpPr>
        <p:spPr>
          <a:xfrm>
            <a:off x="571680" y="4000680"/>
            <a:ext cx="30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FRECIMIENTO PRU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OMPAÑAR PRU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ODUCCIÓN PRUEBAS 20DS (AMPL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35 Forma"/>
          <p:cNvCxnSpPr>
            <a:stCxn id="468" idx="3"/>
            <a:endCxn id="456" idx="0"/>
          </p:cNvCxnSpPr>
          <p:nvPr/>
        </p:nvCxnSpPr>
        <p:spPr>
          <a:xfrm>
            <a:off x="2285640" y="2463840"/>
            <a:ext cx="1786680" cy="180000"/>
          </a:xfrm>
          <a:prstGeom prst="bentConnector2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1 Título"/>
          <p:cNvGrpSpPr/>
          <p:nvPr/>
        </p:nvGrpSpPr>
        <p:grpSpPr>
          <a:xfrm>
            <a:off x="438120" y="542880"/>
            <a:ext cx="8772480" cy="4260960"/>
            <a:chOff x="438120" y="542880"/>
            <a:chExt cx="8772480" cy="4260960"/>
          </a:xfrm>
        </p:grpSpPr>
        <p:pic>
          <p:nvPicPr>
            <p:cNvPr id="478" name="1 Título" descr=""/>
            <p:cNvPicPr/>
            <p:nvPr/>
          </p:nvPicPr>
          <p:blipFill>
            <a:blip r:embed="rId1"/>
            <a:stretch/>
          </p:blipFill>
          <p:spPr>
            <a:xfrm>
              <a:off x="438120" y="542880"/>
              <a:ext cx="877248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785880" y="571680"/>
              <a:ext cx="7858080" cy="41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5400" spc="-1" strike="noStrike">
                  <a:solidFill>
                    <a:srgbClr val="ffffff"/>
                  </a:solidFill>
                  <a:latin typeface="Tw Cen MT"/>
                </a:rPr>
                <a:t>PROYECTO DE LEY “CORRECTIVA” SENADO DE LA NACIÓN 1/6/11</a:t>
              </a:r>
              <a:br>
                <a:rPr sz="5400"/>
              </a:br>
              <a:r>
                <a:rPr b="0" lang="es-AR" sz="5400" spc="-1" strike="noStrike">
                  <a:solidFill>
                    <a:srgbClr val="ffffff"/>
                  </a:solidFill>
                  <a:latin typeface="Tw Cen MT"/>
                </a:rPr>
                <a:t>CD – 163/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Tw Cen MT"/>
              </a:rPr>
              <a:t>Régimen penal administrativo (art. 24) </a:t>
            </a:r>
            <a:endParaRPr b="0" lang="en-US" sz="4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8472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w Cen MT"/>
              </a:rPr>
              <a:t>Configuración de la infracció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La infracción es el incumplimiento de la obligación de informar las O.S. a la UIF (antes cualquier obligación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w Cen MT"/>
              </a:rPr>
              <a:t>Pena de mult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Del 20% al 500% del valor total de los bienes u operación (antes del 100% al 1000%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w Cen MT"/>
              </a:rPr>
              <a:t>Multa cuando no se pueda establecer el valor real de los bie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De $10.000 a $500.000 (antes límite máxime $100.00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E86-813A-4C1B-B393-A915E28C384F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w Cen MT"/>
              </a:rPr>
              <a:t>Régimen penal administrativo (art. 24, ap. 2) Restantes infracciones </a:t>
            </a: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(Continuación)</a:t>
            </a:r>
            <a:endParaRPr b="0" lang="en-US" sz="2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000000"/>
                </a:solidFill>
                <a:uFillTx/>
                <a:latin typeface="Tw Cen MT"/>
              </a:rPr>
              <a:t>Incumplimiento de las restantes obligacion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En los casos de incumplimiento de las restantes obligaciones establecidas por la ley (distintas de la omisión de informar O.S.) o cualquier otra norma de contenido obligatorio dictada en su consecuencia, será sancionada con una multa de $2.500 a $50.000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0845-E026-4695-BA1B-A9E8240A215D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w Cen MT"/>
              </a:rPr>
              <a:t>Régimen penal administrativo (Art. 24, ap. 3) Reducción de sanciones </a:t>
            </a:r>
            <a:r>
              <a:rPr b="0" lang="es-AR" sz="2800" spc="-1" strike="noStrike">
                <a:solidFill>
                  <a:srgbClr val="000000"/>
                </a:solidFill>
                <a:latin typeface="Tw Cen MT"/>
              </a:rPr>
              <a:t>(Continuación)</a:t>
            </a:r>
            <a:endParaRPr b="0" lang="en-US" sz="2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Si el infractor careciere de antecedentes por infracciones a la ley y durante la sustanciación del sumario correspondiente, reconociere la materialidad de la infracción imputada, la sanción podrá reducirse, por única vez, al mínimo legal o reemplazarse por apercibimiento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50AD-6D2E-47ED-8F21-64333F88C600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w Cen MT"/>
              </a:rPr>
              <a:t>Régimen penal administrativo (Art. 24, ap. 4) Responsabilidad personas jurídicas </a:t>
            </a: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(Continuación)</a:t>
            </a:r>
            <a:endParaRPr b="0" lang="en-US" sz="2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w Cen MT"/>
              </a:rPr>
              <a:t>En todos los casos, la persona jurídica en cuyo órgano se desempeñare el sujeto infractor responderá en forma solidaria con este último (antes se aplicaba la misma sanción a la persona jurídica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772-5DD8-4661-AAE1-0377BEDBCC35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5480" y="709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w Cen MT"/>
              </a:rPr>
              <a:t>Régimen penal administrativo (Art. 24, ap. 5) Pautas para graduar la sanción </a:t>
            </a: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(Continuación)</a:t>
            </a:r>
            <a:endParaRPr b="0" lang="en-US" sz="26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w Cen MT"/>
              </a:rPr>
              <a:t>A los fines de graduar la sanción, se tendrá en cuenta el incumplimiento de reglas y procedimientos internos, la extensión del daño causado, el monto de dinero involucrado en la comisión de la infracción y la entidad cualitativa de la misma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85D-03EB-45D1-B81C-0DA922B257D5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360" y="213840"/>
            <a:ext cx="7959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w Cen MT"/>
              </a:rPr>
              <a:t>Misión y funciones de la UIF (Art. 5 y 6 ley)</a:t>
            </a:r>
            <a:endParaRPr b="0" lang="en-US" sz="40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8610480" y="6613560"/>
            <a:ext cx="67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1B0F-E4E6-4F3F-A309-554382BD6256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 Rectángulo"/>
          <p:cNvSpPr/>
          <p:nvPr/>
        </p:nvSpPr>
        <p:spPr>
          <a:xfrm>
            <a:off x="428760" y="1643040"/>
            <a:ext cx="3000240" cy="9288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5786280" y="1643040"/>
            <a:ext cx="3000600" cy="9288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IMP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6 Rectángulo"/>
          <p:cNvSpPr/>
          <p:nvPr/>
        </p:nvSpPr>
        <p:spPr>
          <a:xfrm>
            <a:off x="2357280" y="2786040"/>
            <a:ext cx="4427640" cy="9288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ENUNCIACIÓN DE LOS DELITOS PREVIOS (ART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Rectángulo"/>
          <p:cNvSpPr/>
          <p:nvPr/>
        </p:nvSpPr>
        <p:spPr>
          <a:xfrm>
            <a:off x="928800" y="4143240"/>
            <a:ext cx="3000240" cy="9288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LAVADO DE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8 Rectángulo"/>
          <p:cNvSpPr/>
          <p:nvPr/>
        </p:nvSpPr>
        <p:spPr>
          <a:xfrm>
            <a:off x="5429160" y="4143240"/>
            <a:ext cx="3000600" cy="92880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w Cen MT"/>
              </a:rPr>
              <a:t>FINANCIACIÓN  DEL 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9 Rectángulo"/>
          <p:cNvSpPr/>
          <p:nvPr/>
        </p:nvSpPr>
        <p:spPr>
          <a:xfrm>
            <a:off x="928800" y="5357880"/>
            <a:ext cx="3000240" cy="1285920"/>
          </a:xfrm>
          <a:prstGeom prst="rect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w Cen MT"/>
              </a:rPr>
              <a:t>INCORPORACIÓN DE NUEVOS DEL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w Cen MT"/>
              </a:rPr>
              <a:t>REGIMEN PENAL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13 Forma"/>
          <p:cNvCxnSpPr>
            <a:stCxn id="411" idx="0"/>
            <a:endCxn id="412" idx="0"/>
          </p:cNvCxnSpPr>
          <p:nvPr/>
        </p:nvCxnSpPr>
        <p:spPr>
          <a:xfrm flipH="1" flipV="1" rot="5400000">
            <a:off x="4678920" y="1892520"/>
            <a:ext cx="2520" cy="4502880"/>
          </a:xfrm>
          <a:prstGeom prst="bentConnector3">
            <a:avLst>
              <a:gd name="adj1" fmla="val 14383333"/>
            </a:avLst>
          </a:prstGeom>
          <a:ln w="10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5" name="16 Conector recto"/>
          <p:cNvSpPr/>
          <p:nvPr/>
        </p:nvSpPr>
        <p:spPr>
          <a:xfrm>
            <a:off x="4570560" y="3714840"/>
            <a:ext cx="0" cy="214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19 Conector recto de flecha"/>
          <p:cNvCxnSpPr>
            <a:stCxn id="411" idx="2"/>
            <a:endCxn id="413" idx="0"/>
          </p:cNvCxnSpPr>
          <p:nvPr/>
        </p:nvCxnSpPr>
        <p:spPr>
          <a:xfrm flipH="1">
            <a:off x="2426400" y="5073480"/>
            <a:ext cx="2520" cy="2865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21 Forma"/>
          <p:cNvCxnSpPr>
            <a:stCxn id="408" idx="2"/>
            <a:endCxn id="410" idx="1"/>
          </p:cNvCxnSpPr>
          <p:nvPr/>
        </p:nvCxnSpPr>
        <p:spPr>
          <a:xfrm flipH="1" rot="16200000">
            <a:off x="1803960" y="2696040"/>
            <a:ext cx="678600" cy="429120"/>
          </a:xfrm>
          <a:prstGeom prst="bentConnector2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23 Forma"/>
          <p:cNvCxnSpPr>
            <a:stCxn id="409" idx="2"/>
            <a:endCxn id="410" idx="3"/>
          </p:cNvCxnSpPr>
          <p:nvPr/>
        </p:nvCxnSpPr>
        <p:spPr>
          <a:xfrm rot="5400000">
            <a:off x="6696360" y="2659680"/>
            <a:ext cx="678600" cy="502560"/>
          </a:xfrm>
          <a:prstGeom prst="bentConnector2">
            <a:avLst/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24 CuadroTexto"/>
          <p:cNvSpPr/>
          <p:nvPr/>
        </p:nvSpPr>
        <p:spPr>
          <a:xfrm>
            <a:off x="7143840" y="32860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0000"/>
                </a:solidFill>
                <a:uFillTx/>
                <a:latin typeface="Tw Cen MT"/>
              </a:rPr>
              <a:t>PREFERENT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28 Conector angular"/>
          <p:cNvCxnSpPr>
            <a:stCxn id="406" idx="2"/>
            <a:endCxn id="408" idx="0"/>
          </p:cNvCxnSpPr>
          <p:nvPr/>
        </p:nvCxnSpPr>
        <p:spPr>
          <a:xfrm rot="5400000">
            <a:off x="3081240" y="132480"/>
            <a:ext cx="357840" cy="2664360"/>
          </a:xfrm>
          <a:prstGeom prst="bentConnector3">
            <a:avLst>
              <a:gd name="adj1" fmla="val 49949"/>
            </a:avLst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34 Conector angular"/>
          <p:cNvCxnSpPr>
            <a:stCxn id="406" idx="2"/>
            <a:endCxn id="409" idx="0"/>
          </p:cNvCxnSpPr>
          <p:nvPr/>
        </p:nvCxnSpPr>
        <p:spPr>
          <a:xfrm flipH="1" rot="16200000">
            <a:off x="5761080" y="117000"/>
            <a:ext cx="357840" cy="2694960"/>
          </a:xfrm>
          <a:prstGeom prst="bentConnector3">
            <a:avLst>
              <a:gd name="adj1" fmla="val 49949"/>
            </a:avLst>
          </a:prstGeom>
          <a:ln w="10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w Cen MT"/>
              </a:rPr>
              <a:t>Recursos contra las resoluciones de la UIF (Art. 25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5840" y="1643040"/>
            <a:ext cx="85723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Las resoluciones de la UIF serán recurribles dentro de los 30 días hábiles de su notificación (antes no había plazo expreso, ley 19549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Por medio de recurso a interponerse y fundarse </a:t>
            </a:r>
            <a:r>
              <a:rPr b="0" lang="es-AR" sz="2900" spc="-1" strike="noStrike" u="sng">
                <a:solidFill>
                  <a:srgbClr val="000000"/>
                </a:solidFill>
                <a:uFillTx/>
                <a:latin typeface="Tw Cen MT"/>
              </a:rPr>
              <a:t>directamente ante la Cámara Nacional de Apelaciones en lo Contencioso Administrativo Fede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La interposición del recurso en cuestión importará </a:t>
            </a:r>
            <a:r>
              <a:rPr b="0" lang="es-AR" sz="2900" spc="-1" strike="noStrike" u="sng">
                <a:solidFill>
                  <a:srgbClr val="000000"/>
                </a:solidFill>
                <a:uFillTx/>
                <a:latin typeface="Tw Cen MT"/>
              </a:rPr>
              <a:t>efecto suspensivo</a:t>
            </a: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 respecto de las resoluciones impugnad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4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674C-439E-48F9-A51A-74E539DD1DE2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3686040"/>
          </a:xfrm>
          <a:prstGeom prst="rect">
            <a:avLst/>
          </a:prstGeom>
          <a:solidFill>
            <a:srgbClr val="f5f1e0"/>
          </a:solidFill>
          <a:ln w="9360">
            <a:solidFill>
              <a:srgbClr val="768d5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w Cen MT"/>
              </a:rPr>
              <a:t>MUCHAS GRACIAS POR SU ATENCIÓN</a:t>
            </a:r>
            <a:endParaRPr b="0" lang="en-US" sz="6000" spc="-1" strike="noStrike">
              <a:solidFill>
                <a:srgbClr val="69676d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w Cen MT"/>
              </a:rPr>
              <a:t>Facultades de la UIF (Art. 14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Solicitar informes, documentos, antecedentes y todo otro elemento que </a:t>
            </a:r>
            <a:r>
              <a:rPr b="0" lang="es-AR" sz="2900" spc="-1" strike="noStrike" u="sng">
                <a:solidFill>
                  <a:srgbClr val="000000"/>
                </a:solidFill>
                <a:uFillTx/>
                <a:latin typeface="Tw Cen MT"/>
              </a:rPr>
              <a:t>estime útil</a:t>
            </a: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 para el cumplimiento de sus funciones (Ap. 1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Recibir declaraciones voluntarias (en ningún caso pueden ser anónimas) (Ap. 2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Disponer la implementación de sistemas de control interno para los sujetos obligados (Ap. 7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Emitir directivas e instrucciones que deberán cumplir e implementar los sujetos obligados (Ap.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6DC-4690-4AA3-B2F9-CE6A17C9346C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Tw Cen MT"/>
              </a:rPr>
              <a:t>Deber de informar (Art. 20 bis)</a:t>
            </a:r>
            <a:endParaRPr b="0" lang="en-US" sz="4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Obligación legal de los sujetos obligados de poner a disposición de la UIF la documentación recabada a sus clientes y de llevar a conocimiento de la UIF las conductas o actividades de las person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Inferencia de una situación atíp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Susceptible de configurar un hecho o operación sospechos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Designación oficial de cumplimient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E0B-A65D-40E3-ACBD-C67BCDA7FFC0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w Cen MT"/>
              </a:rPr>
              <a:t>Obligaciones de los sujetos obligados (Art. 21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Recabar documentos que prueben fehacientemente la entidad, personería jurídica, domicilio y demás datos de sus clientes (inc A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Informar cualquier hecho u operación sospechosa independientemente del monto de la misma (inc B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w Cen MT"/>
              </a:rPr>
              <a:t>Confidencialidad de la información respecto al cliente (inc C.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4D84-118B-45E3-A79E-EAE6EC4CC7E6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w Cen MT"/>
              </a:rPr>
              <a:t>Facultades de la UIF (Art. 14, AP. 8)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2876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w Cen MT"/>
              </a:rPr>
              <a:t>Aplicar las sanciones previstas en el capítulo IV de la ley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w Cen MT"/>
              </a:rPr>
              <a:t>Garantizar el debido proceso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421-3D84-4110-9BF7-6220E9132CC6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63480" y="142920"/>
            <a:ext cx="8623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000000"/>
                </a:solidFill>
                <a:latin typeface="Tw Cen MT"/>
              </a:rPr>
              <a:t>Catálogo de infracciones</a:t>
            </a:r>
            <a:endParaRPr b="0" lang="en-US" sz="5400" spc="-1" strike="noStrike">
              <a:solidFill>
                <a:srgbClr val="69676d"/>
              </a:solidFill>
              <a:latin typeface="Tw Cen MT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2920" y="1604880"/>
          <a:ext cx="8858160" cy="4681800"/>
        </p:xfrm>
        <a:graphic>
          <a:graphicData uri="http://schemas.openxmlformats.org/drawingml/2006/table">
            <a:tbl>
              <a:tblPr/>
              <a:tblGrid>
                <a:gridCol w="957240"/>
                <a:gridCol w="949320"/>
                <a:gridCol w="4522680"/>
                <a:gridCol w="242892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G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J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AC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. 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.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lección o provisión de bienes o dinero, cualquiera sea su valor, con conocimiento de que serán utilizados por algún miembro de una asociación ilícita terrorista (CP, Art. 213 quáter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% al 2000% del valor de los bienes objeto del deli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. 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.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mo hecho cometido por temeridad o imprudencia grave del órgano o ejecu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 al 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. 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.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umplimiento de guardar secreto de los sujetos obligados al suministrar datos a la UIF (Art. 22 le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$50.000 a $5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.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.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umplimiento de alguna de las obligaciones ante la UI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 al 1000% del valor total de los bienes u operación a los que se refiera la infracción 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2ed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.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.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umplimiento de alguna de las obligaciones ante la UI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 al 1000% del valor total de los bienes u operación a los que se refiera la infracción 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4d9"/>
                    </a:solidFill>
                  </a:tcPr>
                </a:tc>
              </a:tr>
            </a:tbl>
          </a:graphicData>
        </a:graphic>
      </p:graphicFrame>
      <p:sp>
        <p:nvSpPr>
          <p:cNvPr id="436" name="4 CuadroTexto"/>
          <p:cNvSpPr/>
          <p:nvPr/>
        </p:nvSpPr>
        <p:spPr>
          <a:xfrm>
            <a:off x="142920" y="633420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(1) Cuando no se pueda establecer el valor real de los bienes, la multa será de $10.000 a $100.000 (Art. 24, ap 3, l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5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24AE-45F7-43FB-B468-51951E8EB9C7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000000"/>
                </a:solidFill>
                <a:latin typeface="Tw Cen MT"/>
              </a:rPr>
              <a:t>Incumplimientos </a:t>
            </a:r>
            <a:endParaRPr b="0" lang="en-US" sz="66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28760" y="1719360"/>
            <a:ext cx="85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lnSpc>
                <a:spcPct val="80000"/>
              </a:lnSpc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Tw Cen MT"/>
              </a:rPr>
              <a:t>Deber de información de operaciones sospechosas por parte de los sujetos obligados (Art. 20 bis y Art. 21 inc b)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411840" indent="-411840">
              <a:lnSpc>
                <a:spcPct val="80000"/>
              </a:lnSpc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Tw Cen MT"/>
              </a:rPr>
              <a:t>Designación de oficial de cumplimiento (Art. 20 bis)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411840" indent="-411840">
              <a:lnSpc>
                <a:spcPct val="80000"/>
              </a:lnSpc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Tw Cen MT"/>
              </a:rPr>
              <a:t>Manuales de procedimiento de prevención de lavado (Art. 21 bis, ap d)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411840" indent="-411840">
              <a:lnSpc>
                <a:spcPct val="80000"/>
              </a:lnSpc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Tw Cen MT"/>
              </a:rPr>
              <a:t>Formación de legajo de clientes (Art. 21 inc a)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411840" indent="-411840">
              <a:lnSpc>
                <a:spcPct val="80000"/>
              </a:lnSpc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Tw Cen MT"/>
              </a:rPr>
              <a:t>Obligación de confidencialidad (Art. 21 inc c)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A73-4C9B-43DF-BBE0-340CE6109AFB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Tw Cen MT"/>
              </a:rPr>
              <a:t>Naturaleza jurídica de las multas</a:t>
            </a:r>
            <a:endParaRPr b="0" lang="en-US" sz="48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¿Penal o administrativa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Tendencia jurisprudencial multas BC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68d5a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000000"/>
                </a:solidFill>
                <a:latin typeface="Tw Cen MT"/>
              </a:rPr>
              <a:t>Importancia de la naturaleza pen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Principio ley penal más benign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Aplicación cláusulas de la Convención Americana sobre Derechos Humanos (Pacto de San José de Costa Rica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Requisito de dolo (elemento subjetivo de la infracción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Supuestos de acusación penal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ceb96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w Cen MT"/>
              </a:rPr>
              <a:t>Principios liminares del derecho penal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8610480" y="66135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8926-2A41-4F83-BF7E-DC428F000ACB}" type="slidenum">
              <a:rPr b="1" lang="es-AR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7:21:04Z</dcterms:created>
  <dc:creator>Nancy</dc:creator>
  <dc:description/>
  <dc:language>en-US</dc:language>
  <cp:lastModifiedBy>Nancy</cp:lastModifiedBy>
  <dcterms:modified xsi:type="dcterms:W3CDTF">2011-07-08T15:45:07Z</dcterms:modified>
  <cp:revision>46</cp:revision>
  <dc:subject/>
  <dc:title>REGIMEN PENAL ADMINISTRATIVO EN LA NUEVA LEY DE LAVADO DE ACTIVOS Nº 26683</dc:title>
</cp:coreProperties>
</file>