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29A-8632-418F-AB23-D04228A5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8E8-2329-438E-AADF-B5727FC2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CB7-1218-4B5A-9F48-154F332F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BBB-2F3D-467E-AF53-C8378565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9E34-A50E-47FE-AB30-DAA6CA38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1A5A-58AC-4C35-860C-B7FFA14E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EFF4-B56E-4C84-9C8F-765A953B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20BA-C72B-4260-9484-9D8A9004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20A0-2CFF-4A8D-9D06-483B7B5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D938-74D5-4F29-8AEA-C3CD2BD2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A531-E8CF-4626-843C-3ED45992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01BD-B04D-4F92-8B3E-631E0CA2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61F0-D087-4AD2-906A-DBD1FB2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DBD5-8506-407E-B1EB-5374DDA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12E1-7A90-4416-B396-A148D81F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4335-9C15-41DF-8DC8-37871C9A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9483-0C57-4A71-99A1-0350E29E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446-A0C9-4D0C-B927-DFB9717C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2EF-E9A4-4793-BEBD-073C3AD2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3E0-B62D-4BAB-AEE5-F5EDFF91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8D07-96CA-4FFD-91C5-1AA8C315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5A3-1517-4238-B470-FA31FC4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CB5-79FD-440D-9C5D-B085065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830-74BA-47B4-BB08-5EEBE37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2E1A-FB19-4863-8068-E349DA15C103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F154-F696-4DA4-9B5D-7348D8FC447B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1692360"/>
            <a:ext cx="784692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4400" spc="-1" strike="noStrike">
                <a:solidFill>
                  <a:srgbClr val="ff0066"/>
                </a:solidFill>
                <a:latin typeface="Arial"/>
              </a:rPr>
              <a:t>El futuro de la propiedad horizontal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Ideas para una actualización legislativa</a:t>
            </a:r>
            <a:br>
              <a:rPr sz="28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Bartolomé A. Orfil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445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rtefactos de propiedad particular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e propone que:</a:t>
            </a:r>
            <a:br>
              <a:rPr sz="40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3628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66"/>
                </a:solidFill>
                <a:latin typeface="Arial Narrow"/>
              </a:rPr>
              <a:t>La responsabilidad civil derivada de los daños provocados por el deficiente funcionamiento de artefactos de propiedad particular y de sus accesorios, incumbe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 Narrow"/>
              </a:rPr>
              <a:t>exclusivamente</a:t>
            </a:r>
            <a:r>
              <a:rPr b="0" i="1" lang="en-US" sz="3200" spc="-1" strike="noStrike">
                <a:solidFill>
                  <a:srgbClr val="ff0066"/>
                </a:solidFill>
                <a:latin typeface="Arial Narrow"/>
              </a:rPr>
              <a:t> al propietario y/o usuario de los mismo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paraciones urgen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9152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La omisión por parte del propietario de la unidad del deber de mantener y reparar los elementos de propiedad particular, si ello causare perjuicios a terceros o a otros copropietarios u ocupantes del edificio, habilitará al administrador para que, previa intimación por medio fehaciente y mediando urgencia debidamente probada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efectúe las reparaciones impostergables para hacerlos cesar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 y cargue su costo como cargo directo a la unidad, mediante su inclusión en la liquidación de expensas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crédito de expens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 Narrow"/>
              </a:rPr>
              <a:t>Es preciso reforzar y hacer explícita su protección por vía legislativa implementando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ransmisión de la deuda al adquir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esponsabilidad de cada condómino por el todo de la deu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noponibilidad del bien de familia y de las cláusulas de inembargabilid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sorcios “sectorizado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Que los consorcios de propietarios  garanticen que cuando determinadas unidades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no aprovecharen ciertas prestaciones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o servicios, sean exoneradas o vean disminuida su contribución en dichos  gastos.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Que sean nulas las cláusulas reglamentarias que dispongan la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eximición total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de contribución en favor de determinadas unidades.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Que cuando el consorcio estuviere compuesto por diferentes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sectores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n  independencia funcional o resultante del uso o destino, puedan se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administrados separadamente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respecto de los gastos y servicios que a cada sector le incumbieren.-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Que, no obstante, se mantenga una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representación legal única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la que también tendrá a su cargo el mantenimiento de los bienes y servicios comunes a todos los sectores.-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sejos de Administr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 propone delimitar legislativament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exis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s atribuciones y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sus debe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templar la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remuneración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de sus integran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mponer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responsabilidades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pecuniarias íd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Narrow"/>
              </a:rPr>
              <a:t>La supremacía del Contralor Inter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L Consejo de Administración DEBERÁ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Verificar el cumplimiento de las obligaciones fiscales y previsionales, así como la vigencia de los seguros y  el puntual pago de las  remuneraciones del personal,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 Narrow"/>
              </a:rPr>
              <a:t>debiendo confeccionar y firmar un acta en cada ocasión en que dicha verificación se efectuare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ompulsar periódicamente la documentación del consorcio y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 Narrow"/>
              </a:rPr>
              <a:t>elaborar anualmente un informe sobre la gestión y las cuentas del administrador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que deberá concluir con una </a:t>
            </a:r>
            <a:r>
              <a:rPr b="1" lang="en-US" sz="2400" spc="-1" strike="noStrike" u="sng">
                <a:solidFill>
                  <a:srgbClr val="ffffcc"/>
                </a:solidFill>
                <a:uFillTx/>
                <a:latin typeface="Arial Narrow"/>
              </a:rPr>
              <a:t>recomendación expresa respecto de la aprobación o desaprobación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de la rendición del ejercicio sometida a consideración de la asamblea ordinaria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sponsabilidades de los “consejeros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ffcc66"/>
                </a:solidFill>
                <a:latin typeface="Arial Narrow"/>
              </a:rPr>
              <a:t>En caso de incumplimiento de los deberes impuestos,  los integrantes del consejo de administración serán responsables por los eventuales perjuicios que se derivaren para el consorcio, imputables a negligencias o faltas graves en las que incurriera el administrador, </a:t>
            </a:r>
            <a:r>
              <a:rPr b="1" i="1" lang="en-US" sz="2800" spc="-1" strike="noStrike" u="sng">
                <a:solidFill>
                  <a:srgbClr val="ffcc66"/>
                </a:solidFill>
                <a:uFillTx/>
                <a:latin typeface="Arial Narrow"/>
              </a:rPr>
              <a:t>que pudieran haberse evitado con el debido control</a:t>
            </a:r>
            <a:r>
              <a:rPr b="0" i="1" lang="en-US" sz="2800" spc="-1" strike="noStrike">
                <a:solidFill>
                  <a:srgbClr val="ffcc66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uración del mandato del administrador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 propone qu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Narrow"/>
              </a:rPr>
              <a:t>La duración del mandato del administrador podrá ser fijada en el reglamento de copropiedad.- Si éste no lo hiciere podrá fijarse en el acto de su designación.- Cuando no se hubiere establecido plazo alguno, el mismo se extenderá hasta tanto se dispusiere su remoción y reemplazo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UES BASTARÍA PARA REMOVERLO CON EL VOTO COINCIDENTE DE UN TERCIO DE COPROPIETARIOS, AL REGULARSE LAS MAYORIAS EN LAS ASAMBLEAS COMO SE HA PROPUESTO.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ransgresiones del Reglamen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915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El administrador del consorcio o los propietarios afectados formularán la denuncia correspondiente ante el juez competente y, acreditada en juicio sumarísimo la transgresión, se impondrá al culpable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una multa a favor del Consorcio que fijará prudencialmente el Tribunal y que no podrá ser inferior a doce meses el valor que tuvieren las expensas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 comunes de la unidad al momento del pronunciamiento.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El juez adoptará además las disposiciones necesarias para que cese la infracción, pudiendo ordenar el allanamiento del domicilio o el uso de la fuerza pública si fuera menest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s imprescindible establecer</a:t>
            </a:r>
            <a:br>
              <a:rPr sz="28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IMITACIONES A LOS EMPRENDEDORES</a:t>
            </a:r>
            <a:br>
              <a:rPr sz="4000"/>
            </a:b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cerca de: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3628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ención de pagos de expens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rvas para designar y remover administradores por plazos prolong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ervas para la explotación de bienes comu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deres irrevocables para modificar cláusulas estatutarias de los reglamentos de copropiedad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 ley 13.512 es una buena 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 mantenido su vigencia porque es una ley “marco” y ello posibilitó que fuera enriquecida po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s reglamentos de copropie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 creatividad de los emprendedo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os aportes de los jurist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s interpretaciones de los jue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Una actualización prudente para una ley durad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4247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Narrow"/>
              </a:rPr>
              <a:t>La ley 13.512 ha estado vigente más de sesenta años y continúa estándolo porque evitó la “casuística”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Narrow"/>
              </a:rPr>
              <a:t>Su eventual actualización o reemplazo debería mantener  ese acertado criterio legislativo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Bartolomé A. Orfi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915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Ha llegado el momento de incorporar esos aport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793116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ara que las reglas sean conocidas por to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ara que las conductas sean previsib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ara disminuir las controvers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ara bajar la conflictividad judic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ara evitar los abus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spiración y bases conceptual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a ley 13.512 se inspira en las rígidas bases del CONDOMINI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xige altos grados de consenso para las decisiones intern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Tiende a la inmutabilida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amos hacia formas más afines con las reglas ASOCIATIVA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Mayor elasticidad para el funcionami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Mayor flexibilidad para consensuar decisio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8218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 tema de las ASAMBLEA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3628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Verdana"/>
              </a:rPr>
              <a:t>Los riesgos del apresuramiento para flexibilizar las resolucion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¿Poder a los pequeños grupo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¿Mandato tácito de los ausente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¿Decisiones inconsulta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¿Encuesta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671832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na reforma debería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Extremar las oportunidades para posibilitar la asisten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Permitir la reflex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Asegurar un mínimo consen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Dar tiempo para modificar las posiciones adoptad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abilitar mecanismos de revis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Establecer plazos para plantear nulida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277560"/>
            <a:ext cx="8280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Una fórmula posible que se propone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En caso de no alcanzarse quórum, transcurridos no menos de cinco días, podrá cursarse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una segunda citación</a:t>
            </a: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 con una antelación no inferior a otros cinco días, con la advertencia que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abrá de sesionar con los copropietarios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que asistiere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.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Pero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nguna resolución  será válida</a:t>
            </a: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 si no cuenta con el voto afirmativo y coincidente de por los meno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un tercio del número total de propietarios</a:t>
            </a: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 que -al mismo tiempo- representen un tercio del valor de todos los votos posibles calculados por porcentual.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El administrador del consorcio deberá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omunicar a los ausentes</a:t>
            </a: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 las decisiones adoptadas en las asambleas.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Los ausentes y quienes no hubieran votado afirmativamente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odrán requerir la revisión de los puntos decididos</a:t>
            </a: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, solicitando dentro de los treinta días de notificados, la citación de una nueva asamblea con ese fin.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Dicha solicitud debería s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 suscripta por un número igual o mayor al de los copropietarios que votaron afirmativamente</a:t>
            </a:r>
            <a:r>
              <a:rPr b="0" i="1" lang="en-US" sz="2000" spc="-1" strike="noStrike">
                <a:solidFill>
                  <a:srgbClr val="ffcc66"/>
                </a:solidFill>
                <a:latin typeface="Arial Narrow"/>
              </a:rPr>
              <a:t> en aquélla.</a:t>
            </a:r>
            <a:r>
              <a:rPr b="0" i="1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Responsabilidad por deterioros de los CONDUCTOS (qué y cuándo)</a:t>
            </a:r>
            <a:br>
              <a:rPr sz="3200"/>
            </a:br>
            <a:br>
              <a:rPr sz="3200"/>
            </a:b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se propone:</a:t>
            </a:r>
            <a:br>
              <a:rPr sz="2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997360"/>
            <a:ext cx="83628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Verdana"/>
              </a:rPr>
              <a:t>La regla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Verdana"/>
              </a:rPr>
              <a:t>cuando el deterioro está causado por el desgaste o el paso del tiempo, la responsabilidad sea exclusivamente del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consorcio</a:t>
            </a:r>
            <a:r>
              <a:rPr b="0" i="1" lang="en-US" sz="2400" spc="-1" strike="noStrike">
                <a:solidFill>
                  <a:srgbClr val="ffcc66"/>
                </a:solidFill>
                <a:latin typeface="Verdana"/>
              </a:rPr>
              <a:t>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66"/>
                </a:solidFill>
                <a:uFillTx/>
                <a:latin typeface="Verdana"/>
              </a:rPr>
              <a:t>La excepción</a:t>
            </a: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: </a:t>
            </a:r>
            <a:r>
              <a:rPr b="0" i="1" lang="en-US" sz="2400" spc="-1" strike="noStrike">
                <a:solidFill>
                  <a:srgbClr val="ffcc66"/>
                </a:solidFill>
                <a:latin typeface="Verdana"/>
              </a:rPr>
              <a:t>cuando lo producen hechos del propietario u ocupante o se hubiere alterado el recorrido original, la responsabilidad sea exclusivamente del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propietario</a:t>
            </a:r>
            <a:r>
              <a:rPr b="0" i="1" lang="en-US" sz="2400" spc="-1" strike="noStrike">
                <a:solidFill>
                  <a:srgbClr val="ffcc66"/>
                </a:solidFill>
                <a:latin typeface="Verdana"/>
              </a:rPr>
              <a:t>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e hace necesario fijar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3600" spc="-1" strike="noStrike" u="sng">
                <a:solidFill>
                  <a:srgbClr val="ccecff"/>
                </a:solidFill>
                <a:uFillTx/>
                <a:latin typeface="Arial"/>
              </a:rPr>
              <a:t>LIMITES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a la responsabilidad del Consorci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 propone qu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La responsabilidad del consorcio frente a los copropietarios por  daños en el interior de las unidade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obre bienes inmuebles por accesión (revestimientos, solados, pinturas, etc.)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 se limit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erdana"/>
              </a:rPr>
              <a:t>al valor equivalente al de la construcción original</a:t>
            </a:r>
            <a:r>
              <a:rPr b="0" i="1" lang="en-US" sz="2400" spc="-1" strike="noStrike">
                <a:solidFill>
                  <a:srgbClr val="ffff00"/>
                </a:solidFill>
                <a:latin typeface="Verdana"/>
              </a:rPr>
              <a:t> del edificio.-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22:57:52Z</dcterms:created>
  <dc:creator>.</dc:creator>
  <dc:description/>
  <dc:language>en-US</dc:language>
  <cp:lastModifiedBy>Usuario</cp:lastModifiedBy>
  <dcterms:modified xsi:type="dcterms:W3CDTF">2010-11-09T13:24:15Z</dcterms:modified>
  <cp:revision>7</cp:revision>
  <dc:subject/>
  <dc:title>        El futuro de la propiedad horizontal   Ideas para una actualización legislativa </dc:title>
</cp:coreProperties>
</file>