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2640" y="401832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596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6416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182880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264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6416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018320"/>
            <a:ext cx="249624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5960" y="401832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5960" y="1828800"/>
            <a:ext cx="378360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4018320"/>
            <a:ext cx="7753320" cy="19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43000" y="1409760"/>
              <a:ext cx="888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5680" y="6486480"/>
            <a:ext cx="1819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José Antonio Ficar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EJO PROFESIONAL DE CIENCIAS  ECONOMICAS DE LA CIUDAD AUTONOMA DE BUENOS AI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Marketing para ganar client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4 de noviembre de 2010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r. José Antonio Ficarr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TRAS ACCION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ientación hacia el client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gualar o superar la competenci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levar la calida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TENER EN CUENT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R UNA DIFERENCIACIO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GREGAR TECNOLOGI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.O.D.A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ESTIGACION DE  MERCADO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RENCIAMIENTO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95800" y="2141640"/>
            <a:ext cx="38005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racterísticas de una prestación eficaz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52600" y="1828800"/>
            <a:ext cx="1379520" cy="4191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9544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ención personalizad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patí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ica y mor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now How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reto profesion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norario de mercado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MAGEN PROFESIONAL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FIL GANAD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ERZA INTERIO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PETO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PECTO PERSON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05640" y="1828800"/>
            <a:ext cx="2579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loques genéricos de formación de ventajas competitiva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pacidad de satisfacción del client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IFERENCIAC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bilidades distintiva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acto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aciones pública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95800" y="2508120"/>
            <a:ext cx="38005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95800" y="2889360"/>
            <a:ext cx="38005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oblemas que se presenta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- Falta de informació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- Administración no profesionalizad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NFOQU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nfoque intern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nfoque extern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ál es el mercado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áles son mis clientes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é zonas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novación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IPOS DE MARKETING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ing de idea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ing de desarrollo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ing relacion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95800" y="1938240"/>
            <a:ext cx="38005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L CLIENT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349360"/>
            <a:ext cx="3800520" cy="3149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9544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CIA  FISIC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CIA ACTIV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ue es el marketing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 UNA FORMA DE PENSAR, TENER SENTIDO COMUN Y UNA BATALLA DE IDEA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CCIONES A LLEVAR A CAB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uenas idea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Predicción del mercado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17T13:45:24Z</dcterms:created>
  <dc:creator>José Antonio Ficarra</dc:creator>
  <dc:description/>
  <cp:keywords/>
  <dc:language>en-US</dc:language>
  <cp:lastModifiedBy>Usuario</cp:lastModifiedBy>
  <cp:lastPrinted>1998-07-31T13:21:10Z</cp:lastPrinted>
  <dcterms:modified xsi:type="dcterms:W3CDTF">2010-11-09T13:24:01Z</dcterms:modified>
  <cp:revision>12</cp:revision>
  <dc:subject/>
  <dc:title>XI CONAMERCO</dc:title>
</cp:coreProperties>
</file>