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ECA-45CE-433D-AE8B-4EDC2954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452-873E-42EF-9E69-7A8B7CB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72E-0C32-4D19-8C8A-21B19F82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98D-1A81-4532-851F-CAE0E73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2BBA-04D3-4DD3-A733-3DA7686C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3BA8-FAB4-4516-8E24-C47BD669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5C62-0DD8-42BF-B349-0BADDC82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17FD-B0AA-4595-ADBA-CB076AE0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B890-4F97-4C12-81BB-75DD14B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7E71-E359-44C5-B5E7-4BA82A79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B431-82A4-4E81-B623-9FE16D9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4C8-1442-443F-9BC8-03A2164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F1B-E024-49E8-80D7-A6ED062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881-C90F-4C8F-AC39-85579775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E451-FA84-4493-8BA1-86D8C4B9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CFF9-5487-4A17-8BA7-2698A5C9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6AAB-5EF0-40FA-9B0A-F606C0C8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66C-8C75-45CC-BF2D-C6D1EB15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E8C-B2F6-49A8-8906-2AF2C6B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C6C-8627-4E3B-B3B0-1CCE19E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0CD-9723-4206-9CDB-C200BC7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84C-38EF-406E-8CC7-69B7A727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848-943F-43A8-90A0-4953FC7F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3B7-F138-4ABF-9CD5-13D2D617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E9CA-CC92-4E0A-AF84-60A1323C440C}" type="slidenum"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1C1A-B614-4CB2-9595-0EEED429C7F0}" type="slidenum"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rmoplas S.R.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omo se generó el intercambio comerci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Dificultades y soluci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róximos planes en Brasi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onsejos para exportar a Brasi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3059280" cy="227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789440" y="0"/>
            <a:ext cx="1368360" cy="1989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0" y="1989000"/>
            <a:ext cx="154764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084720" y="1989000"/>
            <a:ext cx="3059280" cy="2686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916360" y="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924360" y="0"/>
            <a:ext cx="865080" cy="198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2916360" y="9079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987640" y="4365720"/>
            <a:ext cx="309708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084720" y="0"/>
            <a:ext cx="3059280" cy="198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1258920" y="1989000"/>
            <a:ext cx="1689120" cy="2376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2916360" y="198900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rimera exportación en el año 198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rimera importación 199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n 2001 incorporación de L’oreal en cartera de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recimiento del Intercambio:                                    1987 u$s 125.000                                                         2010  u$s 728.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Como se generó el intercambio comer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Dificultades y Solu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Operativ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Aduane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Financie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Logí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Imposi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Cultur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Desconfianza Histó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Apertura econó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-Naciona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264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Grupo Exportad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valuación del SM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Búsqueda de Parcei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Ermoplas do Brasil Lt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Próximos 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264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Asociación a Cambr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Asesoramiento profesion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MetaPlusBold-Roman"/>
              </a:rPr>
              <a:t>Persevera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MetaPlusBold-Roman"/>
              </a:rPr>
              <a:t>Conse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11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Argentina-Brasil </a:t>
            </a:r>
            <a:br>
              <a:rPr sz="3600"/>
            </a:br>
            <a:r>
              <a:rPr b="1" lang="es-ES_tradnl" sz="3600" spc="-1" strike="noStrike">
                <a:solidFill>
                  <a:srgbClr val="ccecff"/>
                </a:solidFill>
                <a:latin typeface="MetaPlusBold-Roman"/>
              </a:rPr>
              <a:t>Oportunidades comerm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MetaPlusBold-Roman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7:38:56Z</dcterms:created>
  <dc:creator>SANTIAGO</dc:creator>
  <dc:description/>
  <dc:language>en-US</dc:language>
  <cp:lastModifiedBy>Santiago Castro</cp:lastModifiedBy>
  <dcterms:modified xsi:type="dcterms:W3CDTF">2011-06-22T14:47:34Z</dcterms:modified>
  <cp:revision>40</cp:revision>
  <dc:subject/>
  <dc:title>Diapositiva 1</dc:title>
</cp:coreProperties>
</file>