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F659D-D421-46B1-B8AB-B8537309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E0BD0-A472-478E-A66D-4B849A2E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743AD-CA7C-446D-B944-B8383F17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FD359-3D84-4D94-BE11-C3954AE7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D2DB-6875-41BF-93E3-5EACD437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BAD6-84CF-4D1D-B083-72450B11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33F9-3FE5-4103-BA93-90BCD3EB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97AE-50D3-48F5-A764-9A880FBE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F979-CCF3-415D-B07B-4D7498E4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031B-2C3D-4919-B1F6-8D625D62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17BB-B64B-4957-99A5-0AB74D98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B66AD-E565-48A3-9ABD-D66A24CC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6CBB-C3E7-4B78-9AAB-1B4A1595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24A7-3EF6-4495-9571-8385A48C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E87F-FD6E-409A-BBAD-AE3EDD78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7290-50D8-4C24-AF73-2DC5E61F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AB24-36A4-4F6C-AB49-B1BAE49D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08FA0-31C8-490E-A841-458E5F42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27AD3-794F-4BF5-88C3-0FAF2B98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EEB00-740A-44B7-AD2C-DF25D035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ABE81-105D-4C68-87DA-E2C88BE7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420AE-7875-4891-A760-8C327CB3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D0DBC-D58C-42A0-BAAA-02BA1245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2D729-B5B6-4F1F-8CE4-201513B6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CC50-628C-4A55-9EED-5BF63510E3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2070-8613-41EB-A8D0-9F6EF735AF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KETING DE SERVICIOS PROFESION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El Marketing de Servici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1. Concep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413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¿Qué es el marke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1920600"/>
            <a:ext cx="7921800" cy="119124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el proceso social y administrativo por el cual los grupos e individuos satisfacen sus necesidades al crear e intercambiar bienes y servicio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hilip kot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37162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¿Qué son los servici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4436640"/>
            <a:ext cx="7993080" cy="91692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odas aquellas actividades identificables, intangibles, que son el objeto principal de una operación que se concibe para proporcionar la satisfacción de necesidades de los consumidores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1. Concep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2133720"/>
            <a:ext cx="8353440" cy="119124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50000">
                <a:srgbClr val="666699"/>
              </a:gs>
              <a:gs pos="100000">
                <a:srgbClr val="2f2f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 marketing de servicio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es una rama del marketing que se especializa en una categoría especial de productos - los servicios - los cuales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puntan a satisfacer ciertas necesidades o deseos del mercad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tales como educación, transporte, protección, asesoramiento, diversión, crédito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149544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¿Qué es el marketing de servici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82" name=""/>
          <p:cNvCxnSpPr/>
          <p:nvPr/>
        </p:nvCxnSpPr>
        <p:spPr>
          <a:xfrm>
            <a:off x="7450200" y="3052440"/>
            <a:ext cx="2160" cy="81828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2. Características de los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13040" y="1808280"/>
            <a:ext cx="1558440" cy="33732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separ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4480" y="2509920"/>
            <a:ext cx="1623960" cy="33732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eterogene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9520" y="1413000"/>
            <a:ext cx="1378440" cy="33732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tangi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58000" y="1808280"/>
            <a:ext cx="1151640" cy="33732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aduc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21520" y="2511360"/>
            <a:ext cx="1201680" cy="33732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pie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77080" y="4832280"/>
            <a:ext cx="1296720" cy="58068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quieren de técn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39760" y="4834080"/>
            <a:ext cx="1297080" cy="58068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asados en 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3510000"/>
            <a:ext cx="1441440" cy="58068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plicabilidad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85080" y="3510000"/>
            <a:ext cx="1474560" cy="58068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riabilidad entre 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9520" y="5805360"/>
            <a:ext cx="1378440" cy="33732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tangi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02760" y="2781360"/>
            <a:ext cx="1195560" cy="368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35280" y="3376440"/>
            <a:ext cx="1728720" cy="6426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ervicios Profe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498920" y="1844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98920" y="4149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08720" y="3789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292720" y="2707920"/>
            <a:ext cx="1727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19640" y="4149720"/>
            <a:ext cx="122400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700000" y="4149720"/>
            <a:ext cx="107964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124000" y="3789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195280" y="2707920"/>
            <a:ext cx="1584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859280" y="1989000"/>
            <a:ext cx="1081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3492360" y="1989000"/>
            <a:ext cx="7192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9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9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9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9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9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9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9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9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3. El Plan de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/>
          <p:nvPr/>
        </p:nvCxnSpPr>
        <p:spPr>
          <a:xfrm>
            <a:off x="7450200" y="3052440"/>
            <a:ext cx="2160" cy="81828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sp>
        <p:nvSpPr>
          <p:cNvPr id="208" name=""/>
          <p:cNvSpPr/>
          <p:nvPr/>
        </p:nvSpPr>
        <p:spPr>
          <a:xfrm>
            <a:off x="1042920" y="2421000"/>
            <a:ext cx="7274160" cy="122400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hay ningún viento favorable para aquel que no sabe a que puerto se dirige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Arthur Shopenha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3. El Plan de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/>
          <p:nvPr/>
        </p:nvCxnSpPr>
        <p:spPr>
          <a:xfrm>
            <a:off x="7450200" y="3052440"/>
            <a:ext cx="2160" cy="81828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sp>
        <p:nvSpPr>
          <p:cNvPr id="211" name=""/>
          <p:cNvSpPr/>
          <p:nvPr/>
        </p:nvSpPr>
        <p:spPr>
          <a:xfrm>
            <a:off x="468360" y="1484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364500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¿Etapas del Proce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2133720"/>
            <a:ext cx="8497800" cy="1114920"/>
          </a:xfrm>
          <a:prstGeom prst="rect">
            <a:avLst/>
          </a:prstGeom>
          <a:gradFill rotWithShape="0">
            <a:gsLst>
              <a:gs pos="0">
                <a:srgbClr val="a0a0d0"/>
              </a:gs>
              <a:gs pos="100000">
                <a:srgbClr val="49495f"/>
              </a:gs>
            </a:gsLst>
            <a:lin ang="8100000"/>
          </a:gradFill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 el proceso ó esquema a partir del cual se desarrolla la base operativa. Establecidas la  Misión, la Visión y los Valores, se definen objetivos, el tipo de estrategia a adoptar, y las acciones que se llevarán a cabo. Estos elementos conforman el llamado marketing estratég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0640" y="4838760"/>
            <a:ext cx="141804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¿Quiénes som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55640" y="4903920"/>
            <a:ext cx="1438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¿Dónde estam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320" y="4429080"/>
            <a:ext cx="4267080" cy="254160"/>
          </a:xfrm>
          <a:custGeom>
            <a:avLst/>
            <a:gdLst>
              <a:gd name="textAreaLeft" fmla="*/ 0 w 4267080"/>
              <a:gd name="textAreaRight" fmla="*/ 4267440 w 426708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319" y="0"/>
                </a:lnTo>
                <a:lnTo>
                  <a:pt x="21600" y="10800"/>
                </a:lnTo>
                <a:lnTo>
                  <a:pt x="2131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99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8892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TAPA 1: ANALISIS DE LA SITUACION AC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52320" y="5505480"/>
            <a:ext cx="1035360" cy="609480"/>
          </a:xfrm>
          <a:custGeom>
            <a:avLst/>
            <a:gdLst>
              <a:gd name="textAreaLeft" fmla="*/ 0 w 1035360"/>
              <a:gd name="textAreaRight" fmla="*/ 1035720 w 10353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65" y="0"/>
                </a:lnTo>
                <a:lnTo>
                  <a:pt x="21600" y="10800"/>
                </a:lnTo>
                <a:lnTo>
                  <a:pt x="20165" y="21600"/>
                </a:lnTo>
                <a:lnTo>
                  <a:pt x="0" y="21600"/>
                </a:lnTo>
                <a:lnTo>
                  <a:pt x="1435" y="10800"/>
                </a:lnTo>
                <a:close/>
              </a:path>
            </a:pathLst>
          </a:custGeom>
          <a:solidFill>
            <a:srgbClr val="9999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8892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ffffff"/>
                </a:solidFill>
                <a:latin typeface="Arial"/>
              </a:rPr>
              <a:t>Análisis Inter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8960" y="5372280"/>
            <a:ext cx="231840" cy="218880"/>
          </a:xfrm>
          <a:prstGeom prst="ellipse">
            <a:avLst/>
          </a:prstGeom>
          <a:solidFill>
            <a:srgbClr val="5a7e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90560" y="5514840"/>
            <a:ext cx="1063800" cy="592200"/>
          </a:xfrm>
          <a:custGeom>
            <a:avLst/>
            <a:gdLst>
              <a:gd name="textAreaLeft" fmla="*/ 0 w 1063800"/>
              <a:gd name="textAreaRight" fmla="*/ 1064160 w 10638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9" y="0"/>
                </a:lnTo>
                <a:lnTo>
                  <a:pt x="21600" y="10800"/>
                </a:lnTo>
                <a:lnTo>
                  <a:pt x="20309" y="21600"/>
                </a:lnTo>
                <a:lnTo>
                  <a:pt x="0" y="21600"/>
                </a:lnTo>
                <a:lnTo>
                  <a:pt x="1291" y="10800"/>
                </a:lnTo>
                <a:close/>
              </a:path>
            </a:pathLst>
          </a:custGeom>
          <a:solidFill>
            <a:srgbClr val="9999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8892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ffffff"/>
                </a:solidFill>
                <a:latin typeface="Arial"/>
              </a:rPr>
              <a:t>Análisis Exter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54200" y="5362560"/>
            <a:ext cx="230040" cy="219240"/>
          </a:xfrm>
          <a:prstGeom prst="ellipse">
            <a:avLst/>
          </a:prstGeom>
          <a:solidFill>
            <a:srgbClr val="5a7e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71640" y="5506920"/>
            <a:ext cx="1011240" cy="609840"/>
          </a:xfrm>
          <a:custGeom>
            <a:avLst/>
            <a:gdLst>
              <a:gd name="textAreaLeft" fmla="*/ 0 w 1011240"/>
              <a:gd name="textAreaRight" fmla="*/ 1011600 w 101124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72" y="0"/>
                </a:lnTo>
                <a:lnTo>
                  <a:pt x="21600" y="10800"/>
                </a:lnTo>
                <a:lnTo>
                  <a:pt x="20172" y="21600"/>
                </a:lnTo>
                <a:lnTo>
                  <a:pt x="0" y="21600"/>
                </a:lnTo>
                <a:lnTo>
                  <a:pt x="1428" y="10800"/>
                </a:lnTo>
                <a:close/>
              </a:path>
            </a:pathLst>
          </a:custGeom>
          <a:solidFill>
            <a:srgbClr val="9999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8892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ffffff"/>
                </a:solidFill>
                <a:latin typeface="Arial"/>
              </a:rPr>
              <a:t>Mercado Potenc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71640" y="5361120"/>
            <a:ext cx="211320" cy="218880"/>
          </a:xfrm>
          <a:prstGeom prst="ellipse">
            <a:avLst/>
          </a:prstGeom>
          <a:solidFill>
            <a:srgbClr val="5a7e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7280" y="4869000"/>
            <a:ext cx="3789360" cy="49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59280" y="4869000"/>
            <a:ext cx="142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¿A dónde queremos llega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9080" y="4429080"/>
            <a:ext cx="4678560" cy="254160"/>
          </a:xfrm>
          <a:custGeom>
            <a:avLst/>
            <a:gdLst>
              <a:gd name="textAreaLeft" fmla="*/ 0 w 4678560"/>
              <a:gd name="textAreaRight" fmla="*/ 4678920 w 46785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319" y="0"/>
                </a:lnTo>
                <a:lnTo>
                  <a:pt x="21600" y="10800"/>
                </a:lnTo>
                <a:lnTo>
                  <a:pt x="2131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99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TAPA 2: FORMULACION DE LA ESTRATE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77080" y="4869000"/>
            <a:ext cx="170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¿Qué debemos hacer para ell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84720" y="5516640"/>
            <a:ext cx="1368720" cy="60948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74" y="0"/>
                </a:lnTo>
                <a:lnTo>
                  <a:pt x="21600" y="10800"/>
                </a:lnTo>
                <a:lnTo>
                  <a:pt x="20874" y="21600"/>
                </a:lnTo>
                <a:lnTo>
                  <a:pt x="0" y="21600"/>
                </a:lnTo>
                <a:lnTo>
                  <a:pt x="726" y="10800"/>
                </a:lnTo>
                <a:close/>
              </a:path>
            </a:pathLst>
          </a:custGeom>
          <a:solidFill>
            <a:srgbClr val="9999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100" spc="-1" strike="noStrike">
                <a:solidFill>
                  <a:srgbClr val="ffffff"/>
                </a:solidFill>
                <a:latin typeface="Arial"/>
              </a:rPr>
              <a:t>Posicionamien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88080" y="5506920"/>
            <a:ext cx="1376640" cy="608040"/>
          </a:xfrm>
          <a:custGeom>
            <a:avLst/>
            <a:gdLst>
              <a:gd name="textAreaLeft" fmla="*/ 0 w 1376640"/>
              <a:gd name="textAreaRight" fmla="*/ 1377000 w 13766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95" y="0"/>
                </a:lnTo>
                <a:lnTo>
                  <a:pt x="21600" y="10800"/>
                </a:lnTo>
                <a:lnTo>
                  <a:pt x="20895" y="21600"/>
                </a:lnTo>
                <a:lnTo>
                  <a:pt x="0" y="21600"/>
                </a:lnTo>
                <a:lnTo>
                  <a:pt x="705" y="10800"/>
                </a:lnTo>
                <a:close/>
              </a:path>
            </a:pathLst>
          </a:custGeom>
          <a:solidFill>
            <a:srgbClr val="9999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100" spc="-1" strike="noStrike">
                <a:solidFill>
                  <a:srgbClr val="ffffff"/>
                </a:solidFill>
                <a:latin typeface="Arial"/>
              </a:rPr>
              <a:t>Definición de Estrategias y Ac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21280" y="5398920"/>
            <a:ext cx="230400" cy="219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05640" y="5394240"/>
            <a:ext cx="230400" cy="219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5506920"/>
            <a:ext cx="1504800" cy="609840"/>
          </a:xfrm>
          <a:custGeom>
            <a:avLst/>
            <a:gdLst>
              <a:gd name="textAreaLeft" fmla="*/ 0 w 1504800"/>
              <a:gd name="textAreaRight" fmla="*/ 1505160 w 15048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16" y="0"/>
                </a:lnTo>
                <a:lnTo>
                  <a:pt x="21600" y="10800"/>
                </a:lnTo>
                <a:lnTo>
                  <a:pt x="20916" y="21600"/>
                </a:lnTo>
                <a:lnTo>
                  <a:pt x="0" y="21600"/>
                </a:lnTo>
                <a:lnTo>
                  <a:pt x="684" y="10800"/>
                </a:lnTo>
                <a:close/>
              </a:path>
            </a:pathLst>
          </a:custGeom>
          <a:solidFill>
            <a:srgbClr val="9999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100" spc="-1" strike="noStrike">
                <a:solidFill>
                  <a:srgbClr val="ffffff"/>
                </a:solidFill>
                <a:latin typeface="Arial"/>
              </a:rPr>
              <a:t>Establecimiento de Misión,  Visión, Valores y Objetivo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81560" y="5394240"/>
            <a:ext cx="230040" cy="219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38800" y="4832280"/>
            <a:ext cx="4626000" cy="49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9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9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9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9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9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9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9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9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9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9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9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9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9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9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3.1. Misión, Visión y Val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9280" y="1268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¿Qué es la Mis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9280" y="1771560"/>
            <a:ext cx="8640720" cy="82404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50000">
                <a:srgbClr val="666699"/>
              </a:gs>
              <a:gs pos="100000">
                <a:srgbClr val="2f2f46"/>
              </a:gs>
            </a:gsLst>
            <a:lin ang="5400000"/>
          </a:gra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 la razón de ser de toda empresa, es la esencia de misma del profesional. Es algo así como la estrella a seguir. La misión nunca se logra. Define aspectos motivacionales. Excede el hecho de ganar din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9280" y="2997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¿Qué es la Vis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9280" y="3500280"/>
            <a:ext cx="8640720" cy="106740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50000">
                <a:srgbClr val="666699"/>
              </a:gs>
              <a:gs pos="100000">
                <a:srgbClr val="2f2f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 un objetivo de largo plazo. Es una imagen del futuro que comunica a los demás lo que el Estudio Profesional quiere ser, lo que pretende alcanzar. Debe ser clara y exigir compromiso. Compromete a la gente, la atrapa y la retiene. La gente lo capta de inmediato; requiere poca explic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9280" y="5040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¿Qué son los valo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9280" y="5543640"/>
            <a:ext cx="8640720" cy="106740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50000">
                <a:srgbClr val="666699"/>
              </a:gs>
              <a:gs pos="100000">
                <a:srgbClr val="2f2f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n los principios esenciales de cada profesional, y por ende, sobre los cuales está basada su Empresa; guían la manera de hacer negocios; deben ser sólidos e inmodificables sin importar la situación. No pasan de moda y dentro de 100 años tiene la misma vigencia que ho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3.2. Estrategia de Diferenc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789360"/>
            <a:ext cx="1584360" cy="1368360"/>
          </a:xfrm>
          <a:prstGeom prst="rect">
            <a:avLst/>
          </a:prstGeom>
          <a:gradFill rotWithShape="0">
            <a:gsLst>
              <a:gs pos="0">
                <a:srgbClr val="152c4a"/>
              </a:gs>
              <a:gs pos="100000">
                <a:srgbClr val="2f60a1">
                  <a:alpha val="7215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88000" y="3789360"/>
            <a:ext cx="1511280" cy="136836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5e5e6a"/>
              </a:gs>
              <a:gs pos="100000">
                <a:srgbClr val="cccce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5229360"/>
            <a:ext cx="1511280" cy="1368360"/>
          </a:xfrm>
          <a:prstGeom prst="rect">
            <a:avLst/>
          </a:prstGeom>
          <a:gradFill rotWithShape="0">
            <a:gsLst>
              <a:gs pos="0">
                <a:srgbClr val="46465e"/>
              </a:gs>
              <a:gs pos="50000">
                <a:srgbClr val="9999cc"/>
              </a:gs>
              <a:gs pos="100000">
                <a:srgbClr val="464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03640" y="5229360"/>
            <a:ext cx="1584360" cy="1368360"/>
          </a:xfrm>
          <a:prstGeom prst="rect">
            <a:avLst/>
          </a:prstGeom>
          <a:gradFill rotWithShape="0">
            <a:gsLst>
              <a:gs pos="0">
                <a:srgbClr val="46465e"/>
              </a:gs>
              <a:gs pos="50000">
                <a:srgbClr val="9999cc"/>
              </a:gs>
              <a:gs pos="100000">
                <a:srgbClr val="464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22160" y="4149720"/>
            <a:ext cx="113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ideraz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 cos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006880" y="4221000"/>
            <a:ext cx="94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Diferen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68680" y="5734080"/>
            <a:ext cx="24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specialización / Ni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95240" y="29257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ntaja estraté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635280" y="335772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357a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76720" y="335772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357a"/>
                </a:solidFill>
                <a:latin typeface="Arial"/>
              </a:rPr>
              <a:t>Servi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2526480" y="435996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357a"/>
                </a:solidFill>
                <a:latin typeface="Arial"/>
              </a:rPr>
              <a:t>Amp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6200000">
            <a:off x="2423520" y="575964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357a"/>
                </a:solidFill>
                <a:latin typeface="Arial"/>
              </a:rPr>
              <a:t>Reduc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1768320" y="50097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Ámb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5763960" y="439236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357a"/>
                </a:solidFill>
                <a:latin typeface="Arial"/>
              </a:rPr>
              <a:t>Todo 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5400000">
            <a:off x="6001560" y="581400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357a"/>
                </a:solidFill>
                <a:latin typeface="Arial"/>
              </a:rPr>
              <a:t>Seg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8360" y="249228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strategias genéricas según P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5280" y="1346760"/>
            <a:ext cx="8136000" cy="82404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ica llevar adelante un conjunto de acciones integradas que permitan ofrecer un servicio profesional percibido como distinto al de la competencia, y que sea sustentable en el tiemp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9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9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9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9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9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9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9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9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.3.3. Las 7 Ps. de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1341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lementos del Marketing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28360" y="37530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66520" y="37162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99640" y="2060640"/>
            <a:ext cx="2044440" cy="3373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ducto ó Serv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44400" y="2708280"/>
            <a:ext cx="756720" cy="3373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53040" y="6093000"/>
            <a:ext cx="2539800" cy="337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Planta ó lugar ó esce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46040" y="4076640"/>
            <a:ext cx="1151640" cy="3373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mo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36320" y="5445000"/>
            <a:ext cx="2972520" cy="3373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laza – Logística y distrib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03280" y="3357720"/>
            <a:ext cx="1038600" cy="337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07960" y="4797360"/>
            <a:ext cx="1028160" cy="337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8360" y="3500280"/>
            <a:ext cx="1871640" cy="863640"/>
          </a:xfrm>
          <a:prstGeom prst="ellipse">
            <a:avLst/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04000" y="3500280"/>
            <a:ext cx="1871640" cy="863640"/>
          </a:xfrm>
          <a:prstGeom prst="ellipse">
            <a:avLst/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268360" y="2349000"/>
            <a:ext cx="1224000" cy="1295640"/>
          </a:xfrm>
          <a:prstGeom prst="line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340000" y="2924280"/>
            <a:ext cx="1800360" cy="792000"/>
          </a:xfrm>
          <a:prstGeom prst="line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1280" y="3933720"/>
            <a:ext cx="1584360" cy="287280"/>
          </a:xfrm>
          <a:prstGeom prst="line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340000" y="4076640"/>
            <a:ext cx="1152360" cy="1297080"/>
          </a:xfrm>
          <a:prstGeom prst="line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5724360" y="2276280"/>
            <a:ext cx="1224000" cy="1368360"/>
          </a:xfrm>
          <a:prstGeom prst="line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5076720" y="2924280"/>
            <a:ext cx="1727280" cy="792000"/>
          </a:xfrm>
          <a:prstGeom prst="line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5219280" y="3573360"/>
            <a:ext cx="1513080" cy="287280"/>
          </a:xfrm>
          <a:prstGeom prst="line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219280" y="4076640"/>
            <a:ext cx="1513080" cy="144360"/>
          </a:xfrm>
          <a:prstGeom prst="line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219280" y="4149720"/>
            <a:ext cx="1584360" cy="792000"/>
          </a:xfrm>
          <a:prstGeom prst="line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651640" y="4221000"/>
            <a:ext cx="1225440" cy="1152720"/>
          </a:xfrm>
          <a:prstGeom prst="line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940000" y="4292640"/>
            <a:ext cx="1079640" cy="1944720"/>
          </a:xfrm>
          <a:prstGeom prst="line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9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9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9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9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9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9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9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3.3.4. Segm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4 Marcador de número de diapositiva"/>
          <p:cNvSpPr/>
          <p:nvPr/>
        </p:nvSpPr>
        <p:spPr>
          <a:xfrm>
            <a:off x="8572680" y="6680160"/>
            <a:ext cx="571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D203-396A-4354-82B2-FDFAC45D9FCA}" type="slidenum">
              <a:rPr b="0" lang="es-AR" sz="800" spc="-1" strike="noStrike">
                <a:solidFill>
                  <a:srgbClr val="969696"/>
                </a:solidFill>
                <a:latin typeface="Calibri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5800" y="134136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¿Qué es segmentar?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4000" y="1844640"/>
            <a:ext cx="8059680" cy="1341720"/>
          </a:xfrm>
          <a:prstGeom prst="rect">
            <a:avLst/>
          </a:prstGeom>
          <a:gradFill rotWithShape="0">
            <a:gsLst>
              <a:gs pos="0">
                <a:srgbClr val="46465e"/>
              </a:gs>
              <a:gs pos="50000">
                <a:srgbClr val="9999cc"/>
              </a:gs>
              <a:gs pos="100000">
                <a:srgbClr val="46465e"/>
              </a:gs>
            </a:gsLst>
            <a:lin ang="5400000"/>
          </a:gra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s identificar dentro de un mercado, determinado grupo de personas con características similares entre sí, pero a su vez diferentes de otros grup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s un pilar clave del marketing estratégico, que permit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ocer realmente y en profundidad a los clientes, pudiendo brindar un servicio diferencial y a medida, identificando así al cliente objetivo ó mercado me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3640" y="3715920"/>
            <a:ext cx="8251560" cy="280836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ipos de segment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Geográfic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: regiones, ciudade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Demográfic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: tamaño, rubros de la economía ó industria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Psicográfic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: nivel de facturación, nivel social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Actitudinal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: comportamientos de los clientes, respuestas a los diferentes servic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9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9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9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9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9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900" fill="hold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troducción y o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. Escenario del Profesional de Ciencias Económ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.1. Situación Ac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.2. Perfil del Profes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.3. Hacia un cambio de rumb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. El Marketing de Serv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.1. Concep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.2. Características de los servic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.3. El Plan de Marke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.3.1. Misión, Visión, Val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.3.2. Estrategia de Diferenci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.3.3. Las 7 Ps. de Marke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.3.4. Segment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.3.5. Posicionami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.3.6. Marketing Rela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.3.7. ¿Cómo vender el servicio?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.4. Sugerencias para el éxito.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3.3.5. Posi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4 Marcador de número de diapositiva"/>
          <p:cNvSpPr/>
          <p:nvPr/>
        </p:nvSpPr>
        <p:spPr>
          <a:xfrm>
            <a:off x="8572680" y="6680160"/>
            <a:ext cx="571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9EB6-5BEB-48CA-AC1F-72336920B20A}" type="slidenum">
              <a:rPr b="0" lang="es-AR" sz="800" spc="-1" strike="noStrike">
                <a:solidFill>
                  <a:srgbClr val="969696"/>
                </a:solidFill>
                <a:latin typeface="Calibri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4000" y="1484280"/>
            <a:ext cx="8059680" cy="1797480"/>
          </a:xfrm>
          <a:prstGeom prst="rect">
            <a:avLst/>
          </a:prstGeom>
          <a:gradFill rotWithShape="0">
            <a:gsLst>
              <a:gs pos="0">
                <a:srgbClr val="46465e"/>
              </a:gs>
              <a:gs pos="50000">
                <a:srgbClr val="9999cc"/>
              </a:gs>
              <a:gs pos="100000">
                <a:srgbClr val="46465e"/>
              </a:gs>
            </a:gsLst>
            <a:lin ang="5400000"/>
          </a:gra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s el lugar que el servicio ocupa en la mente del cliente, conforme los atributos que éste perci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 posicionar correctamente un servicio en el mercado consiste en hacerlo más deseable, aceptable y relevante para el segmento meta, diferenciándolo del ofrecido por la compet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frecer un servicio que sea efectivamente percibido como "único" por los cli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9640" y="5013360"/>
            <a:ext cx="2087640" cy="642600"/>
          </a:xfrm>
          <a:prstGeom prst="rect">
            <a:avLst/>
          </a:prstGeom>
          <a:noFill/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tapas del Posicio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80000" y="4076640"/>
            <a:ext cx="4537080" cy="52884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600" spc="-1" strike="noStrike" u="sng">
                <a:solidFill>
                  <a:srgbClr val="000000"/>
                </a:solidFill>
                <a:uFillTx/>
                <a:latin typeface="Arial"/>
              </a:rPr>
              <a:t>Posicionamiento Actual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: percepción del cliente respecto de compet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80000" y="4941720"/>
            <a:ext cx="4537080" cy="57636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600" spc="-1" strike="noStrike" u="sng">
                <a:solidFill>
                  <a:srgbClr val="000000"/>
                </a:solidFill>
                <a:uFillTx/>
                <a:latin typeface="Arial"/>
              </a:rPr>
              <a:t>Posicionamiento Ideal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: ofrecimiento de ventajas diferenciales para el cl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80000" y="5805360"/>
            <a:ext cx="4537080" cy="57636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600" spc="-1" strike="noStrike" u="sng">
                <a:solidFill>
                  <a:srgbClr val="000000"/>
                </a:solidFill>
                <a:uFillTx/>
                <a:latin typeface="Arial"/>
              </a:rPr>
              <a:t>Posicionamiento Deseado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: la forma de posicionar el servicio diseñado en el Pl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6720" y="3930480"/>
            <a:ext cx="557280" cy="2594160"/>
          </a:xfrm>
          <a:custGeom>
            <a:avLst/>
            <a:gdLst>
              <a:gd name="textAreaLeft" fmla="*/ 356040 w 557280"/>
              <a:gd name="textAreaRight" fmla="*/ 557640 w 557280"/>
              <a:gd name="textAreaTop" fmla="*/ 67320 h 2594160"/>
              <a:gd name="textAreaBottom" fmla="*/ 2526840 h 259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0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3.6. Marketing Rel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4000" y="1484280"/>
            <a:ext cx="8059680" cy="1797480"/>
          </a:xfrm>
          <a:prstGeom prst="rect">
            <a:avLst/>
          </a:prstGeom>
          <a:gradFill rotWithShape="0">
            <a:gsLst>
              <a:gs pos="0">
                <a:srgbClr val="46465e"/>
              </a:gs>
              <a:gs pos="50000">
                <a:srgbClr val="9999cc"/>
              </a:gs>
              <a:gs pos="100000">
                <a:srgbClr val="46465e"/>
              </a:gs>
            </a:gsLst>
            <a:lin ang="5400000"/>
          </a:gra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s la intersección entre el marketing y las relaciones públicas. Busca crear, fortalecer y mantener el vínculo del profesional ó empresa con el cliente, tanto como satisfacer una amplia gama de sus necesidades además del servicio principal, con el objetivo de lograr su fideliz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La premisa básica es que resulta más fácil y rentable mantener a los clientes actuales, que generar nue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7080" y="364500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sos para su implement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23640" y="4149720"/>
            <a:ext cx="8251560" cy="23320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Definir a los clientes potenciale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: con qué clientes trabajar, pues todos son distin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Manejo de Base de Datos (CRM)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: necesario la actualización perman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Amplio conocimiento de los cliente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: clasificar los más rentables, los de mayor potencial y los referentes frente a 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9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9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9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9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9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9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3.7. ¿Cómo vender el servici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71640" y="1628640"/>
            <a:ext cx="6913440" cy="52884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50000">
                <a:srgbClr val="ffffff"/>
              </a:gs>
              <a:gs pos="100000">
                <a:srgbClr val="9999cc"/>
              </a:gs>
            </a:gsLst>
            <a:lin ang="5400000"/>
          </a:gradFill>
          <a:ln w="93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marL="301680" indent="-3016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LA CLAVE: “Convertir en tangible lo intangible, a través de la persuasión y el convencimient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708360" y="4581360"/>
            <a:ext cx="1368360" cy="36828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¿Có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1280" y="2781360"/>
            <a:ext cx="2006640" cy="6426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ctitud y Aptitud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1280" y="3502080"/>
            <a:ext cx="2008080" cy="29386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333333"/>
                </a:solidFill>
                <a:latin typeface="Arial"/>
              </a:rPr>
              <a:t>Imagen pers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333333"/>
                </a:solidFill>
                <a:latin typeface="Arial"/>
              </a:rPr>
              <a:t>Pres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333333"/>
                </a:solidFill>
                <a:latin typeface="Arial"/>
              </a:rPr>
              <a:t>Conocimiento y experi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333333"/>
                </a:solidFill>
                <a:latin typeface="Arial"/>
              </a:rPr>
              <a:t>Habilidades de Comunic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27640" y="2779560"/>
            <a:ext cx="2151360" cy="6426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o Come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27640" y="3500280"/>
            <a:ext cx="2152800" cy="29386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Prospec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ontacto Ini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Detección de necesi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Propuesta Profes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Manejo de Obje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ier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00360" y="4543560"/>
            <a:ext cx="863640" cy="504720"/>
          </a:xfrm>
          <a:prstGeom prst="leftArrow">
            <a:avLst>
              <a:gd name="adj1" fmla="val 50000"/>
              <a:gd name="adj2" fmla="val 4277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19640" y="4545000"/>
            <a:ext cx="792360" cy="503280"/>
          </a:xfrm>
          <a:prstGeom prst="rightArrow">
            <a:avLst>
              <a:gd name="adj1" fmla="val 50000"/>
              <a:gd name="adj2" fmla="val 3936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58920" y="1341360"/>
            <a:ext cx="8785080" cy="505080"/>
          </a:xfrm>
          <a:custGeom>
            <a:avLst/>
            <a:gdLst>
              <a:gd name="textAreaLeft" fmla="*/ 2196360 w 8785080"/>
              <a:gd name="textAreaRight" fmla="*/ 6589080 w 8785080"/>
              <a:gd name="textAreaTop" fmla="*/ 0 h 505080"/>
              <a:gd name="textAreaBottom" fmla="*/ 442080 h 5050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cce6"/>
          </a:solidFill>
          <a:ln w="9360">
            <a:solidFill>
              <a:srgbClr val="666699"/>
            </a:solidFill>
            <a:miter/>
          </a:ln>
          <a:effectLst>
            <a:outerShdw dist="153753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ACTORES CRÍTICOS DE ÉX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6920" y="2133720"/>
            <a:ext cx="7344000" cy="43923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24000" y="2565360"/>
            <a:ext cx="4753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OCALIZARSE EN SU MERC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45080" y="3860640"/>
            <a:ext cx="72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UIDAR LOS CLIENTES ACTUALES, SON SUS MEJORES VEND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835280" y="5013360"/>
            <a:ext cx="590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UTILIZAR REDES PROFESIONALES Y TECNOLOGÍ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42920" y="4508640"/>
            <a:ext cx="69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ENDER MEJOR PERSONALMENTE QUE POR ESCR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547640" y="3284640"/>
            <a:ext cx="61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OSTRAR LAS COMPETENCIAS Y LOS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4. Sugerencias para el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9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9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9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9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9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9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4. Sugerencias para el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628000" y="1268280"/>
            <a:ext cx="36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¿Qué hace Usted Sr. Contad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78160" y="6230880"/>
            <a:ext cx="560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¿A cuál de estos 2 Contadores contrataría Us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ubRRectCallout"/>
          <p:cNvSpPr/>
          <p:nvPr/>
        </p:nvSpPr>
        <p:spPr>
          <a:xfrm>
            <a:off x="5219640" y="1844640"/>
            <a:ext cx="3529080" cy="3637080"/>
          </a:xfrm>
          <a:custGeom>
            <a:avLst/>
            <a:gdLst>
              <a:gd name="textAreaLeft" fmla="*/ 23400 w 3529080"/>
              <a:gd name="textAreaRight" fmla="*/ 3498120 w 3529080"/>
              <a:gd name="textAreaTop" fmla="*/ 24120 h 3637080"/>
              <a:gd name="textAreaBottom" fmla="*/ 2880360 h 363708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10529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y un especialista en generar oportunidades de ahorro con los impuestos de su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ubRRectCallout"/>
          <p:cNvSpPr/>
          <p:nvPr/>
        </p:nvSpPr>
        <p:spPr>
          <a:xfrm>
            <a:off x="1619280" y="1844640"/>
            <a:ext cx="3384360" cy="3673440"/>
          </a:xfrm>
          <a:custGeom>
            <a:avLst/>
            <a:gdLst>
              <a:gd name="textAreaLeft" fmla="*/ 22680 w 3384360"/>
              <a:gd name="textAreaRight" fmla="*/ 3354480 w 3384360"/>
              <a:gd name="textAreaTop" fmla="*/ 24480 h 3673440"/>
              <a:gd name="textAreaBottom" fmla="*/ 2909160 h 36734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Hago Bal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Hago DDJJ imposi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viso y firmo Estados Cont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Hago análisis financie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studio la situación tributaria de las empre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ictamino sobre los Estados Cont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tc., etc.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31760" y="4437000"/>
            <a:ext cx="1415880" cy="21211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205092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Introducción y Objetiv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flexionar acerca del perfil Profesional del C.P. conforme las exigencias del mercado actual, las competencias y habilidades requeridas para brindar respuesta a las crecientes demandas de los cli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ntificar los elementos de marketing que permitan desarrollar estrategias altamente efectivas, para vender más y mejores servi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Escenario del Profesional de Ciencias Económic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 flipV="1">
            <a:off x="1247760" y="1458720"/>
            <a:ext cx="5589720" cy="4943160"/>
          </a:xfrm>
          <a:prstGeom prst="line">
            <a:avLst/>
          </a:prstGeom>
          <a:ln w="3816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03280" y="3645000"/>
            <a:ext cx="1095480" cy="730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2365200" y="1769760"/>
            <a:ext cx="0" cy="37764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99400" y="1841400"/>
            <a:ext cx="8708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79600" y="2289240"/>
            <a:ext cx="0" cy="45396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97960" y="2343240"/>
            <a:ext cx="633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28600" y="3220920"/>
            <a:ext cx="1685880" cy="1766880"/>
          </a:xfrm>
          <a:prstGeom prst="ellipse">
            <a:avLst/>
          </a:prstGeom>
          <a:noFill/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9231800">
            <a:off x="819000" y="4535280"/>
            <a:ext cx="677880" cy="182520"/>
          </a:xfrm>
          <a:prstGeom prst="rightArrow">
            <a:avLst>
              <a:gd name="adj1" fmla="val 50000"/>
              <a:gd name="adj2" fmla="val 92850"/>
            </a:avLst>
          </a:prstGeom>
          <a:solidFill>
            <a:srgbClr val="cccce6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1491800">
            <a:off x="2555280" y="4149000"/>
            <a:ext cx="677880" cy="182520"/>
          </a:xfrm>
          <a:prstGeom prst="rightArrow">
            <a:avLst>
              <a:gd name="adj1" fmla="val 50000"/>
              <a:gd name="adj2" fmla="val 92850"/>
            </a:avLst>
          </a:prstGeom>
          <a:solidFill>
            <a:srgbClr val="cccce6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277000">
            <a:off x="928800" y="3162240"/>
            <a:ext cx="677880" cy="182520"/>
          </a:xfrm>
          <a:prstGeom prst="rightArrow">
            <a:avLst>
              <a:gd name="adj1" fmla="val 50000"/>
              <a:gd name="adj2" fmla="val 92850"/>
            </a:avLst>
          </a:prstGeom>
          <a:solidFill>
            <a:srgbClr val="cccce6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79200">
            <a:off x="1461600" y="2927160"/>
            <a:ext cx="745920" cy="165240"/>
          </a:xfrm>
          <a:prstGeom prst="rightArrow">
            <a:avLst>
              <a:gd name="adj1" fmla="val 50000"/>
              <a:gd name="adj2" fmla="val 112854"/>
            </a:avLst>
          </a:prstGeom>
          <a:solidFill>
            <a:srgbClr val="cccce6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856400">
            <a:off x="1212840" y="4833720"/>
            <a:ext cx="745920" cy="165240"/>
          </a:xfrm>
          <a:prstGeom prst="rightArrow">
            <a:avLst>
              <a:gd name="adj1" fmla="val 50000"/>
              <a:gd name="adj2" fmla="val 112854"/>
            </a:avLst>
          </a:prstGeom>
          <a:solidFill>
            <a:srgbClr val="cccce6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233600">
            <a:off x="666720" y="3514680"/>
            <a:ext cx="677880" cy="182520"/>
          </a:xfrm>
          <a:prstGeom prst="rightArrow">
            <a:avLst>
              <a:gd name="adj1" fmla="val 50000"/>
              <a:gd name="adj2" fmla="val 92850"/>
            </a:avLst>
          </a:prstGeom>
          <a:solidFill>
            <a:srgbClr val="cccce6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4142000">
            <a:off x="2120760" y="4655880"/>
            <a:ext cx="745920" cy="165240"/>
          </a:xfrm>
          <a:prstGeom prst="rightArrow">
            <a:avLst>
              <a:gd name="adj1" fmla="val 50000"/>
              <a:gd name="adj2" fmla="val 112854"/>
            </a:avLst>
          </a:prstGeom>
          <a:solidFill>
            <a:srgbClr val="cccce6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8847000">
            <a:off x="2555640" y="3499920"/>
            <a:ext cx="677880" cy="184320"/>
          </a:xfrm>
          <a:prstGeom prst="rightArrow">
            <a:avLst>
              <a:gd name="adj1" fmla="val 50000"/>
              <a:gd name="adj2" fmla="val 91943"/>
            </a:avLst>
          </a:prstGeom>
          <a:solidFill>
            <a:srgbClr val="cccce6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7255800">
            <a:off x="1978560" y="3142080"/>
            <a:ext cx="746280" cy="167040"/>
          </a:xfrm>
          <a:prstGeom prst="rightArrow">
            <a:avLst>
              <a:gd name="adj1" fmla="val 50000"/>
              <a:gd name="adj2" fmla="val 111692"/>
            </a:avLst>
          </a:prstGeom>
          <a:solidFill>
            <a:srgbClr val="cccce6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5150600">
            <a:off x="1689120" y="4871160"/>
            <a:ext cx="747720" cy="166680"/>
          </a:xfrm>
          <a:prstGeom prst="rightArrow">
            <a:avLst>
              <a:gd name="adj1" fmla="val 50000"/>
              <a:gd name="adj2" fmla="val 112149"/>
            </a:avLst>
          </a:prstGeom>
          <a:solidFill>
            <a:srgbClr val="cccce6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867400">
            <a:off x="611280" y="4032360"/>
            <a:ext cx="677880" cy="182520"/>
          </a:xfrm>
          <a:prstGeom prst="rightArrow">
            <a:avLst>
              <a:gd name="adj1" fmla="val 50000"/>
              <a:gd name="adj2" fmla="val 92850"/>
            </a:avLst>
          </a:prstGeom>
          <a:solidFill>
            <a:srgbClr val="cccce6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0" y="2001960"/>
            <a:ext cx="21956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190440" indent="-190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apacidad de respu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74600" y="1268280"/>
            <a:ext cx="3206880" cy="2743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ercado de Dem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003640" y="3500280"/>
            <a:ext cx="0" cy="37656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23880" y="3573360"/>
            <a:ext cx="633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89600" y="4148280"/>
            <a:ext cx="0" cy="45216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09120" y="4222800"/>
            <a:ext cx="8708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4956480"/>
            <a:ext cx="1871640" cy="13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190440" indent="-190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. Conocer qué necesita el 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. Brindar un servicio diferen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3. Pensar cómo fidelizar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29320" y="4013280"/>
            <a:ext cx="1685880" cy="196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8789400">
            <a:off x="6361920" y="5603760"/>
            <a:ext cx="677880" cy="201600"/>
          </a:xfrm>
          <a:prstGeom prst="rightArrow">
            <a:avLst>
              <a:gd name="adj1" fmla="val 50000"/>
              <a:gd name="adj2" fmla="val 84063"/>
            </a:avLst>
          </a:prstGeom>
          <a:solidFill>
            <a:srgbClr val="ddddd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865200">
            <a:off x="7829640" y="5095440"/>
            <a:ext cx="676080" cy="203400"/>
          </a:xfrm>
          <a:prstGeom prst="rightArrow">
            <a:avLst>
              <a:gd name="adj1" fmla="val 50000"/>
              <a:gd name="adj2" fmla="val 83097"/>
            </a:avLst>
          </a:prstGeom>
          <a:solidFill>
            <a:srgbClr val="ddddd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3055400">
            <a:off x="6471720" y="4113000"/>
            <a:ext cx="677880" cy="203040"/>
          </a:xfrm>
          <a:prstGeom prst="rightArrow">
            <a:avLst>
              <a:gd name="adj1" fmla="val 50000"/>
              <a:gd name="adj2" fmla="val 83466"/>
            </a:avLst>
          </a:prstGeom>
          <a:solidFill>
            <a:srgbClr val="ddddd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593000">
            <a:off x="6964920" y="3861360"/>
            <a:ext cx="828720" cy="166680"/>
          </a:xfrm>
          <a:prstGeom prst="rightArrow">
            <a:avLst>
              <a:gd name="adj1" fmla="val 50000"/>
              <a:gd name="adj2" fmla="val 124298"/>
            </a:avLst>
          </a:prstGeom>
          <a:solidFill>
            <a:srgbClr val="ddddd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5849400">
            <a:off x="6715440" y="5976000"/>
            <a:ext cx="828720" cy="166680"/>
          </a:xfrm>
          <a:prstGeom prst="rightArrow">
            <a:avLst>
              <a:gd name="adj1" fmla="val 50000"/>
              <a:gd name="adj2" fmla="val 124298"/>
            </a:avLst>
          </a:prstGeom>
          <a:solidFill>
            <a:srgbClr val="ddddd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2243600">
            <a:off x="6209640" y="4502880"/>
            <a:ext cx="677880" cy="203400"/>
          </a:xfrm>
          <a:prstGeom prst="rightArrow">
            <a:avLst>
              <a:gd name="adj1" fmla="val 50000"/>
              <a:gd name="adj2" fmla="val 83319"/>
            </a:avLst>
          </a:prstGeom>
          <a:solidFill>
            <a:srgbClr val="ddddd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3007200">
            <a:off x="7629840" y="5655240"/>
            <a:ext cx="827280" cy="164880"/>
          </a:xfrm>
          <a:prstGeom prst="rightArrow">
            <a:avLst>
              <a:gd name="adj1" fmla="val 50000"/>
              <a:gd name="adj2" fmla="val 125437"/>
            </a:avLst>
          </a:prstGeom>
          <a:solidFill>
            <a:srgbClr val="ddddd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20176200">
            <a:off x="7829640" y="4468680"/>
            <a:ext cx="676080" cy="204840"/>
          </a:xfrm>
          <a:prstGeom prst="rightArrow">
            <a:avLst>
              <a:gd name="adj1" fmla="val 50000"/>
              <a:gd name="adj2" fmla="val 82513"/>
            </a:avLst>
          </a:prstGeom>
          <a:solidFill>
            <a:srgbClr val="ddddd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8088800">
            <a:off x="7406280" y="4047120"/>
            <a:ext cx="828720" cy="166680"/>
          </a:xfrm>
          <a:prstGeom prst="rightArrow">
            <a:avLst>
              <a:gd name="adj1" fmla="val 50000"/>
              <a:gd name="adj2" fmla="val 124298"/>
            </a:avLst>
          </a:prstGeom>
          <a:solidFill>
            <a:srgbClr val="ddddd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4515000">
            <a:off x="7184520" y="5908320"/>
            <a:ext cx="830520" cy="166680"/>
          </a:xfrm>
          <a:prstGeom prst="rightArrow">
            <a:avLst>
              <a:gd name="adj1" fmla="val 50000"/>
              <a:gd name="adj2" fmla="val 124568"/>
            </a:avLst>
          </a:prstGeom>
          <a:solidFill>
            <a:srgbClr val="ddddd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9913200">
            <a:off x="6154200" y="5078520"/>
            <a:ext cx="677880" cy="203040"/>
          </a:xfrm>
          <a:prstGeom prst="rightArrow">
            <a:avLst>
              <a:gd name="adj1" fmla="val 50000"/>
              <a:gd name="adj2" fmla="val 83466"/>
            </a:avLst>
          </a:prstGeom>
          <a:solidFill>
            <a:srgbClr val="ddddd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7320" y="819000"/>
            <a:ext cx="24620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El mercado, el ento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1. Situación Ac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08720" y="2852640"/>
            <a:ext cx="3206520" cy="2743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ercado de Ofe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348000" y="4437000"/>
            <a:ext cx="987480" cy="215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2. Perfil del Profe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50920" y="2349360"/>
            <a:ext cx="4033800" cy="37242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5e5e6a"/>
              </a:gs>
            </a:gsLst>
            <a:lin ang="8100000"/>
          </a:gradFill>
          <a:ln w="0">
            <a:noFill/>
          </a:ln>
          <a:effectLst>
            <a:outerShdw dist="107932" dir="13500000" blurRad="0" rotWithShape="0">
              <a:srgbClr val="9999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titud reacti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bservador de la realidad del cl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opta un rol fij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uy técnico y poco “vendedor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sión puntual del negocio del cl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iquidador de impuestos, sueldos, y todo aquello que signifique “pagar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dor de relación “amor y odio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Junta papeles y formularios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1484280"/>
            <a:ext cx="4033800" cy="398880"/>
          </a:xfrm>
          <a:prstGeom prst="rect">
            <a:avLst/>
          </a:prstGeom>
          <a:solidFill>
            <a:srgbClr val="cccce6"/>
          </a:solidFill>
          <a:ln w="9360">
            <a:solidFill>
              <a:srgbClr val="9999cc"/>
            </a:solidFill>
            <a:miter/>
          </a:ln>
          <a:effectLst>
            <a:outerShdw dist="107932" dir="13500000" blurRad="0" rotWithShape="0">
              <a:srgbClr val="9999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erfil Profesional Tradi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1484280"/>
            <a:ext cx="4032360" cy="398880"/>
          </a:xfrm>
          <a:prstGeom prst="rect">
            <a:avLst/>
          </a:prstGeom>
          <a:solidFill>
            <a:srgbClr val="cccce6"/>
          </a:solidFill>
          <a:ln w="9360">
            <a:solidFill>
              <a:srgbClr val="9999cc"/>
            </a:solidFill>
            <a:miter/>
          </a:ln>
          <a:effectLst>
            <a:outerShdw dist="107932" dir="18900000" blurRad="0" rotWithShape="0">
              <a:srgbClr val="9999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erfil Profesional Empres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930920" y="2398680"/>
            <a:ext cx="4033800" cy="362268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5e5e6a"/>
              </a:gs>
            </a:gsLst>
            <a:lin ang="8100000"/>
          </a:gradFill>
          <a:ln w="0">
            <a:noFill/>
          </a:ln>
          <a:effectLst>
            <a:outerShdw dist="107932" dir="18900000" blurRad="0" rotWithShape="0">
              <a:srgbClr val="9999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titud proacti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ocio estratégico del cl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opta un rol flexible, pues se adapta a las necesidades del cl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sultor y gerente de solu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sión global del negocio del cliente y del mercado donde oper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ansmite valores y es generador de oportuni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s motivador y gestor de camb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3. Hacia un cambio de rum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1773360"/>
            <a:ext cx="7056360" cy="122400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locura, por definición, es esperar resultados diferentes haciendo siempre las mismas cosas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Albert Ein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76360" y="3500280"/>
            <a:ext cx="6624720" cy="1081080"/>
          </a:xfrm>
          <a:custGeom>
            <a:avLst/>
            <a:gdLst>
              <a:gd name="textAreaLeft" fmla="*/ 1438200 w 6624720"/>
              <a:gd name="textAreaRight" fmla="*/ 4722480 w 6624720"/>
              <a:gd name="textAreaTop" fmla="*/ 144720 h 1081080"/>
              <a:gd name="textAreaBottom" fmla="*/ 93636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79" hR="21600" stAng="10800000" swAng="5400000"/>
                <a:lnTo>
                  <a:pt x="10709" y="0"/>
                </a:lnTo>
                <a:arcTo wR="9379" hR="21600" stAng="-5400000" swAng="1463446"/>
                <a:lnTo>
                  <a:pt x="18995" y="6661"/>
                </a:lnTo>
                <a:lnTo>
                  <a:pt x="19422" y="21600"/>
                </a:lnTo>
                <a:lnTo>
                  <a:pt x="14639" y="6661"/>
                </a:lnTo>
                <a:lnTo>
                  <a:pt x="16152" y="6661"/>
                </a:lnTo>
                <a:arcTo wR="9379" hR="21600" stAng="-3936554" swAng="-1357374"/>
                <a:lnTo>
                  <a:pt x="10044" y="54"/>
                </a:lnTo>
                <a:arcTo wR="9379" hR="21600" stAng="-5506071" swAng="-5293929"/>
                <a:close/>
              </a:path>
              <a:path fill="darkenLess" w="21600" h="21600">
                <a:moveTo>
                  <a:pt x="0" y="21600"/>
                </a:moveTo>
                <a:arcTo wR="9379" hR="21600" stAng="10800000" swAng="5400000"/>
                <a:lnTo>
                  <a:pt x="9379" y="0"/>
                </a:lnTo>
                <a:arcTo wR="9379" hR="21600" stAng="-5400000" swAng="106071"/>
                <a:lnTo>
                  <a:pt x="10044" y="54"/>
                </a:lnTo>
                <a:arcTo wR="9379" hR="21600" stAng="-5506071" swAng="-5293929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360" y="4365720"/>
            <a:ext cx="37432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6699"/>
                </a:solidFill>
                <a:latin typeface="Arial"/>
              </a:rPr>
              <a:t>Cambios en la forma de pensar y actuar. Cambios en la Gest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666699"/>
                </a:solidFill>
                <a:latin typeface="Arial"/>
              </a:rPr>
              <a:t>Misión, Visión y Val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666699"/>
                </a:solidFill>
                <a:latin typeface="Arial"/>
              </a:rPr>
              <a:t>Estrategias Diferen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666699"/>
                </a:solidFill>
                <a:latin typeface="Arial"/>
              </a:rPr>
              <a:t>Mercado Poten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666699"/>
                </a:solidFill>
                <a:latin typeface="Arial"/>
              </a:rPr>
              <a:t>Foco en el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8320" y="508464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fesional Con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04680" y="501336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fesional Empres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4653000"/>
            <a:ext cx="2520720" cy="1224000"/>
          </a:xfrm>
          <a:prstGeom prst="ellipse">
            <a:avLst/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27640" y="4653000"/>
            <a:ext cx="2665440" cy="1224000"/>
          </a:xfrm>
          <a:prstGeom prst="ellipse">
            <a:avLst/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9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9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3. Hacia un cambio de rum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484280"/>
            <a:ext cx="6913440" cy="398880"/>
          </a:xfrm>
          <a:prstGeom prst="rect">
            <a:avLst/>
          </a:prstGeom>
          <a:solidFill>
            <a:srgbClr val="cccce6"/>
          </a:solidFill>
          <a:ln w="12600">
            <a:solidFill>
              <a:srgbClr val="666699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guntas claves para un cambio de rumb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3716280"/>
            <a:ext cx="806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23840" indent="-123840">
              <a:lnSpc>
                <a:spcPct val="135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33"/>
                </a:solidFill>
                <a:latin typeface="Arial"/>
              </a:rPr>
              <a:t>¿Qué quiero lograr? ¿Cuáles son las áreas de mi profesión que más me atraen y divier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2349360"/>
            <a:ext cx="806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23840" indent="-123840">
              <a:lnSpc>
                <a:spcPct val="135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33"/>
                </a:solidFill>
                <a:latin typeface="Arial"/>
              </a:rPr>
              <a:t>¿Cuál es mi razón de ser en el ámbito profesional? ¿Cuáles son mis valores que transmitiré a los clien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5084640"/>
            <a:ext cx="806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23840" indent="-123840">
              <a:lnSpc>
                <a:spcPct val="135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33"/>
                </a:solidFill>
                <a:latin typeface="Arial"/>
              </a:rPr>
              <a:t>¿Hacia dónde encamino mi actividad? ¿De qué manera brindaré un servicio diferencial y de excelenc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9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01:44Z</dcterms:created>
  <dc:creator>User 13</dc:creator>
  <dc:description/>
  <dc:language>en-US</dc:language>
  <cp:lastModifiedBy>WinuE</cp:lastModifiedBy>
  <dcterms:modified xsi:type="dcterms:W3CDTF">2010-10-21T06:55:09Z</dcterms:modified>
  <cp:revision>203</cp:revision>
  <dc:subject/>
  <dc:title>GESTIÓN ECONÓMICA FINANCIERA</dc:title>
</cp:coreProperties>
</file>