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330-91B1-4EE7-879B-C6F85B8F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F45C-52C9-4268-A784-A17B124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76E-C2A1-4F4B-AD61-B8BF7311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45F-3E02-4969-9B77-F7E52281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95B-6972-4BA7-9B70-625240F4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878-8295-45B5-8B7D-C800278C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4C42-7A6F-4B9A-88F4-1965501A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CD02-92BC-4D75-BE6D-42FB5AB6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D253-A5D3-42FD-B793-66A74E95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6C05-FE42-4092-8457-42EB57A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ED3-1FFA-4C56-A3A3-CE63414E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7D0-1F61-4B3C-951A-6B80278F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66FE-0CA3-4D60-8304-588FB56E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1400-A921-4461-B3AA-8FE67E9D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E74-3682-4801-99FB-09439356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0B42-715F-4409-AB7D-6829DB97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8992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436800" y="175248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74268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8992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436800" y="3942000"/>
            <a:ext cx="2711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3B2E-95A0-4E04-B943-6F99385A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E551-D7CF-471D-B8EE-970CABFC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1AFB-F48D-45F2-95F1-99C8A8D3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5D4-AEDB-4A8C-A89D-9C9E9861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42680" y="609480"/>
            <a:ext cx="84200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709-0379-458B-85CD-0A3F7DE1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89D-4962-4548-90CA-97562917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57280" y="394200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98C-A84F-4417-932A-B53BE1F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57280" y="1752480"/>
            <a:ext cx="4108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42680" y="3942000"/>
            <a:ext cx="8420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117-536A-47A7-A3A4-B4D98FF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1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7760" y="176040"/>
            <a:ext cx="9473760" cy="161280"/>
            <a:chOff x="77760" y="176040"/>
            <a:chExt cx="947376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903920" y="-4310640"/>
              <a:ext cx="58680" cy="92365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784400" y="-4530600"/>
              <a:ext cx="60480" cy="94737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4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742680" y="17524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9536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384360" y="60199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7429680" y="60199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BD9-A33D-426A-B4F3-6EB2059A1D3E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240" y="230040"/>
            <a:ext cx="219960" cy="6504120"/>
            <a:chOff x="192240" y="230040"/>
            <a:chExt cx="219960" cy="6504120"/>
          </a:xfrm>
        </p:grpSpPr>
        <p:sp>
          <p:nvSpPr>
            <p:cNvPr id="57" name=""/>
            <p:cNvSpPr/>
            <p:nvPr/>
          </p:nvSpPr>
          <p:spPr>
            <a:xfrm flipH="1">
              <a:off x="329400" y="257040"/>
              <a:ext cx="82440" cy="6477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240" y="230040"/>
              <a:ext cx="82800" cy="62564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526320" y="220680"/>
            <a:ext cx="214200" cy="6408000"/>
            <a:chOff x="9526320" y="220680"/>
            <a:chExt cx="21420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9667080" y="220680"/>
              <a:ext cx="73440" cy="63324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9526320" y="379800"/>
              <a:ext cx="8388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47840" y="6476400"/>
            <a:ext cx="9410040" cy="229320"/>
            <a:chOff x="447840" y="6476400"/>
            <a:chExt cx="941004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5114880" y="1809000"/>
              <a:ext cx="75960" cy="9410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5014080" y="2063160"/>
              <a:ext cx="76320" cy="9208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82440" y="176040"/>
            <a:ext cx="9474120" cy="161280"/>
            <a:chOff x="82440" y="176040"/>
            <a:chExt cx="947412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908600" y="-4311000"/>
              <a:ext cx="58680" cy="9237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789080" y="-4530600"/>
              <a:ext cx="60480" cy="94741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1980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75920" y="59896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96960" y="60022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367760" y="597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83B8-6FA3-4BEF-99AF-8BC07276EEDE}" type="slidenum">
              <a:rPr b="0" lang="es-E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9880" y="533160"/>
            <a:ext cx="8915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IX JORNADA DEL PEQUEÑO Y MEDIANO ESTUDIO PROFESION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20480" y="2997360"/>
            <a:ext cx="817236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 </a:t>
            </a:r>
            <a:r>
              <a:rPr b="1" i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El día D ..... Un profesional III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e-volucionado”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Arial Black"/>
              </a:rPr>
              <a:t>                          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4870440" y="5361120"/>
            <a:ext cx="592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ffff"/>
                </a:solidFill>
                <a:latin typeface="Arial Black"/>
              </a:rPr>
              <a:t>CDRA. SILVIA MARQUET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75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2040" y="476280"/>
            <a:ext cx="8578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ahoma"/>
              </a:rPr>
              <a:t>HONORARIOS PROFESIONALES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br>
              <a:rPr sz="3200"/>
            </a:br>
            <a:br>
              <a:rPr sz="3200"/>
            </a:br>
            <a:r>
              <a:rPr b="0" lang="es-ES" sz="3200" spc="-1" strike="noStrike" u="sng">
                <a:solidFill>
                  <a:srgbClr val="00ffff"/>
                </a:solidFill>
                <a:uFillTx/>
                <a:latin typeface="Arial Black"/>
              </a:rPr>
              <a:t>“ASPECTO FILOSOFICO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9000" y="21333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Definición del término “Honorario”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Bookman Old Style"/>
              </a:rPr>
              <a:t>según el Diccionario de la Real Academia Española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: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   “</a:t>
            </a: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Gaje o sueldo de honor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86080" y="609480"/>
            <a:ext cx="775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1000" y="2666880"/>
            <a:ext cx="80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Principal requisito: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valuar las distintas pautas que inciden en el calculo de un honorario adecuad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38400" y="609480"/>
            <a:ext cx="82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ff"/>
                </a:solidFill>
                <a:latin typeface="Arial Black"/>
              </a:rPr>
              <a:t>“ </a:t>
            </a:r>
            <a:r>
              <a:rPr b="1" lang="es-ES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DETERMINATIV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38400" y="2205000"/>
            <a:ext cx="8667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os costos de infraestructura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y los propios de la tarea 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jecutar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l tiempo a invertir en su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alización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55600" y="549360"/>
            <a:ext cx="8502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DETERMINATIVO</a:t>
            </a:r>
            <a:r>
              <a:rPr b="1" lang="es-ES_tradnl" sz="3600" spc="-1" strike="noStrike" u="sng">
                <a:solidFill>
                  <a:srgbClr val="00ffff"/>
                </a:solidFill>
                <a:uFillTx/>
                <a:latin typeface="Arial Black"/>
              </a:rPr>
              <a:t>”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38400" y="1676520"/>
            <a:ext cx="8667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as particularidades de cada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cliente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a naturaleza y complejidad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e los trabajos a realizar 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55600" y="533520"/>
            <a:ext cx="850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DETERMINATIV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3040" y="2209680"/>
            <a:ext cx="916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l nivel de especialización que  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requiere el tema a tratar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a responsabilidad a asumir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73160" y="685800"/>
            <a:ext cx="8832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 DETERMINATIV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7920" y="2057400"/>
            <a:ext cx="899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El grado de experiencia del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personal involucrad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La urgencia en la terminación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   </a:t>
            </a:r>
            <a:r>
              <a:rPr b="1" lang="es-ES_tradnl" sz="3600" spc="-1" strike="noStrike">
                <a:solidFill>
                  <a:srgbClr val="ffff00"/>
                </a:solidFill>
                <a:latin typeface="Bookman Old Style"/>
              </a:rPr>
              <a:t>de los trabajos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533520"/>
            <a:ext cx="8915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HONORARIOS PROFESIONAL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“</a:t>
            </a:r>
            <a:r>
              <a:rPr b="1" lang="es-ES_tradnl" sz="3200" spc="-1" strike="noStrike" u="sng">
                <a:solidFill>
                  <a:srgbClr val="00ffff"/>
                </a:solidFill>
                <a:uFillTx/>
                <a:latin typeface="Arial Black"/>
              </a:rPr>
              <a:t>ASPECTO DETERMINATIV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wheel spokes="1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6:47:56Z</dcterms:created>
  <dc:creator>Luis</dc:creator>
  <dc:description/>
  <dc:language>en-US</dc:language>
  <cp:lastModifiedBy>q</cp:lastModifiedBy>
  <dcterms:modified xsi:type="dcterms:W3CDTF">2010-10-21T01:05:25Z</dcterms:modified>
  <cp:revision>78</cp:revision>
  <dc:subject/>
  <dc:title>Sin título de diapositiva</dc:title>
</cp:coreProperties>
</file>