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C95-5D28-4D7D-B6D9-D033781F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40F-AA92-4618-987D-698B13A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825-87AA-4D0B-B4F9-3095FCE8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A59-A0C9-41C6-BEDA-1109B6F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5FDD-F0EF-472C-9693-1DEFE9DC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59E-23CE-469A-BA3E-06D1CA69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B4D-AD70-42DC-AC9D-1A75017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EA0-5C31-4404-BC1F-F12FB845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059A-A873-4F5E-94BA-C349DB47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177-A00B-4ABA-9755-A9639FA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C260-416D-4057-8956-A1E14BE3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4D3-A282-4AA1-86DB-9E8A335D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5D8C-4153-47BF-8FEB-4C66696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1693-B667-4C7F-8BAD-3F67487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EA8-BB57-4F6B-ACF2-A3F63C5E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3F1-1A05-463B-92BA-4D2B1948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925-90C3-4B12-B568-6412B30C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6B4-6091-422A-A388-60BD848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7D7-AA3E-419B-9A00-FCE0770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FAC-20E2-44AA-9D80-1B9F4995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0F2-75A8-47B6-B336-49CD5E3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9F4-3C82-4EF7-95B9-DEC36AC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71C-B2CC-46C1-8833-2C4EC9F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3C5-81BB-4DC8-8C24-7A9E000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1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7760" y="176040"/>
            <a:ext cx="9473760" cy="161280"/>
            <a:chOff x="77760" y="176040"/>
            <a:chExt cx="947376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903920" y="-4310640"/>
              <a:ext cx="58680" cy="9236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784400" y="-4530600"/>
              <a:ext cx="60480" cy="9473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9536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384360" y="60199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42968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9BB7-A5EA-4479-8348-2D48119CB1E0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57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980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75920" y="59896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96960" y="60022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367760" y="597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C79D-FCD5-4768-A944-0FE2801B4730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533520"/>
            <a:ext cx="84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09600" y="3284640"/>
            <a:ext cx="8255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s un presupuesto por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scrito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Formaliza nuestra relació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on client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240" y="533520"/>
            <a:ext cx="84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0840" y="3213000"/>
            <a:ext cx="82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Se especifican las tareas 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alizar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84280" y="609480"/>
            <a:ext cx="873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73160" y="321300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Se estima el tiempo para su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alización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Se convienen los honorario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4280" y="533520"/>
            <a:ext cx="858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20840" y="3213000"/>
            <a:ext cx="825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Sugerencias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elimitar las tareas a nues-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tro car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4280" y="533520"/>
            <a:ext cx="858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20840" y="321300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Sugerencia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No absorber tareas no conve-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nid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4280" y="533520"/>
            <a:ext cx="858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20840" y="321300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Sugerencia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Mostrarnos igualmente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ispuestos a colaborar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84280" y="333360"/>
            <a:ext cx="873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0840" y="342900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Beneficio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Agrega valor a la prestación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e servicios profesional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84200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2040" y="533520"/>
            <a:ext cx="873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0840" y="342900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Beneficio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sguarda nuestra responsa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bilidad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84200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62040" y="533520"/>
            <a:ext cx="873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COMERCIAL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CARTA CONVE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0840" y="3429000"/>
            <a:ext cx="82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Beneficio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e otorga transparencia a l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abor profesiona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6:47:56Z</dcterms:created>
  <dc:creator>Luis</dc:creator>
  <dc:description/>
  <dc:language>en-US</dc:language>
  <cp:lastModifiedBy>q</cp:lastModifiedBy>
  <dcterms:modified xsi:type="dcterms:W3CDTF">2010-10-20T22:42:30Z</dcterms:modified>
  <cp:revision>77</cp:revision>
  <dc:subject/>
  <dc:title>Sin título de diapositiva</dc:title>
</cp:coreProperties>
</file>